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1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4.png" ContentType="image/png"/>
  <Override PartName="/ppt/media/image10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44.jpeg" ContentType="image/jpeg"/>
  <Override PartName="/ppt/media/image38.jpeg" ContentType="image/jpeg"/>
  <Override PartName="/ppt/media/image28.png" ContentType="image/png"/>
  <Override PartName="/ppt/media/image29.jpeg" ContentType="image/jpeg"/>
  <Override PartName="/ppt/media/image33.jpeg" ContentType="image/jpeg"/>
  <Override PartName="/ppt/media/image37.jpeg" ContentType="image/jpeg"/>
  <Override PartName="/ppt/media/image41.jpeg" ContentType="image/jpeg"/>
  <Override PartName="/ppt/media/image45.jpeg" ContentType="image/jpeg"/>
  <Override PartName="/ppt/media/image5.png" ContentType="image/png"/>
  <Override PartName="/ppt/media/image43.jpeg" ContentType="image/jpeg"/>
  <Override PartName="/ppt/media/image35.png" ContentType="image/png"/>
  <Override PartName="/ppt/media/image46.jpeg" ContentType="image/jpeg"/>
  <Override PartName="/ppt/media/image30.jpeg" ContentType="image/jpeg"/>
  <Override PartName="/ppt/media/image31.png" ContentType="image/png"/>
  <Override PartName="/ppt/media/image6.png" ContentType="image/png"/>
  <Override PartName="/ppt/media/image47.jpeg" ContentType="image/jpeg"/>
  <Override PartName="/ppt/media/image4.png" ContentType="image/png"/>
  <Override PartName="/ppt/media/image11.jpeg" ContentType="image/jpeg"/>
  <Override PartName="/ppt/media/image9.jpeg" ContentType="image/jpeg"/>
  <Override PartName="/ppt/media/image39.jpeg" ContentType="image/jpeg"/>
  <Override PartName="/ppt/media/image8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  <p:sldId id="304" r:id="rId65"/>
    <p:sldId id="305" r:id="rId66"/>
    <p:sldId id="306" r:id="rId67"/>
    <p:sldId id="307" r:id="rId68"/>
    <p:sldId id="308" r:id="rId69"/>
    <p:sldId id="309" r:id="rId70"/>
    <p:sldId id="310" r:id="rId71"/>
    <p:sldId id="311" r:id="rId72"/>
    <p:sldId id="312" r:id="rId73"/>
    <p:sldId id="313" r:id="rId74"/>
    <p:sldId id="314" r:id="rId75"/>
    <p:sldId id="315" r:id="rId76"/>
    <p:sldId id="316" r:id="rId77"/>
    <p:sldId id="317" r:id="rId78"/>
    <p:sldId id="318" r:id="rId79"/>
    <p:sldId id="319" r:id="rId80"/>
    <p:sldId id="320" r:id="rId81"/>
    <p:sldId id="321" r:id="rId82"/>
    <p:sldId id="322" r:id="rId83"/>
    <p:sldId id="323" r:id="rId84"/>
    <p:sldId id="324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slide" Target="slides/slide49.xml"/><Relationship Id="rId66" Type="http://schemas.openxmlformats.org/officeDocument/2006/relationships/slide" Target="slides/slide50.xml"/><Relationship Id="rId67" Type="http://schemas.openxmlformats.org/officeDocument/2006/relationships/slide" Target="slides/slide51.xml"/><Relationship Id="rId68" Type="http://schemas.openxmlformats.org/officeDocument/2006/relationships/slide" Target="slides/slide52.xml"/><Relationship Id="rId69" Type="http://schemas.openxmlformats.org/officeDocument/2006/relationships/slide" Target="slides/slide53.xml"/><Relationship Id="rId70" Type="http://schemas.openxmlformats.org/officeDocument/2006/relationships/slide" Target="slides/slide54.xml"/><Relationship Id="rId71" Type="http://schemas.openxmlformats.org/officeDocument/2006/relationships/slide" Target="slides/slide55.xml"/><Relationship Id="rId72" Type="http://schemas.openxmlformats.org/officeDocument/2006/relationships/slide" Target="slides/slide56.xml"/><Relationship Id="rId73" Type="http://schemas.openxmlformats.org/officeDocument/2006/relationships/slide" Target="slides/slide57.xml"/><Relationship Id="rId74" Type="http://schemas.openxmlformats.org/officeDocument/2006/relationships/slide" Target="slides/slide58.xml"/><Relationship Id="rId75" Type="http://schemas.openxmlformats.org/officeDocument/2006/relationships/slide" Target="slides/slide59.xml"/><Relationship Id="rId76" Type="http://schemas.openxmlformats.org/officeDocument/2006/relationships/slide" Target="slides/slide60.xml"/><Relationship Id="rId77" Type="http://schemas.openxmlformats.org/officeDocument/2006/relationships/slide" Target="slides/slide61.xml"/><Relationship Id="rId78" Type="http://schemas.openxmlformats.org/officeDocument/2006/relationships/slide" Target="slides/slide62.xml"/><Relationship Id="rId79" Type="http://schemas.openxmlformats.org/officeDocument/2006/relationships/slide" Target="slides/slide63.xml"/><Relationship Id="rId80" Type="http://schemas.openxmlformats.org/officeDocument/2006/relationships/slide" Target="slides/slide64.xml"/><Relationship Id="rId81" Type="http://schemas.openxmlformats.org/officeDocument/2006/relationships/slide" Target="slides/slide65.xml"/><Relationship Id="rId82" Type="http://schemas.openxmlformats.org/officeDocument/2006/relationships/slide" Target="slides/slide66.xml"/><Relationship Id="rId83" Type="http://schemas.openxmlformats.org/officeDocument/2006/relationships/slide" Target="slides/slide67.xml"/><Relationship Id="rId84" Type="http://schemas.openxmlformats.org/officeDocument/2006/relationships/slide" Target="slides/slide68.xml"/><Relationship Id="rId85" Type="http://schemas.openxmlformats.org/officeDocument/2006/relationships/slide" Target="slides/slide69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4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ftr" idx="4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 type="sldNum" idx="4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448E-5B29-4A5E-B6D8-58D3893C4D4D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3FF0-989D-47AE-8EAC-A40D2B38616B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CB85-76D6-4EA9-AB10-EE9808017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EDE1-3265-4A08-91C9-F0338D36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0E93C3-7B64-475C-8544-8B696D17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29C798-A7A1-4CCB-8EE3-CD69CC71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3DAB69-82CF-482D-A207-6B056400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5CB2B5-06C1-4C4B-B797-4D154633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EB4F2D-387A-446D-8F24-10EB2091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2CACE4-A07C-4542-B890-89C0E5D5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28379A-04F7-4F2A-A160-BA2A7641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1E0454-E142-42F5-815F-24ED2ECDB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3CF06-1348-4E48-9BA8-4EF5E3094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52754F-3AB7-45A0-92AD-9DC861231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D00F-51B9-41E6-95DC-79537C5D5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07556C-5A86-4D79-AAAB-CA299B0C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E8D8CF-BC62-4232-8DFD-70210712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A15496-37F9-4D9A-A3A4-6FF56B0B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5503CE-AA74-4973-B890-BA7566D9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676896-85C6-44D4-9D72-64988A65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6FA826-7BD7-4BCB-80C2-BB6E7B5B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C51B0C-CB31-4507-BFFF-E2EDE109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A4BFD6-FDE4-4F10-9D1C-176B28D3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3C4B28-6091-4E5E-BD77-36FE9A4B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387549-4F2C-4ABA-B0AB-66BF54A19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97A5-D440-4FE2-94FA-CB1B6BDC5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9DFBCE-2D6D-480F-80D7-0D9BFC1DA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CF668-23B0-4ED7-A693-24F3165CD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86F363-B0B0-409C-8FEE-5B55A733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F792E-0E6A-4F4F-B3C5-6CBC9A48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3534E-D4B6-43E3-A76C-140EB55C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D6DAA4-18CA-45A7-8465-25F8E23F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3E3F4-2088-43DB-8A70-61F022A8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5990FE-A73B-472B-9BE3-442EF017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97B7EE-8416-4708-95A2-337052E3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EFE81-F6C5-4F3C-8EDC-3FB142FB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424D-8403-4264-9679-F7E5000BE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32FDA-8594-4EB4-8994-14E738F2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56480-563D-4C3A-B3AE-0B88547B4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F2F3D-3346-4D45-9BA1-DCE2BA43E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0C49C3-46F7-4A1B-9A4E-DFDF0F19F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E04945-7519-4863-B5ED-53A12D07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17987E-378C-42A3-B317-2B2CE7DB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6B722C-DD19-4A9D-80A9-DA4DCF09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6F2DCF-2DFE-493E-ADA0-10F8D461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4C8FBB-E703-4AC7-8C60-D080AEF2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54D5B7-07EB-4FEC-94A9-DBD5F21D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DEEA-16EC-4A55-A826-639E0FD4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0D6611-6B7F-445B-831E-A62EB5D3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B20971-3CE2-418A-BFAB-6A87C564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130C98-B569-471A-B0F9-8ED25824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F7F93E-05E1-4B0C-9BD9-C255DF4A5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730411-A110-4E53-B6DE-9D2CBE85E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665B6B-E4DE-47A9-9B8A-372BCDB86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1C5D2B-10FD-4459-BFD3-6AAF67F6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5C4CF0-F21B-4F75-80D0-CD0A0197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8B84BF-7DF9-4DF3-9BA7-FB4C6365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F4AEA4-8E6B-4C47-B9A3-36CE2C72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111E8-8683-4F97-98F3-F03EE43D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F3FFB4-3F84-49E0-8992-DE6FA3AA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9BF18B-7687-4BE3-8FF8-CDA5D89D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76F25B-27D5-4E62-9B01-7DE87B9F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1EDD6B-526E-478E-8B08-4E95222D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5688E4-536E-47B3-B4B2-0B874634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D3F889-5B5A-4425-872E-635C4805C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777144-3888-4DC0-8808-339860EC0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A5DF2D-0152-4D81-B5F3-C7A49AAD9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5A1AE9-2B4E-4E82-828F-01BCDCB9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4B3A3B-A1CF-49D2-9378-0B7EF1FB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0DF1E-564B-46DA-B3C4-E4C72081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259993-3EC6-43E1-B879-1BFEC6AE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4E631E-6041-4FCE-AA61-1E4C79DD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E7A417-5316-4E1D-89BC-AC71B0D8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465B9E-4712-4221-B26F-3207DC8F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29F0AF-95B1-42FF-B5F4-D44BC6F3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DACFFF-D59A-4AD0-96B3-5328AC1E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D1865E-6BCE-439D-81D7-F530A2E0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C760B0-1CC6-4E86-9890-31B2AA72B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D96C7F-2168-4B0C-BA0F-461F59C39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4F55-59A1-45E5-9DB5-D69129E5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5A68-7F8E-4733-9CEF-2558DB52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9286-CF4D-4584-BB9B-9A7232EB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36CA-0F9D-4185-91D1-D3DD4867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AAA3-8CC2-4D28-9170-94B5185B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5B14-74A4-4E4C-96CE-F78A2693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A259-FBB7-46F0-80CC-B81A3758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3051-E335-4755-8DBA-7B46DF778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84B0-6B37-4F7D-A0E3-24C63C410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FE941-36D4-495D-9A5C-2420ADCB7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DD70A-E873-412D-AF8E-FEDD0863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B7562-F6F9-4F3D-8E94-4AB647EE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66641-3487-4EF6-9A8B-BD9F7559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61568-215A-4B0F-95D5-481F429B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460F-A8AD-46F3-A9FE-941F3496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76B79-77C5-40B2-8177-87A327FE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3966F-11EE-4491-8909-C2286922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2501C-13D1-4ABB-A74D-B1650880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31E3F-321B-4E2E-A4A6-0EFB8BE1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14FB6-C482-4BB6-AB16-A142EB83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4648D-14E2-4454-AA87-DA560BD33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73EF4-9DC3-4621-B032-4FC2F2784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43737-0809-44C4-A99B-E87222EAD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8689B-177A-4E8A-9B8A-D9B8569C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C0CD7-C1F2-405E-B7C0-2920AA31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DFAB-A0CE-47A5-B979-D57F0243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D57AC-0A08-4987-BD43-DB479252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97C3E-C26E-443D-98E9-70FD1AB0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E327A-2EED-4675-8915-7CA27918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97C29-DD97-4BC9-8D4E-C126C8DD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6020B-AF32-4FE4-A224-54DC25F1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84D79-4F72-4691-97BB-21872AE6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DBE4A-B9DB-4059-86FE-EC58D77F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83A1D-32E3-4752-8956-D7D9DECAD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F114E-09F5-4345-906B-7B970D428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0B407-7FDC-4344-B902-6B5D02D3D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B7DA-F6A9-4B42-AFD1-723956FF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2662A-F3EC-4EC9-81E8-A13927DF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3BDDD-6E0B-48CD-9A4E-5CCAEABC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ED88A-20EB-4FF2-8C2E-C9DDF4B7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9A0AF-B610-4B22-90FC-D7094E6F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2FDFC-4548-4E61-A4DA-A879BD50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828A4-02CF-4AB1-8670-60624523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CE8E3-90E0-4F56-B842-EA43F98C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73A2D-F41C-495A-8A85-E9FC3B63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FB70F-FF7B-4953-8DAC-6F590611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CF1AA-44AE-4345-88CD-15680FD59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E954-B645-47DC-B06F-37B85F35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BCCFB-B30E-4554-99D0-FF6B96890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5B5CD-0274-4DDB-8B80-B4DB68F13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019CA-F9B0-4A77-A2F3-7287B9CB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0CDA5-EBB3-4154-A930-CBA9B829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B9FFB-73AD-49C1-A485-05F56067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79D72-863F-45BC-842F-0966F561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040C7-4AA7-4873-9802-29BD602E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7AA28-39E1-4B79-ADB9-D5DD0819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69332-C217-4028-BEB4-0CA71DE0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00716-D71B-4182-9402-00FC385E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320F-9053-4D0B-BA09-1302EE70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BDBE1-DA75-4B3F-9597-06AFA215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E2148-916D-472E-B400-5FCA05989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EE5C2-E72A-4AA7-BFEE-0EFA26E2C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1491B-13E5-4F93-9858-2EE0D4F2D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F14AD-EEBD-4EA0-9080-BCE89D1D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1A9EC-FD59-4138-BF5E-CA916834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69D03-30D2-4C38-8751-A09A0124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FC15D-2FCF-4866-8794-44467A0B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CA4A2-9BB0-44A0-935D-E62B76B8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ACD00-93B0-4942-B72B-2D5750BF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1DC6-2477-49A1-87A9-4435B720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086C0-48B1-40D6-AF69-660DAFF0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193CC-9F37-4E39-94A2-13131336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19473-E171-405A-9F00-F4365FD5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5769E-3177-485D-AE85-CCCD6916C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6D926-3513-4223-AC06-32FE1F538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AA473-5A60-4D66-B84E-9826717EB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49015-7C91-40A0-ACB5-8A98C11A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E7A58-2A00-4791-8EFF-AFF72F09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BCB76-3A22-4638-8073-27724774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4628A-7F0E-4D71-998F-8C4C6CAC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6029-942E-44F1-A2A0-4C1D93A6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56484-E65F-439A-BE2A-BF7B8179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5B867-CF7C-42E0-8905-A490742E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E034D-D627-436D-8A7E-DF3DB9EF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25320-0D99-4B68-B7BC-2DA806AC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0D57F-B57B-414F-B3BC-9502E616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2B4EE-7D27-4D2D-B2BC-E024B667D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9CE6D-1323-40AF-9A4F-B7406DA24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D7EFF4-0371-45E7-9F4A-F3682AB27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9BC35A-9E8F-4C93-84C2-73904BCC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F3BF2B-FF1D-4A10-BE8E-0AF9845B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odule 6: Portable Radiation Survey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90EA-23D6-4312-9EDA-C9D0909819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4D18-2CF4-4A21-818D-46720B6D5C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98585-4693-499E-83F5-D2C5AAC260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528C-F35E-4BA7-ADCA-FF7E66B126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7800-9432-4A1B-8A8D-E047F25947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76D6-B42B-42A5-AD16-5DAE89874B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94CD-7A18-46B7-8BA7-6539C07D93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odule 6: Portable Radiation Survey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E7BA-AE0C-42FD-93C3-718441E52C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2544-5A5B-4C95-91AE-E05EF3D4E1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CE40-1885-49E7-96D5-5D77A1920A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6A9B-B06A-4C94-B376-63AE49A8BF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F796-F62B-43B6-A436-E5C4F9C136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0381-956C-413C-A603-4A6AE70554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90B6-002F-477D-8222-B1C0E966CD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Box 1"/>
          <p:cNvSpPr/>
          <p:nvPr/>
        </p:nvSpPr>
        <p:spPr>
          <a:xfrm>
            <a:off x="152280" y="102384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rvey instruments, ionization, gas filled, scintillation, thermoluminesence, geiger-mueller detectors, beta, gamma, neutron, alpha, ion chamber, eberline instruments, frisking device, air sampler, radiation levels, proportional counter, loose surf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7" name=""/>
          <p:cNvGraphicFramePr/>
          <p:nvPr/>
        </p:nvGraphicFramePr>
        <p:xfrm>
          <a:off x="237960" y="1523880"/>
          <a:ext cx="8668080" cy="1463760"/>
        </p:xfrm>
        <a:graphic>
          <a:graphicData uri="http://schemas.openxmlformats.org/drawingml/2006/table">
            <a:tbl>
              <a:tblPr/>
              <a:tblGrid>
                <a:gridCol w="1195560"/>
                <a:gridCol w="971640"/>
                <a:gridCol w="1082520"/>
                <a:gridCol w="1084320"/>
                <a:gridCol w="1084320"/>
                <a:gridCol w="1082520"/>
                <a:gridCol w="1084320"/>
                <a:gridCol w="1082880"/>
              </a:tblGrid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3.28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s Amplifi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228600" y="837720"/>
            <a:ext cx="87631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lse magnitude determined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ed vol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umber of initial (primary) ionizing ev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tant number based on specific ionization and detector siz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as amplification factor for the particular gas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tio of total # of collected electrons to # of primary electr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s ampl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ter initial (primary) ion pair is formed and moves toward electrodes, secondary ionization occu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itional ion pairs form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applied voltage increases, gas amplification factor chan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variable that primarily determines the pulse magnitude is the applied volt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8D82-B8D6-4FAD-9536-68F56AF88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iger-Mueller Dete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228600" y="990720"/>
            <a:ext cx="5943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s-filled chambers that operate in Region V of the gas amplification cur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to detect both beta and gamma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lar-covered "window" serves as inlet fil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ows passage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articles of ~0.05 Me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have movable cover that can be adjusted to allow bo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enter,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n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5BA4-7D6A-43A0-A520-F7C0FFD1C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Picture 4" descr=""/>
          <p:cNvPicPr/>
          <p:nvPr/>
        </p:nvPicPr>
        <p:blipFill>
          <a:blip r:embed="rId1"/>
          <a:srcRect l="0" t="7869" r="0" b="2949"/>
          <a:stretch/>
        </p:blipFill>
        <p:spPr>
          <a:xfrm>
            <a:off x="5562720" y="2286000"/>
            <a:ext cx="358128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portional Counter for Neutron Dete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228240" y="9903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s-filled proportional counter dete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lse height discrimin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tinguish between larger pulses due to neutron radiation (thus secondar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and smaller pulses due to other incident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s used is boron trifluoride (B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) enriched with Boron-10 (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y high cross-section for absorbing thermal neutr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ident neutrons absorbed by boron 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ults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mi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icles cause measureable ionization in the g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63EB-A33D-49F9-96AD-CF7430625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5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4" name="Object 8"/>
              <p:cNvSpPr txBox="1"/>
              <p:nvPr/>
            </p:nvSpPr>
            <p:spPr>
              <a:xfrm>
                <a:off x="2362320" y="5602320"/>
                <a:ext cx="434340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5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B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η</m:t>
                    </m:r>
                    <m:r>
                      <m:t xml:space="preserve">→</m:t>
                    </m:r>
                    <m:sPr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457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cintillation Dete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152280" y="838080"/>
            <a:ext cx="883944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onizing radiation producing flashes of light when interacting with certain materials containing phosph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remely sensitive to most forms of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ful for detecting alpha radi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pha particles can be detected since they aren’t stopped by the metal walls of a gas chamb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sures both amount and energy level of radiation pres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989C-4D34-40B7-A6B0-D4D2BBDFC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Picture 6" descr=""/>
          <p:cNvPicPr/>
          <p:nvPr/>
        </p:nvPicPr>
        <p:blipFill>
          <a:blip r:embed="rId1"/>
          <a:stretch/>
        </p:blipFill>
        <p:spPr>
          <a:xfrm>
            <a:off x="0" y="3632040"/>
            <a:ext cx="2220840" cy="256716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11" descr=""/>
          <p:cNvPicPr/>
          <p:nvPr/>
        </p:nvPicPr>
        <p:blipFill>
          <a:blip r:embed="rId2"/>
          <a:srcRect l="3381" t="25555" r="4652" b="18610"/>
          <a:stretch/>
        </p:blipFill>
        <p:spPr>
          <a:xfrm>
            <a:off x="2287440" y="3792600"/>
            <a:ext cx="68565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se of Survey Instru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228600" y="7617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table radiation survey instruments are to be used for the detection and determination of radiation exposure lev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able and able to withstand normal use, but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destruction proo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be handled with care and used proper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ject to damage from rough handling the same as any electronic equip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following a few rules and recommendations, the instruments should last many years and provide the user with a measure of knowled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28C6-DC48-4A0A-867C-3579B7330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se of Survey Instru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-360" y="762120"/>
            <a:ext cx="89917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ecting the right instrument for the right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rument must be capable of measuring the type and intensity of the radiation which is present or suspec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Beta and gamma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Ion chamber instruments (Ionization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alibri"/>
              </a:rPr>
              <a:t>Alpha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Scintillation det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Gas proportional counter (Proportional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Neutron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BF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Calibri"/>
              </a:rPr>
              <a:t>3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 gas proportional counter (Proportional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f1e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1e84"/>
                </a:solidFill>
                <a:latin typeface="Calibri"/>
              </a:rPr>
              <a:t>Gamma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f1e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1e84"/>
                </a:solidFill>
                <a:latin typeface="Calibri"/>
              </a:rPr>
              <a:t>G-M detector (G-M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f1e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1e84"/>
                </a:solidFill>
                <a:latin typeface="Calibri"/>
              </a:rPr>
              <a:t>Ion chamber (Ionization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E328-60CB-47AD-A57B-A48A0FEB0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lpha Survey Instrument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-360" y="914400"/>
            <a:ext cx="6248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E-6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vey instrument commonly paired with scintillator dete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to check smears and/or air sample filters f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ntami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normally used on daily ba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ce smear or air sample filter i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lanche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specimen cu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ce planchet i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unting ji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ce scintillator on counting ji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gin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47C5-A30E-4D81-8A09-0BC18D916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Picture 1" descr="100_0951.JPG"/>
          <p:cNvPicPr/>
          <p:nvPr/>
        </p:nvPicPr>
        <p:blipFill>
          <a:blip r:embed="rId1">
            <a:lum bright="-14000"/>
          </a:blip>
          <a:srcRect l="31098" t="0" r="38653" b="9413"/>
          <a:stretch/>
        </p:blipFill>
        <p:spPr>
          <a:xfrm>
            <a:off x="6400800" y="730080"/>
            <a:ext cx="2558880" cy="57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lpha Survey: Eberline E-600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5C0D-9FED-410C-B950-E29C18C12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Picture 1" descr="100_0951.JPG"/>
          <p:cNvPicPr/>
          <p:nvPr/>
        </p:nvPicPr>
        <p:blipFill>
          <a:blip r:embed="rId1">
            <a:lum bright="-14000"/>
          </a:blip>
          <a:srcRect l="31098" t="0" r="0" b="11960"/>
          <a:stretch/>
        </p:blipFill>
        <p:spPr>
          <a:xfrm>
            <a:off x="152280" y="838080"/>
            <a:ext cx="5715000" cy="547704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1" descr="100_1136.JPG"/>
          <p:cNvPicPr/>
          <p:nvPr/>
        </p:nvPicPr>
        <p:blipFill>
          <a:blip r:embed="rId2"/>
          <a:stretch/>
        </p:blipFill>
        <p:spPr>
          <a:xfrm>
            <a:off x="6172200" y="838080"/>
            <a:ext cx="2693880" cy="5486400"/>
          </a:xfrm>
          <a:prstGeom prst="rect">
            <a:avLst/>
          </a:prstGeom>
          <a:ln w="0">
            <a:noFill/>
          </a:ln>
        </p:spPr>
      </p:pic>
      <p:sp>
        <p:nvSpPr>
          <p:cNvPr id="704" name="Text Box 8"/>
          <p:cNvSpPr/>
          <p:nvPr/>
        </p:nvSpPr>
        <p:spPr>
          <a:xfrm>
            <a:off x="2514600" y="76212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wn with Eberline SHP 380 AB frisker/survey scintillator pr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lpha Survey Instru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0" y="837720"/>
            <a:ext cx="6477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ESP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cro-computer-based survey instru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be set up with different detectors to monitor several types of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alpha, digital display reads in d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only used with AC-3 scintillator probe for alpha det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528E-8722-41E2-BD8E-16C83CF2D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Picture 1" descr="100_1148.JPG"/>
          <p:cNvPicPr/>
          <p:nvPr/>
        </p:nvPicPr>
        <p:blipFill>
          <a:blip r:embed="rId1"/>
          <a:stretch/>
        </p:blipFill>
        <p:spPr>
          <a:xfrm>
            <a:off x="6442200" y="1143000"/>
            <a:ext cx="2701800" cy="457200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8" descr=""/>
          <p:cNvPicPr/>
          <p:nvPr/>
        </p:nvPicPr>
        <p:blipFill>
          <a:blip r:embed="rId2"/>
          <a:stretch/>
        </p:blipFill>
        <p:spPr>
          <a:xfrm>
            <a:off x="609480" y="4724280"/>
            <a:ext cx="5334120" cy="173376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10"/>
          <p:cNvSpPr/>
          <p:nvPr/>
        </p:nvSpPr>
        <p:spPr>
          <a:xfrm>
            <a:off x="304920" y="5562720"/>
            <a:ext cx="251460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rtable Neutron Survey Instru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0" y="1066320"/>
            <a:ext cx="6477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ASP-2/2E Portable Neutron Rate Met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ion and measurement of dose rate (mrem/hr) from both fast and thermal neutron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sures from 1 to 60000 mrem / h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or: 9” diameter, cadmium-loaded polyethylene sphere with BF3 tube in cen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ows excellent gamma rej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only used: </a:t>
            </a: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NRD-4 RemB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6C4D-E36B-4200-A2A7-D2BF1F7A8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1" descr="100_1157.JPG"/>
          <p:cNvPicPr/>
          <p:nvPr/>
        </p:nvPicPr>
        <p:blipFill>
          <a:blip r:embed="rId1"/>
          <a:srcRect l="1665" t="0" r="53335" b="18892"/>
          <a:stretch/>
        </p:blipFill>
        <p:spPr>
          <a:xfrm>
            <a:off x="6551640" y="838080"/>
            <a:ext cx="2592360" cy="3505320"/>
          </a:xfrm>
          <a:prstGeom prst="rect">
            <a:avLst/>
          </a:prstGeom>
          <a:ln w="0">
            <a:noFill/>
          </a:ln>
        </p:spPr>
      </p:pic>
      <p:sp>
        <p:nvSpPr>
          <p:cNvPr id="719" name="Rectangle 5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6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7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8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9" descr=""/>
          <p:cNvPicPr/>
          <p:nvPr/>
        </p:nvPicPr>
        <p:blipFill>
          <a:blip r:embed="rId2"/>
          <a:srcRect l="50558" t="26891" r="26111" b="20668"/>
          <a:stretch/>
        </p:blipFill>
        <p:spPr>
          <a:xfrm>
            <a:off x="7037280" y="4495680"/>
            <a:ext cx="15732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BD2E-8FBF-444A-97CB-5E19467F3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39720" y="2054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T 130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ological Prot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73040" y="41148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ule 6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rtable Radiation Survey Instru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P-2/2E with NRD-4 RemB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F79D-5BB8-49E7-96E7-C87C5042E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Picture 1" descr="100_1157.JPG"/>
          <p:cNvPicPr/>
          <p:nvPr/>
        </p:nvPicPr>
        <p:blipFill>
          <a:blip r:embed="rId1"/>
          <a:srcRect l="1665" t="0" r="53335" b="18892"/>
          <a:stretch/>
        </p:blipFill>
        <p:spPr>
          <a:xfrm>
            <a:off x="109440" y="1219320"/>
            <a:ext cx="3776760" cy="5105160"/>
          </a:xfrm>
          <a:prstGeom prst="rect">
            <a:avLst/>
          </a:prstGeom>
          <a:ln w="0">
            <a:noFill/>
          </a:ln>
        </p:spPr>
      </p:pic>
      <p:sp>
        <p:nvSpPr>
          <p:cNvPr id="729" name="Rectangle 5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6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7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8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Picture 9" descr=""/>
          <p:cNvPicPr/>
          <p:nvPr/>
        </p:nvPicPr>
        <p:blipFill>
          <a:blip r:embed="rId2"/>
          <a:srcRect l="50558" t="26891" r="26111" b="20668"/>
          <a:stretch/>
        </p:blipFill>
        <p:spPr>
          <a:xfrm>
            <a:off x="4024440" y="1752480"/>
            <a:ext cx="2549520" cy="358164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11" descr=""/>
          <p:cNvPicPr/>
          <p:nvPr/>
        </p:nvPicPr>
        <p:blipFill>
          <a:blip r:embed="rId3"/>
          <a:stretch/>
        </p:blipFill>
        <p:spPr>
          <a:xfrm>
            <a:off x="6678720" y="1143000"/>
            <a:ext cx="2313000" cy="3886200"/>
          </a:xfrm>
          <a:prstGeom prst="rect">
            <a:avLst/>
          </a:prstGeom>
          <a:ln w="0">
            <a:noFill/>
          </a:ln>
        </p:spPr>
      </p:pic>
      <p:sp>
        <p:nvSpPr>
          <p:cNvPr id="735" name="Text Box 12"/>
          <p:cNvSpPr/>
          <p:nvPr/>
        </p:nvSpPr>
        <p:spPr>
          <a:xfrm>
            <a:off x="6705720" y="52578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ifferent meter shown with b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rtable Neutron Survey Instru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0" y="99036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Eberline ASP-1 with NRD-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y similar to ASP-2/2E with NRD-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s 0 to 100000 mrem / h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19CD-3733-427E-B84F-BEB8AB155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1" descr="100_1157.JPG"/>
          <p:cNvPicPr/>
          <p:nvPr/>
        </p:nvPicPr>
        <p:blipFill>
          <a:blip r:embed="rId1"/>
          <a:srcRect l="48335" t="10000" r="3335" b="14446"/>
          <a:stretch/>
        </p:blipFill>
        <p:spPr>
          <a:xfrm>
            <a:off x="4648320" y="1143000"/>
            <a:ext cx="44193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151920" y="1066320"/>
            <a:ext cx="89917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jor portion of radiation encountered in nuclear plant working areas is beta and gam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us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tecting instruments are most comm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3439-27E5-4806-900D-569A258F0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Picture 4" descr=""/>
          <p:cNvPicPr/>
          <p:nvPr/>
        </p:nvPicPr>
        <p:blipFill>
          <a:blip r:embed="rId1"/>
          <a:stretch/>
        </p:blipFill>
        <p:spPr>
          <a:xfrm>
            <a:off x="4952880" y="2819520"/>
            <a:ext cx="4191120" cy="3504960"/>
          </a:xfrm>
          <a:prstGeom prst="rect">
            <a:avLst/>
          </a:prstGeom>
          <a:ln w="0">
            <a:noFill/>
          </a:ln>
        </p:spPr>
      </p:pic>
      <p:sp>
        <p:nvSpPr>
          <p:cNvPr id="748" name="Rectangle 6"/>
          <p:cNvSpPr/>
          <p:nvPr/>
        </p:nvSpPr>
        <p:spPr>
          <a:xfrm>
            <a:off x="0" y="2819520"/>
            <a:ext cx="5257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eletector Model 6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weight, portable, battery-operated, beta-gamma survey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scoping probe that extends 13 ft to allow dose rate measurements far from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dose rate due to gamma over wide range of intens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tect beta, remove rubber tip from end of pr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215640" y="1396800"/>
            <a:ext cx="78613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2000W Exten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ilar to Telet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nds to 12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dible speaker and illuminated sc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6496-36FB-424B-B52A-85D7D7F79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7" descr=""/>
          <p:cNvPicPr/>
          <p:nvPr/>
        </p:nvPicPr>
        <p:blipFill>
          <a:blip r:embed="rId1"/>
          <a:srcRect l="0" t="0" r="2066" b="0"/>
          <a:stretch/>
        </p:blipFill>
        <p:spPr>
          <a:xfrm>
            <a:off x="104760" y="4102200"/>
            <a:ext cx="896292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000W Exte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0391-C7BF-4D6E-8210-1266E9B5E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240840" y="1003320"/>
            <a:ext cx="4496040" cy="157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Rotem Telepo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 to Telete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to 11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D396-690E-4FE4-A67B-E3D5C142F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2" descr="\\SCANA\shares\GroupDirs\0539\539HP\Pictures\FHB Filter Job\FHB Filter Job 011.jpg"/>
          <p:cNvPicPr/>
          <p:nvPr/>
        </p:nvPicPr>
        <p:blipFill>
          <a:blip r:embed="rId1"/>
          <a:stretch/>
        </p:blipFill>
        <p:spPr>
          <a:xfrm>
            <a:off x="0" y="2786040"/>
            <a:ext cx="4892760" cy="373212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7" descr=""/>
          <p:cNvPicPr/>
          <p:nvPr/>
        </p:nvPicPr>
        <p:blipFill>
          <a:blip r:embed="rId2"/>
          <a:srcRect l="0" t="0" r="8904" b="0"/>
          <a:stretch/>
        </p:blipFill>
        <p:spPr>
          <a:xfrm>
            <a:off x="7132680" y="752400"/>
            <a:ext cx="1985760" cy="58262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1" descr="telepolemr.jpg"/>
          <p:cNvPicPr/>
          <p:nvPr/>
        </p:nvPicPr>
        <p:blipFill>
          <a:blip r:embed="rId3"/>
          <a:srcRect l="20369" t="20735" r="15530" b="2373"/>
          <a:stretch/>
        </p:blipFill>
        <p:spPr>
          <a:xfrm>
            <a:off x="5011560" y="3962520"/>
            <a:ext cx="29275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E73D-D374-410B-9EA5-E3CE22F53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Picture 9" descr=""/>
          <p:cNvPicPr/>
          <p:nvPr/>
        </p:nvPicPr>
        <p:blipFill>
          <a:blip r:embed="rId1"/>
          <a:stretch/>
        </p:blipFill>
        <p:spPr>
          <a:xfrm>
            <a:off x="0" y="898560"/>
            <a:ext cx="914400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0" y="914040"/>
            <a:ext cx="6324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Rotem AMP-100 (Area Monitor Prob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M detector with microprocessor-based instru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y stable and accu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ghtweight and comp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able of measuring both dose and dose rate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nge: 0 to 1000 Rem/h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 used in 3 way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lly as a hand-held moni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ed to an area monitor for general area dose r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d remotely by means of a wireless remote monitoring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 used for underwater applications, but not typica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681E-2C4B-4913-8E56-15CB90AE9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Picture 5" descr=""/>
          <p:cNvPicPr/>
          <p:nvPr/>
        </p:nvPicPr>
        <p:blipFill>
          <a:blip r:embed="rId1"/>
          <a:srcRect l="0" t="0" r="7196" b="0"/>
          <a:stretch/>
        </p:blipFill>
        <p:spPr>
          <a:xfrm>
            <a:off x="6342120" y="1143000"/>
            <a:ext cx="268596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RM-14 Rad. Moni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most for personnel monito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, versatile count rate 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hargeable battery or 110 V A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justable audible al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ee multiplier r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0, 5K, and 50K CPM full-sc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d by 3-position switc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l, X10 or X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se sett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st (~2 sec) or Slow (~20 se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B754-8B21-42C4-9333-DCF8FBC3C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Picture 1" descr="100_1147.JPG"/>
          <p:cNvPicPr/>
          <p:nvPr/>
        </p:nvPicPr>
        <p:blipFill>
          <a:blip r:embed="rId1"/>
          <a:srcRect l="0" t="12346" r="3705" b="13580"/>
          <a:stretch/>
        </p:blipFill>
        <p:spPr>
          <a:xfrm>
            <a:off x="5562720" y="3581280"/>
            <a:ext cx="358128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M-14 Radiation Moni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A2DB-4C8D-4F80-A4EB-0498934B0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Picture 1" descr="100_1147.JPG"/>
          <p:cNvPicPr/>
          <p:nvPr/>
        </p:nvPicPr>
        <p:blipFill>
          <a:blip r:embed="rId1"/>
          <a:srcRect l="0" t="12409" r="5280" b="12037"/>
          <a:stretch/>
        </p:blipFill>
        <p:spPr>
          <a:xfrm>
            <a:off x="228600" y="1079640"/>
            <a:ext cx="86612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56840" y="91404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ing and measuring radiation levels around the pl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or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dor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st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: How can we measure radiation to determine if the levels are saf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B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o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ation measurement based almost solely on either direct or indirect ion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6287-42C7-410A-9E99-D57BFF411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51920" y="91440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HP-210 G-M tube pro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ly used with RM-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 mica window to allow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nsitivity down to ~40Ke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ielded to permi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ing in 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sonnel fris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itoring of table, floor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ipment surface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A36A-8B4B-4A55-B320-605E96AD0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Picture 4" descr=""/>
          <p:cNvPicPr/>
          <p:nvPr/>
        </p:nvPicPr>
        <p:blipFill>
          <a:blip r:embed="rId1"/>
          <a:stretch/>
        </p:blipFill>
        <p:spPr>
          <a:xfrm>
            <a:off x="5486400" y="2895480"/>
            <a:ext cx="365760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457200" y="10666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RM-14S and  RM-14S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er versions of RM-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ral scales that earlier model lacked: 50, 500, 5000, 50000, 500000, and 5000000 c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RM-14’s are operated with conservative assumption of 10% ef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C0FA-F8FF-4389-A133-F005AD5A8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Content Placeholder 3" descr="100_0938.JPG"/>
          <p:cNvPicPr/>
          <p:nvPr/>
        </p:nvPicPr>
        <p:blipFill>
          <a:blip r:embed="rId1"/>
          <a:stretch/>
        </p:blipFill>
        <p:spPr>
          <a:xfrm>
            <a:off x="0" y="3618000"/>
            <a:ext cx="4495680" cy="290664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1" descr="100_1146.JPG"/>
          <p:cNvPicPr/>
          <p:nvPr/>
        </p:nvPicPr>
        <p:blipFill>
          <a:blip r:embed="rId2"/>
          <a:stretch/>
        </p:blipFill>
        <p:spPr>
          <a:xfrm>
            <a:off x="4572000" y="3621240"/>
            <a:ext cx="457200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228240" y="1066680"/>
            <a:ext cx="7010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Rotem RAM SURF frisking de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rtable, self-conta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ctor and monitor in 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gital readout wi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tomatic range adju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dible indic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assume 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589B9-17AA-4575-BB67-F4B2702F1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Picture 5" descr=""/>
          <p:cNvPicPr/>
          <p:nvPr/>
        </p:nvPicPr>
        <p:blipFill>
          <a:blip r:embed="rId1"/>
          <a:srcRect l="0" t="0" r="0" b="4102"/>
          <a:stretch/>
        </p:blipFill>
        <p:spPr>
          <a:xfrm>
            <a:off x="5133960" y="1523880"/>
            <a:ext cx="40100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rtable Ion Chamber Instru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-360" y="837720"/>
            <a:ext cx="7467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RO-2 / RO-2A / RO-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table air ion-chamber instr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mber vented to atmospheric pres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sitive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X but calibrated f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se time: ~5 se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switch turns on instrument, checks batteries, checks zero setting, selects r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-2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, 50, 500, and 5000 mr/h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-2A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 mr/hr, 500 mr/hr, 5 R/hr, and 50 R/h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-20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of the abo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open shield to expose mylar wind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5557-9E86-44DE-8348-04A9718BD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Picture 1" descr="100_0950.JPG"/>
          <p:cNvPicPr/>
          <p:nvPr/>
        </p:nvPicPr>
        <p:blipFill>
          <a:blip r:embed="rId1"/>
          <a:srcRect l="38342" t="18883" r="33333" b="5565"/>
          <a:stretch/>
        </p:blipFill>
        <p:spPr>
          <a:xfrm>
            <a:off x="7429680" y="1066680"/>
            <a:ext cx="1714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-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-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35E5-48CE-4500-B87B-7C2981059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Picture 1" descr="IMG_0990.JPG"/>
          <p:cNvPicPr/>
          <p:nvPr/>
        </p:nvPicPr>
        <p:blipFill>
          <a:blip r:embed="rId1"/>
          <a:stretch/>
        </p:blipFill>
        <p:spPr>
          <a:xfrm>
            <a:off x="5029200" y="762120"/>
            <a:ext cx="3962520" cy="579096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1" descr="100_0950.JPG"/>
          <p:cNvPicPr/>
          <p:nvPr/>
        </p:nvPicPr>
        <p:blipFill>
          <a:blip r:embed="rId2"/>
          <a:srcRect l="38342" t="18883" r="33333" b="5565"/>
          <a:stretch/>
        </p:blipFill>
        <p:spPr>
          <a:xfrm>
            <a:off x="228600" y="762120"/>
            <a:ext cx="2857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Ion Chamber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609120" y="9907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Calibri"/>
              </a:rPr>
              <a:t>Bicron RSO-5 / RSO-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ilar to RO-2 and RO-2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SO-5: Same scales as RO-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SO-50: Same scales as RO-2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su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se rates (includ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ndow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8FE9-CCA1-43E6-BCF4-C5ABF5708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Picture 5" descr=""/>
          <p:cNvPicPr/>
          <p:nvPr/>
        </p:nvPicPr>
        <p:blipFill>
          <a:blip r:embed="rId1"/>
          <a:stretch/>
        </p:blipFill>
        <p:spPr>
          <a:xfrm>
            <a:off x="152280" y="2743200"/>
            <a:ext cx="3009960" cy="380988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6" descr=""/>
          <p:cNvPicPr/>
          <p:nvPr/>
        </p:nvPicPr>
        <p:blipFill>
          <a:blip r:embed="rId2"/>
          <a:stretch/>
        </p:blipFill>
        <p:spPr>
          <a:xfrm>
            <a:off x="3438360" y="2743200"/>
            <a:ext cx="3038760" cy="380988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1" descr="100_1144.JPG"/>
          <p:cNvPicPr/>
          <p:nvPr/>
        </p:nvPicPr>
        <p:blipFill>
          <a:blip r:embed="rId3"/>
          <a:stretch/>
        </p:blipFill>
        <p:spPr>
          <a:xfrm>
            <a:off x="6705720" y="2743200"/>
            <a:ext cx="2325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Ion Chamber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76320" y="1066680"/>
            <a:ext cx="633888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Rotem RAM 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 in function to RO-2 or RSO-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se similar to RAM SUR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table, self-conta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or and monitor in one un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gital readout with automatic range adju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nge 0.1 mRem/hr to 50 Rem/h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a wind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9A76-E9DD-4C2D-A579-6AFB73C35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Picture 1" descr="100_1152.JPG"/>
          <p:cNvPicPr/>
          <p:nvPr/>
        </p:nvPicPr>
        <p:blipFill>
          <a:blip r:embed="rId1"/>
          <a:stretch/>
        </p:blipFill>
        <p:spPr>
          <a:xfrm>
            <a:off x="6365880" y="990720"/>
            <a:ext cx="262584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Ion Chamber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134640" y="888840"/>
            <a:ext cx="609588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Rotem RAM 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4464-2CB9-4451-AA5A-FE9940B81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Picture 6" descr=""/>
          <p:cNvPicPr/>
          <p:nvPr/>
        </p:nvPicPr>
        <p:blipFill>
          <a:blip r:embed="rId1"/>
          <a:srcRect l="44074" t="11610" r="10833" b="2368"/>
          <a:stretch/>
        </p:blipFill>
        <p:spPr>
          <a:xfrm>
            <a:off x="0" y="1347840"/>
            <a:ext cx="4429080" cy="528012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1" descr="telepolemr.jpg"/>
          <p:cNvPicPr/>
          <p:nvPr/>
        </p:nvPicPr>
        <p:blipFill>
          <a:blip r:embed="rId2"/>
          <a:srcRect l="19855" t="20120" r="15226" b="11813"/>
          <a:stretch/>
        </p:blipFill>
        <p:spPr>
          <a:xfrm>
            <a:off x="4613400" y="1708200"/>
            <a:ext cx="43783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De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444600" y="7488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alibri"/>
              </a:rPr>
              <a:t>RADēCO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 H809V Air Samp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91E2-45D1-4E76-8C46-D5F2B6443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Picture 1" descr="100_1149.JPG"/>
          <p:cNvPicPr/>
          <p:nvPr/>
        </p:nvPicPr>
        <p:blipFill>
          <a:blip r:embed="rId1"/>
          <a:stretch/>
        </p:blipFill>
        <p:spPr>
          <a:xfrm>
            <a:off x="1994040" y="1282680"/>
            <a:ext cx="510516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De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4B2E-8405-4872-8D17-DDB8E49E6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Picture 1" descr="100_1139.JPG"/>
          <p:cNvPicPr/>
          <p:nvPr/>
        </p:nvPicPr>
        <p:blipFill>
          <a:blip r:embed="rId1"/>
          <a:stretch/>
        </p:blipFill>
        <p:spPr>
          <a:xfrm>
            <a:off x="730080" y="873000"/>
            <a:ext cx="786132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3CCC-E776-4BB6-B3B0-C264CABF7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1371600" y="9140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ew of Io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ssage of nuclear radiation through a substance will result in the removal of electrons from neutral ato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on pair formed (free electron and residual positively-charged ato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Io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on pairs produced by the direct action of charged particles, such as alphas and bet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rged particles may collide with electrons and remove th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energy transfer insufficient to remove the electron, atom may be left in a state of exci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rect Io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duction of ion pairs by photons, gammas, and X-ra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Portable Instruments for Monitoring For Loose-Surface Contaminatio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152280" y="121896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beta and gamma: RM-14, RM-14s, and RAM SURF are used for determination of quant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alpha: E-600 and ESP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-600 probe must be held within 1/4 inch of the area being monitored to ensure proper respon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M-14 with HP-210 pro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d for monitoring personel contam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be must be within 1/2 inch of the surface being monitored to pick up possible contamin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-600 and RM-14 with HP-210 require slow probe movement to cover the area being monitored, about 1 to 2 in / se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780C-A547-46B9-A3A5-226482A66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651D-756E-4342-BA17-B261DCE3C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eter Reading Challen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877F-200B-4390-99F5-EF9763B43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PM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6" name=""/>
          <p:cNvGraphicFramePr/>
          <p:nvPr/>
        </p:nvGraphicFramePr>
        <p:xfrm>
          <a:off x="1523880" y="3336840"/>
          <a:ext cx="6096240" cy="2127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67" name="Group 10"/>
          <p:cNvGrpSpPr/>
          <p:nvPr/>
        </p:nvGrpSpPr>
        <p:grpSpPr>
          <a:xfrm>
            <a:off x="1778040" y="708120"/>
            <a:ext cx="6289560" cy="5819400"/>
            <a:chOff x="1778040" y="708120"/>
            <a:chExt cx="6289560" cy="5819400"/>
          </a:xfrm>
        </p:grpSpPr>
        <p:pic>
          <p:nvPicPr>
            <p:cNvPr id="868" name="Picture 2" descr=""/>
            <p:cNvPicPr/>
            <p:nvPr/>
          </p:nvPicPr>
          <p:blipFill>
            <a:blip r:embed="rId1"/>
            <a:stretch/>
          </p:blipFill>
          <p:spPr>
            <a:xfrm>
              <a:off x="1778040" y="708120"/>
              <a:ext cx="6289560" cy="390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9" name="Picture 1" descr=""/>
            <p:cNvPicPr/>
            <p:nvPr/>
          </p:nvPicPr>
          <p:blipFill>
            <a:blip r:embed="rId2"/>
            <a:stretch/>
          </p:blipFill>
          <p:spPr>
            <a:xfrm>
              <a:off x="1778040" y="4569480"/>
              <a:ext cx="6289560" cy="195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CEE7-3F14-42C5-B9A0-DE72A7F6E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Picture 2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6791040" cy="621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BE7BF-D7E8-4FFA-82DF-46D95CCF9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PM and DP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9" name="Picture 2" descr=""/>
          <p:cNvPicPr/>
          <p:nvPr/>
        </p:nvPicPr>
        <p:blipFill>
          <a:blip r:embed="rId1"/>
          <a:srcRect l="0" t="0" r="0" b="7349"/>
          <a:stretch/>
        </p:blipFill>
        <p:spPr>
          <a:xfrm>
            <a:off x="0" y="993600"/>
            <a:ext cx="9144000" cy="544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3671-590C-412D-80C7-A7303886A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Picture 2" descr=""/>
          <p:cNvPicPr/>
          <p:nvPr/>
        </p:nvPicPr>
        <p:blipFill>
          <a:blip r:embed="rId1"/>
          <a:srcRect l="25835" t="4814" r="0" b="15559"/>
          <a:stretch/>
        </p:blipFill>
        <p:spPr>
          <a:xfrm>
            <a:off x="914400" y="330120"/>
            <a:ext cx="6781680" cy="546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7757-FC4E-415F-901F-8C8BA05EF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Picture 2" descr=""/>
          <p:cNvPicPr/>
          <p:nvPr/>
        </p:nvPicPr>
        <p:blipFill>
          <a:blip r:embed="rId1"/>
          <a:srcRect l="38333" t="0" r="0" b="0"/>
          <a:stretch/>
        </p:blipFill>
        <p:spPr>
          <a:xfrm>
            <a:off x="1841400" y="571680"/>
            <a:ext cx="563904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1E3A-5E86-43EF-9919-0A1F36BD5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1" name="Picture 2" descr=""/>
          <p:cNvPicPr/>
          <p:nvPr/>
        </p:nvPicPr>
        <p:blipFill>
          <a:blip r:embed="rId1"/>
          <a:srcRect l="47362" t="0" r="0" b="0"/>
          <a:stretch/>
        </p:blipFill>
        <p:spPr>
          <a:xfrm>
            <a:off x="2362320" y="177840"/>
            <a:ext cx="4813200" cy="641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31F4-A078-4929-A0E1-B873968AE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Picture 2" descr=""/>
          <p:cNvPicPr/>
          <p:nvPr/>
        </p:nvPicPr>
        <p:blipFill>
          <a:blip r:embed="rId1"/>
          <a:srcRect l="32500" t="11113" r="0" b="19816"/>
          <a:stretch/>
        </p:blipFill>
        <p:spPr>
          <a:xfrm>
            <a:off x="863640" y="685800"/>
            <a:ext cx="7074000" cy="54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14FF-489C-4FBE-AEC3-57002C9A6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9" name="Picture 2" descr=""/>
          <p:cNvPicPr/>
          <p:nvPr/>
        </p:nvPicPr>
        <p:blipFill>
          <a:blip r:embed="rId1"/>
          <a:srcRect l="34169" t="6296" r="0" b="5556"/>
          <a:stretch/>
        </p:blipFill>
        <p:spPr>
          <a:xfrm>
            <a:off x="1600200" y="431640"/>
            <a:ext cx="6019920" cy="604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9BA7-18F9-4290-8E21-1CF1790C7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609120" y="16002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e basic principles of radiation dete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s-Filled Cha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intil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molumines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will focus primarily on the first tw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C694-E6C8-4A58-B29C-4376F853F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PM and DPM and uC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fficiency=18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4" name="Picture 2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1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81D2-6C9D-4676-A9D0-38E74C601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42720" y="10666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eter Reading Challen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0" y="3327120"/>
            <a:ext cx="4952880" cy="18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’s compare notes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AF26-4F69-458D-8D83-F9347597D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PM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4" name=""/>
          <p:cNvGraphicFramePr/>
          <p:nvPr/>
        </p:nvGraphicFramePr>
        <p:xfrm>
          <a:off x="1523880" y="3336840"/>
          <a:ext cx="6096240" cy="2127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6" name="Group 10"/>
          <p:cNvGrpSpPr/>
          <p:nvPr/>
        </p:nvGrpSpPr>
        <p:grpSpPr>
          <a:xfrm>
            <a:off x="1981080" y="619200"/>
            <a:ext cx="6073920" cy="5920920"/>
            <a:chOff x="1981080" y="619200"/>
            <a:chExt cx="6073920" cy="5920920"/>
          </a:xfrm>
        </p:grpSpPr>
        <p:pic>
          <p:nvPicPr>
            <p:cNvPr id="917" name="Picture 2" descr=""/>
            <p:cNvPicPr/>
            <p:nvPr/>
          </p:nvPicPr>
          <p:blipFill>
            <a:blip r:embed="rId1"/>
            <a:stretch/>
          </p:blipFill>
          <p:spPr>
            <a:xfrm>
              <a:off x="1981080" y="619200"/>
              <a:ext cx="6073920" cy="39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8" name="Picture 1" descr=""/>
            <p:cNvPicPr/>
            <p:nvPr/>
          </p:nvPicPr>
          <p:blipFill>
            <a:blip r:embed="rId2"/>
            <a:stretch/>
          </p:blipFill>
          <p:spPr>
            <a:xfrm>
              <a:off x="1981080" y="4547880"/>
              <a:ext cx="6073920" cy="1992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4836-18C6-4829-939F-86AFA18AA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# 1=   3200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F334-5213-474B-BF7D-50B683A8C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6" name="Picture 2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679104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07A8-030C-4A33-823B-1C1F35A5D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10,000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2228-F1B7-4891-86E8-CB3A276D5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PM and DP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5" name="Picture 2" descr=""/>
          <p:cNvPicPr/>
          <p:nvPr/>
        </p:nvPicPr>
        <p:blipFill>
          <a:blip r:embed="rId1"/>
          <a:srcRect l="0" t="0" r="0" b="7135"/>
          <a:stretch/>
        </p:blipFill>
        <p:spPr>
          <a:xfrm>
            <a:off x="0" y="981000"/>
            <a:ext cx="883908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49B7-E50C-436E-B080-67A371E44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5379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2,000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0" y="3327120"/>
            <a:ext cx="4952880" cy="18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PM=cpm/ef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2,000 cpm/.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20,000 d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EE45-77FB-43B3-9A79-7A68A9173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4" name="Picture 2" descr=""/>
          <p:cNvPicPr/>
          <p:nvPr/>
        </p:nvPicPr>
        <p:blipFill>
          <a:blip r:embed="rId1"/>
          <a:srcRect l="25835" t="11076" r="0" b="17386"/>
          <a:stretch/>
        </p:blipFill>
        <p:spPr>
          <a:xfrm>
            <a:off x="457200" y="444600"/>
            <a:ext cx="82296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CEDF-E1D2-4321-83E5-3B6BE71DD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300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s-Filled Ion Chamb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52280" y="761760"/>
            <a:ext cx="8801280" cy="38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ldest and most widely used device for detecting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al cylindrical gas-filled cha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ltage (V) applied across two electro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ode (positive): central electrod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thode (negative): chamber wall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ation passing through the chamber ionizes some of the gas ato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sitive ions drawn to chamber wa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ster-moving electrons (negative) drawn to the central ano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BE0A-390E-4C9B-A786-204273FB5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11" descr=""/>
          <p:cNvPicPr/>
          <p:nvPr/>
        </p:nvPicPr>
        <p:blipFill>
          <a:blip r:embed="rId1"/>
          <a:srcRect l="845" t="23187" r="1066" b="17947"/>
          <a:stretch/>
        </p:blipFill>
        <p:spPr>
          <a:xfrm>
            <a:off x="2023920" y="4464000"/>
            <a:ext cx="495648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5950-466D-47CA-A232-4B10CB2C9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2" name="Picture 2" descr=""/>
          <p:cNvPicPr/>
          <p:nvPr/>
        </p:nvPicPr>
        <p:blipFill>
          <a:blip r:embed="rId1"/>
          <a:srcRect l="47112" t="2222" r="3156" b="0"/>
          <a:stretch/>
        </p:blipFill>
        <p:spPr>
          <a:xfrm>
            <a:off x="2308320" y="60480"/>
            <a:ext cx="5006880" cy="6480000"/>
          </a:xfrm>
          <a:prstGeom prst="rect">
            <a:avLst/>
          </a:prstGeom>
          <a:ln w="0">
            <a:noFill/>
          </a:ln>
        </p:spPr>
      </p:pic>
      <p:sp>
        <p:nvSpPr>
          <p:cNvPr id="953" name="Text Box 4"/>
          <p:cNvSpPr/>
          <p:nvPr/>
        </p:nvSpPr>
        <p:spPr>
          <a:xfrm>
            <a:off x="4905360" y="4751280"/>
            <a:ext cx="873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R/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Oval 5"/>
          <p:cNvSpPr/>
          <p:nvPr/>
        </p:nvSpPr>
        <p:spPr>
          <a:xfrm>
            <a:off x="4508640" y="5010120"/>
            <a:ext cx="431640" cy="2858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E23E-BDD2-4C45-8F64-66CB905E0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400 mR/h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86C5-79C4-4609-9A9A-1E32434F0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2" descr=""/>
          <p:cNvPicPr/>
          <p:nvPr/>
        </p:nvPicPr>
        <p:blipFill>
          <a:blip r:embed="rId1"/>
          <a:srcRect l="49169" t="14446" r="0" b="0"/>
          <a:stretch/>
        </p:blipFill>
        <p:spPr>
          <a:xfrm>
            <a:off x="1954080" y="0"/>
            <a:ext cx="4980240" cy="65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93DF-4E6A-4014-95DF-B7CFAB3FA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3.6 mR/h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BEA4-04E5-4C96-BB73-0288605D5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Picture 2" descr=""/>
          <p:cNvPicPr/>
          <p:nvPr/>
        </p:nvPicPr>
        <p:blipFill>
          <a:blip r:embed="rId1"/>
          <a:srcRect l="50004" t="14446" r="8335" b="22672"/>
          <a:stretch/>
        </p:blipFill>
        <p:spPr>
          <a:xfrm>
            <a:off x="1676520" y="0"/>
            <a:ext cx="511812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109F-A362-49B8-BF37-94144C304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.5 R/h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4D2A-2020-4327-B861-C48F27F76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8" name="Picture 2" descr=""/>
          <p:cNvPicPr/>
          <p:nvPr/>
        </p:nvPicPr>
        <p:blipFill>
          <a:blip r:embed="rId1"/>
          <a:srcRect l="39169" t="6669" r="0" b="4444"/>
          <a:stretch/>
        </p:blipFill>
        <p:spPr>
          <a:xfrm>
            <a:off x="1295280" y="0"/>
            <a:ext cx="6257880" cy="65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2733-7676-407C-A54F-4808E2B67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8.5 R/h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C9FE-58F6-40EE-9284-F7F4DB28B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PM and DPM and uC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fficiency=18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7" name="Picture 2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8175-3359-463C-B87C-6FF59E60F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440" y="17794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5.1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ubTitle"/>
          </p:nvPr>
        </p:nvSpPr>
        <p:spPr>
          <a:xfrm>
            <a:off x="0" y="3327120"/>
            <a:ext cx="4952880" cy="18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PM=CPM/Ef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25.1/0.18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139 D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s-Filled Ion Chamb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609480" y="76176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ctrical charge collects on an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ge buildup causes voltage change, aka 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pul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lse causes current to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meter used to measure curr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rent level correlated to radiation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9FC8-8C87-4E81-AEC8-B9206499B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10" descr=""/>
          <p:cNvPicPr/>
          <p:nvPr/>
        </p:nvPicPr>
        <p:blipFill>
          <a:blip r:embed="rId1"/>
          <a:srcRect l="845" t="23187" r="1066" b="17947"/>
          <a:stretch/>
        </p:blipFill>
        <p:spPr>
          <a:xfrm>
            <a:off x="2036880" y="4172040"/>
            <a:ext cx="495612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s-Filled Ion Chamb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228600" y="838080"/>
            <a:ext cx="87631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lse magnitude determined 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ied vol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mber of initial (primary) ionizing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tant number based on specific ionization and detector si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gas-ionizing types of radiation detectors are technically ion cha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alibri"/>
              </a:rPr>
              <a:t>However, the term “ion chamber” is typically used to refer to such devices for which the input voltage is low enough to prevent secondary ionization (gas amplific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3E95-C3B9-4411-BD46-FF40F1402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7601-D2D2-4949-A427-EF3B19A8D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3"/>
          <p:cNvSpPr/>
          <p:nvPr/>
        </p:nvSpPr>
        <p:spPr>
          <a:xfrm>
            <a:off x="228600" y="76320"/>
            <a:ext cx="853452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Six-Region Gas Amplification Cu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Group 14"/>
          <p:cNvGrpSpPr/>
          <p:nvPr/>
        </p:nvGrpSpPr>
        <p:grpSpPr>
          <a:xfrm>
            <a:off x="378000" y="714240"/>
            <a:ext cx="8766000" cy="5881680"/>
            <a:chOff x="378000" y="714240"/>
            <a:chExt cx="8766000" cy="5881680"/>
          </a:xfrm>
        </p:grpSpPr>
        <p:sp>
          <p:nvSpPr>
            <p:cNvPr id="630" name="Rectangle 5"/>
            <p:cNvSpPr/>
            <p:nvPr/>
          </p:nvSpPr>
          <p:spPr>
            <a:xfrm>
              <a:off x="3819600" y="714240"/>
              <a:ext cx="2971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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, </a:t>
              </a: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, </a:t>
              </a: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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  each produce the same detector response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6"/>
            <p:cNvSpPr/>
            <p:nvPr/>
          </p:nvSpPr>
          <p:spPr>
            <a:xfrm>
              <a:off x="1409760" y="973080"/>
              <a:ext cx="7440480" cy="5275440"/>
            </a:xfrm>
            <a:custGeom>
              <a:avLst/>
              <a:gdLst/>
              <a:ahLst/>
              <a:rect l="l" t="t" r="r" b="b"/>
              <a:pathLst>
                <a:path w="4687" h="3323">
                  <a:moveTo>
                    <a:pt x="0" y="3323"/>
                  </a:moveTo>
                  <a:cubicBezTo>
                    <a:pt x="73" y="3252"/>
                    <a:pt x="147" y="3182"/>
                    <a:pt x="352" y="3147"/>
                  </a:cubicBezTo>
                  <a:cubicBezTo>
                    <a:pt x="557" y="3112"/>
                    <a:pt x="1004" y="3143"/>
                    <a:pt x="1232" y="3115"/>
                  </a:cubicBezTo>
                  <a:cubicBezTo>
                    <a:pt x="1460" y="3087"/>
                    <a:pt x="1572" y="3048"/>
                    <a:pt x="1720" y="2979"/>
                  </a:cubicBezTo>
                  <a:cubicBezTo>
                    <a:pt x="1868" y="2910"/>
                    <a:pt x="2004" y="2804"/>
                    <a:pt x="2120" y="2699"/>
                  </a:cubicBezTo>
                  <a:cubicBezTo>
                    <a:pt x="2236" y="2594"/>
                    <a:pt x="2316" y="2476"/>
                    <a:pt x="2416" y="2347"/>
                  </a:cubicBezTo>
                  <a:cubicBezTo>
                    <a:pt x="2516" y="2218"/>
                    <a:pt x="2620" y="2091"/>
                    <a:pt x="2720" y="1923"/>
                  </a:cubicBezTo>
                  <a:cubicBezTo>
                    <a:pt x="2820" y="1755"/>
                    <a:pt x="2935" y="1503"/>
                    <a:pt x="3016" y="1339"/>
                  </a:cubicBezTo>
                  <a:cubicBezTo>
                    <a:pt x="3097" y="1175"/>
                    <a:pt x="3147" y="1051"/>
                    <a:pt x="3208" y="939"/>
                  </a:cubicBezTo>
                  <a:cubicBezTo>
                    <a:pt x="3269" y="827"/>
                    <a:pt x="3337" y="719"/>
                    <a:pt x="3384" y="667"/>
                  </a:cubicBezTo>
                  <a:cubicBezTo>
                    <a:pt x="3431" y="615"/>
                    <a:pt x="3435" y="644"/>
                    <a:pt x="3488" y="627"/>
                  </a:cubicBezTo>
                  <a:cubicBezTo>
                    <a:pt x="3541" y="610"/>
                    <a:pt x="3628" y="580"/>
                    <a:pt x="3704" y="563"/>
                  </a:cubicBezTo>
                  <a:cubicBezTo>
                    <a:pt x="3780" y="546"/>
                    <a:pt x="3863" y="544"/>
                    <a:pt x="3944" y="523"/>
                  </a:cubicBezTo>
                  <a:cubicBezTo>
                    <a:pt x="4025" y="502"/>
                    <a:pt x="4121" y="474"/>
                    <a:pt x="4192" y="435"/>
                  </a:cubicBezTo>
                  <a:cubicBezTo>
                    <a:pt x="4263" y="396"/>
                    <a:pt x="4321" y="331"/>
                    <a:pt x="4368" y="291"/>
                  </a:cubicBezTo>
                  <a:cubicBezTo>
                    <a:pt x="4415" y="251"/>
                    <a:pt x="4439" y="240"/>
                    <a:pt x="4472" y="195"/>
                  </a:cubicBezTo>
                  <a:cubicBezTo>
                    <a:pt x="4505" y="150"/>
                    <a:pt x="4687" y="0"/>
                    <a:pt x="4568" y="19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7"/>
            <p:cNvSpPr/>
            <p:nvPr/>
          </p:nvSpPr>
          <p:spPr>
            <a:xfrm>
              <a:off x="1422360" y="1015920"/>
              <a:ext cx="7396200" cy="5232600"/>
            </a:xfrm>
            <a:custGeom>
              <a:avLst/>
              <a:gdLst/>
              <a:ahLst/>
              <a:rect l="l" t="t" r="r" b="b"/>
              <a:pathLst>
                <a:path w="4659" h="3296">
                  <a:moveTo>
                    <a:pt x="0" y="3296"/>
                  </a:moveTo>
                  <a:cubicBezTo>
                    <a:pt x="18" y="3232"/>
                    <a:pt x="36" y="3169"/>
                    <a:pt x="80" y="3120"/>
                  </a:cubicBezTo>
                  <a:cubicBezTo>
                    <a:pt x="124" y="3071"/>
                    <a:pt x="205" y="3028"/>
                    <a:pt x="264" y="3000"/>
                  </a:cubicBezTo>
                  <a:cubicBezTo>
                    <a:pt x="323" y="2972"/>
                    <a:pt x="347" y="2961"/>
                    <a:pt x="432" y="2952"/>
                  </a:cubicBezTo>
                  <a:cubicBezTo>
                    <a:pt x="517" y="2943"/>
                    <a:pt x="673" y="2948"/>
                    <a:pt x="776" y="2944"/>
                  </a:cubicBezTo>
                  <a:cubicBezTo>
                    <a:pt x="879" y="2940"/>
                    <a:pt x="968" y="2935"/>
                    <a:pt x="1048" y="2928"/>
                  </a:cubicBezTo>
                  <a:cubicBezTo>
                    <a:pt x="1128" y="2921"/>
                    <a:pt x="1181" y="2917"/>
                    <a:pt x="1256" y="2904"/>
                  </a:cubicBezTo>
                  <a:cubicBezTo>
                    <a:pt x="1331" y="2891"/>
                    <a:pt x="1416" y="2880"/>
                    <a:pt x="1496" y="2848"/>
                  </a:cubicBezTo>
                  <a:cubicBezTo>
                    <a:pt x="1576" y="2816"/>
                    <a:pt x="1657" y="2763"/>
                    <a:pt x="1736" y="2712"/>
                  </a:cubicBezTo>
                  <a:cubicBezTo>
                    <a:pt x="1815" y="2661"/>
                    <a:pt x="1893" y="2612"/>
                    <a:pt x="1968" y="2544"/>
                  </a:cubicBezTo>
                  <a:cubicBezTo>
                    <a:pt x="2043" y="2476"/>
                    <a:pt x="2091" y="2415"/>
                    <a:pt x="2184" y="2304"/>
                  </a:cubicBezTo>
                  <a:cubicBezTo>
                    <a:pt x="2277" y="2193"/>
                    <a:pt x="2432" y="2015"/>
                    <a:pt x="2528" y="1880"/>
                  </a:cubicBezTo>
                  <a:cubicBezTo>
                    <a:pt x="2624" y="1745"/>
                    <a:pt x="2683" y="1624"/>
                    <a:pt x="2760" y="1496"/>
                  </a:cubicBezTo>
                  <a:cubicBezTo>
                    <a:pt x="2837" y="1368"/>
                    <a:pt x="2929" y="1212"/>
                    <a:pt x="2992" y="1112"/>
                  </a:cubicBezTo>
                  <a:cubicBezTo>
                    <a:pt x="3055" y="1012"/>
                    <a:pt x="3092" y="957"/>
                    <a:pt x="3136" y="896"/>
                  </a:cubicBezTo>
                  <a:cubicBezTo>
                    <a:pt x="3180" y="835"/>
                    <a:pt x="3217" y="781"/>
                    <a:pt x="3256" y="744"/>
                  </a:cubicBezTo>
                  <a:cubicBezTo>
                    <a:pt x="3295" y="707"/>
                    <a:pt x="3324" y="697"/>
                    <a:pt x="3368" y="672"/>
                  </a:cubicBezTo>
                  <a:cubicBezTo>
                    <a:pt x="3412" y="647"/>
                    <a:pt x="3451" y="617"/>
                    <a:pt x="3520" y="592"/>
                  </a:cubicBezTo>
                  <a:cubicBezTo>
                    <a:pt x="3589" y="567"/>
                    <a:pt x="3708" y="537"/>
                    <a:pt x="3784" y="520"/>
                  </a:cubicBezTo>
                  <a:cubicBezTo>
                    <a:pt x="3860" y="503"/>
                    <a:pt x="3909" y="505"/>
                    <a:pt x="3976" y="488"/>
                  </a:cubicBezTo>
                  <a:cubicBezTo>
                    <a:pt x="4043" y="471"/>
                    <a:pt x="4127" y="447"/>
                    <a:pt x="4184" y="416"/>
                  </a:cubicBezTo>
                  <a:cubicBezTo>
                    <a:pt x="4241" y="385"/>
                    <a:pt x="4279" y="340"/>
                    <a:pt x="4320" y="304"/>
                  </a:cubicBezTo>
                  <a:cubicBezTo>
                    <a:pt x="4361" y="268"/>
                    <a:pt x="4399" y="236"/>
                    <a:pt x="4432" y="200"/>
                  </a:cubicBezTo>
                  <a:cubicBezTo>
                    <a:pt x="4465" y="164"/>
                    <a:pt x="4497" y="121"/>
                    <a:pt x="4520" y="88"/>
                  </a:cubicBezTo>
                  <a:cubicBezTo>
                    <a:pt x="4543" y="55"/>
                    <a:pt x="4659" y="20"/>
                    <a:pt x="4568" y="0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18"/>
            <p:cNvSpPr/>
            <p:nvPr/>
          </p:nvSpPr>
          <p:spPr>
            <a:xfrm>
              <a:off x="1409760" y="984240"/>
              <a:ext cx="7238880" cy="5264280"/>
            </a:xfrm>
            <a:custGeom>
              <a:avLst/>
              <a:gdLst/>
              <a:ahLst/>
              <a:rect l="l" t="t" r="r" b="b"/>
              <a:pathLst>
                <a:path w="4560" h="3316">
                  <a:moveTo>
                    <a:pt x="0" y="3316"/>
                  </a:moveTo>
                  <a:cubicBezTo>
                    <a:pt x="18" y="3227"/>
                    <a:pt x="36" y="3139"/>
                    <a:pt x="56" y="3092"/>
                  </a:cubicBezTo>
                  <a:cubicBezTo>
                    <a:pt x="76" y="3045"/>
                    <a:pt x="85" y="3069"/>
                    <a:pt x="120" y="3036"/>
                  </a:cubicBezTo>
                  <a:cubicBezTo>
                    <a:pt x="155" y="3003"/>
                    <a:pt x="219" y="2927"/>
                    <a:pt x="264" y="2892"/>
                  </a:cubicBezTo>
                  <a:cubicBezTo>
                    <a:pt x="309" y="2857"/>
                    <a:pt x="344" y="2845"/>
                    <a:pt x="392" y="2828"/>
                  </a:cubicBezTo>
                  <a:cubicBezTo>
                    <a:pt x="440" y="2811"/>
                    <a:pt x="481" y="2800"/>
                    <a:pt x="552" y="2788"/>
                  </a:cubicBezTo>
                  <a:cubicBezTo>
                    <a:pt x="623" y="2776"/>
                    <a:pt x="732" y="2763"/>
                    <a:pt x="816" y="2756"/>
                  </a:cubicBezTo>
                  <a:cubicBezTo>
                    <a:pt x="900" y="2749"/>
                    <a:pt x="975" y="2755"/>
                    <a:pt x="1056" y="2748"/>
                  </a:cubicBezTo>
                  <a:cubicBezTo>
                    <a:pt x="1137" y="2741"/>
                    <a:pt x="1225" y="2733"/>
                    <a:pt x="1304" y="2716"/>
                  </a:cubicBezTo>
                  <a:cubicBezTo>
                    <a:pt x="1383" y="2699"/>
                    <a:pt x="1448" y="2685"/>
                    <a:pt x="1528" y="2644"/>
                  </a:cubicBezTo>
                  <a:cubicBezTo>
                    <a:pt x="1608" y="2603"/>
                    <a:pt x="1713" y="2520"/>
                    <a:pt x="1784" y="2468"/>
                  </a:cubicBezTo>
                  <a:cubicBezTo>
                    <a:pt x="1855" y="2416"/>
                    <a:pt x="1888" y="2393"/>
                    <a:pt x="1952" y="2332"/>
                  </a:cubicBezTo>
                  <a:cubicBezTo>
                    <a:pt x="2016" y="2271"/>
                    <a:pt x="2103" y="2176"/>
                    <a:pt x="2168" y="2100"/>
                  </a:cubicBezTo>
                  <a:cubicBezTo>
                    <a:pt x="2233" y="2024"/>
                    <a:pt x="2287" y="1952"/>
                    <a:pt x="2344" y="1876"/>
                  </a:cubicBezTo>
                  <a:cubicBezTo>
                    <a:pt x="2401" y="1800"/>
                    <a:pt x="2453" y="1732"/>
                    <a:pt x="2512" y="1644"/>
                  </a:cubicBezTo>
                  <a:cubicBezTo>
                    <a:pt x="2571" y="1556"/>
                    <a:pt x="2636" y="1433"/>
                    <a:pt x="2696" y="1348"/>
                  </a:cubicBezTo>
                  <a:cubicBezTo>
                    <a:pt x="2756" y="1263"/>
                    <a:pt x="2820" y="1191"/>
                    <a:pt x="2872" y="1132"/>
                  </a:cubicBezTo>
                  <a:cubicBezTo>
                    <a:pt x="2924" y="1073"/>
                    <a:pt x="2967" y="1041"/>
                    <a:pt x="3008" y="996"/>
                  </a:cubicBezTo>
                  <a:cubicBezTo>
                    <a:pt x="3049" y="951"/>
                    <a:pt x="3071" y="901"/>
                    <a:pt x="3120" y="860"/>
                  </a:cubicBezTo>
                  <a:cubicBezTo>
                    <a:pt x="3169" y="819"/>
                    <a:pt x="3251" y="781"/>
                    <a:pt x="3304" y="748"/>
                  </a:cubicBezTo>
                  <a:cubicBezTo>
                    <a:pt x="3357" y="715"/>
                    <a:pt x="3400" y="683"/>
                    <a:pt x="3440" y="660"/>
                  </a:cubicBezTo>
                  <a:cubicBezTo>
                    <a:pt x="3480" y="637"/>
                    <a:pt x="3503" y="625"/>
                    <a:pt x="3544" y="612"/>
                  </a:cubicBezTo>
                  <a:cubicBezTo>
                    <a:pt x="3585" y="599"/>
                    <a:pt x="3624" y="595"/>
                    <a:pt x="3688" y="580"/>
                  </a:cubicBezTo>
                  <a:cubicBezTo>
                    <a:pt x="3752" y="565"/>
                    <a:pt x="3859" y="544"/>
                    <a:pt x="3928" y="524"/>
                  </a:cubicBezTo>
                  <a:cubicBezTo>
                    <a:pt x="3997" y="504"/>
                    <a:pt x="4057" y="477"/>
                    <a:pt x="4104" y="460"/>
                  </a:cubicBezTo>
                  <a:cubicBezTo>
                    <a:pt x="4151" y="443"/>
                    <a:pt x="4167" y="444"/>
                    <a:pt x="4208" y="420"/>
                  </a:cubicBezTo>
                  <a:cubicBezTo>
                    <a:pt x="4249" y="396"/>
                    <a:pt x="4313" y="352"/>
                    <a:pt x="4352" y="316"/>
                  </a:cubicBezTo>
                  <a:cubicBezTo>
                    <a:pt x="4391" y="280"/>
                    <a:pt x="4413" y="240"/>
                    <a:pt x="4440" y="204"/>
                  </a:cubicBezTo>
                  <a:cubicBezTo>
                    <a:pt x="4467" y="168"/>
                    <a:pt x="4492" y="133"/>
                    <a:pt x="4512" y="100"/>
                  </a:cubicBezTo>
                  <a:cubicBezTo>
                    <a:pt x="4532" y="67"/>
                    <a:pt x="4512" y="0"/>
                    <a:pt x="4560" y="4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19"/>
            <p:cNvSpPr/>
            <p:nvPr/>
          </p:nvSpPr>
          <p:spPr>
            <a:xfrm flipV="1">
              <a:off x="888840" y="6244920"/>
              <a:ext cx="825516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20"/>
            <p:cNvSpPr/>
            <p:nvPr/>
          </p:nvSpPr>
          <p:spPr>
            <a:xfrm flipV="1">
              <a:off x="1422360" y="1244520"/>
              <a:ext cx="12600" cy="4991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21"/>
            <p:cNvSpPr/>
            <p:nvPr/>
          </p:nvSpPr>
          <p:spPr>
            <a:xfrm>
              <a:off x="965160" y="1270080"/>
              <a:ext cx="469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22"/>
            <p:cNvSpPr/>
            <p:nvPr/>
          </p:nvSpPr>
          <p:spPr>
            <a:xfrm flipV="1">
              <a:off x="1949400" y="146952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23"/>
            <p:cNvSpPr/>
            <p:nvPr/>
          </p:nvSpPr>
          <p:spPr>
            <a:xfrm flipV="1">
              <a:off x="3344760" y="147744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24"/>
            <p:cNvSpPr/>
            <p:nvPr/>
          </p:nvSpPr>
          <p:spPr>
            <a:xfrm flipV="1">
              <a:off x="6000840" y="148068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25"/>
            <p:cNvSpPr/>
            <p:nvPr/>
          </p:nvSpPr>
          <p:spPr>
            <a:xfrm flipV="1">
              <a:off x="6721560" y="147744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26"/>
            <p:cNvSpPr/>
            <p:nvPr/>
          </p:nvSpPr>
          <p:spPr>
            <a:xfrm flipV="1">
              <a:off x="8191440" y="146952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27"/>
            <p:cNvSpPr/>
            <p:nvPr/>
          </p:nvSpPr>
          <p:spPr>
            <a:xfrm flipV="1">
              <a:off x="8951760" y="147924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5"/>
            <p:cNvSpPr/>
            <p:nvPr/>
          </p:nvSpPr>
          <p:spPr>
            <a:xfrm>
              <a:off x="3816360" y="1657440"/>
              <a:ext cx="1638360" cy="118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>
                  <a:solidFill>
                    <a:srgbClr val="006600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_____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</a:t>
              </a:r>
              <a:r>
                <a:rPr b="1" lang="en-US" sz="2400" spc="-1" strike="noStrike" baseline="30000">
                  <a:solidFill>
                    <a:srgbClr val="0000ff"/>
                  </a:solidFill>
                  <a:latin typeface="Times New Roman"/>
                </a:rPr>
                <a:t>-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_____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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_____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29"/>
            <p:cNvSpPr/>
            <p:nvPr/>
          </p:nvSpPr>
          <p:spPr>
            <a:xfrm>
              <a:off x="8210520" y="800280"/>
              <a:ext cx="66672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30"/>
            <p:cNvSpPr/>
            <p:nvPr/>
          </p:nvSpPr>
          <p:spPr>
            <a:xfrm>
              <a:off x="4194000" y="6227640"/>
              <a:ext cx="201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olt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31"/>
            <p:cNvSpPr/>
            <p:nvPr/>
          </p:nvSpPr>
          <p:spPr>
            <a:xfrm rot="16200000">
              <a:off x="167400" y="3534120"/>
              <a:ext cx="201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ulse He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 Box 32"/>
            <p:cNvSpPr/>
            <p:nvPr/>
          </p:nvSpPr>
          <p:spPr>
            <a:xfrm>
              <a:off x="382680" y="6073920"/>
              <a:ext cx="65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 Box 33"/>
            <p:cNvSpPr/>
            <p:nvPr/>
          </p:nvSpPr>
          <p:spPr>
            <a:xfrm>
              <a:off x="378000" y="1103400"/>
              <a:ext cx="63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 Box 34"/>
            <p:cNvSpPr/>
            <p:nvPr/>
          </p:nvSpPr>
          <p:spPr>
            <a:xfrm rot="16200000">
              <a:off x="267480" y="3186720"/>
              <a:ext cx="278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combination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35"/>
            <p:cNvSpPr/>
            <p:nvPr/>
          </p:nvSpPr>
          <p:spPr>
            <a:xfrm rot="16200000">
              <a:off x="1148400" y="3196080"/>
              <a:ext cx="278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onization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36"/>
            <p:cNvSpPr/>
            <p:nvPr/>
          </p:nvSpPr>
          <p:spPr>
            <a:xfrm rot="16200000">
              <a:off x="3082680" y="3624120"/>
              <a:ext cx="177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portional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37"/>
            <p:cNvSpPr/>
            <p:nvPr/>
          </p:nvSpPr>
          <p:spPr>
            <a:xfrm rot="16200000">
              <a:off x="4717080" y="4407480"/>
              <a:ext cx="33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mited Proportional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 Box 38"/>
            <p:cNvSpPr/>
            <p:nvPr/>
          </p:nvSpPr>
          <p:spPr>
            <a:xfrm rot="16200000">
              <a:off x="5753520" y="3921840"/>
              <a:ext cx="33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iger-Mueller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 Box 39"/>
            <p:cNvSpPr/>
            <p:nvPr/>
          </p:nvSpPr>
          <p:spPr>
            <a:xfrm rot="16200000">
              <a:off x="6678360" y="3724200"/>
              <a:ext cx="375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tinuous Discharge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40"/>
            <p:cNvSpPr/>
            <p:nvPr/>
          </p:nvSpPr>
          <p:spPr>
            <a:xfrm>
              <a:off x="1527120" y="1427040"/>
              <a:ext cx="738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             2                           3                          4                5                  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6"/>
            <p:cNvSpPr/>
            <p:nvPr/>
          </p:nvSpPr>
          <p:spPr>
            <a:xfrm flipH="1">
              <a:off x="6810120" y="1171440"/>
              <a:ext cx="104760" cy="87660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14:16:58Z</dcterms:created>
  <dc:creator>SCANA USER</dc:creator>
  <dc:description/>
  <dc:language>en-US</dc:language>
  <cp:lastModifiedBy>Peggy Hines IRSC</cp:lastModifiedBy>
  <dcterms:modified xsi:type="dcterms:W3CDTF">2013-03-06T20:20:37Z</dcterms:modified>
  <cp:revision>181</cp:revision>
  <dc:subject/>
  <dc:title>Protection Against Radi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061033</vt:lpwstr>
  </property>
</Properties>
</file>