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23.wmf" ContentType="image/x-wmf"/>
  <Override PartName="/ppt/media/image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dt" idx="55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sldImg"/>
          </p:nvPr>
        </p:nvSpPr>
        <p:spPr>
          <a:xfrm>
            <a:off x="1136520" y="696600"/>
            <a:ext cx="4584960" cy="343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ftr" idx="56"/>
          </p:nvPr>
        </p:nvSpPr>
        <p:spPr>
          <a:xfrm>
            <a:off x="-3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 type="sldNum" idx="57"/>
          </p:nvPr>
        </p:nvSpPr>
        <p:spPr>
          <a:xfrm>
            <a:off x="388584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B7E7-520E-43C6-AE49-89711056E2A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E9C2-8197-4F13-9AAC-8F02FF6BC6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D09D-9A59-4D38-A707-06E5868C23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BC35-113A-4DCD-B564-B71F40CFD3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2118-FAD9-4259-B27D-5AF31FC2768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825D-8D0F-4129-9D47-4AAD50DA062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F93B-85C8-4F69-9C28-FC29E35676F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A635-B134-46E8-BE01-C3FBECE3F64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7BA9-050F-40F0-A512-FD6C06CDA5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F4F6-A238-45AC-9E3B-C3E0F21D002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3802-F855-4197-B91A-52542C0028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3BC8-1417-42FE-A811-D294613582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he chamber is filled with gas (sometimes air) with a central electrode well insulated from the chamber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- center electrode (positive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- chamber wall (negative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tential difference is applied between the wall and the central electrode to produce an electric field in the cha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6329-4122-463F-8F88-41B53F89C57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04B7-73E0-47A1-A388-505CBB770B8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6F35-74AF-42A8-BDE7-2E8F28F477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ionization is the process by which a neutral atom or molecule ac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res a negative or posi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causes ion pairs to be produced in the gas within the chamber (this is shown on the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 between the cathode and anode draws the ions toward the electr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D8C0-DA04-4332-8A12-78D3B60038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ions are drawn to the cath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ions are drawn to the an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at which the ions move toward the electrodes is a function of the field strength and the nature of the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ge collects on the anode causing a voltage change in the circuit (pulse).  This pulse causes a current to flow in the internal meter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imple radiation det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5A38-3370-4B2E-8941-946FD1DE7B6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ring in the build which actually shows the gas amplification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 the draft game where there are four teams and each team has to draft players to make up the perfect tea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teams are made up, ask the class recall the names of the six regions of the gas amplification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points in the lesson plan will be covered by the various laminated pages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ame is played bring in the build (which shows the regions) and give them each a handout on which to capture the main points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each team to review their pages and allow participants to fill in their handout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311B-7ACC-4DA5-95C4-9E568606B64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23F8-342E-4CF4-84FC-0D9DACA317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5878-77D8-47AE-8B20-FB3FBD2A86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5780-F15D-498C-822D-DCC6A30E9A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A38-F1D1-43AE-8A30-6DB91890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5657-DC28-4C02-898D-14A9D292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233E4-01FC-47A7-8AF4-3C778681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46F8B-7375-4A51-A8B0-93000F48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E7FE0-F9EF-4AAF-8539-D1E379EB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4C338-DC91-4190-B142-6654CCB5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49ABC-F6AE-4E93-AC6D-8DD4CAFD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0B20D-439C-4153-9206-7391A8F7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90D77-3152-48DD-BCC7-C546E2B1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09ECE-43FC-4497-A79D-D912A1F5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C6F32-3853-4E82-8FAB-120BB6E5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FC406-2293-4DD9-985E-175528F0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A0E2-32A1-4BB3-89A8-7F3ABB6D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5374C-1C22-4B9F-A27D-32544847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FC452-4BB6-48E6-B790-E04003FF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1083C-B625-41D0-BCCD-33D6BD18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DE652-D350-41FB-A7EC-227F0297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B5ED5-F923-4DD5-85B1-7D9B728A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6A083-9D3A-47A2-A080-98A53AA6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82970-62A3-4CB8-B422-41F6159A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20768-E506-47CD-ACBA-76DB89C2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D98CF-93B6-4BCE-85A4-166B28B7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3858C-2F1E-4BC4-8B6E-504A0262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29F-2B31-418B-BEE4-159BEE72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F8852-0548-4217-8065-436610B4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A1B85-F862-427F-BB9D-C7B5815D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E2DD0-27D1-4AD8-877B-7A4E10B6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2F475-7D27-45B4-A2F4-B77AC08A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9FA02-28F8-462A-968F-950CFFD5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DAD44-AF10-4997-8361-3BB2249B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F7565-D17D-4905-8C01-981142A3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0D545-29BE-4933-945A-106FE5C7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9F97A-8C73-4CDF-B1CB-52ABB203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59020-742C-4A95-8F07-87DFCB06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DBD6-393D-4410-BE88-439668F0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12982-8EFE-4D50-B999-170A76E8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004D2-FE1F-46A0-87E4-CC7B6AAB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169CD-7673-4359-8842-D4640990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6C0CB-2C7E-4238-8460-0A20E304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00767-6A7D-4D75-A260-D65669B5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64B9C-4EC6-4A14-8629-E55754D4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4E732-B3E9-4762-B45A-52D77D87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F34FB-0E20-4283-86D6-497CD3EA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F7D5E-9980-4AAC-B604-C4E3CF1C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46A26-8C5C-4371-A362-BB5799E8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4743-645F-4BCE-BC12-744D2009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271D1-1D90-4931-9379-23B05885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50BC9-6572-47BE-B06C-A1548A61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37403-0B48-447F-A497-5B1F6F2F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CE469-29D0-49BD-8B65-FD7926C9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90C8C-D96E-4629-823B-E27DC315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6391B-3DD2-4ABF-B865-AB70D423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B2196-4F23-4A73-B6F6-3F32CE87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5BDBC-8EE8-4024-B60B-07C74B09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A64EE-6041-4201-91D1-B20B9D58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51CDB-AE0F-4A5D-86B8-0E71FBBF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A664-7D36-446F-9BDA-888C9F2F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F0066-1E25-44A5-8AAC-295CCB4C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C90EA-BB36-450D-9422-51315BDF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AE3C2-9398-4A54-9F58-446C2FFE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F6F0E-365C-4E96-B823-AB89BDC3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9485C-FDBD-43F6-9CF7-3C4989DB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81320-783A-4ACB-B866-395E0BC9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03B06-7458-45C7-8C79-FB1185C7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E50B7-10DC-43A4-AC09-7EDA5DF0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35FC56-53EE-4637-B94C-919A84BC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20006D-E86C-4E73-9E52-CBE94D64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28B2-438B-4294-A548-D6DECC5D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A2A327-61C1-4C40-A928-20C78692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FEDCEE-93FA-4E55-8043-152FEF62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47F25-3C3F-4541-A8BF-6EDF3AD0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A0AAD-66F9-40E3-B5E9-A6AF6A3F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AF80F-55D8-4A2C-8DD2-EC4FA809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1ECCB2-85F0-41D6-833D-95FF7AE4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C5546-3ACB-4F45-BBFB-9B15026C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C2852F-52AD-4245-8A68-0F89182A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364694-9212-4604-9DB1-A629388B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5A46C5-E4F6-4BAB-9FC0-30A663EA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6BF3-7021-43D5-926D-CD5A0BB1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5B7A2E-785D-4B1F-ACFE-7C2D781C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DAB05-E061-494E-87A6-7114D3DD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E51345-2CD4-4D08-B54E-D0E60A7C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22FB81-75D8-4CC2-A5A9-F400263B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D4F398-C0F5-4604-A2D4-DF87B5CB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049169-570D-4C64-979B-6E61EE10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E485F5-4C3B-4586-BB01-83836B4C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C1C6D-21A1-4BBF-A58D-1946D2C8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07AE04-F2BD-4976-9757-1123DA8F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3F9514-413C-4693-804D-CD36978D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A9B1-82EA-4191-B84A-D0424BB0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63DA03-1DB5-4825-AD7E-92F59DE3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C0E482-61C7-4CE7-BDC7-825C25CC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95B0FD-196C-48BF-B07F-F01BC84E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A6B7D3-C9B0-405F-968A-20602B87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97029F-45C4-4820-B975-C6A8AFFC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E84C87-E5C4-42FF-A1BD-651D5E2F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A168F8-619E-4105-97A8-86A32B29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B2C27F-7461-4B1B-9FCB-0FB445E6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6AE2C-8721-4209-8FB8-90AD5DE4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D2AC14-2E24-4B71-8683-025CD933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D610-65C5-40E0-AEAD-8EBB70E2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29BEEF-5411-4E42-9C42-ABEB9BC3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1FE27-50DC-4342-A3C2-3E7D252C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456EB8-8ABA-421F-8BEC-09359DFA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81F4DF-C67A-45A4-B840-E68C12DE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3B026D-DCA4-48F1-8E5C-36C1D0F5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08BD59-5407-4552-880E-377CA96A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6F3B63-FC2A-4E62-86BB-7E77F6B6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2E8CCD-7F65-4749-984A-27A32320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61FAB6-ECF4-4AE7-B24F-2FAD7A9A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E13F95-8892-4018-A340-19391F51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2898-E516-4F41-9A59-E6BBB693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D5E2-3DF3-4CEF-9759-C5DA8C16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C0BFAF-C503-4A20-8D05-BD72C047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175997-08A2-4152-ADBC-ECA12F5D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1153CA-AE1C-4DDE-AD2C-CD0F607A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800C4B-B000-4243-996C-22D25206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0325F5-1D5E-4E57-8D72-A814B560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B81460-57D0-417A-B769-D381531C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4C95FC-75F3-4F91-AF32-DAA00B25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9034B3-720F-4F9B-9C16-F2B54AD7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F1A406-A7D6-461A-8C80-F2798B5F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5531DC-AD51-47FB-A307-53E79B1B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EB36-1A4A-42D2-817D-9CA986E7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A57EC7-9FE0-4F4B-80E1-332B94AD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2F576B-1E6A-4B46-A858-0FA41939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D44DC9-AAAE-4DE0-8AEA-0606CC83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E250D7-AFA9-49E5-8F9D-8A0869D2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CACDB6-3FC8-4E3A-BFC4-43F75491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CF05A2-E82F-4A56-B404-4C83C1A2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5B5426-9148-48A5-850F-D3EB8CF3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91E7-C55B-423E-8916-0954B87C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0061-F22C-456F-A24E-F552A199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7FAD-996D-4881-ABBF-0EFB93DC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9B62F-D4A6-45E2-A7EC-AA3E4916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5F85B-404F-4465-AFC0-55B1FF4B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9F0D3-E80D-4ADD-91B9-7EF78203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17750-6885-4824-9744-49AB6E5E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06628-E35B-4D9E-8976-A67CDF9C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310-5DBA-42C1-8846-AD8DF1F3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D0AE3-532D-4D6D-AA4A-FF7B4CC1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FC2B3-761E-43E7-B76C-28DE9BB0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6CFA0-B64F-4B26-970A-1FC4E669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D071F-E93C-471E-8620-1B268B5C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21D58-F54D-4F34-BD19-12ACEDA3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B7C03-A84B-487D-8B5C-E2719E2B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8082E-FF73-4191-8BA7-DA7A1AB7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6FC86-E9DC-4253-8248-4648C658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39E47-D8C9-4554-B67B-F9C45330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40BC8-AC78-48D8-A44E-938C5615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B90E-DC27-4E5D-9FB2-7CDC8BBC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1D587-E3C2-42FD-8E68-2040F372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369CA-D232-4DA9-9E4E-68EA3A56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D77BF-5EE3-4814-8749-0E445D45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C6D7C-D9B4-41DA-A0B6-FBBC307D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02B83-AA9C-48B2-979A-E6442375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41D8A-4396-4C85-9C5F-F4142257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C8766-DB61-4D41-B7D6-F659576C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184CC-ECA4-4E19-86AD-24797CDC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45821-2303-4E46-9D4E-C80044DE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F46CD-530B-4D51-A4AE-818C82EF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ED0-B63A-4388-A8AD-074E029E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DA842-CBF8-41BC-93C7-FB4D18FC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A106F-C3DC-445D-BF18-2DC865E5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44FCB-0AB1-45C0-951C-89DA00DB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D86D6-BCDD-44FF-A142-72D0C45F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364B8-68AE-4BFB-8309-DE89EC2C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6F672-016E-448F-AC8D-E898BD2B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3AC77-7CC8-4BE5-8029-43ECD642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15FEC-3F5E-4DFF-8C0A-316D8F18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03C53-FE0F-44DC-B9E9-35D86573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B4A04-4458-4F54-A842-2BFD97EC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362-E389-4C04-AEFB-93E2082D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7EB6D-3B71-42E9-A713-7D1A29D6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47005-8442-4640-80EE-6A1203B9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689F1-26CE-4426-B1F8-D5AC7749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3148F-9AE7-40FF-ADED-BD44B62D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EC323-65ED-43AA-BB17-B4239FB7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FF407-7D2A-40AD-B6CD-2D26423E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CA154-4393-4F95-B05F-631C62BD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798F7-E102-442A-AC77-229148B0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66CBD-A0D7-46B2-8251-5AEA08A5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91251-7D81-4D29-B72C-035831D8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5DA-AAEA-4FF0-8325-679A28C2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DF8B4-A703-4A24-89C0-E3C4BD49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145FB-345A-422B-91F2-C947A08C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53D23-32D7-4B22-BFDD-DA1AB731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6DA02-8481-4AE0-947D-4F67758C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3E5C9-EDD8-4FC3-8215-4EACBD40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8CA5B-1D42-499A-B693-C2F520E1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D89B0-AD49-4D20-BBD8-7D8F1929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E19F4-4DA4-4790-A805-C3374A83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F47F7-21C7-4D8F-A45B-8AE1E18D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1F352-8D8F-4401-A3C4-217B36C6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BC4C-9764-4B72-B172-7CE6B245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05A2B-5B05-4FF2-8C53-596FD737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ADD5D-3B63-4718-85C7-F3BA6AE7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37D0A-FFF5-4448-AB5D-DBFF0FEC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B788A-C1B1-49C7-A20B-CEA0FD22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45F6D-EE09-4E68-817A-68E6A3C3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58753-A67F-4D61-A7DB-3D7944D3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6C596-E8D5-430F-BA57-72E6ED18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C827A-0115-4029-B1A8-2FABF63C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C2DAA-B273-4A5E-BE79-9B0FC1D4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46A90-7DEA-4B12-A60D-E078020F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0A31-D3FA-4513-9347-B4DA03B0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4732A-3914-463E-A624-5433CB21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D8B88-759C-42D7-8046-B8E97154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3A6D3-B56C-4BCA-B7A3-7800AAEA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34383-9607-4FA8-B4E4-62F551A2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6863D-2739-4869-9F9D-5550B272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0E8EF-16B9-487E-9CF2-76EEE8BE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A1FAB-EE15-4739-8732-481F8A53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A7ED3-7A8D-4DA6-8275-084F868D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27B7F-1395-4642-8F77-68465715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70A78-B61E-45E6-B10F-87F99E68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C016-02A4-4AB0-86E1-116B1E7BE5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2251-9B99-47A6-992A-02D2979E6C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FD95-882D-4F71-B424-CF1341CA84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CC3D-6F5C-47A3-8F1B-427A40B0AD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FAD0-8952-411D-ADFF-4D5B64B551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A32D-45EE-460B-9477-548C2344A1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8BC2-919E-4E66-9F17-8600ADBF68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C36F-2A89-4B94-A95C-8C17C493E0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A85C-16E9-414E-B283-9AE49395A8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61C2-2C52-4E6A-A9F2-D273DD226B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92BE-D6D3-4EE8-85AB-C36B400B9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RCNET.jpg"/>
          <p:cNvPicPr/>
          <p:nvPr/>
        </p:nvPicPr>
        <p:blipFill>
          <a:blip r:embed="rId7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IRSC_NSFPoster.jpg"/>
          <p:cNvPicPr/>
          <p:nvPr/>
        </p:nvPicPr>
        <p:blipFill>
          <a:blip r:embed="rId8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5A3C-3540-4381-A4F2-ADB33222B6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B76D-A563-4296-A180-280A3C3FD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CB77-EAC4-4E9A-AC8B-4F01D21555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4E1A-CFC1-49AA-B970-C1409BFFB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CF32-3F01-4FF5-9CF4-741527B380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7602-F664-4F63-88E9-92AA615245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4E89-C2C3-4313-9531-2D65141C0D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Rad%20Measurements%20Instrument%20Instructor%20Notes.doc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Box 1"/>
          <p:cNvSpPr/>
          <p:nvPr/>
        </p:nvSpPr>
        <p:spPr>
          <a:xfrm>
            <a:off x="152280" y="1219320"/>
            <a:ext cx="8839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as-filled detector, ionization chamber, proportional detector, Geiger-Mueller detector scintillation detector, semiconductor, thermoluminescent detector, characteristics, operating principles, advantages, disadvantages.</a:t>
            </a:r>
            <a:endParaRPr b="0" lang="en-US" sz="16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ad Measurements Instrument Instructor Notes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772" name="Title 1" descr=""/>
          <p:cNvPicPr/>
          <p:nvPr/>
        </p:nvPicPr>
        <p:blipFill>
          <a:blip r:embed="rId2"/>
          <a:stretch/>
        </p:blipFill>
        <p:spPr>
          <a:xfrm>
            <a:off x="-195120" y="-66600"/>
            <a:ext cx="9339120" cy="15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3" name=""/>
          <p:cNvGraphicFramePr/>
          <p:nvPr/>
        </p:nvGraphicFramePr>
        <p:xfrm>
          <a:off x="154080" y="2133720"/>
          <a:ext cx="8448480" cy="1249200"/>
        </p:xfrm>
        <a:graphic>
          <a:graphicData uri="http://schemas.openxmlformats.org/drawingml/2006/table">
            <a:tbl>
              <a:tblPr/>
              <a:tblGrid>
                <a:gridCol w="1133280"/>
                <a:gridCol w="1135080"/>
                <a:gridCol w="1455840"/>
                <a:gridCol w="1219320"/>
                <a:gridCol w="1143000"/>
                <a:gridCol w="1295280"/>
                <a:gridCol w="1066680"/>
              </a:tblGrid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4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4.5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6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7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1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33.2.3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3.17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3.18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3.3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4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5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5.6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a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b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c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d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e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91440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CM-2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4" name="Rectangle 3"/>
          <p:cNvSpPr/>
          <p:nvPr/>
        </p:nvSpPr>
        <p:spPr>
          <a:xfrm>
            <a:off x="380880" y="5869080"/>
            <a:ext cx="8534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5" name="Picture 4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6146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NR-4 &amp; Ludlum 12-4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1523880" y="5869080"/>
            <a:ext cx="586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8" name="Picture 4" descr=""/>
          <p:cNvPicPr/>
          <p:nvPr/>
        </p:nvPicPr>
        <p:blipFill>
          <a:blip r:embed="rId1"/>
          <a:stretch/>
        </p:blipFill>
        <p:spPr>
          <a:xfrm>
            <a:off x="2498760" y="1295280"/>
            <a:ext cx="406728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2"/>
          <p:cNvSpPr/>
          <p:nvPr/>
        </p:nvSpPr>
        <p:spPr>
          <a:xfrm>
            <a:off x="990720" y="304920"/>
            <a:ext cx="6933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14C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0" name="Rectangle 3"/>
          <p:cNvSpPr/>
          <p:nvPr/>
        </p:nvSpPr>
        <p:spPr>
          <a:xfrm>
            <a:off x="2133720" y="586908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1" name="Picture 4" descr=""/>
          <p:cNvPicPr/>
          <p:nvPr/>
        </p:nvPicPr>
        <p:blipFill>
          <a:blip r:embed="rId1"/>
          <a:stretch/>
        </p:blipFill>
        <p:spPr>
          <a:xfrm>
            <a:off x="2840040" y="1219320"/>
            <a:ext cx="371484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1447920" y="304920"/>
            <a:ext cx="7467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177 with pancake probe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1523880" y="5942160"/>
            <a:ext cx="586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4" name="Picture 4" descr=""/>
          <p:cNvPicPr/>
          <p:nvPr/>
        </p:nvPicPr>
        <p:blipFill>
          <a:blip r:embed="rId1"/>
          <a:stretch/>
        </p:blipFill>
        <p:spPr>
          <a:xfrm>
            <a:off x="3276720" y="2071800"/>
            <a:ext cx="2746080" cy="1041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5" descr=""/>
          <p:cNvPicPr/>
          <p:nvPr/>
        </p:nvPicPr>
        <p:blipFill>
          <a:blip r:embed="rId2"/>
          <a:stretch/>
        </p:blipFill>
        <p:spPr>
          <a:xfrm>
            <a:off x="2819520" y="2994120"/>
            <a:ext cx="42796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375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228600" y="5869080"/>
            <a:ext cx="8763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48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8" name="Picture 4" descr=""/>
          <p:cNvPicPr/>
          <p:nvPr/>
        </p:nvPicPr>
        <p:blipFill>
          <a:blip r:embed="rId1"/>
          <a:stretch/>
        </p:blipFill>
        <p:spPr>
          <a:xfrm>
            <a:off x="1839960" y="1371600"/>
            <a:ext cx="57927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urveyor-50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31" name="Picture 4" descr=""/>
          <p:cNvPicPr/>
          <p:nvPr/>
        </p:nvPicPr>
        <p:blipFill>
          <a:blip r:embed="rId1"/>
          <a:stretch/>
        </p:blipFill>
        <p:spPr>
          <a:xfrm>
            <a:off x="2362320" y="1430280"/>
            <a:ext cx="5003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1bd"/>
                </a:solidFill>
                <a:latin typeface="Calibri"/>
              </a:rPr>
              <a:t>Teletecto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4" descr="http://www.volk-gmbh.de/IMAGES/949110-949114.jpg"/>
          <p:cNvPicPr/>
          <p:nvPr/>
        </p:nvPicPr>
        <p:blipFill>
          <a:blip r:embed="rId1"/>
          <a:stretch/>
        </p:blipFill>
        <p:spPr>
          <a:xfrm rot="17541600">
            <a:off x="2493720" y="247320"/>
            <a:ext cx="4500360" cy="6561000"/>
          </a:xfrm>
          <a:prstGeom prst="rect">
            <a:avLst/>
          </a:prstGeom>
          <a:ln w="0">
            <a:noFill/>
          </a:ln>
        </p:spPr>
      </p:pic>
      <p:sp>
        <p:nvSpPr>
          <p:cNvPr id="934" name="Text Box 7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urveyor M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6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37" name="Picture 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6027480" cy="4486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5" descr=""/>
          <p:cNvPicPr/>
          <p:nvPr/>
        </p:nvPicPr>
        <p:blipFill>
          <a:blip r:embed="rId2"/>
          <a:stretch/>
        </p:blipFill>
        <p:spPr>
          <a:xfrm>
            <a:off x="6400800" y="685800"/>
            <a:ext cx="24940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Microanalyst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0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1" name="Picture 4" descr=""/>
          <p:cNvPicPr/>
          <p:nvPr/>
        </p:nvPicPr>
        <p:blipFill>
          <a:blip r:embed="rId1"/>
          <a:stretch/>
        </p:blipFill>
        <p:spPr>
          <a:xfrm>
            <a:off x="2725560" y="1676520"/>
            <a:ext cx="40690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M-7 (Portal Monitor)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3" name="Rectangle 3"/>
          <p:cNvSpPr/>
          <p:nvPr/>
        </p:nvSpPr>
        <p:spPr>
          <a:xfrm>
            <a:off x="2133720" y="586908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4" name="Picture 4" descr=""/>
          <p:cNvPicPr/>
          <p:nvPr/>
        </p:nvPicPr>
        <p:blipFill>
          <a:blip r:embed="rId1"/>
          <a:stretch/>
        </p:blipFill>
        <p:spPr>
          <a:xfrm>
            <a:off x="3279600" y="1143000"/>
            <a:ext cx="28148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523880" y="3240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Times New Roman"/>
              </a:rPr>
              <a:t>Simple Gas Filled Detector</a:t>
            </a:r>
            <a:endParaRPr b="0" lang="en-US" sz="44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775" name="Group 21"/>
          <p:cNvGrpSpPr/>
          <p:nvPr/>
        </p:nvGrpSpPr>
        <p:grpSpPr>
          <a:xfrm>
            <a:off x="1454040" y="2206800"/>
            <a:ext cx="6851880" cy="3889080"/>
            <a:chOff x="1454040" y="2206800"/>
            <a:chExt cx="6851880" cy="3889080"/>
          </a:xfrm>
        </p:grpSpPr>
        <p:grpSp>
          <p:nvGrpSpPr>
            <p:cNvPr id="776" name="Group 6"/>
            <p:cNvGrpSpPr/>
            <p:nvPr/>
          </p:nvGrpSpPr>
          <p:grpSpPr>
            <a:xfrm>
              <a:off x="2247840" y="2965320"/>
              <a:ext cx="4989600" cy="3130560"/>
              <a:chOff x="2247840" y="2965320"/>
              <a:chExt cx="4989600" cy="3130560"/>
            </a:xfrm>
          </p:grpSpPr>
          <p:sp>
            <p:nvSpPr>
              <p:cNvPr id="777" name="Line 3"/>
              <p:cNvSpPr/>
              <p:nvPr/>
            </p:nvSpPr>
            <p:spPr>
              <a:xfrm>
                <a:off x="2247840" y="3828960"/>
                <a:ext cx="0" cy="129564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78" name="Line 4"/>
              <p:cNvSpPr/>
              <p:nvPr/>
            </p:nvSpPr>
            <p:spPr>
              <a:xfrm>
                <a:off x="2247840" y="6095880"/>
                <a:ext cx="498960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79" name="Line 5"/>
              <p:cNvSpPr/>
              <p:nvPr/>
            </p:nvSpPr>
            <p:spPr>
              <a:xfrm flipV="1">
                <a:off x="7237440" y="2965320"/>
                <a:ext cx="0" cy="18352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780" name="Line 7"/>
            <p:cNvSpPr/>
            <p:nvPr/>
          </p:nvSpPr>
          <p:spPr>
            <a:xfrm>
              <a:off x="2160720" y="5232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1" name="Line 8"/>
            <p:cNvSpPr/>
            <p:nvPr/>
          </p:nvSpPr>
          <p:spPr>
            <a:xfrm>
              <a:off x="2071800" y="5340240"/>
              <a:ext cx="3553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2" name="Line 9"/>
            <p:cNvSpPr/>
            <p:nvPr/>
          </p:nvSpPr>
          <p:spPr>
            <a:xfrm>
              <a:off x="2160720" y="5556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3" name="Line 10"/>
            <p:cNvSpPr/>
            <p:nvPr/>
          </p:nvSpPr>
          <p:spPr>
            <a:xfrm>
              <a:off x="2160720" y="5448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4" name="Line 11"/>
            <p:cNvSpPr/>
            <p:nvPr/>
          </p:nvSpPr>
          <p:spPr>
            <a:xfrm flipV="1">
              <a:off x="2247840" y="5663880"/>
              <a:ext cx="0" cy="431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5" name="Freeform 12"/>
            <p:cNvSpPr/>
            <p:nvPr/>
          </p:nvSpPr>
          <p:spPr>
            <a:xfrm>
              <a:off x="7149960" y="4800600"/>
              <a:ext cx="182880" cy="64944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115" h="409">
                  <a:moveTo>
                    <a:pt x="55" y="0"/>
                  </a:moveTo>
                  <a:lnTo>
                    <a:pt x="88" y="60"/>
                  </a:lnTo>
                  <a:lnTo>
                    <a:pt x="114" y="76"/>
                  </a:lnTo>
                  <a:lnTo>
                    <a:pt x="88" y="121"/>
                  </a:lnTo>
                  <a:lnTo>
                    <a:pt x="50" y="136"/>
                  </a:lnTo>
                  <a:lnTo>
                    <a:pt x="25" y="167"/>
                  </a:lnTo>
                  <a:lnTo>
                    <a:pt x="0" y="196"/>
                  </a:lnTo>
                  <a:lnTo>
                    <a:pt x="25" y="228"/>
                  </a:lnTo>
                  <a:lnTo>
                    <a:pt x="63" y="242"/>
                  </a:lnTo>
                  <a:lnTo>
                    <a:pt x="88" y="273"/>
                  </a:lnTo>
                  <a:lnTo>
                    <a:pt x="50" y="303"/>
                  </a:lnTo>
                  <a:lnTo>
                    <a:pt x="37" y="334"/>
                  </a:lnTo>
                  <a:lnTo>
                    <a:pt x="0" y="364"/>
                  </a:lnTo>
                  <a:lnTo>
                    <a:pt x="25" y="379"/>
                  </a:lnTo>
                  <a:lnTo>
                    <a:pt x="63" y="393"/>
                  </a:lnTo>
                  <a:lnTo>
                    <a:pt x="55" y="408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6" name="Line 13"/>
            <p:cNvSpPr/>
            <p:nvPr/>
          </p:nvSpPr>
          <p:spPr>
            <a:xfrm>
              <a:off x="7237440" y="5448240"/>
              <a:ext cx="0" cy="647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7" name="AutoShape 14"/>
            <p:cNvSpPr/>
            <p:nvPr/>
          </p:nvSpPr>
          <p:spPr>
            <a:xfrm>
              <a:off x="1454040" y="2324160"/>
              <a:ext cx="4886280" cy="149868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8" name="Oval 15"/>
            <p:cNvSpPr/>
            <p:nvPr/>
          </p:nvSpPr>
          <p:spPr>
            <a:xfrm>
              <a:off x="5997600" y="2324160"/>
              <a:ext cx="520560" cy="149868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9" name="Line 16"/>
            <p:cNvSpPr/>
            <p:nvPr/>
          </p:nvSpPr>
          <p:spPr>
            <a:xfrm>
              <a:off x="2873520" y="2965320"/>
              <a:ext cx="516564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0" name="Rectangle 17"/>
            <p:cNvSpPr/>
            <p:nvPr/>
          </p:nvSpPr>
          <p:spPr>
            <a:xfrm>
              <a:off x="3265200" y="2430360"/>
              <a:ext cx="1102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</a:rPr>
                <a:t>Anode +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1" name="Rectangle 18"/>
            <p:cNvSpPr/>
            <p:nvPr/>
          </p:nvSpPr>
          <p:spPr>
            <a:xfrm>
              <a:off x="3265200" y="3338640"/>
              <a:ext cx="121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504d"/>
                  </a:solidFill>
                  <a:latin typeface="Times New Roman"/>
                </a:rPr>
                <a:t>Cathode</a:t>
              </a:r>
              <a:r>
                <a:rPr b="0" lang="en-US" sz="2400" spc="-1" strike="noStrike">
                  <a:solidFill>
                    <a:srgbClr val="c0504d"/>
                  </a:solidFill>
                  <a:latin typeface="Times New Roman"/>
                </a:rPr>
                <a:t> 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2" name="Rectangle 19"/>
            <p:cNvSpPr/>
            <p:nvPr/>
          </p:nvSpPr>
          <p:spPr>
            <a:xfrm>
              <a:off x="7133760" y="2206800"/>
              <a:ext cx="1021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  meter </a:t>
              </a:r>
              <a:endParaRPr b="0" lang="en-US" sz="16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3" name="Line 20"/>
            <p:cNvSpPr/>
            <p:nvPr/>
          </p:nvSpPr>
          <p:spPr>
            <a:xfrm>
              <a:off x="7148520" y="2747880"/>
              <a:ext cx="11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AM 11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6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7" name="Picture 4" descr=""/>
          <p:cNvPicPr/>
          <p:nvPr/>
        </p:nvPicPr>
        <p:blipFill>
          <a:blip r:embed="rId1"/>
          <a:stretch/>
        </p:blipFill>
        <p:spPr>
          <a:xfrm>
            <a:off x="2590920" y="1343160"/>
            <a:ext cx="445428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ED (DMC 2000)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9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olid State Detecto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50" name="Picture 4" descr=""/>
          <p:cNvPicPr/>
          <p:nvPr/>
        </p:nvPicPr>
        <p:blipFill>
          <a:blip r:embed="rId1"/>
          <a:stretch/>
        </p:blipFill>
        <p:spPr>
          <a:xfrm>
            <a:off x="2895480" y="1173240"/>
            <a:ext cx="367056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320" y="299880"/>
            <a:ext cx="9145440" cy="1076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Simple Gas Filled Detecto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Group 21"/>
          <p:cNvGrpSpPr/>
          <p:nvPr/>
        </p:nvGrpSpPr>
        <p:grpSpPr>
          <a:xfrm>
            <a:off x="1165320" y="2344680"/>
            <a:ext cx="6896160" cy="3230640"/>
            <a:chOff x="1165320" y="2344680"/>
            <a:chExt cx="6896160" cy="3230640"/>
          </a:xfrm>
        </p:grpSpPr>
        <p:grpSp>
          <p:nvGrpSpPr>
            <p:cNvPr id="796" name="Group 6"/>
            <p:cNvGrpSpPr/>
            <p:nvPr/>
          </p:nvGrpSpPr>
          <p:grpSpPr>
            <a:xfrm>
              <a:off x="1965240" y="2974680"/>
              <a:ext cx="5019840" cy="2600640"/>
              <a:chOff x="1965240" y="2974680"/>
              <a:chExt cx="5019840" cy="2600640"/>
            </a:xfrm>
          </p:grpSpPr>
          <p:sp>
            <p:nvSpPr>
              <p:cNvPr id="797" name="Line 3"/>
              <p:cNvSpPr/>
              <p:nvPr/>
            </p:nvSpPr>
            <p:spPr>
              <a:xfrm>
                <a:off x="1965240" y="3692520"/>
                <a:ext cx="0" cy="107640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98" name="Line 4"/>
              <p:cNvSpPr/>
              <p:nvPr/>
            </p:nvSpPr>
            <p:spPr>
              <a:xfrm>
                <a:off x="1965240" y="5575320"/>
                <a:ext cx="50198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99" name="Line 5"/>
              <p:cNvSpPr/>
              <p:nvPr/>
            </p:nvSpPr>
            <p:spPr>
              <a:xfrm flipV="1">
                <a:off x="6985080" y="2974680"/>
                <a:ext cx="0" cy="15238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00" name="Line 7"/>
            <p:cNvSpPr/>
            <p:nvPr/>
          </p:nvSpPr>
          <p:spPr>
            <a:xfrm>
              <a:off x="1874880" y="485784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1" name="Line 8"/>
            <p:cNvSpPr/>
            <p:nvPr/>
          </p:nvSpPr>
          <p:spPr>
            <a:xfrm>
              <a:off x="1785960" y="4948200"/>
              <a:ext cx="3589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2" name="Line 9"/>
            <p:cNvSpPr/>
            <p:nvPr/>
          </p:nvSpPr>
          <p:spPr>
            <a:xfrm>
              <a:off x="1874880" y="512748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>
              <a:off x="1874880" y="503712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4" name="Line 11"/>
            <p:cNvSpPr/>
            <p:nvPr/>
          </p:nvSpPr>
          <p:spPr>
            <a:xfrm flipV="1">
              <a:off x="1965240" y="5216040"/>
              <a:ext cx="0" cy="35892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6897600" y="4498920"/>
              <a:ext cx="184320" cy="5396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16" h="340">
                  <a:moveTo>
                    <a:pt x="55" y="0"/>
                  </a:moveTo>
                  <a:lnTo>
                    <a:pt x="88" y="50"/>
                  </a:lnTo>
                  <a:lnTo>
                    <a:pt x="115" y="63"/>
                  </a:lnTo>
                  <a:lnTo>
                    <a:pt x="88" y="101"/>
                  </a:lnTo>
                  <a:lnTo>
                    <a:pt x="50" y="113"/>
                  </a:lnTo>
                  <a:lnTo>
                    <a:pt x="26" y="138"/>
                  </a:lnTo>
                  <a:lnTo>
                    <a:pt x="0" y="163"/>
                  </a:lnTo>
                  <a:lnTo>
                    <a:pt x="26" y="189"/>
                  </a:lnTo>
                  <a:lnTo>
                    <a:pt x="64" y="201"/>
                  </a:lnTo>
                  <a:lnTo>
                    <a:pt x="88" y="227"/>
                  </a:lnTo>
                  <a:lnTo>
                    <a:pt x="50" y="251"/>
                  </a:lnTo>
                  <a:lnTo>
                    <a:pt x="37" y="277"/>
                  </a:lnTo>
                  <a:lnTo>
                    <a:pt x="0" y="302"/>
                  </a:lnTo>
                  <a:lnTo>
                    <a:pt x="26" y="315"/>
                  </a:lnTo>
                  <a:lnTo>
                    <a:pt x="64" y="327"/>
                  </a:lnTo>
                  <a:lnTo>
                    <a:pt x="55" y="339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6" name="Line 13"/>
            <p:cNvSpPr/>
            <p:nvPr/>
          </p:nvSpPr>
          <p:spPr>
            <a:xfrm>
              <a:off x="6985080" y="5035680"/>
              <a:ext cx="0" cy="539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7" name="AutoShape 14"/>
            <p:cNvSpPr/>
            <p:nvPr/>
          </p:nvSpPr>
          <p:spPr>
            <a:xfrm>
              <a:off x="1165320" y="2443320"/>
              <a:ext cx="4917960" cy="124272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8" name="Oval 15"/>
            <p:cNvSpPr/>
            <p:nvPr/>
          </p:nvSpPr>
          <p:spPr>
            <a:xfrm>
              <a:off x="5737320" y="2443320"/>
              <a:ext cx="525240" cy="124272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9" name="Line 16"/>
            <p:cNvSpPr/>
            <p:nvPr/>
          </p:nvSpPr>
          <p:spPr>
            <a:xfrm>
              <a:off x="2592360" y="2975040"/>
              <a:ext cx="520056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0" name="Rectangle 17"/>
            <p:cNvSpPr/>
            <p:nvPr/>
          </p:nvSpPr>
          <p:spPr>
            <a:xfrm>
              <a:off x="2990520" y="2532240"/>
              <a:ext cx="10627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Anode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1" name="Rectangle 18"/>
            <p:cNvSpPr/>
            <p:nvPr/>
          </p:nvSpPr>
          <p:spPr>
            <a:xfrm>
              <a:off x="2990880" y="3284640"/>
              <a:ext cx="1608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Cathode -</a:t>
              </a:r>
              <a:endParaRPr b="0" lang="en-US" sz="28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6877800" y="2344680"/>
              <a:ext cx="11556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o meter </a:t>
              </a:r>
              <a:endParaRPr b="0" lang="en-US" sz="19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3" name="Line 20"/>
            <p:cNvSpPr/>
            <p:nvPr/>
          </p:nvSpPr>
          <p:spPr>
            <a:xfrm>
              <a:off x="6896160" y="2795760"/>
              <a:ext cx="116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sp>
        <p:nvSpPr>
          <p:cNvPr id="814" name="Rectangle 22"/>
          <p:cNvSpPr/>
          <p:nvPr/>
        </p:nvSpPr>
        <p:spPr>
          <a:xfrm>
            <a:off x="6384960" y="6208560"/>
            <a:ext cx="2241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815" name="Group 25"/>
          <p:cNvGrpSpPr/>
          <p:nvPr/>
        </p:nvGrpSpPr>
        <p:grpSpPr>
          <a:xfrm>
            <a:off x="2543760" y="2940120"/>
            <a:ext cx="474840" cy="839880"/>
            <a:chOff x="2543760" y="2940120"/>
            <a:chExt cx="474840" cy="839880"/>
          </a:xfrm>
        </p:grpSpPr>
        <p:sp>
          <p:nvSpPr>
            <p:cNvPr id="816" name="Rectangle 23"/>
            <p:cNvSpPr/>
            <p:nvPr/>
          </p:nvSpPr>
          <p:spPr>
            <a:xfrm>
              <a:off x="2543760" y="302904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7" name="Rectangle 24"/>
            <p:cNvSpPr/>
            <p:nvPr/>
          </p:nvSpPr>
          <p:spPr>
            <a:xfrm>
              <a:off x="2629800" y="29401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18" name="Group 28"/>
          <p:cNvGrpSpPr/>
          <p:nvPr/>
        </p:nvGrpSpPr>
        <p:grpSpPr>
          <a:xfrm>
            <a:off x="4893120" y="2940120"/>
            <a:ext cx="652680" cy="839880"/>
            <a:chOff x="4893120" y="2940120"/>
            <a:chExt cx="652680" cy="839880"/>
          </a:xfrm>
        </p:grpSpPr>
        <p:sp>
          <p:nvSpPr>
            <p:cNvPr id="819" name="Rectangle 26"/>
            <p:cNvSpPr/>
            <p:nvPr/>
          </p:nvSpPr>
          <p:spPr>
            <a:xfrm>
              <a:off x="4893120" y="32986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0" name="Rectangle 27"/>
            <p:cNvSpPr/>
            <p:nvPr/>
          </p:nvSpPr>
          <p:spPr>
            <a:xfrm>
              <a:off x="5157000" y="29401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1" name="Group 31"/>
          <p:cNvGrpSpPr/>
          <p:nvPr/>
        </p:nvGrpSpPr>
        <p:grpSpPr>
          <a:xfrm>
            <a:off x="2910240" y="2781360"/>
            <a:ext cx="654480" cy="921600"/>
            <a:chOff x="2910240" y="2781360"/>
            <a:chExt cx="654480" cy="921600"/>
          </a:xfrm>
        </p:grpSpPr>
        <p:sp>
          <p:nvSpPr>
            <p:cNvPr id="822" name="Rectangle 29"/>
            <p:cNvSpPr/>
            <p:nvPr/>
          </p:nvSpPr>
          <p:spPr>
            <a:xfrm>
              <a:off x="2910240" y="322884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3" name="Rectangle 30"/>
            <p:cNvSpPr/>
            <p:nvPr/>
          </p:nvSpPr>
          <p:spPr>
            <a:xfrm>
              <a:off x="3175920" y="278136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4" name="Group 34"/>
          <p:cNvGrpSpPr/>
          <p:nvPr/>
        </p:nvGrpSpPr>
        <p:grpSpPr>
          <a:xfrm>
            <a:off x="1767240" y="3016080"/>
            <a:ext cx="654480" cy="839880"/>
            <a:chOff x="1767240" y="3016080"/>
            <a:chExt cx="654480" cy="839880"/>
          </a:xfrm>
        </p:grpSpPr>
        <p:sp>
          <p:nvSpPr>
            <p:cNvPr id="825" name="Rectangle 32"/>
            <p:cNvSpPr/>
            <p:nvPr/>
          </p:nvSpPr>
          <p:spPr>
            <a:xfrm>
              <a:off x="1767240" y="319572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6" name="Rectangle 33"/>
            <p:cNvSpPr/>
            <p:nvPr/>
          </p:nvSpPr>
          <p:spPr>
            <a:xfrm>
              <a:off x="2032920" y="301608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7" name="Group 37"/>
          <p:cNvGrpSpPr/>
          <p:nvPr/>
        </p:nvGrpSpPr>
        <p:grpSpPr>
          <a:xfrm>
            <a:off x="2080080" y="2482920"/>
            <a:ext cx="563760" cy="839880"/>
            <a:chOff x="2080080" y="2482920"/>
            <a:chExt cx="563760" cy="839880"/>
          </a:xfrm>
        </p:grpSpPr>
        <p:sp>
          <p:nvSpPr>
            <p:cNvPr id="828" name="Rectangle 35"/>
            <p:cNvSpPr/>
            <p:nvPr/>
          </p:nvSpPr>
          <p:spPr>
            <a:xfrm>
              <a:off x="2080080" y="266220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9" name="Rectangle 36"/>
            <p:cNvSpPr/>
            <p:nvPr/>
          </p:nvSpPr>
          <p:spPr>
            <a:xfrm>
              <a:off x="2255040" y="24829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30" name="Group 40"/>
          <p:cNvGrpSpPr/>
          <p:nvPr/>
        </p:nvGrpSpPr>
        <p:grpSpPr>
          <a:xfrm>
            <a:off x="3985200" y="2787480"/>
            <a:ext cx="563760" cy="839880"/>
            <a:chOff x="3985200" y="2787480"/>
            <a:chExt cx="563760" cy="839880"/>
          </a:xfrm>
        </p:grpSpPr>
        <p:sp>
          <p:nvSpPr>
            <p:cNvPr id="831" name="Rectangle 38"/>
            <p:cNvSpPr/>
            <p:nvPr/>
          </p:nvSpPr>
          <p:spPr>
            <a:xfrm>
              <a:off x="3985200" y="314640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32" name="Rectangle 39"/>
            <p:cNvSpPr/>
            <p:nvPr/>
          </p:nvSpPr>
          <p:spPr>
            <a:xfrm>
              <a:off x="4160160" y="278748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33" name="Group 50"/>
          <p:cNvGrpSpPr/>
          <p:nvPr/>
        </p:nvGrpSpPr>
        <p:grpSpPr>
          <a:xfrm>
            <a:off x="940680" y="942840"/>
            <a:ext cx="6486480" cy="4089600"/>
            <a:chOff x="940680" y="942840"/>
            <a:chExt cx="6486480" cy="4089600"/>
          </a:xfrm>
        </p:grpSpPr>
        <p:grpSp>
          <p:nvGrpSpPr>
            <p:cNvPr id="834" name="Group 43"/>
            <p:cNvGrpSpPr/>
            <p:nvPr/>
          </p:nvGrpSpPr>
          <p:grpSpPr>
            <a:xfrm>
              <a:off x="940680" y="1211400"/>
              <a:ext cx="765720" cy="1936440"/>
              <a:chOff x="940680" y="1211400"/>
              <a:chExt cx="765720" cy="1936440"/>
            </a:xfrm>
          </p:grpSpPr>
          <p:sp>
            <p:nvSpPr>
              <p:cNvPr id="835" name="Freeform 41"/>
              <p:cNvSpPr/>
              <p:nvPr/>
            </p:nvSpPr>
            <p:spPr>
              <a:xfrm>
                <a:off x="1324080" y="1265400"/>
                <a:ext cx="382320" cy="1882440"/>
              </a:xfrm>
              <a:custGeom>
                <a:avLst/>
                <a:gdLst>
                  <a:gd name="textAreaLeft" fmla="*/ 0 w 382320"/>
                  <a:gd name="textAreaRight" fmla="*/ 382680 w 382320"/>
                  <a:gd name="textAreaTop" fmla="*/ 0 h 1882440"/>
                  <a:gd name="textAreaBottom" fmla="*/ 1882800 h 1882440"/>
                </a:gdLst>
                <a:ahLst/>
                <a:rect l="textAreaLeft" t="textAreaTop" r="textAreaRight" b="textAreaBottom"/>
                <a:pathLst>
                  <a:path w="241" h="1186">
                    <a:moveTo>
                      <a:pt x="0" y="0"/>
                    </a:moveTo>
                    <a:lnTo>
                      <a:pt x="0" y="56"/>
                    </a:lnTo>
                    <a:lnTo>
                      <a:pt x="0" y="98"/>
                    </a:lnTo>
                    <a:lnTo>
                      <a:pt x="0" y="155"/>
                    </a:lnTo>
                    <a:lnTo>
                      <a:pt x="42" y="211"/>
                    </a:lnTo>
                    <a:lnTo>
                      <a:pt x="42" y="253"/>
                    </a:lnTo>
                    <a:lnTo>
                      <a:pt x="42" y="296"/>
                    </a:lnTo>
                    <a:lnTo>
                      <a:pt x="42" y="338"/>
                    </a:lnTo>
                    <a:lnTo>
                      <a:pt x="127" y="395"/>
                    </a:lnTo>
                    <a:lnTo>
                      <a:pt x="211" y="423"/>
                    </a:lnTo>
                    <a:lnTo>
                      <a:pt x="211" y="465"/>
                    </a:lnTo>
                    <a:lnTo>
                      <a:pt x="197" y="507"/>
                    </a:lnTo>
                    <a:lnTo>
                      <a:pt x="197" y="550"/>
                    </a:lnTo>
                    <a:lnTo>
                      <a:pt x="197" y="592"/>
                    </a:lnTo>
                    <a:lnTo>
                      <a:pt x="197" y="648"/>
                    </a:lnTo>
                    <a:lnTo>
                      <a:pt x="197" y="747"/>
                    </a:lnTo>
                    <a:lnTo>
                      <a:pt x="197" y="804"/>
                    </a:lnTo>
                    <a:lnTo>
                      <a:pt x="183" y="860"/>
                    </a:lnTo>
                    <a:lnTo>
                      <a:pt x="225" y="916"/>
                    </a:lnTo>
                    <a:lnTo>
                      <a:pt x="225" y="959"/>
                    </a:lnTo>
                    <a:lnTo>
                      <a:pt x="225" y="1001"/>
                    </a:lnTo>
                    <a:lnTo>
                      <a:pt x="240" y="1058"/>
                    </a:lnTo>
                    <a:lnTo>
                      <a:pt x="240" y="1100"/>
                    </a:lnTo>
                    <a:lnTo>
                      <a:pt x="240" y="1142"/>
                    </a:lnTo>
                    <a:lnTo>
                      <a:pt x="240" y="1185"/>
                    </a:lnTo>
                    <a:lnTo>
                      <a:pt x="225" y="1185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36" name="Rectangle 42"/>
              <p:cNvSpPr/>
              <p:nvPr/>
            </p:nvSpPr>
            <p:spPr>
              <a:xfrm>
                <a:off x="940680" y="121140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Group 46"/>
            <p:cNvGrpSpPr/>
            <p:nvPr/>
          </p:nvGrpSpPr>
          <p:grpSpPr>
            <a:xfrm>
              <a:off x="3720960" y="1481040"/>
              <a:ext cx="763560" cy="2117880"/>
              <a:chOff x="3720960" y="1481040"/>
              <a:chExt cx="763560" cy="2117880"/>
            </a:xfrm>
          </p:grpSpPr>
          <p:sp>
            <p:nvSpPr>
              <p:cNvPr id="838" name="Freeform 44"/>
              <p:cNvSpPr/>
              <p:nvPr/>
            </p:nvSpPr>
            <p:spPr>
              <a:xfrm>
                <a:off x="3720960" y="1714680"/>
                <a:ext cx="763560" cy="188424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884240"/>
                  <a:gd name="textAreaBottom" fmla="*/ 1884600 h 1884240"/>
                </a:gdLst>
                <a:ahLst/>
                <a:rect l="textAreaLeft" t="textAreaTop" r="textAreaRight" b="textAreaBottom"/>
                <a:pathLst>
                  <a:path w="481" h="1187">
                    <a:moveTo>
                      <a:pt x="465" y="0"/>
                    </a:moveTo>
                    <a:lnTo>
                      <a:pt x="480" y="56"/>
                    </a:lnTo>
                    <a:lnTo>
                      <a:pt x="480" y="98"/>
                    </a:lnTo>
                    <a:lnTo>
                      <a:pt x="465" y="197"/>
                    </a:lnTo>
                    <a:lnTo>
                      <a:pt x="451" y="282"/>
                    </a:lnTo>
                    <a:lnTo>
                      <a:pt x="367" y="310"/>
                    </a:lnTo>
                    <a:lnTo>
                      <a:pt x="338" y="352"/>
                    </a:lnTo>
                    <a:lnTo>
                      <a:pt x="324" y="437"/>
                    </a:lnTo>
                    <a:lnTo>
                      <a:pt x="338" y="550"/>
                    </a:lnTo>
                    <a:lnTo>
                      <a:pt x="367" y="635"/>
                    </a:lnTo>
                    <a:lnTo>
                      <a:pt x="381" y="677"/>
                    </a:lnTo>
                    <a:lnTo>
                      <a:pt x="381" y="720"/>
                    </a:lnTo>
                    <a:lnTo>
                      <a:pt x="352" y="762"/>
                    </a:lnTo>
                    <a:lnTo>
                      <a:pt x="338" y="804"/>
                    </a:lnTo>
                    <a:lnTo>
                      <a:pt x="296" y="847"/>
                    </a:lnTo>
                    <a:lnTo>
                      <a:pt x="183" y="960"/>
                    </a:lnTo>
                    <a:lnTo>
                      <a:pt x="169" y="1044"/>
                    </a:lnTo>
                    <a:lnTo>
                      <a:pt x="141" y="1101"/>
                    </a:lnTo>
                    <a:lnTo>
                      <a:pt x="42" y="1143"/>
                    </a:lnTo>
                    <a:lnTo>
                      <a:pt x="0" y="1157"/>
                    </a:lnTo>
                    <a:lnTo>
                      <a:pt x="14" y="1186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39" name="Rectangle 45"/>
              <p:cNvSpPr/>
              <p:nvPr/>
            </p:nvSpPr>
            <p:spPr>
              <a:xfrm>
                <a:off x="4079160" y="148104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Group 49"/>
            <p:cNvGrpSpPr/>
            <p:nvPr/>
          </p:nvGrpSpPr>
          <p:grpSpPr>
            <a:xfrm>
              <a:off x="2755800" y="942840"/>
              <a:ext cx="4671360" cy="4089600"/>
              <a:chOff x="2755800" y="942840"/>
              <a:chExt cx="4671360" cy="4089600"/>
            </a:xfrm>
          </p:grpSpPr>
          <p:sp>
            <p:nvSpPr>
              <p:cNvPr id="841" name="Freeform 47"/>
              <p:cNvSpPr/>
              <p:nvPr/>
            </p:nvSpPr>
            <p:spPr>
              <a:xfrm>
                <a:off x="2755800" y="1265400"/>
                <a:ext cx="4665600" cy="3767040"/>
              </a:xfrm>
              <a:custGeom>
                <a:avLst/>
                <a:gdLst>
                  <a:gd name="textAreaLeft" fmla="*/ 0 w 4665600"/>
                  <a:gd name="textAreaRight" fmla="*/ 4665960 w 4665600"/>
                  <a:gd name="textAreaTop" fmla="*/ 0 h 3767040"/>
                  <a:gd name="textAreaBottom" fmla="*/ 3767400 h 3767040"/>
                </a:gdLst>
                <a:ahLst/>
                <a:rect l="textAreaLeft" t="textAreaTop" r="textAreaRight" b="textAreaBottom"/>
                <a:pathLst>
                  <a:path w="2939" h="2373">
                    <a:moveTo>
                      <a:pt x="2938" y="0"/>
                    </a:moveTo>
                    <a:lnTo>
                      <a:pt x="2853" y="42"/>
                    </a:lnTo>
                    <a:lnTo>
                      <a:pt x="2768" y="56"/>
                    </a:lnTo>
                    <a:lnTo>
                      <a:pt x="2712" y="70"/>
                    </a:lnTo>
                    <a:lnTo>
                      <a:pt x="2613" y="70"/>
                    </a:lnTo>
                    <a:lnTo>
                      <a:pt x="2500" y="98"/>
                    </a:lnTo>
                    <a:lnTo>
                      <a:pt x="2457" y="141"/>
                    </a:lnTo>
                    <a:lnTo>
                      <a:pt x="2457" y="183"/>
                    </a:lnTo>
                    <a:lnTo>
                      <a:pt x="2457" y="225"/>
                    </a:lnTo>
                    <a:lnTo>
                      <a:pt x="2429" y="268"/>
                    </a:lnTo>
                    <a:lnTo>
                      <a:pt x="2387" y="381"/>
                    </a:lnTo>
                    <a:lnTo>
                      <a:pt x="2302" y="395"/>
                    </a:lnTo>
                    <a:lnTo>
                      <a:pt x="2217" y="423"/>
                    </a:lnTo>
                    <a:lnTo>
                      <a:pt x="2132" y="437"/>
                    </a:lnTo>
                    <a:lnTo>
                      <a:pt x="2048" y="465"/>
                    </a:lnTo>
                    <a:lnTo>
                      <a:pt x="1963" y="494"/>
                    </a:lnTo>
                    <a:lnTo>
                      <a:pt x="1878" y="522"/>
                    </a:lnTo>
                    <a:lnTo>
                      <a:pt x="1822" y="663"/>
                    </a:lnTo>
                    <a:lnTo>
                      <a:pt x="1808" y="776"/>
                    </a:lnTo>
                    <a:lnTo>
                      <a:pt x="1793" y="889"/>
                    </a:lnTo>
                    <a:lnTo>
                      <a:pt x="1779" y="974"/>
                    </a:lnTo>
                    <a:lnTo>
                      <a:pt x="1751" y="1058"/>
                    </a:lnTo>
                    <a:lnTo>
                      <a:pt x="1723" y="1115"/>
                    </a:lnTo>
                    <a:lnTo>
                      <a:pt x="1624" y="1143"/>
                    </a:lnTo>
                    <a:lnTo>
                      <a:pt x="1539" y="1171"/>
                    </a:lnTo>
                    <a:lnTo>
                      <a:pt x="1398" y="1186"/>
                    </a:lnTo>
                    <a:lnTo>
                      <a:pt x="1285" y="1214"/>
                    </a:lnTo>
                    <a:lnTo>
                      <a:pt x="1200" y="1242"/>
                    </a:lnTo>
                    <a:lnTo>
                      <a:pt x="1172" y="1284"/>
                    </a:lnTo>
                    <a:lnTo>
                      <a:pt x="1144" y="1327"/>
                    </a:lnTo>
                    <a:lnTo>
                      <a:pt x="1130" y="1411"/>
                    </a:lnTo>
                    <a:lnTo>
                      <a:pt x="1115" y="1496"/>
                    </a:lnTo>
                    <a:lnTo>
                      <a:pt x="1087" y="1581"/>
                    </a:lnTo>
                    <a:lnTo>
                      <a:pt x="1073" y="1666"/>
                    </a:lnTo>
                    <a:lnTo>
                      <a:pt x="1017" y="1779"/>
                    </a:lnTo>
                    <a:lnTo>
                      <a:pt x="960" y="1821"/>
                    </a:lnTo>
                    <a:lnTo>
                      <a:pt x="847" y="1835"/>
                    </a:lnTo>
                    <a:lnTo>
                      <a:pt x="734" y="1863"/>
                    </a:lnTo>
                    <a:lnTo>
                      <a:pt x="649" y="1863"/>
                    </a:lnTo>
                    <a:lnTo>
                      <a:pt x="565" y="1877"/>
                    </a:lnTo>
                    <a:lnTo>
                      <a:pt x="466" y="1920"/>
                    </a:lnTo>
                    <a:lnTo>
                      <a:pt x="409" y="1976"/>
                    </a:lnTo>
                    <a:lnTo>
                      <a:pt x="381" y="2061"/>
                    </a:lnTo>
                    <a:lnTo>
                      <a:pt x="353" y="2117"/>
                    </a:lnTo>
                    <a:lnTo>
                      <a:pt x="296" y="2146"/>
                    </a:lnTo>
                    <a:lnTo>
                      <a:pt x="240" y="2174"/>
                    </a:lnTo>
                    <a:lnTo>
                      <a:pt x="155" y="2188"/>
                    </a:lnTo>
                    <a:lnTo>
                      <a:pt x="70" y="2202"/>
                    </a:lnTo>
                    <a:lnTo>
                      <a:pt x="42" y="2244"/>
                    </a:lnTo>
                    <a:lnTo>
                      <a:pt x="14" y="2301"/>
                    </a:lnTo>
                    <a:lnTo>
                      <a:pt x="0" y="2343"/>
                    </a:lnTo>
                    <a:lnTo>
                      <a:pt x="0" y="2372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2" name="Rectangle 48"/>
              <p:cNvSpPr/>
              <p:nvPr/>
            </p:nvSpPr>
            <p:spPr>
              <a:xfrm>
                <a:off x="7036560" y="94284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76320" y="299880"/>
            <a:ext cx="91454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algn="ctr"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imple Gas Filled Detector</a:t>
            </a:r>
            <a:endParaRPr b="0" lang="en-US" sz="38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844" name="Group 30"/>
          <p:cNvGrpSpPr/>
          <p:nvPr/>
        </p:nvGrpSpPr>
        <p:grpSpPr>
          <a:xfrm>
            <a:off x="1165320" y="2344680"/>
            <a:ext cx="6896160" cy="3230640"/>
            <a:chOff x="1165320" y="2344680"/>
            <a:chExt cx="6896160" cy="3230640"/>
          </a:xfrm>
        </p:grpSpPr>
        <p:grpSp>
          <p:nvGrpSpPr>
            <p:cNvPr id="845" name="Group 6"/>
            <p:cNvGrpSpPr/>
            <p:nvPr/>
          </p:nvGrpSpPr>
          <p:grpSpPr>
            <a:xfrm>
              <a:off x="1965240" y="2974680"/>
              <a:ext cx="5019840" cy="2600640"/>
              <a:chOff x="1965240" y="2974680"/>
              <a:chExt cx="5019840" cy="2600640"/>
            </a:xfrm>
          </p:grpSpPr>
          <p:sp>
            <p:nvSpPr>
              <p:cNvPr id="846" name="Line 3"/>
              <p:cNvSpPr/>
              <p:nvPr/>
            </p:nvSpPr>
            <p:spPr>
              <a:xfrm>
                <a:off x="1965240" y="3692520"/>
                <a:ext cx="0" cy="107640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7" name="Line 4"/>
              <p:cNvSpPr/>
              <p:nvPr/>
            </p:nvSpPr>
            <p:spPr>
              <a:xfrm>
                <a:off x="1965240" y="5575320"/>
                <a:ext cx="50198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8" name="Line 5"/>
              <p:cNvSpPr/>
              <p:nvPr/>
            </p:nvSpPr>
            <p:spPr>
              <a:xfrm flipV="1">
                <a:off x="6985080" y="2974680"/>
                <a:ext cx="0" cy="15238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49" name="Line 7"/>
            <p:cNvSpPr/>
            <p:nvPr/>
          </p:nvSpPr>
          <p:spPr>
            <a:xfrm>
              <a:off x="1874880" y="485784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0" name="Line 8"/>
            <p:cNvSpPr/>
            <p:nvPr/>
          </p:nvSpPr>
          <p:spPr>
            <a:xfrm>
              <a:off x="1785960" y="4948200"/>
              <a:ext cx="3589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1" name="Line 9"/>
            <p:cNvSpPr/>
            <p:nvPr/>
          </p:nvSpPr>
          <p:spPr>
            <a:xfrm>
              <a:off x="1874880" y="512748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2" name="Line 10"/>
            <p:cNvSpPr/>
            <p:nvPr/>
          </p:nvSpPr>
          <p:spPr>
            <a:xfrm>
              <a:off x="1874880" y="503712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3" name="Line 11"/>
            <p:cNvSpPr/>
            <p:nvPr/>
          </p:nvSpPr>
          <p:spPr>
            <a:xfrm flipV="1">
              <a:off x="1965240" y="5216040"/>
              <a:ext cx="0" cy="35892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4" name="Freeform 12"/>
            <p:cNvSpPr/>
            <p:nvPr/>
          </p:nvSpPr>
          <p:spPr>
            <a:xfrm>
              <a:off x="6897600" y="4498920"/>
              <a:ext cx="184320" cy="5396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16" h="340">
                  <a:moveTo>
                    <a:pt x="55" y="0"/>
                  </a:moveTo>
                  <a:lnTo>
                    <a:pt x="88" y="50"/>
                  </a:lnTo>
                  <a:lnTo>
                    <a:pt x="115" y="63"/>
                  </a:lnTo>
                  <a:lnTo>
                    <a:pt x="88" y="101"/>
                  </a:lnTo>
                  <a:lnTo>
                    <a:pt x="50" y="113"/>
                  </a:lnTo>
                  <a:lnTo>
                    <a:pt x="26" y="138"/>
                  </a:lnTo>
                  <a:lnTo>
                    <a:pt x="0" y="163"/>
                  </a:lnTo>
                  <a:lnTo>
                    <a:pt x="26" y="189"/>
                  </a:lnTo>
                  <a:lnTo>
                    <a:pt x="64" y="201"/>
                  </a:lnTo>
                  <a:lnTo>
                    <a:pt x="88" y="227"/>
                  </a:lnTo>
                  <a:lnTo>
                    <a:pt x="50" y="251"/>
                  </a:lnTo>
                  <a:lnTo>
                    <a:pt x="37" y="277"/>
                  </a:lnTo>
                  <a:lnTo>
                    <a:pt x="0" y="302"/>
                  </a:lnTo>
                  <a:lnTo>
                    <a:pt x="26" y="315"/>
                  </a:lnTo>
                  <a:lnTo>
                    <a:pt x="64" y="327"/>
                  </a:lnTo>
                  <a:lnTo>
                    <a:pt x="55" y="339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5" name="Line 13"/>
            <p:cNvSpPr/>
            <p:nvPr/>
          </p:nvSpPr>
          <p:spPr>
            <a:xfrm>
              <a:off x="6985080" y="5035680"/>
              <a:ext cx="0" cy="539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6" name="AutoShape 14"/>
            <p:cNvSpPr/>
            <p:nvPr/>
          </p:nvSpPr>
          <p:spPr>
            <a:xfrm>
              <a:off x="1165320" y="2443320"/>
              <a:ext cx="4917960" cy="124272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7" name="Oval 15"/>
            <p:cNvSpPr/>
            <p:nvPr/>
          </p:nvSpPr>
          <p:spPr>
            <a:xfrm>
              <a:off x="5737320" y="2443320"/>
              <a:ext cx="525240" cy="124272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8" name="Line 16"/>
            <p:cNvSpPr/>
            <p:nvPr/>
          </p:nvSpPr>
          <p:spPr>
            <a:xfrm>
              <a:off x="2592360" y="2975040"/>
              <a:ext cx="520056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9" name="Rectangle 17"/>
            <p:cNvSpPr/>
            <p:nvPr/>
          </p:nvSpPr>
          <p:spPr>
            <a:xfrm>
              <a:off x="2990880" y="2532240"/>
              <a:ext cx="131256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Anode 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0" name="Rectangle 18"/>
            <p:cNvSpPr/>
            <p:nvPr/>
          </p:nvSpPr>
          <p:spPr>
            <a:xfrm>
              <a:off x="1736640" y="3284640"/>
              <a:ext cx="1608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Cathode -</a:t>
              </a:r>
              <a:endParaRPr b="0" lang="en-US" sz="28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1" name="Rectangle 19"/>
            <p:cNvSpPr/>
            <p:nvPr/>
          </p:nvSpPr>
          <p:spPr>
            <a:xfrm>
              <a:off x="6877800" y="2344680"/>
              <a:ext cx="11556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o meter </a:t>
              </a:r>
              <a:endParaRPr b="0" lang="en-US" sz="19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2" name="Line 20"/>
            <p:cNvSpPr/>
            <p:nvPr/>
          </p:nvSpPr>
          <p:spPr>
            <a:xfrm>
              <a:off x="6896160" y="2795760"/>
              <a:ext cx="116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3" name="Rectangle 21"/>
            <p:cNvSpPr/>
            <p:nvPr/>
          </p:nvSpPr>
          <p:spPr>
            <a:xfrm>
              <a:off x="2757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4" name="Rectangle 22"/>
            <p:cNvSpPr/>
            <p:nvPr/>
          </p:nvSpPr>
          <p:spPr>
            <a:xfrm>
              <a:off x="33850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5" name="Rectangle 23"/>
            <p:cNvSpPr/>
            <p:nvPr/>
          </p:nvSpPr>
          <p:spPr>
            <a:xfrm>
              <a:off x="38325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6" name="Rectangle 24"/>
            <p:cNvSpPr/>
            <p:nvPr/>
          </p:nvSpPr>
          <p:spPr>
            <a:xfrm>
              <a:off x="41914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7" name="Rectangle 25"/>
            <p:cNvSpPr/>
            <p:nvPr/>
          </p:nvSpPr>
          <p:spPr>
            <a:xfrm>
              <a:off x="4638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8" name="Rectangle 26"/>
            <p:cNvSpPr/>
            <p:nvPr/>
          </p:nvSpPr>
          <p:spPr>
            <a:xfrm>
              <a:off x="49978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9" name="Rectangle 27"/>
            <p:cNvSpPr/>
            <p:nvPr/>
          </p:nvSpPr>
          <p:spPr>
            <a:xfrm>
              <a:off x="3200400" y="3370320"/>
              <a:ext cx="142236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+++++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0" name="Rectangle 28"/>
            <p:cNvSpPr/>
            <p:nvPr/>
          </p:nvSpPr>
          <p:spPr>
            <a:xfrm>
              <a:off x="1860840" y="256392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1" name="Rectangle 29"/>
            <p:cNvSpPr/>
            <p:nvPr/>
          </p:nvSpPr>
          <p:spPr>
            <a:xfrm>
              <a:off x="2487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Gas Amplification Curv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3" name="Group 24"/>
          <p:cNvGrpSpPr/>
          <p:nvPr/>
        </p:nvGrpSpPr>
        <p:grpSpPr>
          <a:xfrm>
            <a:off x="528480" y="2055600"/>
            <a:ext cx="8006040" cy="4688640"/>
            <a:chOff x="528480" y="2055600"/>
            <a:chExt cx="8006040" cy="4688640"/>
          </a:xfrm>
        </p:grpSpPr>
        <p:sp>
          <p:nvSpPr>
            <p:cNvPr id="874" name="Rectangle 3"/>
            <p:cNvSpPr/>
            <p:nvPr/>
          </p:nvSpPr>
          <p:spPr>
            <a:xfrm>
              <a:off x="1228680" y="2057400"/>
              <a:ext cx="7224840" cy="4091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5" name="Freeform 4"/>
            <p:cNvSpPr/>
            <p:nvPr/>
          </p:nvSpPr>
          <p:spPr>
            <a:xfrm>
              <a:off x="1228680" y="3057480"/>
              <a:ext cx="6585120" cy="3092400"/>
            </a:xfrm>
            <a:custGeom>
              <a:avLst/>
              <a:gdLst>
                <a:gd name="textAreaLeft" fmla="*/ 0 w 6585120"/>
                <a:gd name="textAreaRight" fmla="*/ 6585480 w 6585120"/>
                <a:gd name="textAreaTop" fmla="*/ 0 h 3092400"/>
                <a:gd name="textAreaBottom" fmla="*/ 3092760 h 3092400"/>
              </a:gdLst>
              <a:ahLst/>
              <a:rect l="textAreaLeft" t="textAreaTop" r="textAreaRight" b="textAreaBottom"/>
              <a:pathLst>
                <a:path w="4148" h="1948">
                  <a:moveTo>
                    <a:pt x="0" y="1947"/>
                  </a:moveTo>
                  <a:lnTo>
                    <a:pt x="6" y="1892"/>
                  </a:lnTo>
                  <a:lnTo>
                    <a:pt x="16" y="1857"/>
                  </a:lnTo>
                  <a:lnTo>
                    <a:pt x="40" y="1823"/>
                  </a:lnTo>
                  <a:lnTo>
                    <a:pt x="62" y="1799"/>
                  </a:lnTo>
                  <a:lnTo>
                    <a:pt x="94" y="1776"/>
                  </a:lnTo>
                  <a:lnTo>
                    <a:pt x="128" y="1765"/>
                  </a:lnTo>
                  <a:lnTo>
                    <a:pt x="161" y="1742"/>
                  </a:lnTo>
                  <a:lnTo>
                    <a:pt x="194" y="1730"/>
                  </a:lnTo>
                  <a:lnTo>
                    <a:pt x="227" y="1707"/>
                  </a:lnTo>
                  <a:lnTo>
                    <a:pt x="305" y="1696"/>
                  </a:lnTo>
                  <a:lnTo>
                    <a:pt x="339" y="1684"/>
                  </a:lnTo>
                  <a:lnTo>
                    <a:pt x="383" y="1661"/>
                  </a:lnTo>
                  <a:lnTo>
                    <a:pt x="416" y="1650"/>
                  </a:lnTo>
                  <a:lnTo>
                    <a:pt x="449" y="1638"/>
                  </a:lnTo>
                  <a:lnTo>
                    <a:pt x="482" y="1638"/>
                  </a:lnTo>
                  <a:lnTo>
                    <a:pt x="516" y="1638"/>
                  </a:lnTo>
                  <a:lnTo>
                    <a:pt x="594" y="1627"/>
                  </a:lnTo>
                  <a:lnTo>
                    <a:pt x="660" y="1627"/>
                  </a:lnTo>
                  <a:lnTo>
                    <a:pt x="693" y="1627"/>
                  </a:lnTo>
                  <a:lnTo>
                    <a:pt x="726" y="1627"/>
                  </a:lnTo>
                  <a:lnTo>
                    <a:pt x="771" y="1627"/>
                  </a:lnTo>
                  <a:lnTo>
                    <a:pt x="804" y="1615"/>
                  </a:lnTo>
                  <a:lnTo>
                    <a:pt x="837" y="1615"/>
                  </a:lnTo>
                  <a:lnTo>
                    <a:pt x="871" y="1602"/>
                  </a:lnTo>
                  <a:lnTo>
                    <a:pt x="903" y="1602"/>
                  </a:lnTo>
                  <a:lnTo>
                    <a:pt x="981" y="1602"/>
                  </a:lnTo>
                  <a:lnTo>
                    <a:pt x="1026" y="1602"/>
                  </a:lnTo>
                  <a:lnTo>
                    <a:pt x="1059" y="1602"/>
                  </a:lnTo>
                  <a:lnTo>
                    <a:pt x="1104" y="1568"/>
                  </a:lnTo>
                  <a:lnTo>
                    <a:pt x="1136" y="1533"/>
                  </a:lnTo>
                  <a:lnTo>
                    <a:pt x="1170" y="1499"/>
                  </a:lnTo>
                  <a:lnTo>
                    <a:pt x="1204" y="1464"/>
                  </a:lnTo>
                  <a:lnTo>
                    <a:pt x="1236" y="1418"/>
                  </a:lnTo>
                  <a:lnTo>
                    <a:pt x="1259" y="1383"/>
                  </a:lnTo>
                  <a:lnTo>
                    <a:pt x="1292" y="1349"/>
                  </a:lnTo>
                  <a:lnTo>
                    <a:pt x="1337" y="1303"/>
                  </a:lnTo>
                  <a:lnTo>
                    <a:pt x="1369" y="1268"/>
                  </a:lnTo>
                  <a:lnTo>
                    <a:pt x="1391" y="1234"/>
                  </a:lnTo>
                  <a:lnTo>
                    <a:pt x="1437" y="1199"/>
                  </a:lnTo>
                  <a:lnTo>
                    <a:pt x="1469" y="1164"/>
                  </a:lnTo>
                  <a:lnTo>
                    <a:pt x="1503" y="1141"/>
                  </a:lnTo>
                  <a:lnTo>
                    <a:pt x="1536" y="1107"/>
                  </a:lnTo>
                  <a:lnTo>
                    <a:pt x="1569" y="1072"/>
                  </a:lnTo>
                  <a:lnTo>
                    <a:pt x="1602" y="1038"/>
                  </a:lnTo>
                  <a:lnTo>
                    <a:pt x="1636" y="1015"/>
                  </a:lnTo>
                  <a:lnTo>
                    <a:pt x="1669" y="980"/>
                  </a:lnTo>
                  <a:lnTo>
                    <a:pt x="1758" y="934"/>
                  </a:lnTo>
                  <a:lnTo>
                    <a:pt x="1791" y="899"/>
                  </a:lnTo>
                  <a:lnTo>
                    <a:pt x="1824" y="865"/>
                  </a:lnTo>
                  <a:lnTo>
                    <a:pt x="1857" y="842"/>
                  </a:lnTo>
                  <a:lnTo>
                    <a:pt x="1891" y="807"/>
                  </a:lnTo>
                  <a:lnTo>
                    <a:pt x="1913" y="772"/>
                  </a:lnTo>
                  <a:lnTo>
                    <a:pt x="1947" y="749"/>
                  </a:lnTo>
                  <a:lnTo>
                    <a:pt x="1979" y="715"/>
                  </a:lnTo>
                  <a:lnTo>
                    <a:pt x="2001" y="680"/>
                  </a:lnTo>
                  <a:lnTo>
                    <a:pt x="2023" y="646"/>
                  </a:lnTo>
                  <a:lnTo>
                    <a:pt x="2035" y="611"/>
                  </a:lnTo>
                  <a:lnTo>
                    <a:pt x="2079" y="519"/>
                  </a:lnTo>
                  <a:lnTo>
                    <a:pt x="2090" y="484"/>
                  </a:lnTo>
                  <a:lnTo>
                    <a:pt x="2124" y="461"/>
                  </a:lnTo>
                  <a:lnTo>
                    <a:pt x="2168" y="427"/>
                  </a:lnTo>
                  <a:lnTo>
                    <a:pt x="2202" y="392"/>
                  </a:lnTo>
                  <a:lnTo>
                    <a:pt x="2234" y="369"/>
                  </a:lnTo>
                  <a:lnTo>
                    <a:pt x="2312" y="334"/>
                  </a:lnTo>
                  <a:lnTo>
                    <a:pt x="2345" y="311"/>
                  </a:lnTo>
                  <a:lnTo>
                    <a:pt x="2368" y="300"/>
                  </a:lnTo>
                  <a:lnTo>
                    <a:pt x="2401" y="277"/>
                  </a:lnTo>
                  <a:lnTo>
                    <a:pt x="2434" y="254"/>
                  </a:lnTo>
                  <a:lnTo>
                    <a:pt x="2467" y="242"/>
                  </a:lnTo>
                  <a:lnTo>
                    <a:pt x="2501" y="231"/>
                  </a:lnTo>
                  <a:lnTo>
                    <a:pt x="2545" y="208"/>
                  </a:lnTo>
                  <a:lnTo>
                    <a:pt x="2634" y="196"/>
                  </a:lnTo>
                  <a:lnTo>
                    <a:pt x="2667" y="196"/>
                  </a:lnTo>
                  <a:lnTo>
                    <a:pt x="2756" y="185"/>
                  </a:lnTo>
                  <a:lnTo>
                    <a:pt x="2834" y="185"/>
                  </a:lnTo>
                  <a:lnTo>
                    <a:pt x="2911" y="173"/>
                  </a:lnTo>
                  <a:lnTo>
                    <a:pt x="3021" y="173"/>
                  </a:lnTo>
                  <a:lnTo>
                    <a:pt x="3089" y="173"/>
                  </a:lnTo>
                  <a:lnTo>
                    <a:pt x="3210" y="173"/>
                  </a:lnTo>
                  <a:lnTo>
                    <a:pt x="3299" y="173"/>
                  </a:lnTo>
                  <a:lnTo>
                    <a:pt x="3344" y="173"/>
                  </a:lnTo>
                  <a:lnTo>
                    <a:pt x="3410" y="173"/>
                  </a:lnTo>
                  <a:lnTo>
                    <a:pt x="3443" y="173"/>
                  </a:lnTo>
                  <a:lnTo>
                    <a:pt x="3554" y="173"/>
                  </a:lnTo>
                  <a:lnTo>
                    <a:pt x="3587" y="173"/>
                  </a:lnTo>
                  <a:lnTo>
                    <a:pt x="3676" y="173"/>
                  </a:lnTo>
                  <a:lnTo>
                    <a:pt x="3765" y="173"/>
                  </a:lnTo>
                  <a:lnTo>
                    <a:pt x="3854" y="173"/>
                  </a:lnTo>
                  <a:lnTo>
                    <a:pt x="3886" y="173"/>
                  </a:lnTo>
                  <a:lnTo>
                    <a:pt x="3920" y="150"/>
                  </a:lnTo>
                  <a:lnTo>
                    <a:pt x="3953" y="138"/>
                  </a:lnTo>
                  <a:lnTo>
                    <a:pt x="3986" y="115"/>
                  </a:lnTo>
                  <a:lnTo>
                    <a:pt x="4031" y="92"/>
                  </a:lnTo>
                  <a:lnTo>
                    <a:pt x="4075" y="58"/>
                  </a:lnTo>
                  <a:lnTo>
                    <a:pt x="4109" y="23"/>
                  </a:lnTo>
                  <a:lnTo>
                    <a:pt x="4141" y="0"/>
                  </a:lnTo>
                  <a:lnTo>
                    <a:pt x="4147" y="1"/>
                  </a:lnTo>
                </a:path>
              </a:pathLst>
            </a:custGeom>
            <a:noFill/>
            <a:ln cap="rnd"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6" name="Freeform 5"/>
            <p:cNvSpPr/>
            <p:nvPr/>
          </p:nvSpPr>
          <p:spPr>
            <a:xfrm>
              <a:off x="1228680" y="2975040"/>
              <a:ext cx="6666120" cy="250668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2506680"/>
                <a:gd name="textAreaBottom" fmla="*/ 2507040 h 2506680"/>
              </a:gdLst>
              <a:ahLst/>
              <a:rect l="textAreaLeft" t="textAreaTop" r="textAreaRight" b="textAreaBottom"/>
              <a:pathLst>
                <a:path w="4199" h="1579">
                  <a:moveTo>
                    <a:pt x="0" y="1578"/>
                  </a:moveTo>
                  <a:lnTo>
                    <a:pt x="28" y="1528"/>
                  </a:lnTo>
                  <a:lnTo>
                    <a:pt x="50" y="1493"/>
                  </a:lnTo>
                  <a:lnTo>
                    <a:pt x="84" y="1470"/>
                  </a:lnTo>
                  <a:lnTo>
                    <a:pt x="128" y="1447"/>
                  </a:lnTo>
                  <a:lnTo>
                    <a:pt x="172" y="1435"/>
                  </a:lnTo>
                  <a:lnTo>
                    <a:pt x="205" y="1424"/>
                  </a:lnTo>
                  <a:lnTo>
                    <a:pt x="272" y="1412"/>
                  </a:lnTo>
                  <a:lnTo>
                    <a:pt x="305" y="1401"/>
                  </a:lnTo>
                  <a:lnTo>
                    <a:pt x="371" y="1401"/>
                  </a:lnTo>
                  <a:lnTo>
                    <a:pt x="405" y="1401"/>
                  </a:lnTo>
                  <a:lnTo>
                    <a:pt x="438" y="1389"/>
                  </a:lnTo>
                  <a:lnTo>
                    <a:pt x="482" y="1366"/>
                  </a:lnTo>
                  <a:lnTo>
                    <a:pt x="505" y="1366"/>
                  </a:lnTo>
                  <a:lnTo>
                    <a:pt x="538" y="1355"/>
                  </a:lnTo>
                  <a:lnTo>
                    <a:pt x="572" y="1355"/>
                  </a:lnTo>
                  <a:lnTo>
                    <a:pt x="660" y="1355"/>
                  </a:lnTo>
                  <a:lnTo>
                    <a:pt x="727" y="1343"/>
                  </a:lnTo>
                  <a:lnTo>
                    <a:pt x="837" y="1332"/>
                  </a:lnTo>
                  <a:lnTo>
                    <a:pt x="881" y="1332"/>
                  </a:lnTo>
                  <a:lnTo>
                    <a:pt x="915" y="1320"/>
                  </a:lnTo>
                  <a:lnTo>
                    <a:pt x="948" y="1309"/>
                  </a:lnTo>
                  <a:lnTo>
                    <a:pt x="971" y="1309"/>
                  </a:lnTo>
                  <a:lnTo>
                    <a:pt x="1082" y="1274"/>
                  </a:lnTo>
                  <a:lnTo>
                    <a:pt x="1170" y="1263"/>
                  </a:lnTo>
                  <a:lnTo>
                    <a:pt x="1204" y="1239"/>
                  </a:lnTo>
                  <a:lnTo>
                    <a:pt x="1248" y="1205"/>
                  </a:lnTo>
                  <a:lnTo>
                    <a:pt x="1315" y="1182"/>
                  </a:lnTo>
                  <a:lnTo>
                    <a:pt x="1347" y="1147"/>
                  </a:lnTo>
                  <a:lnTo>
                    <a:pt x="1369" y="1113"/>
                  </a:lnTo>
                  <a:lnTo>
                    <a:pt x="1437" y="1090"/>
                  </a:lnTo>
                  <a:lnTo>
                    <a:pt x="1481" y="1055"/>
                  </a:lnTo>
                  <a:lnTo>
                    <a:pt x="1558" y="1032"/>
                  </a:lnTo>
                  <a:lnTo>
                    <a:pt x="1602" y="940"/>
                  </a:lnTo>
                  <a:lnTo>
                    <a:pt x="1670" y="917"/>
                  </a:lnTo>
                  <a:lnTo>
                    <a:pt x="1702" y="882"/>
                  </a:lnTo>
                  <a:lnTo>
                    <a:pt x="1724" y="848"/>
                  </a:lnTo>
                  <a:lnTo>
                    <a:pt x="1825" y="813"/>
                  </a:lnTo>
                  <a:lnTo>
                    <a:pt x="1847" y="744"/>
                  </a:lnTo>
                  <a:lnTo>
                    <a:pt x="1891" y="709"/>
                  </a:lnTo>
                  <a:lnTo>
                    <a:pt x="1935" y="675"/>
                  </a:lnTo>
                  <a:lnTo>
                    <a:pt x="1979" y="639"/>
                  </a:lnTo>
                  <a:lnTo>
                    <a:pt x="2013" y="616"/>
                  </a:lnTo>
                  <a:lnTo>
                    <a:pt x="2046" y="581"/>
                  </a:lnTo>
                  <a:lnTo>
                    <a:pt x="2080" y="558"/>
                  </a:lnTo>
                  <a:lnTo>
                    <a:pt x="2112" y="535"/>
                  </a:lnTo>
                  <a:lnTo>
                    <a:pt x="2135" y="512"/>
                  </a:lnTo>
                  <a:lnTo>
                    <a:pt x="2168" y="489"/>
                  </a:lnTo>
                  <a:lnTo>
                    <a:pt x="2202" y="455"/>
                  </a:lnTo>
                  <a:lnTo>
                    <a:pt x="2234" y="432"/>
                  </a:lnTo>
                  <a:lnTo>
                    <a:pt x="2257" y="408"/>
                  </a:lnTo>
                  <a:lnTo>
                    <a:pt x="2290" y="385"/>
                  </a:lnTo>
                  <a:lnTo>
                    <a:pt x="2335" y="362"/>
                  </a:lnTo>
                  <a:lnTo>
                    <a:pt x="2413" y="351"/>
                  </a:lnTo>
                  <a:lnTo>
                    <a:pt x="2445" y="328"/>
                  </a:lnTo>
                  <a:lnTo>
                    <a:pt x="2489" y="316"/>
                  </a:lnTo>
                  <a:lnTo>
                    <a:pt x="2578" y="293"/>
                  </a:lnTo>
                  <a:lnTo>
                    <a:pt x="2601" y="282"/>
                  </a:lnTo>
                  <a:lnTo>
                    <a:pt x="2668" y="270"/>
                  </a:lnTo>
                  <a:lnTo>
                    <a:pt x="2712" y="259"/>
                  </a:lnTo>
                  <a:lnTo>
                    <a:pt x="2789" y="247"/>
                  </a:lnTo>
                  <a:lnTo>
                    <a:pt x="2822" y="236"/>
                  </a:lnTo>
                  <a:lnTo>
                    <a:pt x="2889" y="224"/>
                  </a:lnTo>
                  <a:lnTo>
                    <a:pt x="2955" y="224"/>
                  </a:lnTo>
                  <a:lnTo>
                    <a:pt x="2989" y="224"/>
                  </a:lnTo>
                  <a:lnTo>
                    <a:pt x="3100" y="224"/>
                  </a:lnTo>
                  <a:lnTo>
                    <a:pt x="3188" y="224"/>
                  </a:lnTo>
                  <a:lnTo>
                    <a:pt x="3222" y="224"/>
                  </a:lnTo>
                  <a:lnTo>
                    <a:pt x="3332" y="224"/>
                  </a:lnTo>
                  <a:lnTo>
                    <a:pt x="3421" y="224"/>
                  </a:lnTo>
                  <a:lnTo>
                    <a:pt x="3487" y="224"/>
                  </a:lnTo>
                  <a:lnTo>
                    <a:pt x="3565" y="224"/>
                  </a:lnTo>
                  <a:lnTo>
                    <a:pt x="3676" y="224"/>
                  </a:lnTo>
                  <a:lnTo>
                    <a:pt x="3742" y="224"/>
                  </a:lnTo>
                  <a:lnTo>
                    <a:pt x="3810" y="224"/>
                  </a:lnTo>
                  <a:lnTo>
                    <a:pt x="3887" y="212"/>
                  </a:lnTo>
                  <a:lnTo>
                    <a:pt x="3975" y="201"/>
                  </a:lnTo>
                  <a:lnTo>
                    <a:pt x="4053" y="178"/>
                  </a:lnTo>
                  <a:lnTo>
                    <a:pt x="4087" y="155"/>
                  </a:lnTo>
                  <a:lnTo>
                    <a:pt x="4109" y="120"/>
                  </a:lnTo>
                  <a:lnTo>
                    <a:pt x="4142" y="86"/>
                  </a:lnTo>
                  <a:lnTo>
                    <a:pt x="4153" y="51"/>
                  </a:lnTo>
                  <a:lnTo>
                    <a:pt x="4198" y="0"/>
                  </a:lnTo>
                </a:path>
              </a:pathLst>
            </a:custGeom>
            <a:noFill/>
            <a:ln cap="rnd"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7" name="Freeform 6"/>
            <p:cNvSpPr/>
            <p:nvPr/>
          </p:nvSpPr>
          <p:spPr>
            <a:xfrm>
              <a:off x="1228680" y="2975040"/>
              <a:ext cx="6666120" cy="167616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4199" h="1056">
                  <a:moveTo>
                    <a:pt x="0" y="1051"/>
                  </a:moveTo>
                  <a:lnTo>
                    <a:pt x="72" y="1055"/>
                  </a:lnTo>
                  <a:lnTo>
                    <a:pt x="116" y="1031"/>
                  </a:lnTo>
                  <a:lnTo>
                    <a:pt x="194" y="1008"/>
                  </a:lnTo>
                  <a:lnTo>
                    <a:pt x="239" y="985"/>
                  </a:lnTo>
                  <a:lnTo>
                    <a:pt x="283" y="973"/>
                  </a:lnTo>
                  <a:lnTo>
                    <a:pt x="317" y="962"/>
                  </a:lnTo>
                  <a:lnTo>
                    <a:pt x="349" y="950"/>
                  </a:lnTo>
                  <a:lnTo>
                    <a:pt x="383" y="950"/>
                  </a:lnTo>
                  <a:lnTo>
                    <a:pt x="416" y="950"/>
                  </a:lnTo>
                  <a:lnTo>
                    <a:pt x="449" y="950"/>
                  </a:lnTo>
                  <a:lnTo>
                    <a:pt x="527" y="950"/>
                  </a:lnTo>
                  <a:lnTo>
                    <a:pt x="560" y="939"/>
                  </a:lnTo>
                  <a:lnTo>
                    <a:pt x="594" y="927"/>
                  </a:lnTo>
                  <a:lnTo>
                    <a:pt x="626" y="927"/>
                  </a:lnTo>
                  <a:lnTo>
                    <a:pt x="660" y="927"/>
                  </a:lnTo>
                  <a:lnTo>
                    <a:pt x="704" y="904"/>
                  </a:lnTo>
                  <a:lnTo>
                    <a:pt x="738" y="904"/>
                  </a:lnTo>
                  <a:lnTo>
                    <a:pt x="815" y="893"/>
                  </a:lnTo>
                  <a:lnTo>
                    <a:pt x="849" y="881"/>
                  </a:lnTo>
                  <a:lnTo>
                    <a:pt x="881" y="870"/>
                  </a:lnTo>
                  <a:lnTo>
                    <a:pt x="948" y="870"/>
                  </a:lnTo>
                  <a:lnTo>
                    <a:pt x="1015" y="858"/>
                  </a:lnTo>
                  <a:lnTo>
                    <a:pt x="1104" y="835"/>
                  </a:lnTo>
                  <a:lnTo>
                    <a:pt x="1148" y="823"/>
                  </a:lnTo>
                  <a:lnTo>
                    <a:pt x="1214" y="812"/>
                  </a:lnTo>
                  <a:lnTo>
                    <a:pt x="1292" y="800"/>
                  </a:lnTo>
                  <a:lnTo>
                    <a:pt x="1381" y="789"/>
                  </a:lnTo>
                  <a:lnTo>
                    <a:pt x="1469" y="777"/>
                  </a:lnTo>
                  <a:lnTo>
                    <a:pt x="1503" y="777"/>
                  </a:lnTo>
                  <a:lnTo>
                    <a:pt x="1580" y="777"/>
                  </a:lnTo>
                  <a:lnTo>
                    <a:pt x="1614" y="766"/>
                  </a:lnTo>
                  <a:lnTo>
                    <a:pt x="1646" y="743"/>
                  </a:lnTo>
                  <a:lnTo>
                    <a:pt x="1670" y="731"/>
                  </a:lnTo>
                  <a:lnTo>
                    <a:pt x="1702" y="708"/>
                  </a:lnTo>
                  <a:lnTo>
                    <a:pt x="1736" y="685"/>
                  </a:lnTo>
                  <a:lnTo>
                    <a:pt x="1769" y="674"/>
                  </a:lnTo>
                  <a:lnTo>
                    <a:pt x="1802" y="662"/>
                  </a:lnTo>
                  <a:lnTo>
                    <a:pt x="1847" y="639"/>
                  </a:lnTo>
                  <a:lnTo>
                    <a:pt x="1891" y="639"/>
                  </a:lnTo>
                  <a:lnTo>
                    <a:pt x="1957" y="628"/>
                  </a:lnTo>
                  <a:lnTo>
                    <a:pt x="1991" y="616"/>
                  </a:lnTo>
                  <a:lnTo>
                    <a:pt x="2024" y="604"/>
                  </a:lnTo>
                  <a:lnTo>
                    <a:pt x="2057" y="570"/>
                  </a:lnTo>
                  <a:lnTo>
                    <a:pt x="2135" y="547"/>
                  </a:lnTo>
                  <a:lnTo>
                    <a:pt x="2168" y="524"/>
                  </a:lnTo>
                  <a:lnTo>
                    <a:pt x="2212" y="489"/>
                  </a:lnTo>
                  <a:lnTo>
                    <a:pt x="2246" y="466"/>
                  </a:lnTo>
                  <a:lnTo>
                    <a:pt x="2279" y="443"/>
                  </a:lnTo>
                  <a:lnTo>
                    <a:pt x="2312" y="420"/>
                  </a:lnTo>
                  <a:lnTo>
                    <a:pt x="2357" y="408"/>
                  </a:lnTo>
                  <a:lnTo>
                    <a:pt x="2401" y="374"/>
                  </a:lnTo>
                  <a:lnTo>
                    <a:pt x="2435" y="362"/>
                  </a:lnTo>
                  <a:lnTo>
                    <a:pt x="2467" y="339"/>
                  </a:lnTo>
                  <a:lnTo>
                    <a:pt x="2512" y="328"/>
                  </a:lnTo>
                  <a:lnTo>
                    <a:pt x="2545" y="316"/>
                  </a:lnTo>
                  <a:lnTo>
                    <a:pt x="2578" y="305"/>
                  </a:lnTo>
                  <a:lnTo>
                    <a:pt x="2601" y="293"/>
                  </a:lnTo>
                  <a:lnTo>
                    <a:pt x="2690" y="282"/>
                  </a:lnTo>
                  <a:lnTo>
                    <a:pt x="2722" y="282"/>
                  </a:lnTo>
                  <a:lnTo>
                    <a:pt x="2822" y="270"/>
                  </a:lnTo>
                  <a:lnTo>
                    <a:pt x="2889" y="270"/>
                  </a:lnTo>
                  <a:lnTo>
                    <a:pt x="2923" y="270"/>
                  </a:lnTo>
                  <a:lnTo>
                    <a:pt x="2955" y="270"/>
                  </a:lnTo>
                  <a:lnTo>
                    <a:pt x="2989" y="270"/>
                  </a:lnTo>
                  <a:lnTo>
                    <a:pt x="3089" y="259"/>
                  </a:lnTo>
                  <a:lnTo>
                    <a:pt x="3155" y="259"/>
                  </a:lnTo>
                  <a:lnTo>
                    <a:pt x="3266" y="259"/>
                  </a:lnTo>
                  <a:lnTo>
                    <a:pt x="3377" y="259"/>
                  </a:lnTo>
                  <a:lnTo>
                    <a:pt x="3465" y="259"/>
                  </a:lnTo>
                  <a:lnTo>
                    <a:pt x="3555" y="259"/>
                  </a:lnTo>
                  <a:lnTo>
                    <a:pt x="3621" y="259"/>
                  </a:lnTo>
                  <a:lnTo>
                    <a:pt x="3688" y="259"/>
                  </a:lnTo>
                  <a:lnTo>
                    <a:pt x="3720" y="247"/>
                  </a:lnTo>
                  <a:lnTo>
                    <a:pt x="3754" y="247"/>
                  </a:lnTo>
                  <a:lnTo>
                    <a:pt x="3788" y="224"/>
                  </a:lnTo>
                  <a:lnTo>
                    <a:pt x="3876" y="212"/>
                  </a:lnTo>
                  <a:lnTo>
                    <a:pt x="3909" y="201"/>
                  </a:lnTo>
                  <a:lnTo>
                    <a:pt x="3998" y="166"/>
                  </a:lnTo>
                  <a:lnTo>
                    <a:pt x="4043" y="132"/>
                  </a:lnTo>
                  <a:lnTo>
                    <a:pt x="4075" y="109"/>
                  </a:lnTo>
                  <a:lnTo>
                    <a:pt x="4109" y="86"/>
                  </a:lnTo>
                  <a:lnTo>
                    <a:pt x="4142" y="51"/>
                  </a:lnTo>
                  <a:lnTo>
                    <a:pt x="4164" y="17"/>
                  </a:lnTo>
                  <a:lnTo>
                    <a:pt x="4198" y="0"/>
                  </a:lnTo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8" name="Freeform 7"/>
            <p:cNvSpPr/>
            <p:nvPr/>
          </p:nvSpPr>
          <p:spPr>
            <a:xfrm>
              <a:off x="1228680" y="3040200"/>
              <a:ext cx="6666120" cy="128268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4199" h="808">
                  <a:moveTo>
                    <a:pt x="0" y="800"/>
                  </a:moveTo>
                  <a:lnTo>
                    <a:pt x="62" y="807"/>
                  </a:lnTo>
                  <a:lnTo>
                    <a:pt x="106" y="782"/>
                  </a:lnTo>
                  <a:lnTo>
                    <a:pt x="139" y="748"/>
                  </a:lnTo>
                  <a:lnTo>
                    <a:pt x="183" y="748"/>
                  </a:lnTo>
                  <a:lnTo>
                    <a:pt x="217" y="736"/>
                  </a:lnTo>
                  <a:lnTo>
                    <a:pt x="261" y="725"/>
                  </a:lnTo>
                  <a:lnTo>
                    <a:pt x="295" y="702"/>
                  </a:lnTo>
                  <a:lnTo>
                    <a:pt x="361" y="690"/>
                  </a:lnTo>
                  <a:lnTo>
                    <a:pt x="394" y="679"/>
                  </a:lnTo>
                  <a:lnTo>
                    <a:pt x="427" y="656"/>
                  </a:lnTo>
                  <a:lnTo>
                    <a:pt x="505" y="656"/>
                  </a:lnTo>
                  <a:lnTo>
                    <a:pt x="538" y="656"/>
                  </a:lnTo>
                  <a:lnTo>
                    <a:pt x="572" y="656"/>
                  </a:lnTo>
                  <a:lnTo>
                    <a:pt x="604" y="656"/>
                  </a:lnTo>
                  <a:lnTo>
                    <a:pt x="638" y="656"/>
                  </a:lnTo>
                  <a:lnTo>
                    <a:pt x="727" y="644"/>
                  </a:lnTo>
                  <a:lnTo>
                    <a:pt x="859" y="644"/>
                  </a:lnTo>
                  <a:lnTo>
                    <a:pt x="926" y="644"/>
                  </a:lnTo>
                  <a:lnTo>
                    <a:pt x="959" y="633"/>
                  </a:lnTo>
                  <a:lnTo>
                    <a:pt x="993" y="621"/>
                  </a:lnTo>
                  <a:lnTo>
                    <a:pt x="1026" y="610"/>
                  </a:lnTo>
                  <a:lnTo>
                    <a:pt x="1136" y="610"/>
                  </a:lnTo>
                  <a:lnTo>
                    <a:pt x="1248" y="610"/>
                  </a:lnTo>
                  <a:lnTo>
                    <a:pt x="1381" y="610"/>
                  </a:lnTo>
                  <a:lnTo>
                    <a:pt x="1492" y="610"/>
                  </a:lnTo>
                  <a:lnTo>
                    <a:pt x="1558" y="610"/>
                  </a:lnTo>
                  <a:lnTo>
                    <a:pt x="1636" y="610"/>
                  </a:lnTo>
                  <a:lnTo>
                    <a:pt x="1702" y="598"/>
                  </a:lnTo>
                  <a:lnTo>
                    <a:pt x="1736" y="588"/>
                  </a:lnTo>
                  <a:lnTo>
                    <a:pt x="1825" y="575"/>
                  </a:lnTo>
                  <a:lnTo>
                    <a:pt x="1857" y="563"/>
                  </a:lnTo>
                  <a:lnTo>
                    <a:pt x="1891" y="563"/>
                  </a:lnTo>
                  <a:lnTo>
                    <a:pt x="1935" y="552"/>
                  </a:lnTo>
                  <a:lnTo>
                    <a:pt x="1969" y="529"/>
                  </a:lnTo>
                  <a:lnTo>
                    <a:pt x="2002" y="517"/>
                  </a:lnTo>
                  <a:lnTo>
                    <a:pt x="2035" y="506"/>
                  </a:lnTo>
                  <a:lnTo>
                    <a:pt x="2068" y="494"/>
                  </a:lnTo>
                  <a:lnTo>
                    <a:pt x="2146" y="471"/>
                  </a:lnTo>
                  <a:lnTo>
                    <a:pt x="2212" y="471"/>
                  </a:lnTo>
                  <a:lnTo>
                    <a:pt x="2257" y="448"/>
                  </a:lnTo>
                  <a:lnTo>
                    <a:pt x="2290" y="425"/>
                  </a:lnTo>
                  <a:lnTo>
                    <a:pt x="2323" y="402"/>
                  </a:lnTo>
                  <a:lnTo>
                    <a:pt x="2390" y="392"/>
                  </a:lnTo>
                  <a:lnTo>
                    <a:pt x="2423" y="367"/>
                  </a:lnTo>
                  <a:lnTo>
                    <a:pt x="2457" y="356"/>
                  </a:lnTo>
                  <a:lnTo>
                    <a:pt x="2489" y="321"/>
                  </a:lnTo>
                  <a:lnTo>
                    <a:pt x="2556" y="310"/>
                  </a:lnTo>
                  <a:lnTo>
                    <a:pt x="2601" y="287"/>
                  </a:lnTo>
                  <a:lnTo>
                    <a:pt x="2634" y="264"/>
                  </a:lnTo>
                  <a:lnTo>
                    <a:pt x="2668" y="252"/>
                  </a:lnTo>
                  <a:lnTo>
                    <a:pt x="2756" y="241"/>
                  </a:lnTo>
                  <a:lnTo>
                    <a:pt x="2822" y="241"/>
                  </a:lnTo>
                  <a:lnTo>
                    <a:pt x="2856" y="229"/>
                  </a:lnTo>
                  <a:lnTo>
                    <a:pt x="2945" y="229"/>
                  </a:lnTo>
                  <a:lnTo>
                    <a:pt x="3033" y="229"/>
                  </a:lnTo>
                  <a:lnTo>
                    <a:pt x="3067" y="229"/>
                  </a:lnTo>
                  <a:lnTo>
                    <a:pt x="3100" y="218"/>
                  </a:lnTo>
                  <a:lnTo>
                    <a:pt x="3188" y="218"/>
                  </a:lnTo>
                  <a:lnTo>
                    <a:pt x="3277" y="218"/>
                  </a:lnTo>
                  <a:lnTo>
                    <a:pt x="3310" y="218"/>
                  </a:lnTo>
                  <a:lnTo>
                    <a:pt x="3377" y="218"/>
                  </a:lnTo>
                  <a:lnTo>
                    <a:pt x="3410" y="218"/>
                  </a:lnTo>
                  <a:lnTo>
                    <a:pt x="3521" y="218"/>
                  </a:lnTo>
                  <a:lnTo>
                    <a:pt x="3610" y="218"/>
                  </a:lnTo>
                  <a:lnTo>
                    <a:pt x="3643" y="218"/>
                  </a:lnTo>
                  <a:lnTo>
                    <a:pt x="3710" y="218"/>
                  </a:lnTo>
                  <a:lnTo>
                    <a:pt x="3776" y="218"/>
                  </a:lnTo>
                  <a:lnTo>
                    <a:pt x="3810" y="218"/>
                  </a:lnTo>
                  <a:lnTo>
                    <a:pt x="3854" y="218"/>
                  </a:lnTo>
                  <a:lnTo>
                    <a:pt x="3898" y="206"/>
                  </a:lnTo>
                  <a:lnTo>
                    <a:pt x="3965" y="196"/>
                  </a:lnTo>
                  <a:lnTo>
                    <a:pt x="4009" y="171"/>
                  </a:lnTo>
                  <a:lnTo>
                    <a:pt x="4043" y="137"/>
                  </a:lnTo>
                  <a:lnTo>
                    <a:pt x="4075" y="114"/>
                  </a:lnTo>
                  <a:lnTo>
                    <a:pt x="4109" y="91"/>
                  </a:lnTo>
                  <a:lnTo>
                    <a:pt x="4142" y="68"/>
                  </a:lnTo>
                  <a:lnTo>
                    <a:pt x="4175" y="33"/>
                  </a:lnTo>
                  <a:lnTo>
                    <a:pt x="4186" y="0"/>
                  </a:lnTo>
                  <a:lnTo>
                    <a:pt x="4198" y="12"/>
                  </a:lnTo>
                </a:path>
              </a:pathLst>
            </a:custGeom>
            <a:noFill/>
            <a:ln cap="rnd" w="507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grpSp>
          <p:nvGrpSpPr>
            <p:cNvPr id="879" name="Group 10"/>
            <p:cNvGrpSpPr/>
            <p:nvPr/>
          </p:nvGrpSpPr>
          <p:grpSpPr>
            <a:xfrm>
              <a:off x="1228680" y="2057400"/>
              <a:ext cx="7305840" cy="4091040"/>
              <a:chOff x="1228680" y="2057400"/>
              <a:chExt cx="7305840" cy="4091040"/>
            </a:xfrm>
          </p:grpSpPr>
          <p:sp>
            <p:nvSpPr>
              <p:cNvPr id="880" name="Line 8"/>
              <p:cNvSpPr/>
              <p:nvPr/>
            </p:nvSpPr>
            <p:spPr>
              <a:xfrm>
                <a:off x="1228680" y="2057400"/>
                <a:ext cx="0" cy="409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81" name="Line 9"/>
              <p:cNvSpPr/>
              <p:nvPr/>
            </p:nvSpPr>
            <p:spPr>
              <a:xfrm>
                <a:off x="1228680" y="6148440"/>
                <a:ext cx="7305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82" name="Rectangle 11"/>
            <p:cNvSpPr/>
            <p:nvPr/>
          </p:nvSpPr>
          <p:spPr>
            <a:xfrm rot="16200000">
              <a:off x="448200" y="4488120"/>
              <a:ext cx="2167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ombination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 rot="16200000">
              <a:off x="1618200" y="4777560"/>
              <a:ext cx="1508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onization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4" name="Rectangle 13"/>
            <p:cNvSpPr/>
            <p:nvPr/>
          </p:nvSpPr>
          <p:spPr>
            <a:xfrm rot="16200000">
              <a:off x="3517200" y="4302000"/>
              <a:ext cx="297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mited Proportional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5" name="Rectangle 14"/>
            <p:cNvSpPr/>
            <p:nvPr/>
          </p:nvSpPr>
          <p:spPr>
            <a:xfrm rot="16200000">
              <a:off x="2717280" y="4620600"/>
              <a:ext cx="186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portional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6" name="Rectangle 15"/>
            <p:cNvSpPr/>
            <p:nvPr/>
          </p:nvSpPr>
          <p:spPr>
            <a:xfrm rot="16200000">
              <a:off x="5075640" y="4486320"/>
              <a:ext cx="2178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iger Mueller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7" name="Rectangle 16"/>
            <p:cNvSpPr/>
            <p:nvPr/>
          </p:nvSpPr>
          <p:spPr>
            <a:xfrm rot="16200000">
              <a:off x="-763200" y="4162320"/>
              <a:ext cx="2981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ber of Ions Collected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8" name="Rectangle 17"/>
            <p:cNvSpPr/>
            <p:nvPr/>
          </p:nvSpPr>
          <p:spPr>
            <a:xfrm rot="16200000">
              <a:off x="5877360" y="4217400"/>
              <a:ext cx="307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ous Discharge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9" name="Line 18"/>
            <p:cNvSpPr/>
            <p:nvPr/>
          </p:nvSpPr>
          <p:spPr>
            <a:xfrm flipV="1">
              <a:off x="187020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0" name="Line 19"/>
            <p:cNvSpPr/>
            <p:nvPr/>
          </p:nvSpPr>
          <p:spPr>
            <a:xfrm flipV="1">
              <a:off x="291312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1" name="Line 20"/>
            <p:cNvSpPr/>
            <p:nvPr/>
          </p:nvSpPr>
          <p:spPr>
            <a:xfrm flipV="1">
              <a:off x="451944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2" name="Line 21"/>
            <p:cNvSpPr/>
            <p:nvPr/>
          </p:nvSpPr>
          <p:spPr>
            <a:xfrm flipV="1">
              <a:off x="556416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3" name="Line 22"/>
            <p:cNvSpPr/>
            <p:nvPr/>
          </p:nvSpPr>
          <p:spPr>
            <a:xfrm flipV="1">
              <a:off x="684864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4" name="Rectangle 23"/>
            <p:cNvSpPr/>
            <p:nvPr/>
          </p:nvSpPr>
          <p:spPr>
            <a:xfrm>
              <a:off x="4178520" y="6346800"/>
              <a:ext cx="1021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ltage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95" name="Group 30"/>
          <p:cNvGrpSpPr/>
          <p:nvPr/>
        </p:nvGrpSpPr>
        <p:grpSpPr>
          <a:xfrm>
            <a:off x="287280" y="1706400"/>
            <a:ext cx="8170920" cy="397440"/>
            <a:chOff x="287280" y="1706400"/>
            <a:chExt cx="8170920" cy="397440"/>
          </a:xfrm>
        </p:grpSpPr>
        <p:sp>
          <p:nvSpPr>
            <p:cNvPr id="896" name="Rectangle 25"/>
            <p:cNvSpPr/>
            <p:nvPr/>
          </p:nvSpPr>
          <p:spPr>
            <a:xfrm>
              <a:off x="287280" y="1706400"/>
              <a:ext cx="7391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ssion produ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ph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t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mma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7" name="Line 26"/>
            <p:cNvSpPr/>
            <p:nvPr/>
          </p:nvSpPr>
          <p:spPr>
            <a:xfrm>
              <a:off x="2057400" y="1905120"/>
              <a:ext cx="76212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8" name="Line 27"/>
            <p:cNvSpPr/>
            <p:nvPr/>
          </p:nvSpPr>
          <p:spPr>
            <a:xfrm>
              <a:off x="3886200" y="1905120"/>
              <a:ext cx="7621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9" name="Line 28"/>
            <p:cNvSpPr/>
            <p:nvPr/>
          </p:nvSpPr>
          <p:spPr>
            <a:xfrm>
              <a:off x="5562720" y="1905120"/>
              <a:ext cx="761760" cy="0"/>
            </a:xfrm>
            <a:prstGeom prst="line">
              <a:avLst/>
            </a:prstGeom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900" name="Line 29"/>
            <p:cNvSpPr/>
            <p:nvPr/>
          </p:nvSpPr>
          <p:spPr>
            <a:xfrm>
              <a:off x="7696080" y="1905120"/>
              <a:ext cx="762120" cy="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O-2, 2A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3" name="Picture 4" descr=""/>
          <p:cNvPicPr/>
          <p:nvPr/>
        </p:nvPicPr>
        <p:blipFill>
          <a:blip r:embed="rId1"/>
          <a:stretch/>
        </p:blipFill>
        <p:spPr>
          <a:xfrm>
            <a:off x="2976480" y="1143000"/>
            <a:ext cx="336096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O-7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6" name="Picture 4" descr=""/>
          <p:cNvPicPr/>
          <p:nvPr/>
        </p:nvPicPr>
        <p:blipFill>
          <a:blip r:embed="rId1"/>
          <a:stretch/>
        </p:blipFill>
        <p:spPr>
          <a:xfrm>
            <a:off x="1905120" y="1152360"/>
            <a:ext cx="5575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2"/>
          <p:cNvSpPr/>
          <p:nvPr/>
        </p:nvSpPr>
        <p:spPr>
          <a:xfrm>
            <a:off x="1219320" y="304920"/>
            <a:ext cx="7086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SO-50E, 5, 50, 500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8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9" name="Picture 4" descr=""/>
          <p:cNvPicPr/>
          <p:nvPr/>
        </p:nvPicPr>
        <p:blipFill>
          <a:blip r:embed="rId1"/>
          <a:stretch/>
        </p:blipFill>
        <p:spPr>
          <a:xfrm>
            <a:off x="2438280" y="1135080"/>
            <a:ext cx="44132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1440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CM-1B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1" name="Rectangle 3"/>
          <p:cNvSpPr/>
          <p:nvPr/>
        </p:nvSpPr>
        <p:spPr>
          <a:xfrm>
            <a:off x="762120" y="5869080"/>
            <a:ext cx="7696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2" name="Picture 4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25272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56Z</dcterms:created>
  <dc:creator>Kerr, Sue Ann</dc:creator>
  <dc:description/>
  <dc:language>en-US</dc:language>
  <cp:lastModifiedBy>Peggy Hines IRSC</cp:lastModifiedBy>
  <cp:lastPrinted>2003-10-28T18:50:13Z</cp:lastPrinted>
  <dcterms:modified xsi:type="dcterms:W3CDTF">2013-04-15T17:15:00Z</dcterms:modified>
  <cp:revision>31</cp:revision>
  <dc:subject/>
  <dc:title>No Slide Title</dc:title>
</cp:coreProperties>
</file>