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8753-835D-4D99-A0F6-FE9436FDB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E02F-1AD2-43C5-BE73-FAED9CCAE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7B4-96BF-4DB2-B872-62C7F598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ACB-E329-4451-89EA-DEC09AEA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921-F2F5-4247-8DF8-B658F3A6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8AD-E331-4EC8-BFF0-EDBC979B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6898-A823-4FC1-B152-F1A036C8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6EC9-19A2-4316-9FD4-2529A93E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9B84-EAF2-44FB-A066-37C43DB3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45A9-6629-47E9-B0E2-177426A9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FE0B-4FE6-4CCF-8FCC-F48B1A0A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4061-3EF5-4FC6-9433-2E5D2110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C314-77B7-45A4-893E-AD9E7B4D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DBD-6206-4B0F-9E4E-EBD030D2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FA89-17C3-4C8F-9D14-303D7C87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7E10-8697-4DE7-A2A1-3FF2379B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B244-C8A0-48AD-88F5-60C1847B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D55F-F2E6-4104-932C-E0E0FC13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E7B3-1FB4-45D2-8E94-2221D5B8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A75-CD79-48EE-9972-B66F9578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454-081E-41BF-BB13-1E025237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0BA0-120F-4BB5-8236-C95AFF98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8FE-D35C-410D-B83F-A9225FCB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591-267B-442E-8B11-56D5581B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CA3-976C-4E68-90E9-6B921E82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110-DE32-4911-8DA1-9990566F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D056-6FC0-4B5F-B373-0D6BFF86E5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A3DD17-4E18-4399-BD0C-2C7E91E5F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237600" y="62992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-</a:t>
            </a:r>
            <a:fld id="{6EEBF5CC-FBE6-4FD2-9A43-B45C8712D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3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4"/>
          <p:cNvSpPr/>
          <p:nvPr/>
        </p:nvSpPr>
        <p:spPr>
          <a:xfrm>
            <a:off x="1752480" y="634032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VAN Technical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lth Physics (RADCON) Initial Trai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CD9232-65C6-40F0-ABF1-29D2A0D61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237600" y="62992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-</a:t>
            </a:r>
            <a:fld id="{D87A10B9-D58E-4E4B-87D2-0547242E4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4"/>
          <p:cNvSpPr/>
          <p:nvPr/>
        </p:nvSpPr>
        <p:spPr>
          <a:xfrm>
            <a:off x="1752480" y="634032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VAN Technical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lth Physics (RADCON) Initial Trai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7772-29AB-4754-A0B7-9AFE308DFD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52280" y="114300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ors, gas-filled, scintillation, alpha source, beta source, counter test, counting efficiency,  minimum detectable activity, percent slope, counter voltage, source 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41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24000" y="2133720"/>
          <a:ext cx="8667720" cy="1828800"/>
        </p:xfrm>
        <a:graphic>
          <a:graphicData uri="http://schemas.openxmlformats.org/drawingml/2006/table">
            <a:tbl>
              <a:tblPr/>
              <a:tblGrid>
                <a:gridCol w="1047600"/>
                <a:gridCol w="1066680"/>
                <a:gridCol w="1067040"/>
                <a:gridCol w="761760"/>
                <a:gridCol w="990720"/>
                <a:gridCol w="990720"/>
                <a:gridCol w="1295280"/>
                <a:gridCol w="14479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7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ystem Reliabilit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eck 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 – Tc-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– Th-2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able to National Institute of Standards and Technology (NI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Tc-9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Half-Life (211,000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 Energy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Averag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85 Me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Maximum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295 M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in Conservative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ays by Beta only (No Gam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Daughter In-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Th-2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Half-Life (75,400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Particle Energi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8 MeV, 76%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2 MeV, 2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ields an Efficiency Appropriate with Alphas in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RROR PREVENTION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WAYS FOLLOW PROCEDU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HANDLING SOURCE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ACTIVE MATERIAL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tting the Operating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UTION: 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djust Detector Voltage Slowly.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pid High Voltage Transits Can Damage Detecto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CUS ON THE F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dustrial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quipment Reliabil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Take Care of Your Equip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cellence in Human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olerance for Equipment Deficienc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Report Proble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oltage Plate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Lowest Voltage Setting Producing 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Source into Cou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1-Minute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Voltage 50 Volts &amp; Re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until Counts Rise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o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Operating Vol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cessive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UTIO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essive Applied Voltage Ma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ult in Detector Damag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 Not Exceed the Following Values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 Proportional Counters – 1900 Vol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-M Detectors                      – 1600 Vol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ntillation Counters          – 1500 Vo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lculate Percent Sl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% Slope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(2 X 10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)(C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– C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pm at Applied Voltag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pm at Applied Voltag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oltage at Base of Plat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oltage at Top of Plat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ckground Deter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ormed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sure Operating Voltage Establishe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ert Empty, Clean Planchet into Cha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quire 10-Minute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2 Types of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3 Types of Gas Filled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2 Scintillation Detector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Beta and Alpha Sources Used to Check Laboratory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-Squar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Operating Voltage Established and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Background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up Instr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Approximately 20 1-Minute Counts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pute Average of 1-Minute Counts (x-ba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quare Each Count Value (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 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 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m all 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tion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m all 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: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/x-b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erify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in Lim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urce Check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ed in Conjunction with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ndout 4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Lower &amp; Upper Source Check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unting Efficiency (Absolu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  =  (Number of Pulses Recorded)/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(Number of Radiation Quan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Emit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10-Minute 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nimum Detectabl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Activity Which Increases Instrument Readings by an Amount Equal to 3 Times the Standard Deviation of the Background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Handout 5 Workshee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tage Plat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-Squar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Check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Detectabl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Maximum Voltages for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Statistical Test Used for Laboratory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he Equation for this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Expected Value for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Counting Time for 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Counting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Minimum Detectabl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Conditions that Indicate the Presence of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tectors Used 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aboratory Cou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s-Filled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onizat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 Proportional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iger-Mueller (G-M)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-M Detector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udlum 2200 Cou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8" descr="Scaler, Beta-Gamma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ma Detect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dium Iodide (Thallium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NaI(T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Detect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nc Sulfi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Z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ZnS Detector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udlum 2200 Cou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Alpha Scaler"/>
          <p:cNvPicPr/>
          <p:nvPr/>
        </p:nvPicPr>
        <p:blipFill>
          <a:blip r:embed="rId1"/>
          <a:stretch/>
        </p:blipFill>
        <p:spPr>
          <a:xfrm>
            <a:off x="2362320" y="1447920"/>
            <a:ext cx="403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12:29:57Z</dcterms:created>
  <dc:creator>Ralph G. Wallace`</dc:creator>
  <dc:description/>
  <dc:language>en-US</dc:language>
  <cp:lastModifiedBy>Peggy Hines IRSC</cp:lastModifiedBy>
  <dcterms:modified xsi:type="dcterms:W3CDTF">2013-04-02T18:31:00Z</dcterms:modified>
  <cp:revision>16</cp:revision>
  <dc:subject/>
  <dc:title>CORE RADIOLOCICAL  INSTRUCTIONS</dc:title>
</cp:coreProperties>
</file>