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  <p:sldId id="331" r:id="rId95"/>
    <p:sldId id="332" r:id="rId96"/>
    <p:sldId id="333" r:id="rId97"/>
    <p:sldId id="334" r:id="rId98"/>
    <p:sldId id="335" r:id="rId99"/>
    <p:sldId id="336" r:id="rId100"/>
    <p:sldId id="337" r:id="rId101"/>
    <p:sldId id="338" r:id="rId102"/>
    <p:sldId id="339" r:id="rId103"/>
    <p:sldId id="340" r:id="rId104"/>
    <p:sldId id="341" r:id="rId105"/>
    <p:sldId id="342" r:id="rId106"/>
    <p:sldId id="343" r:id="rId107"/>
    <p:sldId id="344" r:id="rId108"/>
    <p:sldId id="345" r:id="rId109"/>
    <p:sldId id="346" r:id="rId110"/>
    <p:sldId id="347" r:id="rId111"/>
    <p:sldId id="348" r:id="rId112"/>
    <p:sldId id="349" r:id="rId113"/>
    <p:sldId id="350" r:id="rId114"/>
    <p:sldId id="351" r:id="rId115"/>
    <p:sldId id="352" r:id="rId116"/>
    <p:sldId id="353" r:id="rId117"/>
    <p:sldId id="354" r:id="rId118"/>
    <p:sldId id="355" r:id="rId119"/>
    <p:sldId id="356" r:id="rId120"/>
    <p:sldId id="357" r:id="rId121"/>
    <p:sldId id="358" r:id="rId122"/>
    <p:sldId id="359" r:id="rId123"/>
    <p:sldId id="360" r:id="rId124"/>
    <p:sldId id="361" r:id="rId125"/>
    <p:sldId id="362" r:id="rId126"/>
    <p:sldId id="363" r:id="rId127"/>
    <p:sldId id="364" r:id="rId128"/>
    <p:sldId id="365" r:id="rId129"/>
    <p:sldId id="366" r:id="rId130"/>
    <p:sldId id="367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slide" Target="slides/slide76.xml"/><Relationship Id="rId96" Type="http://schemas.openxmlformats.org/officeDocument/2006/relationships/slide" Target="slides/slide77.xml"/><Relationship Id="rId97" Type="http://schemas.openxmlformats.org/officeDocument/2006/relationships/slide" Target="slides/slide78.xml"/><Relationship Id="rId98" Type="http://schemas.openxmlformats.org/officeDocument/2006/relationships/slide" Target="slides/slide79.xml"/><Relationship Id="rId99" Type="http://schemas.openxmlformats.org/officeDocument/2006/relationships/slide" Target="slides/slide80.xml"/><Relationship Id="rId100" Type="http://schemas.openxmlformats.org/officeDocument/2006/relationships/slide" Target="slides/slide81.xml"/><Relationship Id="rId101" Type="http://schemas.openxmlformats.org/officeDocument/2006/relationships/slide" Target="slides/slide82.xml"/><Relationship Id="rId102" Type="http://schemas.openxmlformats.org/officeDocument/2006/relationships/slide" Target="slides/slide83.xml"/><Relationship Id="rId103" Type="http://schemas.openxmlformats.org/officeDocument/2006/relationships/slide" Target="slides/slide84.xml"/><Relationship Id="rId104" Type="http://schemas.openxmlformats.org/officeDocument/2006/relationships/slide" Target="slides/slide85.xml"/><Relationship Id="rId105" Type="http://schemas.openxmlformats.org/officeDocument/2006/relationships/slide" Target="slides/slide86.xml"/><Relationship Id="rId106" Type="http://schemas.openxmlformats.org/officeDocument/2006/relationships/slide" Target="slides/slide87.xml"/><Relationship Id="rId107" Type="http://schemas.openxmlformats.org/officeDocument/2006/relationships/slide" Target="slides/slide88.xml"/><Relationship Id="rId108" Type="http://schemas.openxmlformats.org/officeDocument/2006/relationships/slide" Target="slides/slide89.xml"/><Relationship Id="rId109" Type="http://schemas.openxmlformats.org/officeDocument/2006/relationships/slide" Target="slides/slide90.xml"/><Relationship Id="rId110" Type="http://schemas.openxmlformats.org/officeDocument/2006/relationships/slide" Target="slides/slide91.xml"/><Relationship Id="rId111" Type="http://schemas.openxmlformats.org/officeDocument/2006/relationships/slide" Target="slides/slide92.xml"/><Relationship Id="rId112" Type="http://schemas.openxmlformats.org/officeDocument/2006/relationships/slide" Target="slides/slide93.xml"/><Relationship Id="rId113" Type="http://schemas.openxmlformats.org/officeDocument/2006/relationships/slide" Target="slides/slide94.xml"/><Relationship Id="rId114" Type="http://schemas.openxmlformats.org/officeDocument/2006/relationships/slide" Target="slides/slide95.xml"/><Relationship Id="rId115" Type="http://schemas.openxmlformats.org/officeDocument/2006/relationships/slide" Target="slides/slide96.xml"/><Relationship Id="rId116" Type="http://schemas.openxmlformats.org/officeDocument/2006/relationships/slide" Target="slides/slide97.xml"/><Relationship Id="rId117" Type="http://schemas.openxmlformats.org/officeDocument/2006/relationships/slide" Target="slides/slide98.xml"/><Relationship Id="rId118" Type="http://schemas.openxmlformats.org/officeDocument/2006/relationships/slide" Target="slides/slide99.xml"/><Relationship Id="rId119" Type="http://schemas.openxmlformats.org/officeDocument/2006/relationships/slide" Target="slides/slide100.xml"/><Relationship Id="rId120" Type="http://schemas.openxmlformats.org/officeDocument/2006/relationships/slide" Target="slides/slide101.xml"/><Relationship Id="rId121" Type="http://schemas.openxmlformats.org/officeDocument/2006/relationships/slide" Target="slides/slide102.xml"/><Relationship Id="rId122" Type="http://schemas.openxmlformats.org/officeDocument/2006/relationships/slide" Target="slides/slide103.xml"/><Relationship Id="rId123" Type="http://schemas.openxmlformats.org/officeDocument/2006/relationships/slide" Target="slides/slide104.xml"/><Relationship Id="rId124" Type="http://schemas.openxmlformats.org/officeDocument/2006/relationships/slide" Target="slides/slide105.xml"/><Relationship Id="rId125" Type="http://schemas.openxmlformats.org/officeDocument/2006/relationships/slide" Target="slides/slide106.xml"/><Relationship Id="rId126" Type="http://schemas.openxmlformats.org/officeDocument/2006/relationships/slide" Target="slides/slide107.xml"/><Relationship Id="rId127" Type="http://schemas.openxmlformats.org/officeDocument/2006/relationships/slide" Target="slides/slide108.xml"/><Relationship Id="rId128" Type="http://schemas.openxmlformats.org/officeDocument/2006/relationships/slide" Target="slides/slide109.xml"/><Relationship Id="rId129" Type="http://schemas.openxmlformats.org/officeDocument/2006/relationships/slide" Target="slides/slide110.xml"/><Relationship Id="rId130" Type="http://schemas.openxmlformats.org/officeDocument/2006/relationships/slide" Target="slides/slide111.xml"/><Relationship Id="rId131" Type="http://schemas.openxmlformats.org/officeDocument/2006/relationships/slide" Target="slides/slide112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6E5D-8F08-4FA6-BCE7-EEA936688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12CE-42AF-4929-9B24-8DF97016F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2139-E9D8-42D9-99B7-7DE107286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625-D3D0-4471-BE82-8C23675C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67A-C82A-4E9F-91C9-5432C5FB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3A428-8497-49CD-B992-45CF37E7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EA614-0794-4329-BDD2-8AB925FA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A0314-CB66-4F5B-B4F8-D399699F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13514-45C0-4963-B8DD-7022D593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6FEEE-F6C7-4363-A6F5-44576F7A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64ADA-5ED9-41D1-BEEE-2376B0A5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99176-17D1-4FC8-A58C-A607BFFC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3F086-EFEA-478D-82AB-E9CC4110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056BD-CCD5-4761-9AA8-03806E0D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60C35-55C4-4B55-83D4-564F9E6E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43D-214B-4178-BF92-31538E7F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0E63D-782F-4475-98CB-EB51EBA9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23002-CAD8-46BC-BE89-29AA9BF5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AB80A-625A-4C6D-85D1-EE73EDD1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2B7E3-54DB-43A6-8906-4BD04BEC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FBF77-327B-44D2-BD59-CFB1AF2A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17C61-7777-488F-99CB-7489A05B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DAF28-3801-4FAC-A0BD-DF3854EA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55578-E815-4D54-AB8F-B7EA25D2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34033-32C4-4F95-9306-F44C42E2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D161F-DA3F-47FC-A600-4F9F6719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65B-73D7-4EC1-8DD9-EDD0594D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58903-B70B-4EDC-B38C-30BB3A22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6D40E-78D4-4009-BB24-4CCE1D62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9494-48FA-4E52-82FD-21F12566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1AF6A-83EC-4F10-BBBD-658105F0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3379D-17A7-4C86-9F47-C181D1E3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097EA-D399-46BE-BE4D-88786202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53C4F-E7CA-410F-8247-BDAF4B5E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688E7-F60B-4800-894C-EFED5B21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C54DA-4E7F-4A0F-95EC-15E41443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5EFEF-44AB-45CF-94BE-4B8FE0F5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51CA-2DA7-4674-8D7F-5764CCBB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D9377-D2B0-4881-9146-31994272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235AA-E929-4806-99C4-813AA15C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682D2-0EAD-44A8-90B7-D96A7525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01059-6538-401D-81C2-DEF0E74D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0D45D-D838-4185-896B-C41E71C3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340B9-7F5A-4E63-A306-AA87C2AD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332F2-6D28-4C56-8FCE-5468DAB2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D0748-3280-46EB-B576-8F9E98AA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8F315-09D4-4E14-A9B1-A898E4CD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9CCA8-076A-48E4-B88D-6B16C3FE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9ECE-44DA-4722-84A0-3E5D5844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ABF93-3F7B-4FF5-9F17-7350D1E7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7CEBF-0679-463A-9117-B37221E7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D9B9A-3796-4943-9499-6A892C55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EC625-4AE9-43AB-9D82-84D61DAB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B4F72-87EF-49C8-9ADD-DF90B8D0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6A743-B40C-4D4F-BDA4-C322B7C6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6FC25-BED8-4A2B-AFA9-A65A8E12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EF87B-A3EF-497A-B4EF-E75E800C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D7BD9-1184-46E8-8FD6-BA06AD1A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9F420-1B95-48B4-9BC8-960B4958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9B6-3EC2-4A5E-A9E8-CD94A0FC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C3FBA-063F-4BAD-B9A8-9B840C44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6414B-F186-4531-87B7-4CC8FED6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1552B-875D-44A7-ACFA-483B6DE9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8BD89-594A-4947-9B74-CFCB0633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FB525-4658-44CA-9A50-1C039A6D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1FBC7-4F88-4D64-8062-4E17F3DB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68265-72B8-4A52-BBB8-CEEB4C5D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2C353-F2B7-474C-8116-BF23B551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CA3A1-16C2-4AFA-9FF1-3756B734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C47C2-8633-4BAA-989F-77DFBC6E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60F5-CE3D-4748-A321-9C2E9122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C6E85-8F76-44F1-923F-6E44268F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748AF-75DB-4337-ACEA-CF67D1FD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5CCEF-3A28-430E-986B-3B624A31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EE1D6-20F0-41D7-9DFD-52E4429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13092-9F93-4C34-B1C2-9571368C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F605D-B9A8-478D-BBD5-AC81EFA7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10A43-3232-4FC7-8EC0-512409F3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F3EC2-8902-417A-B8B8-E202A7C7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76B04-F3A6-45DE-B6BC-0FCEC266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8DC45-D327-4A97-920C-15026144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BAD0-EA1D-482E-8FDC-3BEFE1DC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3443F-0731-4100-A33B-30FFD00B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FB53E-6456-42F6-A46B-8BDAE8CF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C5ADD-B2C2-417B-93B7-D6BD28A4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B017C-A0A7-41E3-96C2-4B24745E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F6C2E-6DCE-45FE-9691-220F8ADE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7831C5-C024-46FB-86CE-4DFBF01E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79B47-6C30-4CD0-BA36-94071CA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3A66F-1C61-441F-AD09-A2D2F7EF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5381C-0DB9-4A9D-A11E-12A52BEB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86828-72C6-43EB-AE60-B0043EC1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C702-C983-4BB5-8838-31E6591A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1014E-0E5D-4CC1-BAFB-9B7BF4FE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9E5D7-8EF2-4889-ABB0-495CA857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AD616-9859-4150-90AA-F564FB5F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EECBF-0396-49DF-A051-1B5F6FF8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ECBA1-D39F-4527-B4B2-C0BE5F81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84085-1F2A-4F7D-8952-8B867264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E8482-5925-4852-9D4F-187AA196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AD224F-3600-4267-BF24-6C706E50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2E3F6-AB8B-449F-9FC4-4DD134D8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C0833-7D0D-4B21-A5C5-866F7A1E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77C9-1CB3-425D-A2CA-FC199A2F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DCAD9-579A-42C5-A286-52A9C255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8FC44D-F4F8-42FA-AFDD-6B114CC0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316D1-81BB-4DFE-ADF8-C16115BA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EAE16-38E2-4560-982C-F55C20B6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C67879-8CC3-445B-B5C0-B625F4AC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974AA-74FD-4283-BE33-BE26C3BD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06E8E-3AE8-466E-83BC-17D4281E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06D5E-021A-453D-A995-21AFB913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C074FC-C593-433A-B5EF-3AB284C4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CDA97-3A9F-4564-B469-FC8A91B7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4EC-5B76-4A6C-A31A-73768E53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D0A2-FA9A-4FD2-9584-D41354AA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1EC155-4BA8-4D42-8836-B42B0E7A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81713-DF0E-4017-9614-6F9729E9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9F4DF-7642-4EF0-90B5-040C2759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EBCCD-B180-4870-8123-9A3A1A71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97F48-353F-4287-A1E2-9A26CD3E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2A44-BE9A-4FA6-BA5A-FF7F517E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D7CC-8E8A-435F-A4E9-4AD8FA3B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3C96-0A7B-42AB-AF31-A946B1C5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C073-AC79-4673-A98D-798EAA0F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09C5-2F4C-4219-9805-45D7ECB3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087B-D637-40AB-ACCB-E76C59CE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F4E3-95DA-4CE7-87A8-1A6FA520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ACAF-29AB-4C50-9382-24C549A1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18CF-2D81-41BB-9C1B-9D8EA45A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680-E169-45FA-B37E-5F088545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12D0-A8A9-4E29-8151-27449011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AAD0-0FDD-4CAA-B38A-A07D16D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178D-2C56-4624-B268-EC424F69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071B-D4D5-4407-AF37-52459F9E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74ED6-0DE8-45F9-95FD-D8D60081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4739-639B-4718-8CFE-2A3A801E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3F0B-AEF6-4150-AB05-BD930579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278A-B872-4EE8-8146-5C260CCA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D732-2B7C-4433-8A28-EE1993F1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4E21E-D780-48E4-9C98-72209A9D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91C-AC55-4495-A51F-6FF8C2F2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6D90D-E16A-4F43-9F59-8057F512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C48F-58F9-49D4-8E58-121D09F5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69087-41F5-4FFF-BDB3-9D99F444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96A1-BB9F-4453-B74A-BA03D007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B6C5F-B54D-486B-801D-6AAEB794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DBDEF-62CB-4A54-80CA-58B249E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9A1C-05D2-428E-BB18-8839031A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0A9A8-D9E4-4C3D-B1A0-BA86D6C3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083D-DFE3-43A4-99A1-282415FB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7BFEB-804A-4227-89C7-B7EFC565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071-90B5-44C5-AA81-22F3D288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B17C-0747-457B-95D0-91A5254B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2C193-0B5B-46B4-86E3-6B95D0EB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4CDCC-B1D9-41C3-B556-207D2226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318FA-3A1A-4FC2-A636-3021305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43A2F-9658-4313-BD87-9D1E69D7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F189E-6CF0-4741-92D3-20EB2E39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936C1-23BA-4FED-AA86-90837319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6AEED-8F6B-4403-A38D-695F88F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7C4A3-5D5F-4E96-96E0-6A1A700A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3C3AB-DBDC-4D27-A259-F1B02ACB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386-C99C-4D68-BFB7-5E6796C8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FA158-B8B1-4F5A-9A30-AAD51F12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7C34-3BE2-42FD-9AB1-5FBE4C5D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B14DC-26F7-4E59-B495-E18F0B03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70036-5CC7-4957-9FE5-00A24904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97343-1FEF-4D21-995E-D2317BEC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B9875-7E9D-4E9D-8EFD-09D825F7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27549-1DF6-4DF7-BECB-B04F7EA6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4E30B-62BB-48E2-A413-400A6528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28BB9-88F1-4753-A2EE-BC244F79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9C3CC-D342-4968-98ED-0205F039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017-6F28-4DCB-A5C5-4A817540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A8C23-38F3-4828-8EA2-4C8F8191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9CBFB-CE25-484B-8983-0B4F8849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66E0D-A1F1-4C2B-A220-5ECBEF41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7ABB9-8697-4DD2-AEA1-1828415A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8A0D9-EA92-4C32-8696-825CF9D6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2FBAC-77AB-4431-A76C-F7DA42D8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1A715-0BB6-4C35-9166-DF26F6D8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627B6-CE99-4D18-9698-B17D5804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FC9E1-B0CA-44F2-B4E0-46CA19B7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5DD22-1AF9-4E9D-85D0-789605B8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996-9F39-4A36-8992-5828435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38C0A-26A2-45CE-82C3-AEE73E2E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786B9-82F4-4F73-8BD8-C813378C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D4851-2A89-41A0-AFFB-0BC9C181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BC51D-AFAB-4096-96D6-22249446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8467-D000-4361-A75C-600C5833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EB433-A6F7-483A-99EF-8937CB34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BB5DA-CAC8-488D-AC97-C64AD743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434B4-D266-4DF6-A091-DAC10D7E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41EAE-1194-44FE-9BDC-AEE570CC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B4538-B2FF-43F2-BDCA-D128AFC1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4B5-8D97-434F-9055-9B2A0D9A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C9501-6570-4BF3-8FED-6D37F73B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03557-E431-4DB8-9C5B-1DA7218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8A99F-3166-495D-ABE5-2F315D0B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6B778-340F-43FE-BB08-FC5D6215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B9953-B253-41D7-9405-497E7EF1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C236E-E748-4121-8FD8-574CB4B7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DC4D2-CF45-446D-B36A-4794941E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9CFDA-06AB-4592-8B1F-19388843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950DA-33BB-4341-8116-902317C6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5926D-1361-493F-9186-ED4C7187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AC15-8DCA-4BE8-B046-3ED4AE0D6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06ED-7B32-4673-992A-BB3EAE9797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C098-D023-428C-BD03-9E7FF0D18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C942-2D49-48CB-96A8-64A4629D62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5F00-9B6A-4312-AC8F-188A09CA8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ADA3-0143-4BD6-8F18-31CCA2DA17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FC52-8AED-44B7-9698-B5B1EA1692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0A44-33DB-4A23-8C13-D73C0C9AF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91EF-0A65-460D-8656-ADF3A96C9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2481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2B0D-18D9-4A56-AA61-243907D2E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3053BCCC-2753-45D2-9E41-82F6B99036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F83F-6A3A-43A2-ACA4-7491CCF94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7E8ABC8C-1D6E-4369-985B-962D9AF49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90560" y="6244920"/>
            <a:ext cx="3886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952F424D-12DE-4E19-92DC-7CA436F86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B338-B804-4377-9480-C944C5C648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06CF-6DB2-4432-84A6-D5DC6DD5D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A4E6-FD3D-413D-8751-1CB84026A5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152280" y="7952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146240"/>
                <a:gridCol w="102060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4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po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 Comply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 &amp; Extent of Radi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activ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Radiological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A2F619B-3749-4445-9107-1C886CB3B7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Fetal Age at time of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ransfer Coefficien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milated Radioactivity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ory Guide 8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= mrem/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0022439-28EB-498B-9C9E-CD44B5BE32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Cont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(Skin) Dose Equivalent (SDE) = Dose to a depth of 0.007 cm (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p Dose Equivalent (DDE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1 cm (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s of Eye Dose Equivalent (LDE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0.3 cm (3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44F03FD-C388-461D-B9B3-A07D94C189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mination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ions Required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 (54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 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/= 10 mrem (170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5FF021F-DB23-42D2-8240-1F4B4D4585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tivity-Hour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2.22 E 6)(Eff.)(Are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Activity-h Concentration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Counts per Minute-hour Total, cpm-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22 E 6 = Conversion:  2.22E6 dpm/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ff = Detector Counting Efficienc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pm/dpm (0.10 for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rea = Surface Area (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SD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DDE or L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F059A34-9485-4FB8-9D41-B60C5AFF07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llow (Skin)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S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Surface (Skin)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rad) for Beta 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=S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3,7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Beta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8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6B37AE3-3AD8-4EB0-B2A0-9E62CE7FFD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ep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D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Deep Dose Equivalent (mra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f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 =D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6560F19-6AE1-4F12-811D-465C7763BC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Hot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Usua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0 mic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ivity Usually At Least 0.1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y Discrete Particle &gt;/= 20,000 c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se Calculation Same as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6195E64-81B7-4E38-9E74-33D518A029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Organ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T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DDE &amp;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E = DDE +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E3D9D98-B21D-40F0-9E28-A633D69610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 (TE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Internal (CEDE) and External (DDE) Expo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= CEDE +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/&gt; Workers Age (Years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ker Limited to 1,0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0CD092C-6055-42B9-91B0-D849CF261A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Track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Repor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% of Limit – Dos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 % of Limit – Dose Extension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Restricted Access to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tion of Prior Dose –NRC Form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Exposure Report – NRC For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0D95C4F-C65F-4EEA-8540-47D6828502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External Monito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10% of 10CFR20.1201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gt; 0.15 rem (1.5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Dose &gt; 0.5 rem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ntering High or Very High Radi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AE6D095-08BA-49F7-9AC5-515EA7D61F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– It’s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 Exposure – A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Low for Low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Limits – 10CFR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AF726F6-A8EE-4058-8468-CB5B7049E4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In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a 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4FF6043-C85E-4144-A94D-CD9D578E36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and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Dose - rad, 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Equivalent - rem, S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&amp; D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/Tissue Dose –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A998898-BF25-4F72-B326-89E71069DB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Monitoring for Internal Expos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than 10% of Applicable 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 0.1 rem (1 mSv) Dur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0266857-C22C-4346-976B-491F715976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Limits &amp;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5 rems (0.05 Sv)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+ CDE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lt;/= 15 rem (0.1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 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VA Administrative Limi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DE &lt;/= 1 rem (0.01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50BD02E-33BD-4558-B8D2-D1B9C75AAB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ned Special Exposures (P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horized in Wri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sure Oc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Do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structed in Meas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Keep Doses ALA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045AC17-F71D-4016-BC33-DB9C940095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ergency Dose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ary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formed of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Rem TEDE to Prev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Damage to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Hazard to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Rem TEDE to Save a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5341003-DD6F-41C1-B047-EBE6025949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to Pregnant W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y of Regulatory Guide 8.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 Airborne or Contaminat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 Whole Body Count 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A812514-A165-40F4-A136-1D9B5A0D9B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s of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55101A3-CE6A-49E9-B975-23CAC4C0BB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Partial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4DADB78-BD54-4BCF-BE9E-3B4FC9C1BD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moluminesc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 – H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minescent -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51A3E49-AA27-4ECF-A418-873263F712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HTP001.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4FC6803-53B8-4290-920F-A5AC712835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n 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TCD01"/>
          <p:cNvPicPr/>
          <p:nvPr/>
        </p:nvPicPr>
        <p:blipFill>
          <a:blip r:embed="rId1"/>
          <a:stretch/>
        </p:blipFill>
        <p:spPr>
          <a:xfrm>
            <a:off x="1905120" y="2228760"/>
            <a:ext cx="5333760" cy="3268800"/>
          </a:xfrm>
          <a:prstGeom prst="rect">
            <a:avLst/>
          </a:prstGeom>
          <a:ln w="0">
            <a:noFill/>
          </a:ln>
        </p:spPr>
      </p:pic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1688FEB-2730-4078-834A-B82C3B3A55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31B7B3F-2ACB-4FD8-9DD7-A47C4D6F42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Cu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Range (10 mR to 100,000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Retention (Low F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X-Rays, and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usable and Econo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t Susceptible to Radio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E99B86E-018D-48CE-8D50-2E158CDF19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Bo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 rot="16200000">
            <a:off x="-1334520" y="3143880"/>
            <a:ext cx="38289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adiation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C7EE928-DB99-472C-A459-3AF4345462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1428840" y="186696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5"/>
          <p:cNvSpPr/>
          <p:nvPr/>
        </p:nvSpPr>
        <p:spPr>
          <a:xfrm>
            <a:off x="1542960" y="3600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8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9"/>
          <p:cNvSpPr/>
          <p:nvPr/>
        </p:nvSpPr>
        <p:spPr>
          <a:xfrm>
            <a:off x="1428840" y="281952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1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972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8"/>
          <p:cNvSpPr/>
          <p:nvPr/>
        </p:nvSpPr>
        <p:spPr>
          <a:xfrm flipV="1">
            <a:off x="1657440" y="2876040"/>
            <a:ext cx="1047600" cy="9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238560" y="2781360"/>
            <a:ext cx="1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1"/>
          <p:cNvSpPr/>
          <p:nvPr/>
        </p:nvSpPr>
        <p:spPr>
          <a:xfrm flipV="1">
            <a:off x="2647800" y="2743200"/>
            <a:ext cx="66708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2"/>
          <p:cNvSpPr/>
          <p:nvPr/>
        </p:nvSpPr>
        <p:spPr>
          <a:xfrm flipV="1">
            <a:off x="3295800" y="2705040"/>
            <a:ext cx="1028520" cy="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3"/>
          <p:cNvSpPr/>
          <p:nvPr/>
        </p:nvSpPr>
        <p:spPr>
          <a:xfrm flipV="1">
            <a:off x="1695600" y="4991040"/>
            <a:ext cx="1085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4"/>
          <p:cNvSpPr/>
          <p:nvPr/>
        </p:nvSpPr>
        <p:spPr>
          <a:xfrm flipV="1">
            <a:off x="2800440" y="4914720"/>
            <a:ext cx="571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5"/>
          <p:cNvSpPr/>
          <p:nvPr/>
        </p:nvSpPr>
        <p:spPr>
          <a:xfrm>
            <a:off x="3352680" y="48960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6"/>
          <p:cNvSpPr/>
          <p:nvPr/>
        </p:nvSpPr>
        <p:spPr>
          <a:xfrm>
            <a:off x="103392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3392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8"/>
          <p:cNvSpPr/>
          <p:nvPr/>
        </p:nvSpPr>
        <p:spPr>
          <a:xfrm>
            <a:off x="1014840" y="17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1071720" y="563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0"/>
          <p:cNvSpPr/>
          <p:nvPr/>
        </p:nvSpPr>
        <p:spPr>
          <a:xfrm>
            <a:off x="1090800" y="478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1109880" y="405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2"/>
          <p:cNvSpPr/>
          <p:nvPr/>
        </p:nvSpPr>
        <p:spPr>
          <a:xfrm>
            <a:off x="4938480" y="26114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4957560" y="4745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5"/>
          <p:cNvSpPr/>
          <p:nvPr/>
        </p:nvSpPr>
        <p:spPr>
          <a:xfrm>
            <a:off x="1357920" y="5694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2386080" y="569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367880" y="5713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Tm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1 mR to 1,0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up to about 2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and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ver responds to Low Energy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Useful for Environmental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829247D-6E05-4348-9DD4-DB5092A9DB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ium Sulf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 rot="16200000">
            <a:off x="-1524960" y="2839320"/>
            <a:ext cx="41720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diation Respon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1593DB4-A23D-487F-B6C2-F7CD35022E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1467000" y="184788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16192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9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173340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109080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105300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957960" y="220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5"/>
          <p:cNvSpPr/>
          <p:nvPr/>
        </p:nvSpPr>
        <p:spPr>
          <a:xfrm>
            <a:off x="10908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1071720" y="481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7"/>
          <p:cNvSpPr/>
          <p:nvPr/>
        </p:nvSpPr>
        <p:spPr>
          <a:xfrm>
            <a:off x="1071720" y="403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8"/>
          <p:cNvSpPr/>
          <p:nvPr/>
        </p:nvSpPr>
        <p:spPr>
          <a:xfrm>
            <a:off x="1486080" y="302904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32"/>
          <p:cNvSpPr/>
          <p:nvPr/>
        </p:nvSpPr>
        <p:spPr>
          <a:xfrm>
            <a:off x="148608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6"/>
          <p:cNvSpPr/>
          <p:nvPr/>
        </p:nvSpPr>
        <p:spPr>
          <a:xfrm>
            <a:off x="1847880" y="2209680"/>
            <a:ext cx="2514600" cy="1409760"/>
          </a:xfrm>
          <a:custGeom>
            <a:avLst/>
            <a:gdLst/>
            <a:ahLst/>
            <a:rect l="l" t="t" r="r" b="b"/>
            <a:pathLst>
              <a:path w="1584" h="888">
                <a:moveTo>
                  <a:pt x="0" y="0"/>
                </a:moveTo>
                <a:cubicBezTo>
                  <a:pt x="36" y="24"/>
                  <a:pt x="72" y="36"/>
                  <a:pt x="108" y="60"/>
                </a:cubicBezTo>
                <a:cubicBezTo>
                  <a:pt x="133" y="135"/>
                  <a:pt x="161" y="219"/>
                  <a:pt x="228" y="264"/>
                </a:cubicBezTo>
                <a:cubicBezTo>
                  <a:pt x="241" y="303"/>
                  <a:pt x="275" y="333"/>
                  <a:pt x="288" y="372"/>
                </a:cubicBezTo>
                <a:cubicBezTo>
                  <a:pt x="315" y="454"/>
                  <a:pt x="324" y="480"/>
                  <a:pt x="372" y="552"/>
                </a:cubicBezTo>
                <a:cubicBezTo>
                  <a:pt x="388" y="575"/>
                  <a:pt x="472" y="754"/>
                  <a:pt x="492" y="768"/>
                </a:cubicBezTo>
                <a:cubicBezTo>
                  <a:pt x="516" y="784"/>
                  <a:pt x="540" y="800"/>
                  <a:pt x="564" y="816"/>
                </a:cubicBezTo>
                <a:cubicBezTo>
                  <a:pt x="585" y="830"/>
                  <a:pt x="612" y="832"/>
                  <a:pt x="636" y="840"/>
                </a:cubicBezTo>
                <a:cubicBezTo>
                  <a:pt x="781" y="888"/>
                  <a:pt x="875" y="881"/>
                  <a:pt x="1044" y="888"/>
                </a:cubicBezTo>
                <a:cubicBezTo>
                  <a:pt x="1130" y="877"/>
                  <a:pt x="1203" y="855"/>
                  <a:pt x="1284" y="828"/>
                </a:cubicBezTo>
                <a:cubicBezTo>
                  <a:pt x="1326" y="814"/>
                  <a:pt x="1372" y="820"/>
                  <a:pt x="1416" y="816"/>
                </a:cubicBezTo>
                <a:cubicBezTo>
                  <a:pt x="1570" y="765"/>
                  <a:pt x="1412" y="814"/>
                  <a:pt x="1548" y="780"/>
                </a:cubicBezTo>
                <a:cubicBezTo>
                  <a:pt x="1560" y="777"/>
                  <a:pt x="1584" y="768"/>
                  <a:pt x="1584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7"/>
          <p:cNvSpPr/>
          <p:nvPr/>
        </p:nvSpPr>
        <p:spPr>
          <a:xfrm>
            <a:off x="1847880" y="4743360"/>
            <a:ext cx="743040" cy="381240"/>
          </a:xfrm>
          <a:custGeom>
            <a:avLst/>
            <a:gdLst/>
            <a:ahLst/>
            <a:rect l="l" t="t" r="r" b="b"/>
            <a:pathLst>
              <a:path w="468" h="240">
                <a:moveTo>
                  <a:pt x="0" y="240"/>
                </a:moveTo>
                <a:cubicBezTo>
                  <a:pt x="21" y="177"/>
                  <a:pt x="64" y="163"/>
                  <a:pt x="120" y="144"/>
                </a:cubicBezTo>
                <a:cubicBezTo>
                  <a:pt x="128" y="132"/>
                  <a:pt x="133" y="117"/>
                  <a:pt x="144" y="108"/>
                </a:cubicBezTo>
                <a:cubicBezTo>
                  <a:pt x="166" y="89"/>
                  <a:pt x="216" y="60"/>
                  <a:pt x="216" y="60"/>
                </a:cubicBezTo>
                <a:cubicBezTo>
                  <a:pt x="251" y="7"/>
                  <a:pt x="263" y="15"/>
                  <a:pt x="324" y="0"/>
                </a:cubicBezTo>
                <a:cubicBezTo>
                  <a:pt x="348" y="8"/>
                  <a:pt x="388" y="0"/>
                  <a:pt x="396" y="24"/>
                </a:cubicBezTo>
                <a:cubicBezTo>
                  <a:pt x="400" y="36"/>
                  <a:pt x="400" y="50"/>
                  <a:pt x="408" y="60"/>
                </a:cubicBezTo>
                <a:cubicBezTo>
                  <a:pt x="424" y="80"/>
                  <a:pt x="450" y="90"/>
                  <a:pt x="468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 flipV="1">
            <a:off x="2590920" y="4933440"/>
            <a:ext cx="1218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7"/>
          <p:cNvSpPr/>
          <p:nvPr/>
        </p:nvSpPr>
        <p:spPr>
          <a:xfrm>
            <a:off x="3695760" y="4759200"/>
            <a:ext cx="762120" cy="174600"/>
          </a:xfrm>
          <a:custGeom>
            <a:avLst/>
            <a:gdLst/>
            <a:ahLst/>
            <a:rect l="l" t="t" r="r" b="b"/>
            <a:pathLst>
              <a:path w="480" h="110">
                <a:moveTo>
                  <a:pt x="0" y="110"/>
                </a:moveTo>
                <a:cubicBezTo>
                  <a:pt x="67" y="104"/>
                  <a:pt x="138" y="104"/>
                  <a:pt x="204" y="86"/>
                </a:cubicBezTo>
                <a:cubicBezTo>
                  <a:pt x="280" y="65"/>
                  <a:pt x="354" y="42"/>
                  <a:pt x="432" y="26"/>
                </a:cubicBezTo>
                <a:cubicBezTo>
                  <a:pt x="471" y="0"/>
                  <a:pt x="454" y="2"/>
                  <a:pt x="48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8"/>
          <p:cNvSpPr/>
          <p:nvPr/>
        </p:nvSpPr>
        <p:spPr>
          <a:xfrm>
            <a:off x="1319760" y="5675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9"/>
          <p:cNvSpPr/>
          <p:nvPr/>
        </p:nvSpPr>
        <p:spPr>
          <a:xfrm>
            <a:off x="2348280" y="567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1"/>
          <p:cNvSpPr/>
          <p:nvPr/>
        </p:nvSpPr>
        <p:spPr>
          <a:xfrm>
            <a:off x="4329720" y="569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2"/>
          <p:cNvSpPr/>
          <p:nvPr/>
        </p:nvSpPr>
        <p:spPr>
          <a:xfrm>
            <a:off x="4843440" y="2459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4957560" y="4687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mitations of Both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Heat, Moisture, and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hield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to Improper Wear b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use Results in Incorrec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s from Logistical/Record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E939CDB-70F9-41EB-8856-0CF1D21CC0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496623C-DB61-4A09-8E7E-517B5511DB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Picture 4" descr="MVC-030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272A492-56DE-4276-A074-908397B399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762120" y="285840"/>
            <a:ext cx="65912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Thermoluminescent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1" name="Picture 7" descr="MVC-023F"/>
          <p:cNvPicPr/>
          <p:nvPr/>
        </p:nvPicPr>
        <p:blipFill>
          <a:blip r:embed="rId1"/>
          <a:stretch/>
        </p:blipFill>
        <p:spPr>
          <a:xfrm>
            <a:off x="0" y="0"/>
            <a:ext cx="7683480" cy="612612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1EB9719-0116-40DC-85E4-09E0E48535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781520" y="6667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4686480" y="228600"/>
            <a:ext cx="2781000" cy="13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&amp;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, Exposure Limits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&amp; Dose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462A895-8748-45C4-8E08-E43E48FACC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Picture 4" descr="MVC-03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CA24DD6-48DE-45C0-BFA2-FDED5854B9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0" y="2286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2476440" y="361800"/>
            <a:ext cx="2266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38D97E9-E832-43DC-B3DB-43F7EBD8E0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asuring Neutrons with T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Rather Tha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Neutrons not Directly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s Moderat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Recoil Neutron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bedo Effec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391AF11-57AE-4171-84D7-93AD77F487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F5617E9-CEA9-4EC6-B47F-894FE554B1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ding 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1057320" y="2592360"/>
            <a:ext cx="7029360" cy="254160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2988852-D91F-4319-A082-0AF026301F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Calib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Cal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QC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QC TLDs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53B8B5E-53EE-495B-9F7C-6FBE55B5E9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QC/Q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S Accredited by NIST and NVL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&amp; Verification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stical Revi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d by Exter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Manag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Internal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9D8B669-923E-49C7-89B0-8741E70394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dge Issue &amp;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&amp; Collected by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gns a TL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for a 3-Month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d by T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LDs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FF3E920-AA70-4CD8-952F-31449CD0B6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al Pu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Dose Limits Exc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D Off Scale or Displays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/Relocation of 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Badge or Neutr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ABE0922-3BF9-42F4-9200-4DFC1C5CF7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the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 of Body, Neck to Wa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May Requir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Coveralls in Contamin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 or Pamper With the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CE3A29C-4EA5-4FB4-B7A7-E3C8B194D8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Dos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Regulations &amp;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ar with Radiation Monitoring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Operation of Various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imetry Administrative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Multiple &amp; Extremity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ry for Various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633A956-B80A-4D21-8D10-BDB88F0DBB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8" descr="MVC-041F"/>
          <p:cNvPicPr/>
          <p:nvPr/>
        </p:nvPicPr>
        <p:blipFill>
          <a:blip r:embed="rId1"/>
          <a:stretch/>
        </p:blipFill>
        <p:spPr>
          <a:xfrm>
            <a:off x="-422280" y="0"/>
            <a:ext cx="5192640" cy="603252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a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sim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5691902-80F3-45E0-8E43-40725922D0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ple Bad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/h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est Dose Location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adiation Levels Unknow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Non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8896219-6F0D-4400-B86D-E30F191DE2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-Badge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(Not Wo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F0BE4A-C758-4EE3-B18A-8E706FB2B9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Ba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500 mrem to Extre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Unshielded Beta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ole Body (Except Hands) Shiel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Small Non-Shielde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contamination of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love Box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I-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BD9371E-E5F0-46E9-9F73-D0BF817871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Dosi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5" descr="MVC-036F"/>
          <p:cNvPicPr/>
          <p:nvPr/>
        </p:nvPicPr>
        <p:blipFill>
          <a:blip r:embed="rId1"/>
          <a:stretch/>
        </p:blipFill>
        <p:spPr>
          <a:xfrm>
            <a:off x="952560" y="1630440"/>
            <a:ext cx="7124760" cy="427824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7D2DE09-DB81-4A4F-AEB2-8631D406DA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Extremity Ba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7" descr="MVC-038F"/>
          <p:cNvPicPr/>
          <p:nvPr/>
        </p:nvPicPr>
        <p:blipFill>
          <a:blip r:embed="rId1"/>
          <a:stretch/>
        </p:blipFill>
        <p:spPr>
          <a:xfrm>
            <a:off x="1500120" y="1717560"/>
            <a:ext cx="6446880" cy="422280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55113B5-1D78-4893-917E-91FA91BDE5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ondary Dosi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y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eriodically During Job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on Front of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in Contamin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932C1DB-4BAB-4155-AD2E-C1E9591661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4" descr="MVC-019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163ED39-7B94-4275-BA63-EF099EA1B3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1542960" y="0"/>
            <a:ext cx="4419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4" descr="MVC-022F"/>
          <p:cNvPicPr/>
          <p:nvPr/>
        </p:nvPicPr>
        <p:blipFill>
          <a:blip r:embed="rId1"/>
          <a:stretch/>
        </p:blipFill>
        <p:spPr>
          <a:xfrm>
            <a:off x="0" y="266760"/>
            <a:ext cx="7588080" cy="58593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7AE2718-74A7-4130-80A1-12C846C8B0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838080" y="4991040"/>
            <a:ext cx="6248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Picture 4" descr="MVC-02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7237795-17E5-41F5-93D7-06B08A8D3E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4400640" y="533520"/>
            <a:ext cx="251460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ctions for Abnorma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Concepts of Internal Dosime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Radionuclides of Conc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Biological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e Calculatio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Radioactivity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an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34E5C38-82E2-462C-853C-A0BC90AFC8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20" descr="MVC-018F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9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9EB0421-6DE7-4871-9A31-04F5714CEB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ed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A – TLD &amp; DAD/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oses to Extremitie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41A3ABD-F6B5-4001-929E-C810C6B687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 Areas –Process TLD for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Radiation Area – Secondary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High Radiation Area – Second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ed Special Exposure –Per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ors – Same as Esc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8D5B506-4DC6-4BFB-8C0B-C01EA82A46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meter Discrepa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er Investigative Report (DIR)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 or Damaged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/Damaged/Malfunctioning D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spect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condary Dosime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100 mrem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&lt;/= 25% Difference i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ustomer Complaints &amp;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F52DB6C-02CC-4EA3-9A47-26A368091B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Pat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W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9607634-4276-4403-8398-442D96A20B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ducing Internal Expo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ting, Drinking, Smoking, Chew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Dipping in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Protective Clothing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ll W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ors in 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ork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7E5D36E-F4E3-49B4-8FC6-F03990143A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imination of Internal Radio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ogical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EF92DC2-8E8A-4BF3-AD1F-6D9FB552B0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tential Health Effects and Ris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8239786-EC55-467C-A150-0A53608CF6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9960" y="9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ally Occurring Radioactive 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14440" y="25714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-4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8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 1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-2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2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4F17CEC-DC5D-4509-BD1B-41999B97AB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tential 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,000 mrem (100 m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nver, CO, Background 1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No Adverse Biological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ncer Associated with &gt; 50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Leukemia, Lung, Colon &amp;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ng Lat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distinguishable from Cancers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Radiation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3E84171-9DC1-40EC-A285-AC429FF811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sorbed D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y – The SI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y = 1 Joule/Kilogra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gray = 100 r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 – The Special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rad = 100 ergs/gram or 0.01 Joule/k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ad = 0.01 gr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4B3B661-7F5B-432D-A053-7DEDBDA19C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&amp; Physical Hazards Contribute to the Sam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EEE411D-FA65-4C01-9EE8-0BE95078C3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3812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38120" y="17330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– Activity/Volume of Ai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x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c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– Curies of Radioactive Mater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n into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– (10CFR20, Appendix B, Table 1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of Radioactive Material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lmonary Region of the Lu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=Days, W=Weeks, Y=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BE94570-45F7-4717-BC6D-2DE99B0E06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Limit on Intake (ALI) –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Taken into the Body in 1 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00 h) Resulting in a CEDE (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Dose) of 5 rem (0.05 Sv) or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(Organ Dose) of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raction (fALI) – Fraction of ALI from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ntak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I = Intak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AL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5C8358A-FA51-497E-A86C-722834656D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ALI(s) for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or Class W =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 for Class Y =    30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B2E43B1-D540-4538-926A-737AC1426F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8120" y="63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8860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 Air Concentration (DAC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of Air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reathed for 2000 h at 1.2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,000 ml/min) Results in an Int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1 AL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,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B81764E-D518-4E0E-97F1-0CE4B529ED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812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Betwee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21718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= AL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(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Breathing Rate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000 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20,000 ml/min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.4 E 9 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A6995F0-C736-4E04-AB16-57A67E92D9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Fraction (fDAC) – Fraction of DA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ing from Exposure to a Specif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of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AC = Conc.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/DA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our – The fDAC Multiplied by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Exposure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fDAC)(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BAE2428-5123-4A5C-999A-375B069364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 Fraction (fDAC) for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1 E -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 of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Oxide Fo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for Co-60 (Oxide Form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E -8 µCi/ml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AC = (1 E -9 µCi/ml)/(1 E -8 µCi/ml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, fDAC = 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7123503-10C4-4EFD-8F8B-DFBCE5BF8D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-h for Sample Problem # 3 Where the Exposure Time is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0.1)(3 h), 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0.3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13D9F76-0418-490C-B6F1-DE76274C599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-h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ALI is Based on an Exposur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rem (5,000 mrem) in 2,000 hours/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,000 mrem/2000 h = 2.5 mrem/DAC-h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DAC-h = 2.5 mrem 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B74E35F-0B8D-406F-AF97-6870C72F25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 – The Special Unit of Any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= Absorbed Dose times 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em = 0.01 siev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vert (Sv) – The SI Unit of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Sv = 100 r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DC72298-3BC1-40F0-B89B-C4376600EF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Concept of ALI and DA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if a Worker Should W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spirator for a Specific Task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AB9E78A-A0D3-42B0-881F-5D28F84B16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= 24 mrem/h, Plus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Tim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espirator = 2 h, 20 min, or 2.33 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DAC-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9E70989-4934-439A-8958-49DA548219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ose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.33 h) = 56 mrem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Direct Radia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xposure from Airbor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(Respir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DC78CD2-AB04-4903-A6A0-C3D087B22B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Not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 h) = 48 mrem, Dir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 DAC-h)(2.5 mrem/DAC-h) = 5 m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irborne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= 48 mrem + 5 mrem = 53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A2ACBA6-243F-448A-930F-B14E98803A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aring a Respirator,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Will Rece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Dose Equivalent, Therefo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espirator Should be Worn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7C0972B-6CB0-471B-8816-0DE0BB1374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ing Inter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dioactivity (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CFR20.1204 Requires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Take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s of Radioactive Materi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ir in Work Areas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in the Bo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Excre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Body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s of thes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BD14B8E-1984-4543-B51D-B2A75CD3B6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Means Used at TVA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Compli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Sampling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ing DAC-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CD21EA1-0AC1-404F-89AA-4423515AF2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Dos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 Monitoring Require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0.1 ALI or 20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Ad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/= 100 mrem or 4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Pregnant Wo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6B8683D-1754-42BF-8538-AA029C85EC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assa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Initial Entry to Contamination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n Face Indicates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al Contamination De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or Suspected I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f Open W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(Evaluate Contro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8B5EC27-A057-42E7-964B-70BE4E8B66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In-Vivo 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Bioassay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use Bed, Chair, Booth, or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etectors Placed Near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umulated by Multichannel Analy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nalyzed by Comput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ed if Expos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20 DAC-h/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0018D20-80E6-4D08-9203-6E7D770CDB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ality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6292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of 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pha, Fis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ragments, et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trons (Unknown Ener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-Energy Prot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CA498B6-E1AB-40D1-90EF-0501DAED5C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4" descr="MVC-001F"/>
          <p:cNvPicPr/>
          <p:nvPr/>
        </p:nvPicPr>
        <p:blipFill>
          <a:blip r:embed="rId1"/>
          <a:stretch/>
        </p:blipFill>
        <p:spPr>
          <a:xfrm>
            <a:off x="0" y="0"/>
            <a:ext cx="7943760" cy="595944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1837081-5E3D-44F0-8A24-31E007D1D2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0" y="1455840"/>
            <a:ext cx="246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I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9"/>
          <p:cNvSpPr/>
          <p:nvPr/>
        </p:nvSpPr>
        <p:spPr>
          <a:xfrm>
            <a:off x="1676520" y="2000160"/>
            <a:ext cx="118116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285840" y="723960"/>
            <a:ext cx="30290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yroid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5886360" y="1657440"/>
            <a:ext cx="2171880" cy="116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rm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9"/>
          <p:cNvSpPr/>
          <p:nvPr/>
        </p:nvSpPr>
        <p:spPr>
          <a:xfrm flipH="1">
            <a:off x="5238720" y="2781360"/>
            <a:ext cx="95256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0"/>
          <p:cNvSpPr/>
          <p:nvPr/>
        </p:nvSpPr>
        <p:spPr>
          <a:xfrm>
            <a:off x="2990880" y="1257480"/>
            <a:ext cx="76212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1"/>
          <p:cNvSpPr/>
          <p:nvPr/>
        </p:nvSpPr>
        <p:spPr>
          <a:xfrm>
            <a:off x="2133720" y="1943280"/>
            <a:ext cx="150480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12" descr="MVC-002F"/>
          <p:cNvPicPr/>
          <p:nvPr/>
        </p:nvPicPr>
        <p:blipFill>
          <a:blip r:embed="rId1"/>
          <a:stretch/>
        </p:blipFill>
        <p:spPr>
          <a:xfrm>
            <a:off x="30240" y="0"/>
            <a:ext cx="4587840" cy="61340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781520" y="2400480"/>
            <a:ext cx="40384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oth Wh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dy Cou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6639A69-5CF2-46D6-914C-B9099CE00E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14" descr="MVC-006F"/>
          <p:cNvPicPr/>
          <p:nvPr/>
        </p:nvPicPr>
        <p:blipFill>
          <a:blip r:embed="rId1"/>
          <a:stretch/>
        </p:blipFill>
        <p:spPr>
          <a:xfrm>
            <a:off x="0" y="0"/>
            <a:ext cx="4583160" cy="61340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hannel Analyzer System Used for Whole Body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2832D56-0AD8-42FE-AEEE-C8AC9A408D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BC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Performance Ver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QA)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Traceable to 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Expected 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MQA Inter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nd Phan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Results with Know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382948F-8E1B-4746-80BA-BE0062CC17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ntaminate and Follow-up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Unt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tivity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ore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tic Count if Radioactivity Conti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B11FC71-5EAA-4FE0-B718-D4828CCEE1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 (WBC)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Sampl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DB96E76-2921-43AA-889F-E8D478386D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and Feca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s Taken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30D4A5E-53DF-4EA7-9B69-206C002F60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d by ERM&amp;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Individual’s Exposur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0B76D27-A6D8-4570-9C5E-50D385685E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red A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ul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&gt;/= 0.01 ALI or 20 DAC-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Internal &amp;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Intake &amp; C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on NRC Form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CBB4857-56A1-4C2E-ACF4-8CEC032327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erms &amp;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d Effective Dose Equivalent-(CE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a Func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ALI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&amp; DAC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Dose 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2F24DBC-283D-4682-982D-B241C6BDBF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nel Monitoring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quired by 10CFR20.15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3973A9E-F83B-4F54-8278-9CB6621A1E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DE From C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CDE), 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Weighting Factor (rem) for ea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Organ or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01A4413-B39A-4479-96E5-FC393E7C88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uclide 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f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ALI for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DB2F04D-B0FB-4C22-998B-A40B6A78F5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t)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5 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 Airborne Concentration (µCi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Time of Exposure (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AC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A877829-A3FA-4FB5-96C1-3F61232D14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Nuclide Int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amp; 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Used by HIS-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,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&amp;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PA Report No. 11), 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1FB16FD-1341-4682-9A34-D546DA5260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itted Dose Equiva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gan or Tissue Specific Committed Dose Equivalent (CDE) Must be Calculated When the 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.0 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 an Overdose has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9F35C7F-F1CF-46E1-B691-49B4EEC4F4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ederal Guidance Report No.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uidance Report No. 11 (EPA Report No. 11) Provides Conversion Factors for CDE per Unit Intake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alation (Table 2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(Table 2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/Bq * 3.7 E 6 = re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v/Bq * 3.7 E 9 = m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B38FDF2-2FA1-4402-B891-C0FC07BB7D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0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Intake for Nuclide i (µCi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ALI for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D674263-A2F4-43D3-A82C-068802B409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0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50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]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=Committed Dose Equivalent (m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Airborne Concentration of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Duration of Exposure (hou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DAC for Nuclide i 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484792B-F401-4058-B0F8-7736E6CAB3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Intake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i *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ommitted Dose Equivalent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or Tissue 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ake for Nuclide 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and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/µCi) from Federal Guid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port No.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B02F23A-EDFE-4218-87F2-FC395B035B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1,000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E = Dose Equivalent (mrem) to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take (µCi)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Fetal Dose Conver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(rem/µCi) for Moth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similation of Radionuclide i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etal Age t (Regulatory Guide 8.3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8239C1E-D816-4503-80D6-4F3D66CEAB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6:16:16Z</dcterms:created>
  <dc:creator>Ralph G. Wallace`</dc:creator>
  <dc:description/>
  <dc:language>en-US</dc:language>
  <cp:lastModifiedBy>Peggy Hines IRSC</cp:lastModifiedBy>
  <dcterms:modified xsi:type="dcterms:W3CDTF">2013-02-18T19:25:41Z</dcterms:modified>
  <cp:revision>28</cp:revision>
  <dc:subject/>
  <dc:title>Personnel Monitoring</dc:title>
</cp:coreProperties>
</file>