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D877-476B-43F0-B5E8-89E30203A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87BD-39CA-4D84-8D63-12B14D44E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C06E-8C59-42C9-9D12-83086E4FE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4194-C6BC-4CD9-AB53-E27A61DCF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B7A1-986B-42E6-A329-2C5AEFB8C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2EED-F32F-453F-BB61-38CEFC075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9464-999F-49E0-B50D-8783A726A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9D96-8147-4A25-B581-ED0537344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71C3-6D1E-42C4-A979-A3846E386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1B15-60A9-41B5-A19D-CB120BC06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D9D0-4F62-47ED-9268-7F16FBDEF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256E-B845-4497-9297-4C99AAE36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229B-84C8-4938-91D4-6B946D25E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0162-1642-435E-9B33-D5DE6E0F9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A70E-C188-448C-8948-2511FB0E0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7CD3-9B7D-46ED-9CD0-A0E63D232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5B5F-2D92-4B31-A6A2-60CCDE5C5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Typ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ra Violet Programmable Read Only Memory (UVP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Erasable Programmable Read Only Memory (EPR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 permanent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security needed to prevent unauthorize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Typ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ly Erasable Programmable Read Only Memory (EEP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p can be programmed and er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sed by sending proper signal to erase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primarily as nonvolatile backup for user program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ed in K values (example: 16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system used in P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s are 1s and 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s may use 8-bit or 16-bit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memory size depends on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to enter, modify, and troubleshoot the PLC program, or to check the condition of th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-held: see Figures 3-9 and 3-11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: see Figure 3-10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splay, documentation, and storag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arding Against Electrostatic Discharge (ES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of static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cause of failure of memory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a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nstatic floor cove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hips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the work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a wrist st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general class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PLC memory structu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individual manufacturer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r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status of the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steps in the user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ondition of the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 stored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types: volatile and nonvola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function of th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typical program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two distinct types of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function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tchdog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various memory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microprocessor, chips,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and communication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separate from microprocesso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62120" y="1646280"/>
            <a:ext cx="7781760" cy="4228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2988360" y="5992920"/>
            <a:ext cx="33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-1 Basic PLC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o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processor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s status of in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s logic of us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state of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s with other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emory and updates timers, counters,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952360" y="5656320"/>
            <a:ext cx="323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-3 Typical processor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38280" y="1752480"/>
            <a:ext cx="78674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o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dog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 time limit for each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s processor into fault condition if timer exc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user program containing relay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status, accumulated valu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o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atil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es information when power i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volatil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ns stored information when power i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Access Memory (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type of volatil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called read/writ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Only Memory (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information cannot be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ble Read Only Memory (P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written to onc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5:27Z</dcterms:modified>
  <cp:revision>60</cp:revision>
  <dc:subject/>
  <dc:title>Chapter Thr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