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3C49-692D-43B1-88C6-AE475E4A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A01C-72AD-41F0-B329-21F448AF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A4DB-E028-4A3C-93CA-5089750A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738E-EDDE-41BD-8F9B-2F6D469BB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C51F-B1BC-4510-A7A8-D0B1AE86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0331-61A9-4AC2-B32E-F48A81E2D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B753-ED00-4D0F-AF6D-8D6DF4811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207-09B1-4637-B8E3-BE9582B9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A919-DD8B-40AE-AD56-F7D5F3DA4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AF57-29CE-4434-AE69-C989F2559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53C-F212-4424-BC6F-A0668A198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1446-5A9A-4079-87F4-A70EED9C5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DB34-F9E7-4474-986A-EF923350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A3E5-FC52-416C-94F8-FF7235162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0E22-B8B3-4467-8D60-1EB2ED8E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B892-803F-42E1-8CDE-58BCBF41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7DA1-C431-4BF9-B60D-3CBE8B5C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FDE1-7321-4365-8F4F-53B8242F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AFF9-EF86-4DCE-BCF2-9F1F2CF5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F07B-D4F4-4E45-A244-F55C584F6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8E51-5724-431E-B756-DE626A038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E29-DD18-494B-8B82-6C8642B3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El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and accumulate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t time can be programmed with any value from 0 to 32,7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62888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581560" y="5257800"/>
            <a:ext cx="37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5 Allen-Bradley tim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bit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whenever there is a logic path to the timer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bit (D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when timing is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4: default data table file for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C-5, SLC 500, and MicroLogix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7200" y="2819520"/>
            <a:ext cx="7848360" cy="1854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3017160" y="4916520"/>
            <a:ext cx="32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6 Timer stora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ve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the timer START and STOP without resetting the accumulated value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67640" cy="3803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1141920" y="5713560"/>
            <a:ext cx="70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2 Programmed retentive timer (RTO) and timing chart (contin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51000" y="1600200"/>
            <a:ext cx="6578640" cy="4307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1404000" y="6040440"/>
            <a:ext cx="68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2 Programmed retentive timer (RTO) and timing chart (cont’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Logix5000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ase: always one milli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and accumulate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t time can be programmed with any value from 0 to 2,147,483,647 (D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dditional timer instructions with reset function: TONR, TOFR and R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/>
          <p:cNvSpPr/>
          <p:nvPr/>
        </p:nvSpPr>
        <p:spPr>
          <a:xfrm>
            <a:off x="2897640" y="617688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6 Finished TON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325520" y="1235160"/>
            <a:ext cx="65232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cading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wo or more timer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xtend the timing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eumatic time delay rela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de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F de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 betwee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delay ti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entive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extend the time range of timer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sc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/>
          <p:cNvSpPr/>
          <p:nvPr/>
        </p:nvSpPr>
        <p:spPr>
          <a:xfrm>
            <a:off x="3203280" y="620568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7 Cascading Ti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9868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t and accumulated times stored and compared on each processor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ccumulated value equals preset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can be turned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 can be programmed for ON delay or OFF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s retentive t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Gene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neumatic tim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igures 11-1, 11-2, and 11-3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la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contact operation begins after timer coil is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imer turned OFF, contacts go back to norm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1501920"/>
            <a:ext cx="4752720" cy="178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857240" y="4068720"/>
            <a:ext cx="5305680" cy="1581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48840" y="329076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5 ON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04120" y="5867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6 ON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 dela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contact operation begins after power is removed from relay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imer is turned ON, contacts go back to norm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049560" y="329076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8 OFF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008160" y="589284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9 OFF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98800" y="1477800"/>
            <a:ext cx="4635360" cy="180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1843200" y="4419720"/>
            <a:ext cx="5352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aneous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when coil is energized or deenergized independent of timing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295280" y="4537080"/>
            <a:ext cx="6865920" cy="1295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453400" y="586728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2 Instantaneous contact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49360" y="1440000"/>
            <a:ext cx="309060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03360" y="3352680"/>
            <a:ext cx="3154320" cy="150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5551560" y="1440000"/>
            <a:ext cx="318276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5546880" y="3365640"/>
            <a:ext cx="3192480" cy="153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2971800" y="4919760"/>
            <a:ext cx="2895480" cy="1425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74400" y="2971800"/>
            <a:ext cx="344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a ON delay timer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338080" y="297180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b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38200" y="4911840"/>
            <a:ext cx="257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c Thre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6037200" y="4919760"/>
            <a:ext cx="269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d Fiv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674440" y="6323040"/>
            <a:ext cx="36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e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201600" y="2971800"/>
            <a:ext cx="35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a OFF delay timer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319000" y="297180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b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38040" y="4910040"/>
            <a:ext cx="27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c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111720" y="4832280"/>
            <a:ext cx="269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d Thre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2660040" y="625788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e Fiv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38040" y="1425600"/>
            <a:ext cx="3159360" cy="154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21200" y="1371600"/>
            <a:ext cx="294480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38040" y="3382920"/>
            <a:ext cx="3159360" cy="14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5800680" y="3382920"/>
            <a:ext cx="3008520" cy="139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3265560" y="4919760"/>
            <a:ext cx="262872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29Z</dcterms:modified>
  <cp:revision>79</cp:revision>
  <dc:subject/>
  <dc:title>Chapter Ele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