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1E28-3632-412F-BEB2-9B0205719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5AF3-4F45-48D7-A1B7-55F5D0664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E8E3-84FE-4ED5-A7D7-0067E142E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9DA7-37E5-4387-8017-18D58334A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6576-9E75-4BAB-AEBD-51ED8CC09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446A-44DB-48C0-9B56-7BEC8DE28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1FAD-1FAB-48AB-8366-A4955D412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78EF-B452-4A4F-8B22-E8A526CEA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173B-9E06-4749-82B9-90BF77D7D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BA3E-6993-4E45-856F-6EC5F2A96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BCD7-9561-4AA7-9F47-50EEB1094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A26A-7AAF-4666-81D6-7EEB66680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3CBF-A8F8-4954-8E48-687C0B6A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5E1A-97E0-4A02-A4A9-5126B8194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410D-A95C-4034-AD16-084BD3643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C4AA-147F-4477-A3A2-0CC4A44C8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wel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3071160" y="602604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5 Programmed CTD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19320" y="1655640"/>
            <a:ext cx="70308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3112200" y="603252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6 CTD counting c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893960" y="1523880"/>
            <a:ext cx="54576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ing Timers and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and down counters can be programmed together to count products as they enter and leave a convey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Figures 12-8a and 12-8b in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timers and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extend time of timer beyond normal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2459520" y="6172200"/>
            <a:ext cx="378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8b Up and down counter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990720" y="1190520"/>
            <a:ext cx="698652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Logix5000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U or C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UD: up and down in one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 structure used to address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ve preset or accumulated values up to 2,147,483,6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d counters give added flexibility and control to process equipment or mach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s store values in binary format for the preset and accumulated cou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up and down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r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, PLC-5,SLC 500, and MicroLogix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counters (C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 counters (CT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s are retentive until reset by res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371600" y="2075040"/>
            <a:ext cx="6753240" cy="3267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2509560" y="5621400"/>
            <a:ext cx="447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1 Allen-Bradley PLC-5 count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counter block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er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mulated count value from 0 to 32,7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60440" y="2590920"/>
            <a:ext cx="8205840" cy="2170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692080" y="4867200"/>
            <a:ext cx="374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2 Storage format for cou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bits for up and down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Up Enable (C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Down Enable (C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Done (D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Up Overflow (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Down Underflow (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219320" y="1459080"/>
            <a:ext cx="6953040" cy="4570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2965680" y="6049800"/>
            <a:ext cx="34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3 Programmed up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3066120" y="602604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4 CTU counting c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225440" y="1631880"/>
            <a:ext cx="69408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1:07Z</dcterms:modified>
  <cp:revision>75</cp:revision>
  <dc:subject/>
  <dc:title>Chapter Twel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