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3CC-AF61-4CDB-9733-74926906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D45E-8883-4782-B1AB-03D02E45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002-679C-4BA6-82C0-43F22B36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BE3-E9D0-490E-B2D5-98A3B830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8D2-8F32-414A-B3F9-7F07193A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204-364B-48EF-81EE-1E2FE68E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B75-EE67-41D7-92AA-9F13EBAD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776D-4842-4C6D-B7DE-68AF7C2E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313-DCFE-4882-841D-DF637016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7A44-5F27-4646-A7C9-4D4DB6F7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8FC9-705A-466A-9B03-D6A3BF1F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568-B1E0-4601-958E-2D6A0E9F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290-8B50-4FDA-9AC1-4640858F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C5B-7780-444E-9E1B-CB353BD8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A18A-28B9-4503-863C-FDC50989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47840" y="1447920"/>
            <a:ext cx="481032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47840" y="4211640"/>
            <a:ext cx="4829400" cy="2036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568960" y="61419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3 Example of the XPY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928520" y="3602160"/>
            <a:ext cx="54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2 Example of the Square root (SQ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dimension of side C for the right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73320" y="3505320"/>
            <a:ext cx="3225960" cy="2111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362320" y="57294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4 Solving the hypotenuse of a right triangle using the Pythagorean the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21120" y="1298520"/>
            <a:ext cx="3108240" cy="493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78040" y="6237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a Combining math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2666880" y="52578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b Using the CPT instruction to solve the hypotenuse of a right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1000" y="2743200"/>
            <a:ext cx="6114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subtract, multiply, and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and format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can be combined with data manipulation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standard math functions available with most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math functions and give examples of how they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square 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constants or sto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Math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510516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11040" y="60022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 Divide (DIV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95280" y="2411280"/>
            <a:ext cx="6915240" cy="2371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33800" y="4800600"/>
            <a:ext cx="68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2 Data compare instruction LES to control amount of chemical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 may be used with timer or count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002200" cy="23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86800" y="5954760"/>
            <a:ext cx="68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3 Divide (DIV) instruction used to enter a preset value in a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29440" cy="24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83680" y="502128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5 Arithmetic statu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(CPT) outpu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defined operations and writes result to destin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6320" y="579132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0 Programmed PLC-5 Compute (CPT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209680" y="4146480"/>
            <a:ext cx="45529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instruction (CL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s the value in a word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197800" y="577692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1 Example of the Clear (CL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95640" y="3733920"/>
            <a:ext cx="45720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16:42Z</dcterms:modified>
  <cp:revision>77</cp:revision>
  <dc:subject/>
  <dc:title>Chapter Fou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