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D5D4-8968-4EE8-A2C1-46BA6F939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39C1-4A93-4889-BF11-75D189AB7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hir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500440" cy="4298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1886760" y="5985000"/>
            <a:ext cx="593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3 MOV instruction used to change timer prese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163600" y="4724280"/>
            <a:ext cx="48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5 Masked move (MVM) instruction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81320" y="2314440"/>
            <a:ext cx="45813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392200" y="56386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6 Mask bits used to block transfer of data from source address into destinatio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62120" y="1822320"/>
            <a:ext cx="77342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mp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data stored in two or mor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or equal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han or equal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qual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, SLC 500, and MicroLogix Data Compare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84320" y="3505320"/>
            <a:ext cx="5210280" cy="2133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1984320" y="56800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7 Allen-Bradley PLC-5 Equal to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410360" cy="168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2400480" y="4114800"/>
            <a:ext cx="4448160" cy="1638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2097000" y="5837400"/>
            <a:ext cx="55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9 Allen-Bradley PLC-5 Greater than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523880" y="336240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8 Allen-Bradley PLC-5 Greater than or equal to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or an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lower limit of the test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can be integer or floa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909880" y="4267080"/>
            <a:ext cx="3343320" cy="1552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2278080" y="59896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21 PLC-5 Limit test instruction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containing value to be exa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ether it is inside or outside the specifie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or an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upper limit of the test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can be integer or floa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455920" y="4038480"/>
            <a:ext cx="3933720" cy="20289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2514600" y="6159600"/>
            <a:ext cx="38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22 PLC-5 Limit test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data from one word location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value in one word with another word or a consta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and instructions vary with PLC manufact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at data transf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ing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rung of logic that transfers data from one word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standard data compa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logic that compares data to control an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numeric information from one memory word location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in user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ab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ing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register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over data replac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4920" y="2263680"/>
            <a:ext cx="8521560" cy="2500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1760400" y="4952880"/>
            <a:ext cx="56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1a Numeric data stored in words 0 and 1 of file N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329840" y="4800600"/>
            <a:ext cx="67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1b Data transferred from word 0 of file N7 into word 1 of file N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79250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, SLC 500, and MicroLogix Data Transfer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3276360"/>
            <a:ext cx="8229600" cy="35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instruction (M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moving data from one word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g that holds MOV instruction must be true for move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476360" y="2262240"/>
            <a:ext cx="6191280" cy="2333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3073320" y="4800600"/>
            <a:ext cx="29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2 PLC-5 MOV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ransfer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Figure 13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produces product A and product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A requires time delay of 10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B requires 20 second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ked move instruction (MV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s of the data can be blocked from being cop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0:43Z</dcterms:modified>
  <cp:revision>73</cp:revision>
  <dc:subject/>
  <dc:title>Chapter Thirte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