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A3A0-D63B-448B-99AC-A8FB2C51B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3DAA-50BF-43FD-B261-408F914F9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6AE7-0E8C-4DF8-B3E0-6373B4ACD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1576-D309-4615-958B-BA0A156EF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61AC-361A-4F66-A82B-FEF98D4AD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42D1-5FAA-482F-8FF2-0918BDB61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CD59-9038-46B3-B4C2-B96B10F66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81DB-C9B1-44CD-8246-F4BA6AC4A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59AA-D10E-4875-B486-3CD3EF30B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F0F7-9B72-42B6-8612-E9EC4F8BC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8DD8-0470-4B5B-8D8E-5636D6137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32B8-5D70-4F10-9410-A14678AA0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grammable Logic Controller (PL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I/O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 or OFF, open or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limit switches and push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range of possibl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temperature and pressure 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s are used to control process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ble for fast, easy changes in RELAY LAD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s are designed to be used by techn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several advantages of a programmable logic controller (PLC) over hard-wired rela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four major components of a typical programmable logic controller and describe the function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different types of programm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able Logic Contro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-state system for control and operation of manufacturing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s relays, switches,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hard wiring allows frequent changes to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RELAY LAD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level, graphic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be operated by plant engineers and maintenance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operate in an industri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s in temperature, vibration, 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ually affected by electrical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351760" cy="48992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088720" y="6194520"/>
            <a:ext cx="534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-1 Comparison of a Computer System and a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processor “br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120 or 240 AC volts to low voltage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separat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19000" y="1828800"/>
            <a:ext cx="77076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935360" y="5486400"/>
            <a:ext cx="47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-5 Block diagram of a typical power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 Component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/Outpu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, switches,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 coils, solenoid valves,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nter desired program into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is most common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6:16Z</dcterms:modified>
  <cp:revision>44</cp:revision>
  <dc:subject/>
  <dc:title>Chapter 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