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BF59-DDF6-43B7-8ABB-77CFEAD48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7F46-A00B-43F3-A461-8008FC07A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E9A8-C3D7-48E5-BB44-A2E6A01A4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773E-E10A-4BE0-B779-263C66C07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2BC9-A037-4493-B9C6-253C2E0C5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4C88-C180-44CB-B24B-42D9D14F4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48AC-698D-44D3-98A7-3B04DE6B9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82CC-51D7-4B55-8D32-44B410B76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B2A2-CD79-4B16-A0D0-C39B2B82F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D077-F868-4C6B-AA2A-177461E66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4333-6349-4FC1-BD3D-E385C17DA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1B84-ED73-40FF-BC29-44EFF3F7C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B814-8434-43B7-9330-A7A783393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F601-0446-4168-BCA3-06DEB6E5C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E1AA-A76E-4C2D-B4A7-6C7AF37E5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287F-8A79-4B8B-A1D2-FCB4521D8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69DD-832B-4C0D-9BF0-8623AA8A5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88D1-478A-4B0E-BB30-7E5CC184E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B19D-3805-4F5D-ADBB-891587F2B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6AD7-BC65-403A-9331-A123B240B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9691-CBFB-48CD-A019-14B57DF2C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E64A-CF4E-43DE-9C35-3CFE3C077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A65F-360A-41E0-BF27-58FA1912D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Contro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ching Relay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hard-wired latching re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hen contacts must remain open or cl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coil is energized only a shor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coils used: latch and u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cal linkage holds relay in closed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7705800" cy="3276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2760480" y="5683320"/>
            <a:ext cx="35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4 Mechanical latching r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ching Relay Instru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can replace mechanical latching re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logic of an actual latching r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d instructions are retentive during a power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of latch instruction retained 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2465280" y="5029200"/>
            <a:ext cx="46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5 Programmed latch and unlatch ru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243080" y="2128680"/>
            <a:ext cx="665784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fety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619520" cy="401184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3376080" y="6097680"/>
            <a:ext cx="24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6 Safety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mp and Label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for skipping over portions of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sca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s processor to jump over a portion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instruction tells where to jum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1638720" y="6084720"/>
            <a:ext cx="656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7 Programming the Jump (JMP) and Label (LBL) 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362320" y="1549440"/>
            <a:ext cx="48718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mp to Subroutine, Subroutine, and Return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66652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organiz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of programming logic that can be re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 differ widely among PLC 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orary End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s processor to stop scanning at a certai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5376600" cy="443520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1609560" y="6084720"/>
            <a:ext cx="61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9 Allen-Bradley PLC – Temporary End Instruction (T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using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tching r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ten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using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ster control r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importance of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fety circ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ways False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hen 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g will always be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2644200" y="5730840"/>
            <a:ext cx="40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10 Always False Instruction (AF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967040" y="3897360"/>
            <a:ext cx="5438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-Shot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rung true for just one program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013560" y="5529240"/>
            <a:ext cx="324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11 One-Shot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593720" y="3657600"/>
            <a:ext cx="623916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ching and master control instructions can be programmed to act like real-world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circuit should be added when personnel are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PLC instructions can be used to perform different program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using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ump and labe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 reason for using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mporary end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ter Control Relay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438280"/>
            <a:ext cx="82296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used to control pow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tire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to selected ru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 (or selected rungs) can be deenergized by turning off master control r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828800" y="1636560"/>
            <a:ext cx="5691240" cy="432288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2622600" y="60260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1 Hard-wired master control r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ter Control Relay Instru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Rs often used with circuits with off-delay ti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 can be shut down without waiting for timers to time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 Control Re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e name for Master Control Re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 output to zero or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 SLC 500 and MicroLogix MCR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590920"/>
            <a:ext cx="82296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 to Figure 10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MCR instruction is tr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s in rungs that follow are controlled by logic programmed for each 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MCR instruction is fal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gs below the MCR are false and cannot energ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: latching relay instruction will remain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2612880" y="6026040"/>
            <a:ext cx="39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2 Allen-Bradley MCR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317680" y="1981080"/>
            <a:ext cx="458460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1693080" y="5877000"/>
            <a:ext cx="593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3 Two MCR instructions used to create a control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74812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1:57Z</dcterms:modified>
  <cp:revision>77</cp:revision>
  <dc:subject/>
  <dc:title>Chapter T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