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205-377C-4102-9098-988EF62B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2CD-08A3-48EB-B0A7-3724C2B6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2ED9-FB3B-4EF8-8132-BC184935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83E0-047E-4C19-9AEF-96C32AD8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72B-50B1-49E5-9784-4A6E4D53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C421-7368-427F-B90F-65FC49A5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B00-9ABA-48E8-B906-DDCB9CB7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CDC-33C8-472A-AA8B-78E349FE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9FF2-8DE1-4E0D-9A2F-E5BEF63C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8D9-9C64-413F-AB85-39603398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7FF-3688-4719-ACCA-73178B80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D30-C342-47CF-B78C-3702AC5F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D690-C42C-406F-BC1C-85DCDBDA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64A-4AF3-4430-B5F5-5C30D61A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FDD-7019-487D-B056-9A8C623D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011-93A3-4037-95B8-A17C1DDA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020D-7AA0-495A-BF90-AE446187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FDE-A01D-46B9-923F-52821FDD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943-1EE3-4C9E-824B-D42F0B9A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532E-4B03-40DC-A704-0173FE19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D02-7D1E-417D-B3A8-D8D0BFDD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A572-989F-4C45-93FC-683ABFA9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218-E6CA-45D9-A766-5639B879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B8AA-266A-4D09-9582-53AC522F8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5AC-E751-4E8B-8B9E-060131CF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2E2-840A-4028-8A8A-A5C9019D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1AD-8F76-4952-819B-F7964AC7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971-5145-4877-914F-FBA9C3F7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(I/O)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ccept digital or ON/OF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status of real-world input device to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a wide range of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multiple input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652040" y="5819760"/>
            <a:ext cx="58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7 Simplified AC input module circuit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6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273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653480" y="5978520"/>
            <a:ext cx="62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3 Simplified circuit for DC input module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28840" y="2990880"/>
            <a:ext cx="6724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-responding DC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high-speed or high volu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coders, proximity switches to count product from high-spe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filtering circuit less than 1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urrent flow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AC or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d by number of devices that can b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62840" cy="281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2446560" y="58197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5 Typical AC output modu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rotection for overcurrent, shorts, or ground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at output point has been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ches prevent wrong type of module from being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AC output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ower transistor to control output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provides current, it is 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receives current, it is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echanical relay used to open or close a set of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s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trol loads larger than the current rating of an individual output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 relay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dry reed relays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ransistor logic I/O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other solid-stat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/O section of a programmabl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P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basic AC and DC input and output module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cal iso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scribe why i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vert analog signals 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by the PL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binary into analo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use: controlling variable speed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57400" y="1530360"/>
            <a:ext cx="5264280" cy="4465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126600" y="617868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9 Analog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emergency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power to the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the PLC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by NEMA standard when operator is exposed to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top relay (ESR)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afe system re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k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for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Noise (Surge Suppr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7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when inductive loads are operated by har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ransient voltages when inductive device switch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to reduce or eliminat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liminate effects of electromagnetic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grounding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metal frame of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hi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ed cable reduces effect of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only be grounded at on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be terminated at the I/O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rack houses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connect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or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or 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nvironmental conditions when installing PL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roper wiring connections for input and output devices and their correspond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a hard-wired emergency-stop function is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I/O shielding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vironmental concerns when installing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voltage or current signal into a logic-level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modules provide ON/OFF status of buttons, switches to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sent to output device based on progra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nit containing processor, I/O section, and 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expansion units with various I/O configu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more capability or different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704960" y="571176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 SLC 500 fixed I/O chassis with optional two-slot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2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than fixed I/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d in a rack or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modules mounted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s mounted remotely from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ers or switches used to configure 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 switches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nnections must have a distinc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mmunicat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52Z</dcterms:modified>
  <cp:revision>64</cp:revision>
  <dc:subject/>
  <dc:title>Chapte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