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D191-4094-4117-B9E9-06C93A4F0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1BA0-A46D-498C-967F-1A507CF49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FDA8-0F94-4086-878C-4EC8363EF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0616-EFF6-4CEF-9BAA-CD48F9B19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E259-8734-410E-B2C6-A8C652206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70FF-EB11-488D-8CF0-12B097F42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497D-793D-4164-8640-BDB071339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A21C-47C9-4EE3-9D6F-B988A3C9A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9C78-84AB-4C07-AD0D-25903115A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6C98-39A5-4C1D-B77F-E67176470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A497-EC2F-4DF5-BDDF-9C6E29209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922B-831C-4DD6-ACF5-007F47DFA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9E6C-5537-4845-86DD-B4D952CC9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91E4-66E8-4D0D-9900-280581C9E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7414-2382-4C12-A9A1-2722D6D98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D416-F4D3-4DD4-B292-742A2F45E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54C9-D756-4BAF-A3A0-54D2D5662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8E36-D620-43D7-846B-AA9842933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3767-1EA6-481F-BD90-ADB19074E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F340-0BD0-435D-9A7A-410C67A76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12E2-D7CA-4934-94DC-8169A6B6A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907B-9B8A-47F3-B99F-ADB87EB39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92D8-B518-4159-8B33-F10431666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N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Restri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2244600" y="5896080"/>
            <a:ext cx="49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9 Equivalent circuit without vertical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654200" y="2692440"/>
            <a:ext cx="60944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Restri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of power is from left to right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vertically up or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5224320" cy="243828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3217320" y="6095880"/>
            <a:ext cx="285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0 Hard-wired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978200" y="1414440"/>
            <a:ext cx="4578120" cy="209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1843200" y="3890880"/>
            <a:ext cx="4846680" cy="2367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2340000" y="6237360"/>
            <a:ext cx="395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1b Circuit properly program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2124720" y="3551400"/>
            <a:ext cx="417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1a Circuit improperly program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Restri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LCs do not allow nesting of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3210480" y="6265800"/>
            <a:ext cx="28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2a Nested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384200" y="3711600"/>
            <a:ext cx="68961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Restri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2015640" y="5942160"/>
            <a:ext cx="51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2b Programmed to eliminate nested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717560" y="2933640"/>
            <a:ext cx="5461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 Sc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 scan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to right, top to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955800" y="3598920"/>
            <a:ext cx="3341520" cy="2395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1144440" y="6056280"/>
            <a:ext cx="321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6 One scan turns on 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5334120" y="3592440"/>
            <a:ext cx="3292200" cy="24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5389560" y="605628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7 Three scans required to turn on 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STOP But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ing STOP buttons in N.O.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during the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haz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TOP buttons must be wi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switch failure or broken wire will break continuity and turn circuit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Holding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programming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address used to address holding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s need to wiring holding contacts on motor st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Holding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output address used for holding contacts (logic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maintained logically because output point turn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uarantee actual motor starter has been energ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Holding Cont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 holding contacts of motor starter to input modul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at address when programming holding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know starter is actually energ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ummy 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horizontal and vertical contact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ly wire and program STO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load Cont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wire overload contacts to input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 in series with starter c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overload that opens the overload conta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opens starter coil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447920" y="1795320"/>
            <a:ext cx="6748200" cy="4133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1620720" y="5935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9 Overload contacts wired in series with the starter co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LC has maximum network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s number of horizontal and vertical contacts per 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size limits the number of r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reads logic from left to right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vertically either up or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LCs do not allow nested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difference between logical and discrete holding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of connected logic elements that perform a specific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LCs have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logic symbols included on the horizont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parallel lines in a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outputs per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224680" cy="3994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3354120" y="589752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2 Network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Limita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f user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s number of networks or r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ircuit requires more contacts than network a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s split into two r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ung programmed to dummy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of dummy relay is address of first N.O. contact on second 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239200" y="6066000"/>
            <a:ext cx="539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4 Parallel contacts split into two rungs (networ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743200" y="1541520"/>
            <a:ext cx="4029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534600" y="2611440"/>
            <a:ext cx="308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5 Parallel outpu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774960" y="1655640"/>
            <a:ext cx="4359240" cy="221004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813600" y="488484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6 Multiple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3809880" y="4087800"/>
            <a:ext cx="42753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Restri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 does not allow programming vertical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006640" y="3581280"/>
            <a:ext cx="5454720" cy="2133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3407400" y="589608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7 Vertical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2:47Z</dcterms:modified>
  <cp:revision>78</cp:revision>
  <dc:subject/>
  <dc:title>Chapter N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