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627D-BC7C-4D01-A774-98AF4590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13F7-5D7D-4715-A9DC-229AB88F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1A15-91FD-45BC-B008-8196E3A49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00B2-3241-41E9-951A-10F2EBB46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DC06-E746-4B36-9585-F06B56930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F757-F1B8-41B5-9204-274CD1DA5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993-C3D9-4543-B0E8-C57121329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FFF4-D681-492A-88E0-F0329F646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08EF-7082-4FF3-AD91-1B7FA9DB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7BDC-774A-42DC-8EAA-76E52D50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F4C4-DC8C-4984-A096-0E0E3DD7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B997-B5B1-4D15-9AEA-7FB7EB64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C85A-459A-4713-A062-72E9A8C67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BEA2-DDEC-42C1-B277-28DAA311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AA3A-3246-43E5-99A1-B554A4A5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D7E7-ACB6-4DEE-B488-6854C54C3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1C0D-1F17-4636-A60D-BBFFBFA3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244B-AF4C-4695-ADBE-89F6EFF6D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426A-7CF9-4503-9A3E-AE7B0B18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1227-0E15-4454-8925-4790F51BF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8376-1CD3-4032-B63E-2BFB9C99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E420-7B2E-471A-B7DC-2B8804164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C85F-9BE2-41A5-9F8D-83CA93C5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8EF2-34F7-4C4B-8A74-DCA38878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A57A-D4BE-4BB3-8074-FD2994A1A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5927-ED88-498A-81D3-616D4CDF9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 Typ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81920" y="370512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a Standard STOP/START lad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54280" y="1870200"/>
            <a:ext cx="5634000" cy="1834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1510560" y="6089760"/>
            <a:ext cx="63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b Equivalent STOP/START circuit programmed with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222640" y="4151160"/>
            <a:ext cx="4844880" cy="1949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3825360" y="5943600"/>
            <a:ext cx="51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c Input devices connected to an in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406872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button and O.L. contact wired in normally clo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rogrammed as normally open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2109960"/>
            <a:ext cx="41785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057400" y="556272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8a Bit status for input image word 010 and output image word 012 with the processor in RUN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91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6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TART button is depre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01 set to 1 (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864120" cy="2421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905120" y="6019920"/>
            <a:ext cx="57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b Bit status for input image word 010 and output image word 012 while START button is being de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is then 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held energized by holding contacts O:012/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ing contacts do not actually exist as hard-wired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intain logic path for the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85800" y="2494080"/>
            <a:ext cx="7858080" cy="2830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447920" y="5638680"/>
            <a:ext cx="682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c Bit status for input image word 010 and output image word 012 after output O:010/01 is energized and the START button is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905120" y="563868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d Bit status for input image word 010 and output image word 012 with the STOP button de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107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981080" y="563868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e Bit status for input image word 010 and output image word 012 with the STOP button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14320" y="2500200"/>
            <a:ext cx="7819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y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way to look at N.O. and N.C. symbols used for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ages 140-142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14600" y="602604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5 Double-Circuit Pressure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908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 OF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d understand the logic for a standa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P/STA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ower applied to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1 will sta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N.C. contacts of PS-1 in ru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2 cannot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N.O. contacts of PS-1 in ru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circuit can be programmed on a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ngle-circuit pressure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452600" y="1828800"/>
            <a:ext cx="6238800" cy="4000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14600" y="58309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6a Double-circuit pressure switch circuit programmed for a typical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2057400" y="58482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6b Actual wiring of a single-pole pressure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057400" y="1816200"/>
            <a:ext cx="5214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cessor placed in RUN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.O. contacts examined for ON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s 01, 02, 03 of input word 010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cessor EXAMINES OFF the N.C. contact I:010/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 that bit 01 is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1 is ON and motor 2 is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essure switch actu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C. contacts are open, N.O. contacts become false, turning motor 1 o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C. contacts become true, turning motor 2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N instruction is logically true when ON condition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FF instruction is logically true when OFF condition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 analog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thod of understanding programmin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programmed using ladder logic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O. contact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telling processor to look for ON condition at symbol’s correspond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 condition exists, instruction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05120" y="1673280"/>
            <a:ext cx="5322600" cy="1728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352320" y="348156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2 Simple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244600" y="591012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3 Equivalent circuit programmed with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4147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29560" cy="3651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165760" y="5479920"/>
            <a:ext cx="52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4 Input and output devices wired to I/O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27920" cy="194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7027920" cy="1919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972440" y="3559320"/>
            <a:ext cx="49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5a Bit status for I/O word 1 with switch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974960" y="6081840"/>
            <a:ext cx="53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5b Bit status for I/O word 1 after switch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e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N instruction looking for an ON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: bit set to 1, or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FF: bit set to 0,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e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FF instruction looking for an OFF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FF: bit set to 1, or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: bit set to 0,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790280" y="5135400"/>
            <a:ext cx="57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1 Examine if Closed (XIC) and Examine if Open (E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85800" y="2219400"/>
            <a:ext cx="79596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3:40Z</dcterms:modified>
  <cp:revision>7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