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F52-3BE9-4437-AB42-575B4283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E44-E10C-4939-B07E-F5725F90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7047-6B05-4E30-8463-F908F4F5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BC8D-EEF0-46E1-9EE4-6155527A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EC0-FA23-40FC-A749-1758EF43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222-DCD2-4566-B7DA-0222B673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422C-283A-40F6-A91B-115DAC50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C6E-5679-4C48-8C69-06608A0B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DAA7-2180-43DB-AC6A-D266E5A05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053-0475-49CD-A2C9-CC38B0ED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5B6-73B7-4A08-9048-F16CF9A7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F39-25C8-4130-BBE7-B581172D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746-BF60-4777-84D7-902DB7305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603-0341-4CAA-9F7E-CB3876C0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B25C-1024-472D-BFFF-32E68B85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-Bradley PLC-5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d with a PC and PLC-5 specif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0: out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1: in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2: statu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3: bi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tim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5: count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6: contro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7: integ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who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0640" y="1447920"/>
            <a:ext cx="5391360" cy="4479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980800" y="60498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6 PLC-5 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files (u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controller information, programs, and 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(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various types of data for use with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LC data is stored in binary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apid scanning and executing the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ord and bit associated with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hardwar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names vary by PLC manufacturer, but work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broad categories of memory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ypes of information stored in each category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acrony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ignals have only two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r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or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: binary 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words can be 32, 16, or 8 bit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71560" y="2890800"/>
            <a:ext cx="7400880" cy="107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490200" y="434340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 16-bi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: group of 8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: memory storag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scheme also identifies hardwar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k, module, term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588320" y="6072120"/>
            <a:ext cx="603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2 Relationship of bit address to input and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49360" y="1465200"/>
            <a:ext cx="6315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681640" y="480060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4 Limit switch address I:013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4280" y="2409840"/>
            <a:ext cx="6715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Address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I used for in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O used for out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4948200" cy="244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1397880" y="6256440"/>
            <a:ext cx="64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7 Allen-Bradley SLC 500 and MicroLogix addressing sc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storage memory called data table or regist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stored in a variety of numbe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 store temporary data needed by the 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57Z</dcterms:modified>
  <cp:revision>60</cp:revision>
  <dc:subject/>
  <dc:title>Chapter F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