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13D9AB6-B933-47CE-AF96-2E97A73AD5D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99DF205-D688-43DC-84BA-789EAD4858E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53" name="PlaceHolder 1"/>
          <p:cNvSpPr>
            <a:spLocks noGrp="1"/>
          </p:cNvSpPr>
          <p:nvPr>
            <p:ph type="sldImg"/>
          </p:nvPr>
        </p:nvSpPr>
        <p:spPr>
          <a:xfrm>
            <a:off x="1714680" y="0"/>
            <a:ext cx="3854160" cy="2968560"/>
          </a:xfrm>
          <a:prstGeom prst="rect">
            <a:avLst/>
          </a:prstGeom>
          <a:ln w="0">
            <a:noFill/>
          </a:ln>
        </p:spPr>
      </p:sp>
      <p:sp>
        <p:nvSpPr>
          <p:cNvPr id="154"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714680" y="0"/>
            <a:ext cx="3854160" cy="2968560"/>
          </a:xfrm>
          <a:prstGeom prst="rect">
            <a:avLst/>
          </a:prstGeom>
          <a:ln w="0">
            <a:noFill/>
          </a:ln>
        </p:spPr>
      </p:sp>
      <p:sp>
        <p:nvSpPr>
          <p:cNvPr id="1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shading coil</a:t>
            </a:r>
            <a:r>
              <a:rPr b="0" lang="en-US" sz="1600" spc="-1" strike="noStrike">
                <a:solidFill>
                  <a:srgbClr val="000000"/>
                </a:solidFill>
                <a:latin typeface="Arial"/>
              </a:rPr>
              <a:t> is a single turn of conducting material (normally copper or aluminum) mounted on the face of the magnetic laminate assembly or armature. </a:t>
            </a:r>
            <a:r>
              <a:rPr b="1" lang="en-US" sz="1600" spc="-1" strike="noStrike">
                <a:solidFill>
                  <a:srgbClr val="000000"/>
                </a:solidFill>
                <a:latin typeface="Arial"/>
              </a:rPr>
              <a:t>See  Figure 7-6.</a:t>
            </a:r>
            <a:r>
              <a:rPr b="0" lang="en-US" sz="1600" spc="-1" strike="noStrike">
                <a:solidFill>
                  <a:srgbClr val="000000"/>
                </a:solidFill>
                <a:latin typeface="Arial"/>
              </a:rPr>
              <a:t> A shading coil sets up an auxiliary magnetic field that helps hold in the armature as the main coil magnetic field drops to zero in an AC circuit.</a:t>
            </a:r>
            <a:endParaRPr b="0" lang="en-US" sz="1600" spc="-1" strike="noStrike">
              <a:solidFill>
                <a:srgbClr val="000000"/>
              </a:solidFill>
              <a:latin typeface="Arial"/>
            </a:endParaRPr>
          </a:p>
        </p:txBody>
      </p:sp>
      <p:sp>
        <p:nvSpPr>
          <p:cNvPr id="1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A0E5BEE-5AFF-4C2B-A4D1-45B8A83F0CB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714680" y="0"/>
            <a:ext cx="3854160" cy="2968560"/>
          </a:xfrm>
          <a:prstGeom prst="rect">
            <a:avLst/>
          </a:prstGeom>
          <a:ln w="0">
            <a:noFill/>
          </a:ln>
        </p:spPr>
      </p:sp>
      <p:sp>
        <p:nvSpPr>
          <p:cNvPr id="18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EDF2DD2-1306-450E-A380-4CC7899A978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714680" y="0"/>
            <a:ext cx="3854160" cy="2968560"/>
          </a:xfrm>
          <a:prstGeom prst="rect">
            <a:avLst/>
          </a:prstGeom>
          <a:ln w="0">
            <a:noFill/>
          </a:ln>
        </p:spPr>
      </p:sp>
      <p:sp>
        <p:nvSpPr>
          <p:cNvPr id="18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AC3F7A4D-4134-48C2-9FF5-CF9511BD585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714680" y="0"/>
            <a:ext cx="3854160" cy="2968560"/>
          </a:xfrm>
          <a:prstGeom prst="rect">
            <a:avLst/>
          </a:prstGeom>
          <a:ln w="0">
            <a:noFill/>
          </a:ln>
        </p:spPr>
      </p:sp>
      <p:sp>
        <p:nvSpPr>
          <p:cNvPr id="1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etic coils are normally constructed of many turns of insulated copper wire wound on a spool. The mechanical life of most coils is extended by encapsulating the coil in an epoxy resin or glass-reinforced alkyd material. </a:t>
            </a:r>
            <a:r>
              <a:rPr b="1" lang="en-US" sz="1600" spc="-1" strike="noStrike">
                <a:solidFill>
                  <a:srgbClr val="000000"/>
                </a:solidFill>
                <a:latin typeface="Arial"/>
              </a:rPr>
              <a:t>See Figure 7-7. </a:t>
            </a:r>
            <a:r>
              <a:rPr b="0" lang="en-US" sz="1600" spc="-1" strike="noStrike">
                <a:solidFill>
                  <a:srgbClr val="000000"/>
                </a:solidFill>
                <a:latin typeface="Arial"/>
              </a:rPr>
              <a:t>In addition to increasing mechanical strength, these materials greatly increase the moisture resistance of the magnetic coil. Because magnetic coils are encapsulated and cannot be repaired, they must be replaced when they fail.</a:t>
            </a:r>
            <a:endParaRPr b="0" lang="en-US" sz="1600" spc="-1" strike="noStrike">
              <a:solidFill>
                <a:srgbClr val="000000"/>
              </a:solidFill>
              <a:latin typeface="Arial"/>
            </a:endParaRPr>
          </a:p>
        </p:txBody>
      </p:sp>
      <p:sp>
        <p:nvSpPr>
          <p:cNvPr id="1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0F699403-F535-4F5A-A38E-A982319FFF1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 coils draw more current when first energized than the amount that is required to keep them running. In a solenoid coil, the inrush current is approximately 6 to 10 times the sealed current. </a:t>
            </a:r>
            <a:r>
              <a:rPr b="1" lang="en-US" sz="1600" spc="-1" strike="noStrike">
                <a:solidFill>
                  <a:srgbClr val="000000"/>
                </a:solidFill>
                <a:latin typeface="Arial"/>
              </a:rPr>
              <a:t>See Figure 7-8. </a:t>
            </a:r>
            <a:r>
              <a:rPr b="0" lang="en-US" sz="1600" spc="-1" strike="noStrike">
                <a:solidFill>
                  <a:srgbClr val="000000"/>
                </a:solidFill>
                <a:latin typeface="Arial"/>
              </a:rPr>
              <a:t>After the solenoid has been energized for some time, the coil becomes hot, causing the coil current to fall and stabilize at approximately 80% of its value when cold. The reason for such a high inrush current is that the basic opposition to current flow when a solenoid is energized is only the resistance of the copper coil. Upon energizing, however, the armature begins to move iron into the core of the coil. The large amount of iron in the magnetic circuit increases the magnetic opposition of the coil and decreases the current through the coil. This magnetic opposition is referred to as inductive reactance or total impedance. The heat produced by the coil further reduces current flow because the resistance of copper wire increases when hot, which limits some current flow.</a:t>
            </a: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93C0316-0CBF-4855-93C4-E880F4944C2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solenoid mount. </a:t>
            </a:r>
            <a:r>
              <a:rPr b="1" lang="en-US" sz="1600" spc="-1" strike="noStrike">
                <a:solidFill>
                  <a:srgbClr val="000000"/>
                </a:solidFill>
                <a:latin typeface="Arial"/>
              </a:rPr>
              <a:t>See Figure 7-9. </a:t>
            </a:r>
            <a:r>
              <a:rPr b="0" lang="en-US" sz="1600" spc="-1" strike="noStrike">
                <a:solidFill>
                  <a:srgbClr val="000000"/>
                </a:solidFill>
                <a:latin typeface="Arial"/>
              </a:rPr>
              <a:t>For example, an A solenoid is selected for a door latch application because the door latch application requires an end-mounting solenoid.</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9A2520A-77C6-425B-9C03-54FAE0E0878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voltages that are available for a given solenoid. </a:t>
            </a:r>
            <a:r>
              <a:rPr b="1" lang="en-US" sz="1600" spc="-1" strike="noStrike">
                <a:solidFill>
                  <a:srgbClr val="000000"/>
                </a:solidFill>
                <a:latin typeface="Arial"/>
              </a:rPr>
              <a:t>See Figure 7-10.</a:t>
            </a:r>
            <a:r>
              <a:rPr b="0" lang="en-US" sz="1600" spc="-1" strike="noStrike">
                <a:solidFill>
                  <a:srgbClr val="000000"/>
                </a:solidFill>
                <a:latin typeface="Arial"/>
              </a:rPr>
              <a:t> For example, a 2 A solenoid may be used for an application that requires a 115 V coil.</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FE531696-D179-4761-A48B-1C8863B48A8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FD27AD4-5676-4D3F-9B00-9BA9D23BFEF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579F76C-E9F4-47CE-87D9-2069C415173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is placed in different positions to start, stop, or change the direction of fluid flow. </a:t>
            </a:r>
            <a:r>
              <a:rPr b="1" lang="en-US" sz="1600" spc="-1" strike="noStrike">
                <a:solidFill>
                  <a:srgbClr val="000000"/>
                </a:solidFill>
                <a:latin typeface="Arial"/>
              </a:rPr>
              <a:t>See Figure 7-11. </a:t>
            </a:r>
            <a:r>
              <a:rPr b="0" lang="en-US" sz="1600" spc="-1" strike="noStrike">
                <a:solidFill>
                  <a:srgbClr val="000000"/>
                </a:solidFill>
                <a:latin typeface="Arial"/>
              </a:rPr>
              <a:t>A </a:t>
            </a:r>
            <a:r>
              <a:rPr b="0" i="1" lang="en-US" sz="1600" spc="-1" strike="noStrike">
                <a:solidFill>
                  <a:srgbClr val="000000"/>
                </a:solidFill>
                <a:latin typeface="Arial"/>
              </a:rPr>
              <a:t>position</a:t>
            </a:r>
            <a:r>
              <a:rPr b="0" lang="en-US" sz="1600" spc="-1" strike="noStrike">
                <a:solidFill>
                  <a:srgbClr val="000000"/>
                </a:solidFill>
                <a:latin typeface="Arial"/>
              </a:rPr>
              <a:t> is the number of locations within the valve in which the spool can be placed to direct fluid through the valve. A directional control valve normally has two or three positions.</a:t>
            </a: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FBD1FDD3-3AED-4C13-86B0-5C0F78B69CD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714680" y="0"/>
            <a:ext cx="3854160" cy="2968560"/>
          </a:xfrm>
          <a:prstGeom prst="rect">
            <a:avLst/>
          </a:prstGeom>
          <a:ln w="0">
            <a:noFill/>
          </a:ln>
        </p:spPr>
      </p:sp>
      <p:sp>
        <p:nvSpPr>
          <p:cNvPr id="1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3A9D6D9-D49C-447F-9EEB-906BA472D10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ay is a flow path through a valve. Most directional control valves are either two-way or three-way valves. The number of ways required depends on the application. Two-way directional control valves have two main ports that allow or stop the flow of fluid. Two-way valves are used as shutoff, check, and quick-exhaust valves. </a:t>
            </a:r>
            <a:r>
              <a:rPr b="1" lang="en-US" sz="1600" spc="-1" strike="noStrike">
                <a:solidFill>
                  <a:srgbClr val="000000"/>
                </a:solidFill>
                <a:latin typeface="Arial"/>
              </a:rPr>
              <a:t>See Figure 7-12.</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A64C5B6-B650-4D97-BB2C-B843EF089E2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uses a handle to change the valve spool position. An electrical control valve uses an actuator to change the position of a valve spool. In an electrical control valve, the solenoid acts as the actuator. </a:t>
            </a:r>
            <a:r>
              <a:rPr b="1" lang="en-US" sz="1600" spc="-1" strike="noStrike">
                <a:solidFill>
                  <a:srgbClr val="000000"/>
                </a:solidFill>
                <a:latin typeface="Arial"/>
              </a:rPr>
              <a:t>See Figure 7-13.</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CC987500-4DB2-46E4-825A-AB98821B116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acting, two-way valves are commonly used in a refrigeration system. Two-way (shutoff) valves have one inlet and one outlet pipe connection. These units may be constructed as normally open (NO), where the valve is open when de-energized and closed when energized; or they may be constructed as normally closed (NC), where the valve is closed when de-energized and open when energized. </a:t>
            </a:r>
            <a:r>
              <a:rPr b="1" lang="en-US" sz="1600" spc="-1" strike="noStrike">
                <a:solidFill>
                  <a:srgbClr val="000000"/>
                </a:solidFill>
                <a:latin typeface="Arial"/>
              </a:rPr>
              <a:t>See Figure 7-14.</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AF77F1F-76C8-4BB3-A17C-3BAC49B3099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mber of different solenoids may be used in a typical refrigeration system. The liquid line solenoid valves could be operated by two-wire or three-wire thermostats. The hot gas solenoid valve remains closed until the defrost cycle and then feeds the evaporator with hot gas for the defrost operation. </a:t>
            </a:r>
            <a:r>
              <a:rPr b="1" lang="en-US" sz="1600" spc="-1" strike="noStrike">
                <a:solidFill>
                  <a:srgbClr val="000000"/>
                </a:solidFill>
                <a:latin typeface="Arial"/>
              </a:rPr>
              <a:t>See Figure 7-15.</a:t>
            </a: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183ACA1-BC25-4B52-AF24-9D9B812289C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may also be used in an oil-fired single-burner system. </a:t>
            </a:r>
            <a:r>
              <a:rPr b="1" lang="en-US" sz="1600" spc="-1" strike="noStrike">
                <a:solidFill>
                  <a:srgbClr val="000000"/>
                </a:solidFill>
                <a:latin typeface="Arial"/>
              </a:rPr>
              <a:t>See Figure 7-16. </a:t>
            </a:r>
            <a:r>
              <a:rPr b="0" lang="en-US" sz="1600" spc="-1" strike="noStrike">
                <a:solidFill>
                  <a:srgbClr val="000000"/>
                </a:solidFill>
                <a:latin typeface="Arial"/>
              </a:rPr>
              <a:t>The solenoids are crucial in the startup and normal operating functions of the system.</a:t>
            </a: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E59D5575-E5E6-4813-A1FA-BF627D7F1BF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commercial and industrial use, solenoids are used for general-purpose applications. Typical general-purpose applications include products such as printing calculators, cameras, and airplanes. </a:t>
            </a:r>
            <a:r>
              <a:rPr b="1" lang="en-US" sz="1600" spc="-1" strike="noStrike">
                <a:solidFill>
                  <a:srgbClr val="000000"/>
                </a:solidFill>
                <a:latin typeface="Arial"/>
              </a:rPr>
              <a:t>See   Figure 7-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E060550-0DCE-478E-955A-1EFC0A78314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robots are used in all kinds of applications from welding, painting, sorting, and assembling extremely small to extremely large parts. They can replicate human movement with the added advantage of being able to lift objects of almost any size or weight repeatedly in almost any type of environment. Industrial robots use fluid power (hydraulic and/or pneumatic) cylinders (linear motion), actuators (rotary motion), and grippers to provide the required power and movement. The cylinders, actuators, and grippers are controlled by solenoid-operated valves. </a:t>
            </a:r>
            <a:r>
              <a:rPr b="1" lang="en-US" sz="1600" spc="-1" strike="noStrike">
                <a:solidFill>
                  <a:srgbClr val="000000"/>
                </a:solidFill>
                <a:latin typeface="Arial"/>
              </a:rPr>
              <a:t>See Figure 7-18.</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BCAB1CB-87AD-4871-9C43-2DA964C082D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69EFE48-B55C-4427-A084-BCD23BC8CBD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CE7CC1DA-B8E0-4AC8-8CBA-7AFB79176DB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usually fail due to electrical problems or mechanical damage. Electrical problems include coil burnout, erratic operation, or an open fuse or circuit breaker. Manufacturer charts are used to help determine the cause of solenoid failure. </a:t>
            </a:r>
            <a:r>
              <a:rPr b="1" lang="en-US" sz="1600" spc="-1" strike="noStrike">
                <a:solidFill>
                  <a:srgbClr val="000000"/>
                </a:solidFill>
                <a:latin typeface="Arial"/>
              </a:rPr>
              <a:t>See Figure 7-19.</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6862F32-8663-4085-9FB0-8EAB3F23253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714680" y="0"/>
            <a:ext cx="3854160" cy="2968560"/>
          </a:xfrm>
          <a:prstGeom prst="rect">
            <a:avLst/>
          </a:prstGeom>
          <a:ln w="0">
            <a:noFill/>
          </a:ln>
        </p:spPr>
      </p:sp>
      <p:sp>
        <p:nvSpPr>
          <p:cNvPr id="1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lectromagnet consists of an iron core inserted into a coil. The iron core concentrates the lines of force produced by the coil. With the core in place and the coil energized, the polarity of the magnet can be determined using the left-hand rule. The left-hand rule states that if the fingers of the left hand are wrapped in the direction of the current flow in a coil, the left thumb points to the magnetic north pole of the coil. </a:t>
            </a:r>
            <a:r>
              <a:rPr b="1" lang="en-US" sz="1600" spc="-1" strike="noStrike">
                <a:solidFill>
                  <a:srgbClr val="000000"/>
                </a:solidFill>
                <a:latin typeface="Arial"/>
              </a:rPr>
              <a:t>See Figure 7-1.</a:t>
            </a:r>
            <a:endParaRPr b="0" lang="en-US" sz="1600" spc="-1" strike="noStrike">
              <a:solidFill>
                <a:srgbClr val="000000"/>
              </a:solidFill>
              <a:latin typeface="Arial"/>
            </a:endParaRPr>
          </a:p>
        </p:txBody>
      </p:sp>
      <p:sp>
        <p:nvSpPr>
          <p:cNvPr id="1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9BFFEA8-BEF7-42C6-9414-EF11449DB29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oltage applied to a solenoid should be ±10% of the solenoid rated value. The voltage is measured directly at the valve when the solenoid is energized. A DMM set to measure AC voltage is used for AC solenoids. A DMM set to measure DC voltage is used for DC solenoids. The range setting must be greater than the applied voltage. </a:t>
            </a:r>
            <a:r>
              <a:rPr b="1" lang="en-US" sz="1600" spc="-1" strike="noStrike">
                <a:solidFill>
                  <a:srgbClr val="000000"/>
                </a:solidFill>
                <a:latin typeface="Arial"/>
              </a:rPr>
              <a:t>See Figure 7-20.</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AFEA57EF-CD21-4C8F-BC66-9F8C17117F7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MM set to measure voltage and resistance is required when troubleshooting a solenoid. </a:t>
            </a:r>
            <a:r>
              <a:rPr b="1" lang="en-US" sz="1600" spc="-1" strike="noStrike">
                <a:solidFill>
                  <a:srgbClr val="000000"/>
                </a:solidFill>
                <a:latin typeface="Arial"/>
              </a:rPr>
              <a:t>See           Figure 7-21.</a:t>
            </a:r>
            <a:r>
              <a:rPr b="0" lang="en-US" sz="1600" spc="-1" strike="noStrike">
                <a:solidFill>
                  <a:srgbClr val="000000"/>
                </a:solidFill>
                <a:latin typeface="Arial"/>
              </a:rPr>
              <a:t> To troubleshoot a solenoid,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Turn off electrical power to solenoid or circu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Measure the voltage at the solenoid to ensure the power is OFF.</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Remove the solenoid cover and visually inspect the solenoid. Look for a burnt coil, broken parts, or other problems. Replace the coil when burnt. Replace the broken parts when available. Replace the valve, contactor, starter, or solenoid-operated device when the parts are not available. </a:t>
            </a:r>
            <a:r>
              <a:rPr b="0" i="1" lang="en-US" sz="1600" spc="-1" strike="noStrike">
                <a:solidFill>
                  <a:srgbClr val="000000"/>
                </a:solidFill>
                <a:latin typeface="Arial"/>
              </a:rPr>
              <a:t>Note:</a:t>
            </a:r>
            <a:r>
              <a:rPr b="0" lang="en-US" sz="1600" spc="-1" strike="noStrike">
                <a:solidFill>
                  <a:srgbClr val="000000"/>
                </a:solidFill>
                <a:latin typeface="Arial"/>
              </a:rPr>
              <a:t> Determine the fault before installing a new coil when a solenoid has failed due to a burnt or shorted coil. Coils will continue to burn out if the fault is not corrected. Always observe solenoid operation after a solenoid is replac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Disconnect the solenoid wires from the electrical circuit when no obvious problem is observ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ee complete procedural list on pages 185–186.</a:t>
            </a: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E53A93C-EECE-4A33-A862-E5F3F94FCC6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ACECD83F-0385-4D9C-8479-25E9861C5E1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714680" y="0"/>
            <a:ext cx="3854160" cy="2968560"/>
          </a:xfrm>
          <a:prstGeom prst="rect">
            <a:avLst/>
          </a:prstGeom>
          <a:ln w="0">
            <a:noFill/>
          </a:ln>
        </p:spPr>
      </p:sp>
      <p:sp>
        <p:nvSpPr>
          <p:cNvPr id="16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8D1CF6F-AA47-4773-9DAB-2101B420170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714680" y="0"/>
            <a:ext cx="3854160" cy="2968560"/>
          </a:xfrm>
          <a:prstGeom prst="rect">
            <a:avLst/>
          </a:prstGeom>
          <a:ln w="0">
            <a:noFill/>
          </a:ln>
        </p:spPr>
      </p:sp>
      <p:sp>
        <p:nvSpPr>
          <p:cNvPr id="165"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42F11FA-4E8F-45D9-BABE-2154A8DA246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714680" y="0"/>
            <a:ext cx="3854160" cy="2968560"/>
          </a:xfrm>
          <a:prstGeom prst="rect">
            <a:avLst/>
          </a:prstGeom>
          <a:ln w="0">
            <a:noFill/>
          </a:ln>
        </p:spPr>
      </p:sp>
      <p:sp>
        <p:nvSpPr>
          <p:cNvPr id="1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are configured in various ways for different applications and operating characteristics. The five solenoid configurations are clapper, bell-crank, horizontal-action, vertical-action, and plunger. </a:t>
            </a:r>
            <a:r>
              <a:rPr b="1" lang="en-US" sz="1600" spc="-1" strike="noStrike">
                <a:solidFill>
                  <a:srgbClr val="000000"/>
                </a:solidFill>
                <a:latin typeface="Arial"/>
              </a:rPr>
              <a:t>See Figure 7-2.</a:t>
            </a:r>
            <a:endParaRPr b="0" lang="en-US" sz="1600" spc="-1" strike="noStrike">
              <a:solidFill>
                <a:srgbClr val="000000"/>
              </a:solidFill>
              <a:latin typeface="Arial"/>
            </a:endParaRPr>
          </a:p>
        </p:txBody>
      </p:sp>
      <p:sp>
        <p:nvSpPr>
          <p:cNvPr id="1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4B7EA06-333E-4E1E-800B-92152DD3DA2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714680" y="0"/>
            <a:ext cx="3854160" cy="2968560"/>
          </a:xfrm>
          <a:prstGeom prst="rect">
            <a:avLst/>
          </a:prstGeom>
          <a:ln w="0">
            <a:noFill/>
          </a:ln>
        </p:spPr>
      </p:sp>
      <p:sp>
        <p:nvSpPr>
          <p:cNvPr id="1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unger solenoid contains only a movable iron cylinder, or rod. A movable iron rod placed within the electrical coil tends to equalize or align itself within the coil when current passes through the coil. The current causes the rod to center itself so that the rod ends line up with the ends of the solenoid if the rod and solenoid are of equal length. In a plunger solenoid, a spring is used to move the rod a short distance from its center in the coil. The rod moves against the spring tension to recenter itself in the coil when the current is turned on. The spring returns the rod to its off-center position when the current is turned off. The motion of the rod is used to operate any number of mechanical devices. </a:t>
            </a:r>
            <a:r>
              <a:rPr b="1" lang="en-US" sz="1600" spc="-1" strike="noStrike">
                <a:solidFill>
                  <a:srgbClr val="000000"/>
                </a:solidFill>
                <a:latin typeface="Arial"/>
              </a:rPr>
              <a:t>See Figure 7-3.</a:t>
            </a:r>
            <a:endParaRPr b="0" lang="en-US" sz="1600" spc="-1" strike="noStrike">
              <a:solidFill>
                <a:srgbClr val="000000"/>
              </a:solidFill>
              <a:latin typeface="Arial"/>
            </a:endParaRPr>
          </a:p>
        </p:txBody>
      </p:sp>
      <p:sp>
        <p:nvSpPr>
          <p:cNvPr id="1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A63D1E2-D37B-4BA2-B236-57568C62920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14680" y="0"/>
            <a:ext cx="3854160" cy="2968560"/>
          </a:xfrm>
          <a:prstGeom prst="rect">
            <a:avLst/>
          </a:prstGeom>
          <a:ln w="0">
            <a:noFill/>
          </a:ln>
        </p:spPr>
      </p:sp>
      <p:sp>
        <p:nvSpPr>
          <p:cNvPr id="1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dy current </a:t>
            </a:r>
            <a:r>
              <a:rPr b="0" lang="en-US" sz="1600" spc="-1" strike="noStrike">
                <a:solidFill>
                  <a:srgbClr val="000000"/>
                </a:solidFill>
                <a:latin typeface="Arial"/>
              </a:rPr>
              <a:t>is unwanted current induced in the metal structure of a device due to the rate of change in the induced magnetic field. Strong eddy currents are generated in solid metal when used with alternating current. In AC solenoids, the magnetic assembly and armature consist of a number of thin pieces of metal laminated together. The thin pieces of metal reduce the eddy current produced in the metal. </a:t>
            </a:r>
            <a:r>
              <a:rPr b="1" lang="en-US" sz="1600" spc="-1" strike="noStrike">
                <a:solidFill>
                  <a:srgbClr val="000000"/>
                </a:solidFill>
                <a:latin typeface="Arial"/>
              </a:rPr>
              <a:t>See Figure 7-4. </a:t>
            </a:r>
            <a:r>
              <a:rPr b="0" lang="en-US" sz="1600" spc="-1" strike="noStrike">
                <a:solidFill>
                  <a:srgbClr val="000000"/>
                </a:solidFill>
                <a:latin typeface="Arial"/>
              </a:rPr>
              <a:t>Eddy current is confined to each lamination, thus reducing the intensity of the magnetic effect and subsequent heat buildup. For DC solenoids, a solid core is acceptable because the current is in one direction and continuous.</a:t>
            </a:r>
            <a:endParaRPr b="0" lang="en-US" sz="1600" spc="-1" strike="noStrike">
              <a:solidFill>
                <a:srgbClr val="000000"/>
              </a:solidFill>
              <a:latin typeface="Arial"/>
            </a:endParaRPr>
          </a:p>
        </p:txBody>
      </p:sp>
      <p:sp>
        <p:nvSpPr>
          <p:cNvPr id="1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3738B870-79F8-4EC5-A5D6-980C9D9016B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714680" y="0"/>
            <a:ext cx="3854160" cy="2968560"/>
          </a:xfrm>
          <a:prstGeom prst="rect">
            <a:avLst/>
          </a:prstGeom>
          <a:ln w="0">
            <a:noFill/>
          </a:ln>
        </p:spPr>
      </p:sp>
      <p:sp>
        <p:nvSpPr>
          <p:cNvPr id="1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coil is de-energized, some magnetic lines of force (residual magnetism) are always retained and could be enough to hold the armature in the sealed position. To eliminate this possibility, a small air gap is always left between the armature and the magnetic laminate assembly to break the magnetic field and allow the armature to drop away freely when de-energized. </a:t>
            </a:r>
            <a:r>
              <a:rPr b="1" lang="en-US" sz="1600" spc="-1" strike="noStrike">
                <a:solidFill>
                  <a:srgbClr val="000000"/>
                </a:solidFill>
                <a:latin typeface="Arial"/>
              </a:rPr>
              <a:t>See Figure 7-5.</a:t>
            </a:r>
            <a:endParaRPr b="0" lang="en-US" sz="1600" spc="-1" strike="noStrike">
              <a:solidFill>
                <a:srgbClr val="000000"/>
              </a:solidFill>
              <a:latin typeface="Arial"/>
            </a:endParaRPr>
          </a:p>
        </p:txBody>
      </p:sp>
      <p:sp>
        <p:nvSpPr>
          <p:cNvPr id="1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98BD1B7-6970-49F8-942F-E1F3D44B0E5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7 — Solenoid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5536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7</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enoids</a:t>
            </a:r>
            <a:endParaRPr b="0" lang="en-US" sz="3200" spc="-1" strike="noStrike">
              <a:solidFill>
                <a:srgbClr val="000000"/>
              </a:solidFill>
              <a:latin typeface="Arial"/>
            </a:endParaRPr>
          </a:p>
        </p:txBody>
      </p:sp>
      <p:sp>
        <p:nvSpPr>
          <p:cNvPr id="89" name="PlaceHolder 3"/>
          <p:cNvSpPr>
            <a:spLocks noGrp="1"/>
          </p:cNvSpPr>
          <p:nvPr>
            <p:ph/>
          </p:nvPr>
        </p:nvSpPr>
        <p:spPr>
          <a:xfrm>
            <a:off x="880560" y="3311280"/>
            <a:ext cx="8085240" cy="24764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1  </a:t>
            </a:r>
            <a:r>
              <a:rPr b="0" lang="en-US" sz="2600" spc="-1" strike="noStrike">
                <a:solidFill>
                  <a:srgbClr val="ffffff"/>
                </a:solidFill>
                <a:latin typeface="Arial"/>
              </a:rPr>
              <a:t>Electromagnet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2  </a:t>
            </a:r>
            <a:r>
              <a:rPr b="0" lang="en-US" sz="2600" spc="-1" strike="noStrike">
                <a:solidFill>
                  <a:srgbClr val="ffffff"/>
                </a:solidFill>
                <a:latin typeface="Arial"/>
              </a:rPr>
              <a:t>Solenoid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3  </a:t>
            </a:r>
            <a:r>
              <a:rPr b="0" lang="en-US" sz="2600" spc="-1" strike="noStrike">
                <a:solidFill>
                  <a:srgbClr val="ffffff"/>
                </a:solidFill>
                <a:latin typeface="Arial"/>
              </a:rPr>
              <a:t>Solenoid Characteris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4  </a:t>
            </a:r>
            <a:r>
              <a:rPr b="0" lang="en-US" sz="2600" spc="-1" strike="noStrike">
                <a:solidFill>
                  <a:srgbClr val="ffffff"/>
                </a:solidFill>
                <a:latin typeface="Arial"/>
              </a:rPr>
              <a:t>Solenoid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5  </a:t>
            </a:r>
            <a:r>
              <a:rPr b="0" lang="en-US" sz="2600" spc="-1" strike="noStrike">
                <a:solidFill>
                  <a:srgbClr val="ffffff"/>
                </a:solidFill>
                <a:latin typeface="Arial"/>
              </a:rPr>
              <a:t>Troubleshooting Solenoi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hading coil sets up an auxiliary magnetic field that helps hold in the armature as the main coil magnetic field drops to zero in an AC circuit.</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4844880" y="1709640"/>
            <a:ext cx="4121280" cy="377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6320" y="1752120"/>
            <a:ext cx="74563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vable par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olenoid armatures lamin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is a shading coil added to the armature of a solenoid?</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3</a:t>
            </a:r>
            <a:br>
              <a:rPr sz="4000"/>
            </a:br>
            <a:r>
              <a:rPr b="1" lang="en-US" sz="4000" spc="-1" strike="noStrike">
                <a:solidFill>
                  <a:srgbClr val="ffffff"/>
                </a:solidFill>
                <a:latin typeface="Arial"/>
              </a:rPr>
              <a:t>Solenoid Characteristics</a:t>
            </a:r>
            <a:endParaRPr b="1" lang="en-US" sz="4000" spc="-1" strike="noStrike">
              <a:solidFill>
                <a:srgbClr val="000066"/>
              </a:solidFill>
              <a:latin typeface="Arial"/>
            </a:endParaRPr>
          </a:p>
        </p:txBody>
      </p:sp>
      <p:sp>
        <p:nvSpPr>
          <p:cNvPr id="11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common problems, such as inrush current, that solenoids produce in the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olenoid selection metho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echanical life of most coils is extended by encapsulating the coil in an epoxy resin or glass-reinforced alkyd materia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2641680" y="3027240"/>
            <a:ext cx="4665600" cy="3346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 inrush current is approximately 6 to 10 times the sealed current.</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638600" y="1709640"/>
            <a:ext cx="432756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solenoid mount.</a:t>
            </a:r>
            <a:endParaRPr b="0" lang="en-US" sz="2600" spc="-1" strike="noStrike">
              <a:solidFill>
                <a:srgbClr val="000000"/>
              </a:solidFill>
              <a:latin typeface="Arial"/>
            </a:endParaRPr>
          </a:p>
        </p:txBody>
      </p:sp>
      <p:pic>
        <p:nvPicPr>
          <p:cNvPr id="117" name="Picture 3" descr=""/>
          <p:cNvPicPr/>
          <p:nvPr/>
        </p:nvPicPr>
        <p:blipFill>
          <a:blip r:embed="rId1"/>
          <a:stretch/>
        </p:blipFill>
        <p:spPr>
          <a:xfrm>
            <a:off x="1654200" y="2814480"/>
            <a:ext cx="6640560" cy="3559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voltages that are available for a given solenoid.</a:t>
            </a:r>
            <a:endParaRPr b="0" lang="en-US" sz="2600" spc="-1" strike="noStrike">
              <a:solidFill>
                <a:srgbClr val="000000"/>
              </a:solidFill>
              <a:latin typeface="Arial"/>
            </a:endParaRPr>
          </a:p>
        </p:txBody>
      </p:sp>
      <p:pic>
        <p:nvPicPr>
          <p:cNvPr id="119" name="Picture 3" descr=""/>
          <p:cNvPicPr/>
          <p:nvPr/>
        </p:nvPicPr>
        <p:blipFill>
          <a:blip r:embed="rId1"/>
          <a:stretch/>
        </p:blipFill>
        <p:spPr>
          <a:xfrm>
            <a:off x="1225440" y="3117960"/>
            <a:ext cx="7497720" cy="325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3 Checkpoint</a:t>
            </a:r>
            <a:endParaRPr b="1" lang="en-US" sz="4000" spc="-1" strike="noStrike">
              <a:solidFill>
                <a:srgbClr val="000066"/>
              </a:solidFill>
              <a:latin typeface="Arial"/>
            </a:endParaRPr>
          </a:p>
        </p:txBody>
      </p:sp>
      <p:sp>
        <p:nvSpPr>
          <p:cNvPr id="12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initial current draw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curren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voltage applied to a solenoid is higher than the rating of the solenoid, will the current draw increase or decreas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times a solenoid can operate in a given time period (usually operations per minute) cal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4</a:t>
            </a:r>
            <a:br>
              <a:rPr sz="4000"/>
            </a:br>
            <a:r>
              <a:rPr b="1" lang="en-US" sz="4000" spc="-1" strike="noStrike">
                <a:solidFill>
                  <a:srgbClr val="ffffff"/>
                </a:solidFill>
                <a:latin typeface="Arial"/>
              </a:rPr>
              <a:t>Solenoid Applications</a:t>
            </a:r>
            <a:endParaRPr b="1" lang="en-US" sz="4000" spc="-1" strike="noStrike">
              <a:solidFill>
                <a:srgbClr val="000066"/>
              </a:solidFill>
              <a:latin typeface="Arial"/>
            </a:endParaRPr>
          </a:p>
        </p:txBody>
      </p:sp>
      <p:sp>
        <p:nvSpPr>
          <p:cNvPr id="12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number of positions, number of ways, and type of actuator a directional control valve ha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the different types of systems and applications solenoids may be used f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itions are the number of locations within the valve in which the spool can be placed to direct fluid through the valve.</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4959360" y="1709640"/>
            <a:ext cx="400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1 Electromagnets</a:t>
            </a:r>
            <a:endParaRPr b="1" lang="en-US" sz="4000" spc="-1" strike="noStrike">
              <a:solidFill>
                <a:srgbClr val="000066"/>
              </a:solidFill>
              <a:latin typeface="Arial"/>
            </a:endParaRPr>
          </a:p>
        </p:txBody>
      </p:sp>
      <p:sp>
        <p:nvSpPr>
          <p:cNvPr id="91"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electromagnet and explain the left-hand rul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main characteristics of electromagnets.</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way is a flow path through a valve.</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7" name="Picture 2" descr=""/>
          <p:cNvPicPr/>
          <p:nvPr/>
        </p:nvPicPr>
        <p:blipFill>
          <a:blip r:embed="rId1"/>
          <a:stretch/>
        </p:blipFill>
        <p:spPr>
          <a:xfrm>
            <a:off x="2490840" y="2560680"/>
            <a:ext cx="4967280" cy="3813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ical control valve, the solenoid acts as the actuator.</a:t>
            </a:r>
            <a:endParaRPr b="0" lang="en-US" sz="2600" spc="-1" strike="noStrike">
              <a:solidFill>
                <a:srgbClr val="000000"/>
              </a:solidFill>
              <a:latin typeface="Arial"/>
            </a:endParaRPr>
          </a:p>
        </p:txBody>
      </p:sp>
      <p:pic>
        <p:nvPicPr>
          <p:cNvPr id="129" name="Picture 2" descr=""/>
          <p:cNvPicPr/>
          <p:nvPr/>
        </p:nvPicPr>
        <p:blipFill>
          <a:blip r:embed="rId1"/>
          <a:stretch/>
        </p:blipFill>
        <p:spPr>
          <a:xfrm>
            <a:off x="7099200" y="1623960"/>
            <a:ext cx="1866960" cy="4861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73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refrigeration system, direct-acting two-way valves may be constructed as normally open (NO), where the valve is open when de-energized and closed when energized; or they may be constructed as normally closed (NC), where the valve is closed when de-energized and open when energized.</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1273320" y="4165560"/>
            <a:ext cx="7402320" cy="2208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frigeration systems may use different solenoids, such as liquid line solenoids and hot gas solenoids.</a:t>
            </a:r>
            <a:endParaRPr b="0" lang="en-US" sz="2600" spc="-1" strike="noStrike">
              <a:solidFill>
                <a:srgbClr val="000000"/>
              </a:solidFill>
              <a:latin typeface="Arial"/>
            </a:endParaRPr>
          </a:p>
        </p:txBody>
      </p:sp>
      <p:pic>
        <p:nvPicPr>
          <p:cNvPr id="133" name="Picture 2" descr=""/>
          <p:cNvPicPr/>
          <p:nvPr/>
        </p:nvPicPr>
        <p:blipFill>
          <a:blip r:embed="rId1"/>
          <a:stretch/>
        </p:blipFill>
        <p:spPr>
          <a:xfrm>
            <a:off x="2082960" y="2619360"/>
            <a:ext cx="5783040" cy="37544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olenoids are used for the safe operation of an oil-fired single-burner system.</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5862600" y="1709640"/>
            <a:ext cx="3103560" cy="47005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s are used for general-purpose applications, such as those in airplanes.</a:t>
            </a:r>
            <a:endParaRPr b="0" lang="en-US" sz="2600" spc="-1" strike="noStrike">
              <a:solidFill>
                <a:srgbClr val="000000"/>
              </a:solidFill>
              <a:latin typeface="Arial"/>
            </a:endParaRPr>
          </a:p>
        </p:txBody>
      </p:sp>
      <p:pic>
        <p:nvPicPr>
          <p:cNvPr id="137" name="Picture 2" descr=""/>
          <p:cNvPicPr/>
          <p:nvPr/>
        </p:nvPicPr>
        <p:blipFill>
          <a:blip r:embed="rId1"/>
          <a:stretch/>
        </p:blipFill>
        <p:spPr>
          <a:xfrm>
            <a:off x="4624560" y="1709640"/>
            <a:ext cx="4341600" cy="3895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neumatic robots can be used to replicate human movement with the added advantage of being able to lift objects of almost any size and weight repeatedly.</a:t>
            </a:r>
            <a:endParaRPr b="0" lang="en-US" sz="2600" spc="-1" strike="noStrike">
              <a:solidFill>
                <a:srgbClr val="000000"/>
              </a:solidFill>
              <a:latin typeface="Arial"/>
            </a:endParaRPr>
          </a:p>
        </p:txBody>
      </p:sp>
      <p:pic>
        <p:nvPicPr>
          <p:cNvPr id="139" name="Picture 2" descr=""/>
          <p:cNvPicPr/>
          <p:nvPr/>
        </p:nvPicPr>
        <p:blipFill>
          <a:blip r:embed="rId1"/>
          <a:stretch/>
        </p:blipFill>
        <p:spPr>
          <a:xfrm>
            <a:off x="4656240" y="1709640"/>
            <a:ext cx="430992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4 Checkpoint</a:t>
            </a:r>
            <a:endParaRPr b="1" lang="en-US" sz="4000" spc="-1" strike="noStrike">
              <a:solidFill>
                <a:srgbClr val="000066"/>
              </a:solidFill>
              <a:latin typeface="Arial"/>
            </a:endParaRPr>
          </a:p>
        </p:txBody>
      </p:sp>
      <p:sp>
        <p:nvSpPr>
          <p:cNvPr id="14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valve is used to direct the flow of fluid throughout a fluid power system?</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locations within a valve in which a spool is placed to direct fluid through the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a flow path through a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oes an electrical control valve use to change the position of a valve spo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5</a:t>
            </a:r>
            <a:br>
              <a:rPr sz="4000"/>
            </a:br>
            <a:r>
              <a:rPr b="1" lang="en-US" sz="4000" spc="-1" strike="noStrike">
                <a:solidFill>
                  <a:srgbClr val="ffffff"/>
                </a:solidFill>
                <a:latin typeface="Arial"/>
              </a:rPr>
              <a:t>Troubleshooting Solenoids</a:t>
            </a:r>
            <a:endParaRPr b="1" lang="en-US" sz="4000" spc="-1" strike="noStrike">
              <a:solidFill>
                <a:srgbClr val="000066"/>
              </a:solidFill>
              <a:latin typeface="Arial"/>
            </a:endParaRPr>
          </a:p>
        </p:txBody>
      </p:sp>
      <p:sp>
        <p:nvSpPr>
          <p:cNvPr id="14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how transients are caused and how they can be reduced within an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teps required when using a digital multimeter (DMM) to troubleshoot a solenoid within a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 charts are used to help determine the cause of solenoid failure.</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4578480" y="1709640"/>
            <a:ext cx="43876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eft-hand rule states that if the fingers of the left hand are wrapped in the direction of the current flow in a coil, the left thumb points to the magnetic north pole of the coil.</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2646360" y="3355920"/>
            <a:ext cx="4656240" cy="3017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oltage applied to a solenoid should be ±10% of the solenoid rated value.</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5140440" y="1709640"/>
            <a:ext cx="38257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MM set to measure voltage and resistance is required when troubleshooting a solenoid.</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2189160" y="2643120"/>
            <a:ext cx="5570640" cy="3730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5 Checkpoint</a:t>
            </a:r>
            <a:endParaRPr b="1" lang="en-US" sz="4000" spc="-1" strike="noStrike">
              <a:solidFill>
                <a:srgbClr val="000066"/>
              </a:solidFill>
              <a:latin typeface="Arial"/>
            </a:endParaRPr>
          </a:p>
        </p:txBody>
      </p:sp>
      <p:sp>
        <p:nvSpPr>
          <p:cNvPr id="15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voltage range (high and low) that should be applied to a solenoi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evice is used to reduce transients produced by solenoi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resistance range (high and low) that should be measured when testing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1 Checkpoint</a:t>
            </a:r>
            <a:endParaRPr b="1" lang="en-US" sz="4000" spc="-1" strike="noStrike">
              <a:solidFill>
                <a:srgbClr val="000066"/>
              </a:solidFill>
              <a:latin typeface="Arial"/>
            </a:endParaRPr>
          </a:p>
        </p:txBody>
      </p:sp>
      <p:sp>
        <p:nvSpPr>
          <p:cNvPr id="9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added iron core of an electromagnet increase or decrease the magnetic lines of fo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omagnet, what determines the strength of the magnetic fiel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left-hand rule used to determine when the direction of current flow is known?</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2 Solenoids</a:t>
            </a:r>
            <a:endParaRPr b="1" lang="en-US" sz="4000" spc="-1" strike="noStrike">
              <a:solidFill>
                <a:srgbClr val="000066"/>
              </a:solidFill>
              <a:latin typeface="Arial"/>
            </a:endParaRPr>
          </a:p>
        </p:txBody>
      </p:sp>
      <p:sp>
        <p:nvSpPr>
          <p:cNvPr id="97"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solenoid and state the function of each part used to produce linear motion in a solenoi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why solenoids are available in different operating configurations to meet different application requirement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construction of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ive solenoid configurations are clapper, bell-crank, horizontal-action, vertical-action, and plunger solenoids.</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6261120" y="1709640"/>
            <a:ext cx="2666880" cy="467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plunger solenoid, a spring is used to move the rod a short distance from its center in the coil. The rod moves against the spring tension to recenter itself when the current is turned on.</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4675320" y="1709640"/>
            <a:ext cx="429084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C solenoids, the magnetic assembly and armature consist of a number of thin pieces of metal laminated together.</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2016000" y="3056040"/>
            <a:ext cx="5916600" cy="3317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mall air gap is left in the magnetic laminate assembly to break the magnetic field and allow the armature to drop away freely after being de-energized.</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4722840" y="1709640"/>
            <a:ext cx="4243320" cy="3292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cp:lastPrinted>2013-10-31T20:31:02Z</cp:lastPrinted>
  <dcterms:modified xsi:type="dcterms:W3CDTF">2018-10-23T19:31:02Z</dcterms:modified>
  <cp:revision>2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