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09B18-095E-4F94-A5C1-6B245DA9F8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4CBF7-D790-4695-AABC-CAB57F446F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621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744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901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177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7621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3901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177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44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S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ing and Using Ladder Dia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4648320" y="1941480"/>
            <a:ext cx="3984480" cy="32101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"/>
          <p:cNvPicPr/>
          <p:nvPr/>
        </p:nvPicPr>
        <p:blipFill>
          <a:blip r:embed="rId2"/>
          <a:stretch/>
        </p:blipFill>
        <p:spPr>
          <a:xfrm>
            <a:off x="569880" y="1938240"/>
            <a:ext cx="3743280" cy="3213360"/>
          </a:xfrm>
          <a:prstGeom prst="rect">
            <a:avLst/>
          </a:prstGeom>
          <a:ln w="0">
            <a:noFill/>
          </a:ln>
        </p:spPr>
      </p:pic>
      <p:sp>
        <p:nvSpPr>
          <p:cNvPr id="70" name="TextBox 4"/>
          <p:cNvSpPr/>
          <p:nvPr/>
        </p:nvSpPr>
        <p:spPr>
          <a:xfrm>
            <a:off x="203760" y="5351400"/>
            <a:ext cx="447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6-13 Two-input AND gate with truth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4607280" y="5351400"/>
            <a:ext cx="435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6-15 Two-input OR gate with truth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1447920" y="1913040"/>
            <a:ext cx="6670440" cy="3128760"/>
          </a:xfrm>
          <a:prstGeom prst="rect">
            <a:avLst/>
          </a:prstGeom>
          <a:ln w="0">
            <a:noFill/>
          </a:ln>
        </p:spPr>
      </p:pic>
      <p:sp>
        <p:nvSpPr>
          <p:cNvPr id="73" name="TextBox 4"/>
          <p:cNvSpPr/>
          <p:nvPr/>
        </p:nvSpPr>
        <p:spPr>
          <a:xfrm>
            <a:off x="2232000" y="5181480"/>
            <a:ext cx="56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6-14 Two input devices wired in series with truth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1285920" y="1752480"/>
            <a:ext cx="6657840" cy="3905280"/>
          </a:xfrm>
          <a:prstGeom prst="rect">
            <a:avLst/>
          </a:prstGeom>
          <a:ln w="0">
            <a:noFill/>
          </a:ln>
        </p:spPr>
      </p:pic>
      <p:sp>
        <p:nvSpPr>
          <p:cNvPr id="75" name="TextBox 4"/>
          <p:cNvSpPr/>
          <p:nvPr/>
        </p:nvSpPr>
        <p:spPr>
          <a:xfrm>
            <a:off x="1743840" y="5824440"/>
            <a:ext cx="574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6-16 Two input devices wired in parallel with truth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3305160" cy="3772080"/>
          </a:xfrm>
          <a:prstGeom prst="rect">
            <a:avLst/>
          </a:prstGeom>
          <a:ln w="0">
            <a:noFill/>
          </a:ln>
        </p:spPr>
      </p:pic>
      <p:sp>
        <p:nvSpPr>
          <p:cNvPr id="77" name="TextBox 4"/>
          <p:cNvSpPr/>
          <p:nvPr/>
        </p:nvSpPr>
        <p:spPr>
          <a:xfrm>
            <a:off x="702360" y="5681520"/>
            <a:ext cx="352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6-17 NOT gate with truth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4711680" y="1851120"/>
            <a:ext cx="3984480" cy="372744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4865400" y="5670720"/>
            <a:ext cx="367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6-19 NAND gate with truth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685800" y="1863720"/>
            <a:ext cx="3581280" cy="3463920"/>
          </a:xfrm>
          <a:prstGeom prst="rect">
            <a:avLst/>
          </a:prstGeom>
          <a:ln w="0">
            <a:noFill/>
          </a:ln>
        </p:spPr>
      </p:pic>
      <p:sp>
        <p:nvSpPr>
          <p:cNvPr id="81" name="TextBox 4"/>
          <p:cNvSpPr/>
          <p:nvPr/>
        </p:nvSpPr>
        <p:spPr>
          <a:xfrm>
            <a:off x="891720" y="5470560"/>
            <a:ext cx="355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6-21 NOR gate with truth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5057280" y="5467320"/>
            <a:ext cx="353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6-23 XOR gate with truth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5029200" y="1789200"/>
            <a:ext cx="347328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types of electrical dia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ring diagrams show physical location and wi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dder diagrams show electrical relation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tical sides of the diagram called r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rizontal lines called ru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or more devices wired in ser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an AND fun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or more devices wired in parall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an OR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c gates represent motor control device logic in a circu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logic gates: AND, OR, NOT, NOR, NAND, X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tes combine to create complex control circu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a wiring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the parts of a wiring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t a wiring diagram to a ladder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the rules that govern a ladder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ring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circuit wiring and associated de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relative physical 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2666880" y="3505320"/>
            <a:ext cx="3210120" cy="2698560"/>
          </a:xfrm>
          <a:prstGeom prst="rect">
            <a:avLst/>
          </a:prstGeom>
          <a:ln w="0">
            <a:noFill/>
          </a:ln>
        </p:spPr>
      </p:pic>
      <p:sp>
        <p:nvSpPr>
          <p:cNvPr id="51" name="TextBox 1"/>
          <p:cNvSpPr/>
          <p:nvPr/>
        </p:nvSpPr>
        <p:spPr>
          <a:xfrm>
            <a:off x="3008880" y="6203880"/>
            <a:ext cx="252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6-1 Wiring dia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dder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2057400"/>
            <a:ext cx="8229600" cy="48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electrical relationship of compon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called schema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1092240" y="3505320"/>
            <a:ext cx="6568920" cy="2452680"/>
          </a:xfrm>
          <a:prstGeom prst="rect">
            <a:avLst/>
          </a:prstGeom>
          <a:ln w="0">
            <a:noFill/>
          </a:ln>
        </p:spPr>
      </p:pic>
      <p:sp>
        <p:nvSpPr>
          <p:cNvPr id="55" name="TextBox 4"/>
          <p:cNvSpPr/>
          <p:nvPr/>
        </p:nvSpPr>
        <p:spPr>
          <a:xfrm>
            <a:off x="3097080" y="6032520"/>
            <a:ext cx="258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6-1 Ladder dia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dder Diagram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like a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 to right, top to bot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tical power lines represent voltage potent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ices shown in order of impor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ical devices shown in their normal con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dder Diagram Rule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s have same number or letter designation as controlling de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s change position when the device is energ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 function devices normally wired in s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function devices normally wired in parall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STOP/START Circu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1143000" y="2693880"/>
            <a:ext cx="7005600" cy="1924200"/>
          </a:xfrm>
          <a:prstGeom prst="rect">
            <a:avLst/>
          </a:prstGeom>
          <a:ln w="0">
            <a:noFill/>
          </a:ln>
        </p:spPr>
      </p:pic>
      <p:sp>
        <p:nvSpPr>
          <p:cNvPr id="62" name="TextBox 1"/>
          <p:cNvSpPr/>
          <p:nvPr/>
        </p:nvSpPr>
        <p:spPr>
          <a:xfrm>
            <a:off x="1984320" y="4776840"/>
            <a:ext cx="532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6-9 Ladder diagram for basic STOP/START circu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quenced Motor Sta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762120" y="2209680"/>
            <a:ext cx="7483320" cy="3376800"/>
          </a:xfrm>
          <a:prstGeom prst="rect">
            <a:avLst/>
          </a:prstGeom>
          <a:ln w="0">
            <a:noFill/>
          </a:ln>
        </p:spPr>
      </p:pic>
      <p:sp>
        <p:nvSpPr>
          <p:cNvPr id="65" name="TextBox 4"/>
          <p:cNvSpPr/>
          <p:nvPr/>
        </p:nvSpPr>
        <p:spPr>
          <a:xfrm>
            <a:off x="2908440" y="5692680"/>
            <a:ext cx="342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6-11 Three-motor start circu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gital Logic G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ming alternative to ladder log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inputs must be true before output is 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least one input must be true before output is 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rts the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15:43:49Z</dcterms:created>
  <dc:creator>Jeffery Woodson</dc:creator>
  <dc:description/>
  <dc:language>en-US</dc:language>
  <cp:lastModifiedBy>Stephanie Page</cp:lastModifiedBy>
  <dcterms:modified xsi:type="dcterms:W3CDTF">2018-10-23T19:24:06Z</dcterms:modified>
  <cp:revision>70</cp:revision>
  <dc:subject/>
  <dc:title>Chapter Si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D0F2CFCBA445774D86797879970B2337</vt:lpwstr>
  </property>
</Properties>
</file>