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7DB4-1F7C-457B-B4C5-ABB5B3E70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EB53-526B-4916-812E-07E1CA345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6CAB-7A0D-4238-B23A-880120794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3B42-07A9-4685-B6D8-F387E4755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AE0D-9C38-40B7-8932-2279BFDDD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92B4-B4BD-4F61-89DC-19FC408F5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18E3-CCB6-4AFC-A43D-09E9BD555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5CC7-B75C-4E07-9D43-7D2B2E339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047E-3D33-4080-872B-987E7454A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4E0C-8D5B-4E58-A9A3-6E0C0819D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177B-5B8F-4156-B5E9-A2171103F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F202-4F3E-44BE-B149-07C805F6E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DB6E-7998-45E0-B697-E66CB2D51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4673-C562-4606-839C-12F1EBD32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2EDF-325C-40D2-BF71-B8FB9B2C8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32A5-01AA-44DF-A10F-F369FD016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779B-92FB-4E82-BFC7-B2525D1A3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6ECB-7B58-47F2-8809-7042CE9A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4934-D4A9-44D3-9D04-454C418E9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032D-26A2-4FA3-8F13-A0B92F8B6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0282-AD48-45B9-A571-21891733C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AA4D-D501-4977-A301-FE0DB22BB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C254-423B-4F4E-B6F9-ABEECFDB4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742E-FADE-41E3-8481-BB31A404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3411-76E9-4C31-BFBE-9DF76723C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A573-1694-4BD5-A472-0A24CA04D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5B37-A342-4C4C-8A3E-80D9F4814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a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3281760" y="6151680"/>
            <a:ext cx="27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7 Controller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166760" y="1371600"/>
            <a:ext cx="69357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click Controll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click Controller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memory used and memory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Controller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click IO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ppropriate configuration from pull-dow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046320" y="6081840"/>
            <a:ext cx="33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9 IO Configuration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274760" y="1447920"/>
            <a:ext cx="6846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orrect power supply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-click on the Power Supply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upply Loading window o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minimum recommended power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es folder displays file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ing poin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3261600" y="6097680"/>
            <a:ext cx="28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14 Data File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198440" y="1407960"/>
            <a:ext cx="694548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status of first three words of in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tells what the devic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B 1 (pushbutton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explains what the input devic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2980800" y="6111720"/>
            <a:ext cx="40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19 Program area with rung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123920" y="1265400"/>
            <a:ext cx="72676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2071800" y="5400720"/>
            <a:ext cx="54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20 Simple STOP/START circuit without over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155600" y="2106720"/>
            <a:ext cx="72820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program circuit in Figure 8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OP button by clicking Normally Open contact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STOP butto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ART button by clicking BRANCH START symbol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dark vertical line to upper left co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-lin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basic programm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 Of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, and the hazards that could be associated with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program circuit in Figure 8-20 (cont’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N.O. symbol to add the next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question mark to enter the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symbol and description for address I:1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holding contact for the motor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the output device: motor star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2528640" y="5959440"/>
            <a:ext cx="41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34 Completed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523880" y="1274760"/>
            <a:ext cx="650268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eck finished program for correctn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Verify Projec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result shown in lower left corner of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has completed; no error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error will be identified by rung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the Logix5000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SLogix 5000 to program a ControlLogix 1756-L62 processor mounted in a 4-slot chassis: see Figure 8-37 in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the same simple STOP/START circuit that was used in pri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2545200" y="6230880"/>
            <a:ext cx="454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49 Input Module 1756-IA16 Data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990720" y="132552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2512800" y="6080040"/>
            <a:ext cx="41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63 Completed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1523880" y="1265400"/>
            <a:ext cx="62820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is programmed using specific PL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 codes and address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usually developed and tested in Off-Line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or coils can be forced ON or OFF while circuit is ope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program while the processor is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-lin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is developed while not connected to the process or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LCs have override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On and Forc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well RSLogix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programming examples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RSLogix software by double-clicking the RSLogix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19320" y="1801800"/>
            <a:ext cx="6943680" cy="4118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109960" y="5919840"/>
            <a:ext cx="54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1 SLC 5/03 processor mounted in a 4-slot chas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66680" y="2066760"/>
            <a:ext cx="7296120" cy="3181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927520" y="5627520"/>
            <a:ext cx="35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2 Basic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2912760" y="5985000"/>
            <a:ext cx="33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3 RSLogix opening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600200" y="1339920"/>
            <a:ext cx="65278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File,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rocessor Type window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oll to find processor you are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a name, and click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side of screen: projec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side of screen: programm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2663640" y="61102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4 Select Processor Type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1474920" y="1371600"/>
            <a:ext cx="679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Rita</dc:creator>
  <dc:description/>
  <dc:language>en-US</dc:language>
  <cp:lastModifiedBy>Stephanie Page</cp:lastModifiedBy>
  <dcterms:modified xsi:type="dcterms:W3CDTF">2018-10-23T19:23:16Z</dcterms:modified>
  <cp:revision>80</cp:revision>
  <dc:subject/>
  <dc:title>Chapter Eig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