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30.xml" ContentType="application/vnd.openxmlformats-officedocument.presentationml.notesSlide+xml"/>
  <Override PartName="/ppt/notesSlides/notesSlide40.xml" ContentType="application/vnd.openxmlformats-officedocument.presentationml.notesSlide+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78.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2.png" ContentType="image/png"/>
  <Override PartName="/ppt/media/image31.jpeg" ContentType="image/jpeg"/>
  <Override PartName="/ppt/media/image10.wmf" ContentType="image/x-wmf"/>
  <Override PartName="/ppt/media/image9.wmf" ContentType="image/x-wmf"/>
  <Override PartName="/ppt/media/image34.wmf" ContentType="image/x-wmf"/>
  <Override PartName="/ppt/media/image14.png" ContentType="image/png"/>
  <Override PartName="/ppt/media/image3.png" ContentType="image/png"/>
  <Override PartName="/ppt/media/image11.wmf" ContentType="image/x-wmf"/>
  <Override PartName="/ppt/media/image13.png" ContentType="image/png"/>
  <Override PartName="/ppt/media/image8.wmf" ContentType="image/x-wmf"/>
  <Override PartName="/ppt/media/image30.png" ContentType="image/png"/>
  <Override PartName="/ppt/media/image33.jpeg" ContentType="image/jpeg"/>
  <Override PartName="/ppt/media/image37.wmf" ContentType="image/x-wmf"/>
  <Override PartName="/ppt/media/image7.jpeg" ContentType="image/jpeg"/>
  <Override PartName="/ppt/media/image18.png" ContentType="image/png"/>
  <Override PartName="/ppt/media/image20.png" ContentType="image/png"/>
  <Override PartName="/ppt/media/image28.jpeg" ContentType="image/jpeg"/>
  <Override PartName="/ppt/media/image36.png" ContentType="image/png"/>
  <Override PartName="/ppt/media/image6.png" ContentType="image/png"/>
  <Override PartName="/ppt/media/image5.wmf" ContentType="image/x-wmf"/>
  <Override PartName="/ppt/media/image35.wmf" ContentType="image/x-wmf"/>
  <Override PartName="/ppt/media/image15.png" ContentType="image/png"/>
  <Override PartName="/ppt/media/image12.jpeg" ContentType="image/jpeg"/>
  <Override PartName="/ppt/media/image4.png" ContentType="image/png"/>
  <Override PartName="/ppt/media/image1.jpeg" ContentType="image/jpeg"/>
  <Override PartName="/ppt/media/image16.png" ContentType="image/png"/>
  <Override PartName="/ppt/media/image17.png" ContentType="image/png"/>
  <Override PartName="/ppt/media/image32.jpeg" ContentType="image/jpeg"/>
  <Override PartName="/ppt/media/image1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1"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4"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5"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D0CF-B569-4081-99C7-166AF44E55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8653-8CE1-4358-897E-E20B175CF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electrode is a hydrogen electrode</a:t>
            </a: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0362-0DFB-4293-B815-8211FF850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C67B-01AC-481A-8F90-75A3AE534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osion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vents.nace.org/library/corrosion/Principles/Theory.a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osion Control in Engineering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pl.co.uk/upload/pdf/corrosion_control_in_engineering_design.pdf</a:t>
            </a: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DB9A-A83C-44C0-9974-5C37AFD10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ic Acid Corrosion of Light Water Reactor Pressure Vessel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rc.gov/reading-rm/doc-collections/nuregs/contract/cr6875/into-acknowledgments.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2C2B-BDDA-49DB-848C-15AF9D3F3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9288-306E-4089-A563-537EE83EA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D0F1-A39F-4F36-828B-C9C203242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C346-DDBE-4D79-88DA-368580DC7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93F7-F336-4BD8-9082-9CA824690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1785-E3B6-4CED-85B5-4565E149F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97AE-4AF8-42E4-8C2B-388A3EDB9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Inconel used in the reactor core?  Is it used as the metal where the zircaloy is attached to?</a:t>
            </a:r>
            <a:endParaRPr b="0" lang="en-US"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193C-EC56-476C-82B2-30C2D906F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27D0-0788-4694-AD8A-F1BA39135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103D-1B91-4D43-BBDF-455028149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71021-B7E3-4C55-9743-E98CA5039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560C3-385C-411A-885C-AC4F06863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0DF57-F3FD-49D5-A2D4-64776A4383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39FDBD-AD86-4858-B889-1C8B3C9C61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6D359E-4EA2-4021-82DC-4320A353FB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46184F-9216-471B-8EF3-9D39ED4E24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9BBC8A-B2C4-4887-8F10-2E0FD313E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2C33C-FAD4-4A01-AF0D-C52660EBCA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283D86-EDE4-401C-A79C-728A1806B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1F967C-C4F5-4CFA-8042-F759B6D93A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9FB692-BDB9-41BC-A252-639F234736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634EAE-5818-4377-9CCA-3B0F16FAB0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04C6C-F7A5-409D-8291-BE7379D4B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51FFF3-19B7-4027-A6E7-BFF81EBBCB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96C0ED-5160-474A-B16A-496A0E04C7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617FC7-E337-45E9-8243-8C439AF762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97F1FF-FE12-43EA-9A80-2AFCCC54CB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BE46F1-3770-4EF4-B520-67EE5CA507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D6B4FE-E870-4E39-91CD-2B599AB0EB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9871DE-BC03-4A59-8926-55C8908E8C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78BCFA-8E40-41AB-A12D-888ADCE18D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F8F67D-C0EB-42F2-BF49-FE0A3E38C8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279BD5-8989-40B7-B6E9-7B80FEEA23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BA077-9A54-4EC5-BB9C-5908FC0D0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19D884-16C1-4B6A-A378-18D66EFAB9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B8B421-054E-4F7F-941A-404F1804B5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CC61F0-6F72-4C80-966D-2949D30CE0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504CBE-C8B6-4C1E-AC98-8B205D27CA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60B34E-666C-42DD-ADD9-CCBCB94EC7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8AD4BD-F8D1-4D9A-AD68-60CCB1D7D8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0106AE-AD5E-4AAF-BB08-4FE3E195BE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3C2C94-3A3F-4382-8F44-E5D26DA6F9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AFE419-E63B-4A70-8EC0-5623793DEB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3151D1-885B-4A0B-A4BE-03DD49A34A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AB870-C959-41DB-AA58-F3AF62D57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40BB30-2330-4516-AFF2-41B7FAEA1D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A31DFC-CA15-466D-8BEB-988642FDA1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DF4CBC-F3FB-4D4C-9ABE-83D1B9D566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BFA3ED-38ED-4CF8-AE73-FC3ABAFAED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7CFAAC-E91C-47E3-9CB2-760D704215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9F8923-00AA-49A0-B59F-EE2DF89C47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8222BD-4F7B-4346-93DB-ED4190B386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595FA6-517A-47D1-AE02-9F43FF3815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A0955C-F261-463B-B400-30DA19E48C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583429-CEBD-4EE4-968C-2E4823AC70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291F1-6FA9-4342-85D7-E6B3E86BD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60D7CB-B00C-489E-BC50-A941503ABA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C9024B-D75E-444A-BA7B-A49C856488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B73659-3568-4746-88A8-43E9432E0E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505A18-C197-489E-AFC0-B177043891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F818C2-EB07-4A8C-9BB2-CF81F372CE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BB1A807-F475-417F-B193-4FBE39EC67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99AB33-E9CF-4938-8979-AD76836359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7013E5-1541-4573-8B06-9385954065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DACFE2-77FE-441A-BDE9-C7F426B098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FDA0E5-926A-4A32-A8CA-3A54C35D3B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6A111-3A3D-485D-884A-4154EB83E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211605-F391-4449-B3E7-971313AA25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55B862-B8BD-4CE9-A4C4-898C315D4C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5B4F6E-6D9B-4DAA-8EA4-B2B1DB5A71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126431-E87D-4F51-8153-83D801A78B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1CAEB9-2E6A-42DC-B51E-C531AF4745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628DFE-2A94-433F-935F-F47A49C65B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84F846-CC11-4BAA-A186-4804DEA06E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2B8D45-EFB3-4891-BD63-4C74EDA124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9FFB0D-AC7C-491F-932C-A6496363B4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C55759-C740-4F2A-A82F-C7EC782752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98269-5CAB-46FA-B772-FE1450ADC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0915F3-EFB8-4E63-83AE-882C3B531E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0409A3-9386-4453-9E91-709A82E98C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A6E687-020E-4FDC-9C09-26B815BD7C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EEB41C-8858-4E44-90F6-B3A501681B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4DB3C5-CE24-4FA1-A453-7A7546FAF5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F369F9-6805-41BD-9585-04A561F128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295984-737E-4CCA-96B6-39976F1C07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A797E89-ECA1-4707-ACC8-EF935B0AF0A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9272E0C-4F30-4FBA-87E7-41BA49A917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271419A-BCCB-4A85-9146-AB104C7FD4E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D7486-84D2-4523-9E21-565324DF5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F4B422-1DBB-49EE-BF24-3538D56D81D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3BA813-B3C1-4740-91FE-590099A98AD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4BFFC4-01AA-42FA-B502-3838F50E2C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F4E528-7961-424C-BABC-183B148924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681EAF-090E-4C48-9A22-15E349B715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E2BCFA-6DA5-4305-AD30-7A8C330743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6E2235-51C2-4729-BA3F-8C87F0FD9D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82DF2A-FCAA-4BCF-B19C-97C8E2D899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DD9ACD-EA18-4E50-9029-BB0FD47A4B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63514E-37F6-4BFE-AC39-B80805C8673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0E6F4-B0A0-4FA6-853B-49835F27C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13FF8E-BD4A-492B-9DD6-CAF7F7A52A6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D65CF-DA1E-473E-969D-B13A523AE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5720D-31E9-4770-A395-DF459254F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3ECC6-33FC-44AB-9901-FC9174145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CA9C4-A9F7-431A-9CA9-2C34DE0C1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10F1A-FF23-4C1D-97BC-D7F4F0B42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E4F66-5D4E-4214-850D-1AF9EAFB0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3A05E-0AB2-4CE3-9DF9-138A4F712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3C9AC3-6AFC-4379-87E6-A60EF9EEAA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EEF58-15C8-489F-941A-37C692055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8E7D0-87C3-4B57-8D11-591DE69A8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90A91-D1CC-4F5F-A421-2ECD15C81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38B41-CBD7-41FB-8944-6FCC24B15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793E0-EA18-4D7A-9053-6B48C81F0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3F6DB-07BB-4325-BC25-CF0C5BC35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24B0E-DA4D-4040-B7E4-018946B3B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7FEEE-AD84-40A0-BD88-A36BAC122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71F03-7170-4D1A-8316-5880CE765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12643-4B35-4A3F-9418-B9C79F7DF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3C826B-9B44-4699-8D7B-811DBF6D99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AA4790-1194-4A16-B4D0-1DA0B60DDD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BA4C7C-BE9B-44CA-B28A-9C3DB8170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CF6D1-A625-44E7-BF64-6AB81CBFA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D932A-C3F9-44B3-A7D2-8CA2C62FC4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4706E-37CF-4E08-8CF6-541549400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BBEFA-C622-4B49-8B22-2DEE5C1B6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0FF16-B653-4969-9015-0231048E7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45029-E2D8-462C-8487-4A139C39E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15A9F-5139-4B11-9749-80D5D4C8F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DE590-32C7-4A35-B146-137EE982D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C3A56-ADFF-49A1-A4A6-8C9179C2A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BAC581-DCF6-411D-807C-1D2EDF9A1A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2D627E-F123-4897-AD74-2884A3E077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39F753-DFFD-4987-BCA5-76316A108B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D0BDA-E33F-4F6A-BB55-77BA5FE197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5B129-0CD0-41C4-8EE5-A6A20F19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677A07-4699-4CFA-8E9C-05B6B106FF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F6D09-3474-4A10-A189-748302970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8D2891-B071-465B-99C2-4AEA58323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C8C28C-DAA0-4FE5-B35B-7612C6671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86E99E-3AE6-4A8E-99C8-8424918884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2A103-3E5A-407A-A816-8D925DA18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1E301-9C37-4413-8E46-5C8B21E59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88556-8D75-4F1B-9B79-F56248B75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703F76-B371-48DB-99C8-2AFF8CDE1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101FC9-ED17-4E84-A9D8-210A45AF77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B464-2756-44C4-BFAC-064F7AC3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507A86-AE14-4920-BBFE-04DF95BA1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3CDE91-3C51-4611-87DF-C31A3AB1A1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F2866-709A-4980-946D-A125027A40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EEA48E-8F13-485D-B1C6-61767841C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6D9896-E45E-454A-82C5-3454E53CD9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757CCE-DD6E-4AFF-80E9-5E900C561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DB66F2-B0AE-4BE6-894E-EAD370120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C00396-B463-4A9E-8A0E-00791F4BD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3ABBB-D6DA-4DEF-B537-BF5628019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DC1D6-C546-4369-9E02-4DD3B0611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C9E69-0F23-4E4B-91FA-3A133CE82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5AEAB-1BB7-4BA4-888E-86D65C994A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70B9FF-42CB-46CF-BFDE-040FC21FFB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6D7CCB-ACD5-4513-8963-63D1C0212F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9B158B-4CAA-4741-85A7-DAF0A37104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F2E5D2-94CD-4D59-B937-2BF90212D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A94AF-6996-4A9B-B434-566E8EFD6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AA189-E41C-471B-8012-E6AFDD43A0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F66375-72AE-4F8D-A3C0-030D02CCB7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02623-0A67-4A88-ABFB-9A0672DFFF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7253F-1FF7-4C14-987D-B66C322A1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1CB4-20F9-4D4C-9830-7B62B9FBE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2EA22-BFCD-4C8F-BC7C-48BCB5D62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7836F-2C68-4805-9344-54CCDD696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57922E-99BD-467A-B103-28DC79D390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E8409F-79DE-427B-A993-1588D8768A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E61833-F78A-46D0-88C2-2D35F0CDFD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055E39-06CB-4AC6-85A3-BE8F3A0B36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254C5-D88D-417C-9B02-0D55890E88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1A1F13-8DFF-4BC4-ABEA-088240DE6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7B72D7-0AFD-4E18-A612-4CA3B70531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741BA-8488-4724-8B6D-61C3DC47E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9B1A-3667-4ED8-AFE7-A036F403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AB3BEA-6464-4ED7-8BEF-D9911C08D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9D3B3-2CF7-466D-95E4-641A994B4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D2BB2-9690-4678-8750-D916A6F0B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4971F3-639F-4C81-95B2-FA99AF1227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EAC5C-A91B-4964-BE52-ECB36DBE3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736F41-D2B9-40A2-89AF-8950595E3A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4DA3B6-47B3-4E64-9DEE-2E8A070698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875EF4-34BA-421D-9664-081CA007D2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E0820A-153B-46F4-81BF-4BF8222163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01442-E1E7-4B90-AAA2-E3587E3EBF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F3B1-33D7-4980-8EDC-5F7AF79CF92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395B-E49A-4EE5-BAC6-40FC332A3A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0A22-D132-46C7-8EA6-D6C221F9537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B398-40CA-4B32-B6CE-4D3A1DE16B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2" name="Picture 6" descr="RCNET.jpg"/>
          <p:cNvPicPr/>
          <p:nvPr/>
        </p:nvPicPr>
        <p:blipFill>
          <a:blip r:embed="rId3"/>
          <a:stretch/>
        </p:blipFill>
        <p:spPr>
          <a:xfrm>
            <a:off x="8121600" y="5961240"/>
            <a:ext cx="1044720" cy="966600"/>
          </a:xfrm>
          <a:prstGeom prst="rect">
            <a:avLst/>
          </a:prstGeom>
          <a:ln w="0">
            <a:noFill/>
          </a:ln>
        </p:spPr>
      </p:pic>
      <p:pic>
        <p:nvPicPr>
          <p:cNvPr id="413" name="Picture 7" descr="IRSC_NSFPoster.jpg"/>
          <p:cNvPicPr/>
          <p:nvPr/>
        </p:nvPicPr>
        <p:blipFill>
          <a:blip r:embed="rId4"/>
          <a:stretch/>
        </p:blipFill>
        <p:spPr>
          <a:xfrm>
            <a:off x="0" y="6443640"/>
            <a:ext cx="457200" cy="3589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5E55-560C-4466-AA1D-DC9C1138077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1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7721-7FF2-4AAF-9292-0B1C5303FE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DE00-AD66-40CC-B958-E175C473A4D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5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8A76-B3B1-44A0-B507-C85377D900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F000-8C60-46B8-9B4B-12EA0A25716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8C92-D58D-48BD-8FF1-DD1C57A984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D74B-9621-4DA0-8130-A282F97A7F6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4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F0B7-6D9A-4561-837D-9CBFAFB8D7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C2F1-9522-42A6-999D-723E535A058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8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BA33-63F9-4B48-AE03-188F2A7DF7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6E3B-F562-4959-B415-A46B012DB0A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D40A-6D17-43F0-99F5-766B72B936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RCNET.jpg"/>
          <p:cNvPicPr/>
          <p:nvPr/>
        </p:nvPicPr>
        <p:blipFill>
          <a:blip r:embed="rId3"/>
          <a:stretch/>
        </p:blipFill>
        <p:spPr>
          <a:xfrm>
            <a:off x="8121600" y="5961240"/>
            <a:ext cx="1044720" cy="966600"/>
          </a:xfrm>
          <a:prstGeom prst="rect">
            <a:avLst/>
          </a:prstGeom>
          <a:ln w="0">
            <a:noFill/>
          </a:ln>
        </p:spPr>
      </p:pic>
      <p:pic>
        <p:nvPicPr>
          <p:cNvPr id="83" name="Picture 7" descr="IRSC_NSFPoster.jpg"/>
          <p:cNvPicPr/>
          <p:nvPr/>
        </p:nvPicPr>
        <p:blipFill>
          <a:blip r:embed="rId4"/>
          <a:stretch/>
        </p:blipFill>
        <p:spPr>
          <a:xfrm>
            <a:off x="0" y="6443640"/>
            <a:ext cx="457200" cy="358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0678-76E8-4E63-A61D-ED306CE53FF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58F8-FB7E-49DB-8BDD-5DEB9FDB53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2CF4-F7AB-455E-9F61-9857743E1334}"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E4D7-AEC7-4D00-B89E-004787C1BB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331F-1EB6-4494-B541-1A6B8E36097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7BF3-4854-4E79-842D-F1E4A36230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FD2A-C8A4-40A3-9B96-DF6B2752387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DF6B-CC9C-4189-8B3E-F213041CA5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9246-E587-4EAC-86B8-F6FB74BF33E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FA48-8278-43E0-A837-9AAD7C345C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F0E6-4E6C-4E62-9373-049BC17293C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CCB3-9E1C-4F06-A8C9-5E42467930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DDC6-E65C-4B93-8661-B7842C2322D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B14F-588B-44B5-B01F-11D524AC82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hyperlink" Target="http://www.hss.energy.gov/nuclearsafety/ns/techstds/standard/hdbk1017/h1017v1.pdf" TargetMode="External"/><Relationship Id="rId2" Type="http://schemas.openxmlformats.org/officeDocument/2006/relationships/hyperlink" Target="http://www.corrosion-doctors.org/Forms-SCC/scc.ht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152280" y="1773360"/>
            <a:ext cx="8839440" cy="48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Title 1" descr=""/>
          <p:cNvPicPr/>
          <p:nvPr/>
        </p:nvPicPr>
        <p:blipFill>
          <a:blip r:embed="rId1"/>
          <a:stretch/>
        </p:blipFill>
        <p:spPr>
          <a:xfrm>
            <a:off x="-195120" y="0"/>
            <a:ext cx="9339120" cy="1262160"/>
          </a:xfrm>
          <a:prstGeom prst="rect">
            <a:avLst/>
          </a:prstGeom>
          <a:ln w="0">
            <a:noFill/>
          </a:ln>
        </p:spPr>
      </p:pic>
      <p:graphicFrame>
        <p:nvGraphicFramePr>
          <p:cNvPr id="628" name=""/>
          <p:cNvGraphicFramePr/>
          <p:nvPr/>
        </p:nvGraphicFramePr>
        <p:xfrm>
          <a:off x="324000" y="2133720"/>
          <a:ext cx="8667720" cy="863640"/>
        </p:xfrm>
        <a:graphic>
          <a:graphicData uri="http://schemas.openxmlformats.org/drawingml/2006/table">
            <a:tbl>
              <a:tblPr/>
              <a:tblGrid>
                <a:gridCol w="1187280"/>
                <a:gridCol w="1143000"/>
                <a:gridCol w="1346400"/>
                <a:gridCol w="1701720"/>
                <a:gridCol w="1352520"/>
                <a:gridCol w="1936800"/>
              </a:tblGrid>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8</a:t>
                      </a:r>
                      <a:endParaRPr b="0" lang="en-US" sz="1800" spc="-1" strike="noStrike">
                        <a:solidFill>
                          <a:srgbClr val="000000"/>
                        </a:solidFill>
                        <a:latin typeface="Arial"/>
                      </a:endParaRPr>
                    </a:p>
                  </a:txBody>
                  <a:tcPr anchor="t" marL="91440" marR="91440">
                    <a:lnL>
                      <a:noFill/>
                    </a:lnL>
                    <a:lnR>
                      <a:noFill/>
                    </a:lnR>
                    <a:lnT>
                      <a:noFill/>
                    </a:lnT>
                    <a:lnB>
                      <a:noFill/>
                    </a:lnB>
                    <a:noFill/>
                  </a:tcPr>
                </a:tc>
              </a:tr>
              <a:tr h="43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629"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779D-52F4-4D00-B0FF-5745978567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8" name="Picture 4" descr=""/>
          <p:cNvPicPr/>
          <p:nvPr/>
        </p:nvPicPr>
        <p:blipFill>
          <a:blip r:embed="rId1"/>
          <a:stretch/>
        </p:blipFill>
        <p:spPr>
          <a:xfrm>
            <a:off x="1781280" y="131760"/>
            <a:ext cx="5850000" cy="6675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1" name="Picture 4" descr=""/>
          <p:cNvPicPr/>
          <p:nvPr/>
        </p:nvPicPr>
        <p:blipFill>
          <a:blip r:embed="rId1"/>
          <a:stretch/>
        </p:blipFill>
        <p:spPr>
          <a:xfrm>
            <a:off x="1800360" y="1701720"/>
            <a:ext cx="5543280" cy="4322880"/>
          </a:xfrm>
          <a:prstGeom prst="rect">
            <a:avLst/>
          </a:prstGeom>
          <a:ln w="0">
            <a:noFill/>
          </a:ln>
        </p:spPr>
      </p:pic>
      <p:sp>
        <p:nvSpPr>
          <p:cNvPr id="9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A4AF-7783-4C82-BB71-A14E9CA9FB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and crevice corrosion are a major hazard to a nuclear facility because of the rapid penetration of the metal with little overall loss of ma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 nuclear facility minimizes pitting and crevice corrosion by the following acti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stagnant or low flow condition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metals and alloys that are less susceptible to the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agents in the medium that cause pitting (for example, chlorides and oxy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the system and components such that no crevices are pres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00BF-EA30-4C73-81C0-064BBE74DE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70EB-374A-4AFC-91AF-DA52B8DACD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 Corrosion</a:t>
            </a:r>
            <a:endParaRPr b="0" lang="en-US" sz="4400" spc="-1" strike="noStrike">
              <a:solidFill>
                <a:srgbClr val="000000"/>
              </a:solidFill>
              <a:latin typeface="Calibri"/>
            </a:endParaRPr>
          </a:p>
        </p:txBody>
      </p:sp>
      <p:sp>
        <p:nvSpPr>
          <p:cNvPr id="968"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d by inconsistencies in material composition of the metal and the presence of oxygen and fluoride or chlorid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material has differences in potential in nearby portions corrosion can occu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attacks the area most prone to corrosion. The presence of chlorides accelerate the corrosion r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forms a pit that can eventually cause a ruptu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ize by using homogeneous metals and minimizing the presence of oxygen and chloride in sol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85D3-A133-42C1-8156-89F9C25D93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localized corrosion</a:t>
            </a:r>
            <a:endParaRPr b="0" lang="en-US" sz="4400" spc="-1" strike="noStrike">
              <a:solidFill>
                <a:srgbClr val="000000"/>
              </a:solidFill>
              <a:latin typeface="Calibri"/>
            </a:endParaRPr>
          </a:p>
        </p:txBody>
      </p:sp>
      <p:sp>
        <p:nvSpPr>
          <p:cNvPr id="971"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chl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flu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oxygen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 to moderate basic 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heavy metals like mercury</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8F59-D12D-4852-A199-86F543C29A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974"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hss.energy.gov/nuclearsafety/ns/techstds/standard/hdbk1017/h1017v1.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corrosion-doctors.org/Forms-SCC/scc.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Two Types of Electrochemical Cells</a:t>
            </a:r>
            <a:endParaRPr b="0" lang="en-US" sz="4200" spc="-1" strike="noStrike">
              <a:solidFill>
                <a:srgbClr val="000000"/>
              </a:solidFill>
              <a:latin typeface="Calibri"/>
            </a:endParaRPr>
          </a:p>
        </p:txBody>
      </p:sp>
      <p:sp>
        <p:nvSpPr>
          <p:cNvPr id="66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16FE-2DE0-405B-83ED-0796FFF24F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61" name="Picture 3" descr="370750_la_11_02"/>
          <p:cNvPicPr/>
          <p:nvPr/>
        </p:nvPicPr>
        <p:blipFill>
          <a:blip r:embed="rId1"/>
          <a:stretch/>
        </p:blipFill>
        <p:spPr>
          <a:xfrm>
            <a:off x="152280" y="2438280"/>
            <a:ext cx="8839440" cy="4210200"/>
          </a:xfrm>
          <a:prstGeom prst="rect">
            <a:avLst/>
          </a:prstGeom>
          <a:ln w="0">
            <a:noFill/>
          </a:ln>
        </p:spPr>
      </p:pic>
      <p:sp>
        <p:nvSpPr>
          <p:cNvPr id="662" name="Rectangle 4"/>
          <p:cNvSpPr/>
          <p:nvPr/>
        </p:nvSpPr>
        <p:spPr>
          <a:xfrm>
            <a:off x="0" y="10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661"/>
                                        </p:tgtEl>
                                      </p:cBhvr>
                                    </p:animEffect>
                                    <p:set>
                                      <p:cBhvr>
                                        <p:cTn id="7" dur="1" fill="hold">
                                          <p:stCondLst>
                                            <p:cond delay="499"/>
                                          </p:stCondLst>
                                        </p:cTn>
                                        <p:tgtEl>
                                          <p:spTgt spid="6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xidation potential describes the ability to loose electrons.  This takes place at the ano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duction potential reflects the ability to gain electrons.  Takes place in the catho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otential is measured with respect to a reference.  In this case, the reference is the hydrogen electro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st negative potentials represent the strongest reducing agen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ypes of cells: galvanic (electrodes of two different substances) and concentration cells (same electrodes with different concentrations).</a:t>
            </a:r>
            <a:endParaRPr b="0" lang="en-US" sz="2700" spc="-1" strike="noStrike">
              <a:solidFill>
                <a:srgbClr val="000000"/>
              </a:solidFill>
              <a:latin typeface="Calibri"/>
            </a:endParaRPr>
          </a:p>
        </p:txBody>
      </p:sp>
      <p:sp>
        <p:nvSpPr>
          <p:cNvPr id="6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2237-A405-49CC-9B4F-CED85AB00F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pic>
        <p:nvPicPr>
          <p:cNvPr id="667" name="Picture 4" descr=""/>
          <p:cNvPicPr/>
          <p:nvPr/>
        </p:nvPicPr>
        <p:blipFill>
          <a:blip r:embed="rId1"/>
          <a:stretch/>
        </p:blipFill>
        <p:spPr>
          <a:xfrm>
            <a:off x="1774800" y="2013120"/>
            <a:ext cx="5568840" cy="2508120"/>
          </a:xfrm>
          <a:prstGeom prst="rect">
            <a:avLst/>
          </a:prstGeom>
          <a:ln w="0">
            <a:noFill/>
          </a:ln>
        </p:spPr>
      </p:pic>
      <p:sp>
        <p:nvSpPr>
          <p:cNvPr id="66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05B5-9B80-42DA-840B-0340DCE62D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69" name="Rectangle 5"/>
          <p:cNvSpPr/>
          <p:nvPr/>
        </p:nvSpPr>
        <p:spPr>
          <a:xfrm>
            <a:off x="792000" y="4606920"/>
            <a:ext cx="8124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electrochemical cells: </a:t>
            </a:r>
            <a:r>
              <a:rPr b="1" lang="en-US" sz="2400" spc="-1" strike="noStrike">
                <a:solidFill>
                  <a:srgbClr val="000000"/>
                </a:solidFill>
                <a:latin typeface="Arial"/>
              </a:rPr>
              <a:t>galvanic </a:t>
            </a:r>
            <a:r>
              <a:rPr b="0" lang="en-US" sz="2400" spc="-1" strike="noStrike">
                <a:solidFill>
                  <a:srgbClr val="000000"/>
                </a:solidFill>
                <a:latin typeface="Arial"/>
              </a:rPr>
              <a:t>(ones that spontaneously produce electrical energy) and </a:t>
            </a:r>
            <a:r>
              <a:rPr b="1" lang="en-US" sz="2400" spc="-1" strike="noStrike">
                <a:solidFill>
                  <a:srgbClr val="000000"/>
                </a:solidFill>
                <a:latin typeface="Arial"/>
              </a:rPr>
              <a:t>electrolytic </a:t>
            </a:r>
            <a:r>
              <a:rPr b="0" lang="en-US" sz="2400" spc="-1" strike="noStrike">
                <a:solidFill>
                  <a:srgbClr val="000000"/>
                </a:solidFill>
                <a:latin typeface="Arial"/>
              </a:rPr>
              <a:t>(ones that consume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1" name="Picture 4" descr=""/>
          <p:cNvPicPr/>
          <p:nvPr/>
        </p:nvPicPr>
        <p:blipFill>
          <a:blip r:embed="rId1"/>
          <a:stretch/>
        </p:blipFill>
        <p:spPr>
          <a:xfrm>
            <a:off x="581040" y="1600200"/>
            <a:ext cx="7981920" cy="4525920"/>
          </a:xfrm>
          <a:prstGeom prst="rect">
            <a:avLst/>
          </a:prstGeom>
          <a:ln w="0">
            <a:noFill/>
          </a:ln>
        </p:spPr>
      </p:pic>
      <p:sp>
        <p:nvSpPr>
          <p:cNvPr id="67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D4E2-83A9-4816-81E5-A36A02B286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73" name="Rectangle 5"/>
          <p:cNvSpPr/>
          <p:nvPr/>
        </p:nvSpPr>
        <p:spPr>
          <a:xfrm>
            <a:off x="1319040" y="6203880"/>
            <a:ext cx="68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tential difference between two electrodes represents a tendency for the reaction to occ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
          <p:cNvSpPr txBox="1"/>
          <p:nvPr/>
        </p:nvSpPr>
        <p:spPr>
          <a:xfrm>
            <a:off x="457200" y="1693440"/>
            <a:ext cx="8229600" cy="4389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electrochemical reactions to take place the microcells must be interconnecte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nection established by the water/electrolyte solution and the cells produce electrical current allowing the reaction to take pl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rmally the reaction is expected to continue until the difference in potential between the negatively charged metal and positively charged solution is zer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ase iron will not leave the su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imperfections will cause preferential oxidation of one region versus another resulting in localized corrosion.</a:t>
            </a:r>
            <a:endParaRPr b="0" lang="en-US" sz="2400" spc="-1" strike="noStrike">
              <a:solidFill>
                <a:srgbClr val="000000"/>
              </a:solidFill>
              <a:latin typeface="Calibri"/>
            </a:endParaRPr>
          </a:p>
        </p:txBody>
      </p:sp>
      <p:sp>
        <p:nvSpPr>
          <p:cNvPr id="6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EBB1-1C42-4B90-84E9-42639BED0B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idation and Reduction Reactions</a:t>
            </a:r>
            <a:endParaRPr b="0" lang="en-US" sz="4000" spc="-1" strike="noStrike">
              <a:solidFill>
                <a:srgbClr val="000000"/>
              </a:solidFill>
              <a:latin typeface="Calibri"/>
            </a:endParaRPr>
          </a:p>
        </p:txBody>
      </p:sp>
      <p:sp>
        <p:nvSpPr>
          <p:cNvPr id="678"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of a metal (that is, the chemical transformation that is recognized as destructive to the metal) is the oxidation step of the overall oxidation-reduction proce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Oxidation</a:t>
            </a:r>
            <a:r>
              <a:rPr b="0" lang="en-US" sz="2200" spc="-1" strike="noStrike">
                <a:solidFill>
                  <a:srgbClr val="000000"/>
                </a:solidFill>
                <a:latin typeface="Calibri"/>
              </a:rPr>
              <a:t> is the process of losing electrons; </a:t>
            </a:r>
            <a:r>
              <a:rPr b="1" i="1" lang="en-US" sz="2200" spc="-1" strike="noStrike">
                <a:solidFill>
                  <a:srgbClr val="000000"/>
                </a:solidFill>
                <a:latin typeface="Calibri"/>
              </a:rPr>
              <a:t>reduction</a:t>
            </a:r>
            <a:r>
              <a:rPr b="0" lang="en-US" sz="2200" spc="-1" strike="noStrike">
                <a:solidFill>
                  <a:srgbClr val="000000"/>
                </a:solidFill>
                <a:latin typeface="Calibri"/>
              </a:rPr>
              <a:t> is the process of gaining electrons.</a:t>
            </a: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679" name="Object 4"/>
              <p:cNvSpPr txBox="1"/>
              <p:nvPr/>
            </p:nvSpPr>
            <p:spPr>
              <a:xfrm>
                <a:off x="2827440" y="3625920"/>
                <a:ext cx="2900160" cy="365040"/>
              </a:xfrm>
              <a:prstGeom prst="rect">
                <a:avLst/>
              </a:prstGeom>
            </p:spPr>
            <p:txBody>
              <a:bodyPr/>
              <a:p>
                <a14:m>
                  <m:oMath xmlns:m="http://schemas.openxmlformats.org/officeDocument/2006/math">
                    <m:r>
                      <m:rPr>
                        <m:lit/>
                        <m:nor/>
                      </m:rPr>
                      <m:t xml:space="preserve">Fe</m:t>
                    </m:r>
                    <m:r>
                      <m:t xml:space="preserve">→</m:t>
                    </m:r>
                    <m:sSup>
                      <m:e>
                        <m:r>
                          <m:rPr>
                            <m:lit/>
                            <m:nor/>
                          </m:rPr>
                          <m:t xml:space="preserve">Fe</m:t>
                        </m:r>
                      </m:e>
                      <m:sup>
                        <m:r>
                          <m:t xml:space="preserve">2</m:t>
                        </m:r>
                        <m:r>
                          <m:t xml:space="preserve">+</m:t>
                        </m:r>
                      </m:sup>
                    </m:sSup>
                    <m:r>
                      <m:t xml:space="preserve">+</m:t>
                    </m:r>
                    <m:r>
                      <m:t xml:space="preserve">2</m:t>
                    </m:r>
                    <m:sSup>
                      <m:e>
                        <m:r>
                          <m:t xml:space="preserve">e</m:t>
                        </m:r>
                      </m:e>
                      <m:sup>
                        <m:r>
                          <m:t xml:space="preserve">−</m:t>
                        </m:r>
                      </m:sup>
                    </m:sSup>
                    <m:r>
                      <m:t xml:space="preserve"> </m:t>
                    </m:r>
                    <m:r>
                      <m:rPr>
                        <m:lit/>
                        <m:nor/>
                      </m:rPr>
                      <m:t xml:space="preserve">Oxidation</m:t>
                    </m:r>
                  </m:oMath>
                </a14:m>
              </a:p>
            </p:txBody>
          </p:sp>
        </mc:Choice>
        <mc:Fallback/>
      </mc:AlternateContent>
      <mc:AlternateContent>
        <mc:Choice xmlns:a14="http://schemas.microsoft.com/office/drawing/2010/main" Requires="a14">
          <p:sp>
            <p:nvSpPr>
              <p:cNvPr id="680" name="Object 6"/>
              <p:cNvSpPr txBox="1"/>
              <p:nvPr/>
            </p:nvSpPr>
            <p:spPr>
              <a:xfrm>
                <a:off x="2738520" y="4278240"/>
                <a:ext cx="3074760" cy="371520"/>
              </a:xfrm>
              <a:prstGeom prst="rect">
                <a:avLst/>
              </a:prstGeom>
            </p:spPr>
            <p:txBody>
              <a:bodyPr/>
              <a:p>
                <a14:m>
                  <m:oMath xmlns:m="http://schemas.openxmlformats.org/officeDocument/2006/math">
                    <m:sSub>
                      <m:e>
                        <m:r>
                          <m:rPr>
                            <m:lit/>
                            <m:nor/>
                          </m:rPr>
                          <m:t xml:space="preserve">Cl</m:t>
                        </m:r>
                      </m:e>
                      <m:sub>
                        <m:r>
                          <m:t xml:space="preserve">2</m:t>
                        </m:r>
                      </m:sub>
                    </m:sSub>
                    <m:r>
                      <m:t xml:space="preserve">+</m:t>
                    </m:r>
                    <m:r>
                      <m:t xml:space="preserve">2</m:t>
                    </m:r>
                    <m:sSup>
                      <m:e>
                        <m:r>
                          <m:t xml:space="preserve">e</m:t>
                        </m:r>
                      </m:e>
                      <m:sup>
                        <m:r>
                          <m:t xml:space="preserve">−</m:t>
                        </m:r>
                      </m:sup>
                    </m:sSup>
                    <m:r>
                      <m:t xml:space="preserve">→</m:t>
                    </m:r>
                    <m:r>
                      <m:t xml:space="preserve">2</m:t>
                    </m:r>
                    <m:sSup>
                      <m:e>
                        <m:r>
                          <m:rPr>
                            <m:lit/>
                            <m:nor/>
                          </m:rPr>
                          <m:t xml:space="preserve">Cl</m:t>
                        </m:r>
                      </m:e>
                      <m:sup>
                        <m:r>
                          <m:t xml:space="preserve">−</m:t>
                        </m:r>
                      </m:sup>
                    </m:sSup>
                    <m:r>
                      <m:t xml:space="preserve"> </m:t>
                    </m:r>
                    <m:r>
                      <m:rPr>
                        <m:lit/>
                        <m:nor/>
                      </m:rPr>
                      <m:t xml:space="preserve">Reduction</m:t>
                    </m:r>
                  </m:oMath>
                </a14:m>
              </a:p>
            </p:txBody>
          </p:sp>
        </mc:Choice>
        <mc:Fallback/>
      </mc:AlternateContent>
      <p:sp>
        <p:nvSpPr>
          <p:cNvPr id="6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7A39-0D9B-4B3F-85AA-92942D0A55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82" name="Object 8"/>
          <p:cNvGraphicFramePr/>
          <p:nvPr/>
        </p:nvGraphicFramePr>
        <p:xfrm>
          <a:off x="2479680" y="5418000"/>
          <a:ext cx="3557520" cy="1162080"/>
        </p:xfrm>
        <a:graphic>
          <a:graphicData uri="http://schemas.openxmlformats.org/presentationml/2006/ole">
            <p:oleObj r:id="rId1" spid="">
              <p:embed/>
              <p:pic>
                <p:nvPicPr>
                  <p:cNvPr id="683" name="Object 8" descr=""/>
                  <p:cNvPicPr/>
                  <p:nvPr/>
                </p:nvPicPr>
                <p:blipFill>
                  <a:blip r:embed="rId2"/>
                  <a:stretch/>
                </p:blipFill>
                <p:spPr>
                  <a:xfrm>
                    <a:off x="2479680" y="5418000"/>
                    <a:ext cx="3557520" cy="1162080"/>
                  </a:xfrm>
                  <a:prstGeom prst="rect">
                    <a:avLst/>
                  </a:prstGeom>
                  <a:ln w="25560">
                    <a:solidFill>
                      <a:srgbClr val="000000"/>
                    </a:solidFill>
                    <a:miter/>
                  </a:ln>
                </p:spPr>
              </p:pic>
            </p:oleObj>
          </a:graphicData>
        </a:graphic>
      </p:graphicFrame>
      <p:sp>
        <p:nvSpPr>
          <p:cNvPr id="684" name="Text Box 9"/>
          <p:cNvSpPr/>
          <p:nvPr/>
        </p:nvSpPr>
        <p:spPr>
          <a:xfrm>
            <a:off x="2621160" y="489744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REDOX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55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Oxidation and Reduction Reactions</a:t>
            </a:r>
            <a:endParaRPr b="0" lang="en-US" sz="4100" spc="-1" strike="noStrike">
              <a:solidFill>
                <a:srgbClr val="000000"/>
              </a:solidFill>
              <a:latin typeface="Calibri"/>
            </a:endParaRPr>
          </a:p>
        </p:txBody>
      </p:sp>
      <p:sp>
        <p:nvSpPr>
          <p:cNvPr id="686"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he metal looses electrons it forms a positively charged 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action takes place at the ano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ations (positive ions) may then go into solution, or they may combine with any available anions (negative ions) or water to form ionic compound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tal decomposes as it corrod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must be followed by a redu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ost metals in an aqueous environment, the important reduction half-reaction is the reduction of hydronium ions (a hydronium ion is simply a hydrogen ion attached to a water molecule).</a:t>
            </a:r>
            <a:endParaRPr b="0" lang="en-US" sz="2200" spc="-1" strike="noStrike">
              <a:solidFill>
                <a:srgbClr val="000000"/>
              </a:solidFill>
              <a:latin typeface="Calibri"/>
            </a:endParaRPr>
          </a:p>
        </p:txBody>
      </p:sp>
      <p:sp>
        <p:nvSpPr>
          <p:cNvPr id="6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A54D-9225-4CB7-A3E7-5811A4FE3C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88" name="Object 2"/>
              <p:cNvSpPr txBox="1"/>
              <p:nvPr/>
            </p:nvSpPr>
            <p:spPr>
              <a:xfrm>
                <a:off x="2968560" y="6013440"/>
                <a:ext cx="3265560" cy="539640"/>
              </a:xfrm>
              <a:prstGeom prst="rect">
                <a:avLst/>
              </a:prstGeom>
            </p:spPr>
            <p:txBody>
              <a:bodyPr/>
              <a:p>
                <a14:m>
                  <m:oMath xmlns:m="http://schemas.openxmlformats.org/officeDocument/2006/math">
                    <m:sSub>
                      <m:e>
                        <m:r>
                          <m:t xml:space="preserve">H</m:t>
                        </m:r>
                      </m:e>
                      <m:sub>
                        <m:r>
                          <m:t xml:space="preserve">3</m:t>
                        </m:r>
                      </m:sub>
                    </m:sSub>
                    <m:sSup>
                      <m:e>
                        <m:r>
                          <m:t xml:space="preserve">O</m:t>
                        </m:r>
                      </m:e>
                      <m:sup>
                        <m:r>
                          <m:t xml:space="preserve">+</m:t>
                        </m:r>
                      </m:sup>
                    </m:sSup>
                    <m:r>
                      <m:t xml:space="preserve">+</m:t>
                    </m:r>
                    <m:sSup>
                      <m:e>
                        <m:r>
                          <m:t xml:space="preserve">e</m:t>
                        </m:r>
                      </m:e>
                      <m:sup>
                        <m:r>
                          <m:t xml:space="preserve">−</m:t>
                        </m:r>
                      </m:sup>
                    </m:sSup>
                    <m:r>
                      <m:t xml:space="preserve">→</m:t>
                    </m:r>
                    <m:sSub>
                      <m:e>
                        <m:r>
                          <m:t xml:space="preserve">H</m:t>
                        </m:r>
                      </m:e>
                      <m:sub>
                        <m:r>
                          <m:t xml:space="preserve">2</m:t>
                        </m:r>
                      </m:sub>
                    </m:sSub>
                    <m:r>
                      <m:t xml:space="preserve">O</m:t>
                    </m:r>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Types</a:t>
            </a:r>
            <a:endParaRPr b="0" lang="en-US" sz="4400" spc="-1" strike="noStrike">
              <a:solidFill>
                <a:srgbClr val="000000"/>
              </a:solidFill>
              <a:latin typeface="Calibri"/>
            </a:endParaRPr>
          </a:p>
        </p:txBody>
      </p:sp>
      <p:sp>
        <p:nvSpPr>
          <p:cNvPr id="69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in a plant depends in the minerals present in the cooling water and the dissolved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corrosion a chemical reaction takes place at the water-metal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corrosion – widespread chemical reaction in the metal su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d corrosion – occurs when specific areas are attacked faster than other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ed by different conditions in a localized area like stress, fatigue, erosion, and other forms of chemical attac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7CF6-A134-4823-9631-BE8A34C369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in the uniform removal of material from all metal surfaces in contact with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takes place in the surface of one me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is dependent on the composition of the water, the type of metal, and the environmental conditions in the pl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on is unstable when in contact with water and dissolves to form ferrous ion (Iron (II) ion) while releasing electr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4B43-E2E3-45CD-9547-F74FD5C8F1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amentals of Corrosion</a:t>
            </a:r>
            <a:endParaRPr b="0" lang="en-US" sz="4400" spc="-1" strike="noStrike">
              <a:solidFill>
                <a:srgbClr val="000000"/>
              </a:solidFill>
              <a:latin typeface="Calibri"/>
            </a:endParaRPr>
          </a:p>
        </p:txBody>
      </p:sp>
      <p:sp>
        <p:nvSpPr>
          <p:cNvPr id="6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Prepared by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Ivelisse Ortiz-Hernandez,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ource: File h1015v1 from the DOE, Module 2</a:t>
            </a:r>
            <a:endParaRPr b="0" lang="en-US" sz="3000" spc="-1" strike="noStrike">
              <a:solidFill>
                <a:srgbClr val="000000"/>
              </a:solidFill>
              <a:latin typeface="Calibri"/>
            </a:endParaRPr>
          </a:p>
        </p:txBody>
      </p:sp>
      <p:sp>
        <p:nvSpPr>
          <p:cNvPr id="632"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570D-06A1-435F-8232-9C3C494B8D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age</a:t>
            </a:r>
            <a:endParaRPr b="0" lang="en-US" sz="4400" spc="-1" strike="noStrike">
              <a:solidFill>
                <a:srgbClr val="000000"/>
              </a:solidFill>
              <a:latin typeface="Calibri"/>
            </a:endParaRPr>
          </a:p>
        </p:txBody>
      </p:sp>
      <p:sp>
        <p:nvSpPr>
          <p:cNvPr id="696"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rosion specifically refers to any process involving the deterioration or degradation of metal compon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rosion processes are usually electrochemical in nature, having the essential features of a batter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metal atoms are exposed to an environment containing water molecules they can give up electrons, becoming themselves positively charged ions, provided an electrical circuit can be completed.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effect can be concentrated locally to form a pit or, sometimes, a crack, or it can extend across a wide area to produce general </a:t>
            </a:r>
            <a:r>
              <a:rPr b="1" lang="en-US" sz="3000" spc="-1" strike="noStrike">
                <a:solidFill>
                  <a:srgbClr val="000000"/>
                </a:solidFill>
                <a:latin typeface="Calibri"/>
              </a:rPr>
              <a:t>wastage</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age</a:t>
            </a:r>
            <a:endParaRPr b="0" lang="en-US" sz="4400" spc="-1" strike="noStrike">
              <a:solidFill>
                <a:srgbClr val="000000"/>
              </a:solidFill>
              <a:latin typeface="Calibri"/>
            </a:endParaRPr>
          </a:p>
        </p:txBody>
      </p:sp>
      <p:sp>
        <p:nvSpPr>
          <p:cNvPr id="698" name=""/>
          <p:cNvSpPr txBox="1"/>
          <p:nvPr/>
        </p:nvSpPr>
        <p:spPr>
          <a:xfrm>
            <a:off x="457200" y="1600200"/>
            <a:ext cx="82296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age Corrosion Test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turated Boric Acid Solution at 97.5°C</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ten H–B–O Environment at Ambient Pressur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Temperature High–Pressure Boric Acid Solu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f Chromium Content on Corrosion 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7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ferrous ions come into contact  with hot water the reduction of hydrogen takes pla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on (II) ion reacts to form mangnetit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gnetite forms a protective lay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E971-2778-4247-8DA1-41A38014A8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02" name="Picture 4" descr=""/>
          <p:cNvPicPr/>
          <p:nvPr/>
        </p:nvPicPr>
        <p:blipFill>
          <a:blip r:embed="rId1"/>
          <a:stretch/>
        </p:blipFill>
        <p:spPr>
          <a:xfrm>
            <a:off x="774720" y="3606840"/>
            <a:ext cx="7912080" cy="302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704" name=""/>
          <p:cNvSpPr txBox="1"/>
          <p:nvPr/>
        </p:nvSpPr>
        <p:spPr>
          <a:xfrm>
            <a:off x="457200" y="200196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reaction takes place, the ferrous ions must pass through this layer to further react with water.</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hick enough layer is formed, the  reaction slows down considerably.</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lem: If the magnetite particles are released into the stream of water, the particles can cause problems in small passages.</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systems go through a “conditioning” process to intentionally form a stable corrosion layer.</a:t>
            </a:r>
            <a:endParaRPr b="0" lang="en-US" sz="2400" spc="-1" strike="noStrike">
              <a:solidFill>
                <a:srgbClr val="000000"/>
              </a:solidFill>
              <a:latin typeface="Calibri"/>
            </a:endParaRPr>
          </a:p>
        </p:txBody>
      </p:sp>
      <p:sp>
        <p:nvSpPr>
          <p:cNvPr id="70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DDFE-9981-4CB6-9AFA-2370557069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rosion Mechanism: Formation of Rust</a:t>
            </a:r>
            <a:endParaRPr b="0" lang="en-US" sz="3600" spc="-1" strike="noStrike">
              <a:solidFill>
                <a:srgbClr val="000000"/>
              </a:solidFill>
              <a:latin typeface="Calibri"/>
            </a:endParaRPr>
          </a:p>
        </p:txBody>
      </p:sp>
      <p:sp>
        <p:nvSpPr>
          <p:cNvPr id="7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6FDD-4442-4323-962B-8AF63B3264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08" name="Picture 5" descr="corrosion-drop-water"/>
          <p:cNvPicPr/>
          <p:nvPr/>
        </p:nvPicPr>
        <p:blipFill>
          <a:blip r:embed="rId1"/>
          <a:stretch/>
        </p:blipFill>
        <p:spPr>
          <a:xfrm>
            <a:off x="290520" y="2106720"/>
            <a:ext cx="8686800" cy="435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Passivity and Polarization of a Metal</a:t>
            </a:r>
            <a:endParaRPr b="0" lang="en-US" sz="4100" spc="-1" strike="noStrike">
              <a:solidFill>
                <a:srgbClr val="000000"/>
              </a:solidFill>
              <a:latin typeface="Calibri"/>
            </a:endParaRPr>
          </a:p>
        </p:txBody>
      </p:sp>
      <p:sp>
        <p:nvSpPr>
          <p:cNvPr id="710" name=""/>
          <p:cNvSpPr txBox="1"/>
          <p:nvPr/>
        </p:nvSpPr>
        <p:spPr>
          <a:xfrm>
            <a:off x="235080" y="1855440"/>
            <a:ext cx="8686800" cy="4389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als that normally fall victim to corrosion will sometimes exhibit a passivity to corros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Passivity</a:t>
            </a:r>
            <a:r>
              <a:rPr b="0" i="1" lang="en-US" sz="2700" spc="-1" strike="noStrike">
                <a:solidFill>
                  <a:srgbClr val="000000"/>
                </a:solidFill>
                <a:latin typeface="Calibri"/>
              </a:rPr>
              <a:t> </a:t>
            </a:r>
            <a:r>
              <a:rPr b="0" lang="en-US" sz="2700" spc="-1" strike="noStrike">
                <a:solidFill>
                  <a:srgbClr val="000000"/>
                </a:solidFill>
                <a:latin typeface="Calibri"/>
              </a:rPr>
              <a:t>is the characteristic of a metal exhibited when that metal does not become active in the corrosion reac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Passivity</a:t>
            </a:r>
            <a:r>
              <a:rPr b="0" lang="en-US" sz="2700" spc="-1" strike="noStrike">
                <a:solidFill>
                  <a:srgbClr val="000000"/>
                </a:solidFill>
                <a:latin typeface="Calibri"/>
              </a:rPr>
              <a:t> is caused by the buildup of a stable, tenacious layer of metal oxide on the surface of the met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the layer, or film, is formed, it acts as a barrier separating the metal surface from the environ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eel example above discusses the use of passivity in a proc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78F0-D697-4688-BD3C-3FAB9D507D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ls such as zirconium, chromium, aluminum, and the stainless steels form thin, tenacious oxide films when exposed to the atmosphere or to pure water  at room tempera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effective in minimizing further corros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7352-6633-4CF3-9CC4-9828BEB2D5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active electrochemical cell (oxidation-reduction reaction) is an unstable chemical syst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is point the system is at </a:t>
            </a:r>
            <a:r>
              <a:rPr b="0" i="1" lang="en-US" sz="2400" spc="-1" strike="noStrike">
                <a:solidFill>
                  <a:srgbClr val="000000"/>
                </a:solidFill>
                <a:latin typeface="Calibri"/>
              </a:rPr>
              <a:t>equilibriu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electrochemical cells, the decrease in cell potential caused by the operation of the cell (current flow) is called </a:t>
            </a:r>
            <a:r>
              <a:rPr b="0" i="1" lang="en-US" sz="2700" spc="-1" strike="noStrike">
                <a:solidFill>
                  <a:srgbClr val="000000"/>
                </a:solidFill>
                <a:latin typeface="Calibri"/>
              </a:rPr>
              <a:t>polarization.</a:t>
            </a:r>
            <a:endParaRPr b="0" lang="en-US" sz="2700" spc="-1" strike="noStrike">
              <a:solidFill>
                <a:srgbClr val="000000"/>
              </a:solidFill>
              <a:latin typeface="Calibri"/>
            </a:endParaRPr>
          </a:p>
        </p:txBody>
      </p:sp>
      <p:sp>
        <p:nvSpPr>
          <p:cNvPr id="71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6AD7-F1A4-41CB-8095-2F9FA58B72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active electrochemical cell (oxidation-reduction reaction) is an unstable chemical syst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is point the system is at </a:t>
            </a:r>
            <a:r>
              <a:rPr b="0" i="1" lang="en-US" sz="2400" spc="-1" strike="noStrike">
                <a:solidFill>
                  <a:srgbClr val="000000"/>
                </a:solidFill>
                <a:latin typeface="Calibri"/>
              </a:rPr>
              <a:t>equilibriu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electrochemical cells, the decrease in cell potential caused by the operation of the cell (current flow) is called </a:t>
            </a:r>
            <a:r>
              <a:rPr b="0" i="1" lang="en-US" sz="2700" spc="-1" strike="noStrike">
                <a:solidFill>
                  <a:srgbClr val="000000"/>
                </a:solidFill>
                <a:latin typeface="Calibri"/>
              </a:rPr>
              <a:t>polarization.</a:t>
            </a:r>
            <a:endParaRPr b="0" lang="en-US" sz="2700" spc="-1" strike="noStrike">
              <a:solidFill>
                <a:srgbClr val="000000"/>
              </a:solidFill>
              <a:latin typeface="Calibri"/>
            </a:endParaRPr>
          </a:p>
        </p:txBody>
      </p:sp>
      <p:sp>
        <p:nvSpPr>
          <p:cNvPr id="7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6FEA-F945-411F-8319-8BC605677A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orrosion</a:t>
            </a:r>
            <a:endParaRPr b="0" lang="en-US" sz="4400" spc="-1" strike="noStrike">
              <a:solidFill>
                <a:srgbClr val="000000"/>
              </a:solidFill>
              <a:latin typeface="Calibri"/>
            </a:endParaRPr>
          </a:p>
        </p:txBody>
      </p:sp>
      <p:sp>
        <p:nvSpPr>
          <p:cNvPr id="7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xample, for galvanic corrosion to take place we need two dissimilar metals with a difference in their potenti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the reaction takes place, Zn</a:t>
            </a:r>
            <a:r>
              <a:rPr b="0" lang="en-US" sz="3000" spc="-1" strike="noStrike" baseline="30000">
                <a:solidFill>
                  <a:srgbClr val="000000"/>
                </a:solidFill>
                <a:latin typeface="Calibri"/>
              </a:rPr>
              <a:t>+2</a:t>
            </a:r>
            <a:r>
              <a:rPr b="0" lang="en-US" sz="3000" spc="-1" strike="noStrike">
                <a:solidFill>
                  <a:srgbClr val="000000"/>
                </a:solidFill>
                <a:latin typeface="Calibri"/>
              </a:rPr>
              <a:t> ions (produced by the oxidation of zinc metal) pass into solution. The Cu</a:t>
            </a:r>
            <a:r>
              <a:rPr b="0" lang="en-US" sz="3000" spc="-1" strike="noStrike" baseline="30000">
                <a:solidFill>
                  <a:srgbClr val="000000"/>
                </a:solidFill>
                <a:latin typeface="Calibri"/>
              </a:rPr>
              <a:t>+2</a:t>
            </a:r>
            <a:r>
              <a:rPr b="0" lang="en-US" sz="3000" spc="-1" strike="noStrike">
                <a:solidFill>
                  <a:srgbClr val="000000"/>
                </a:solidFill>
                <a:latin typeface="Calibri"/>
              </a:rPr>
              <a:t> ions in solution are reduced as the copper metal plates ou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the concentration of Zn</a:t>
            </a:r>
            <a:r>
              <a:rPr b="0" lang="en-US" sz="3000" spc="-1" strike="noStrike" baseline="30000">
                <a:solidFill>
                  <a:srgbClr val="000000"/>
                </a:solidFill>
                <a:latin typeface="Calibri"/>
              </a:rPr>
              <a:t>+2</a:t>
            </a:r>
            <a:r>
              <a:rPr b="0" lang="en-US" sz="3000" spc="-1" strike="noStrike">
                <a:solidFill>
                  <a:srgbClr val="000000"/>
                </a:solidFill>
                <a:latin typeface="Calibri"/>
              </a:rPr>
              <a:t> in solution increases and the concentration of Cu</a:t>
            </a:r>
            <a:r>
              <a:rPr b="0" lang="en-US" sz="3000" spc="-1" strike="noStrike" baseline="30000">
                <a:solidFill>
                  <a:srgbClr val="000000"/>
                </a:solidFill>
                <a:latin typeface="Calibri"/>
              </a:rPr>
              <a:t>+2</a:t>
            </a:r>
            <a:r>
              <a:rPr b="0" lang="en-US" sz="3000" spc="-1" strike="noStrike">
                <a:solidFill>
                  <a:srgbClr val="000000"/>
                </a:solidFill>
                <a:latin typeface="Calibri"/>
              </a:rPr>
              <a:t> decreases according to the following overall rea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CE64-43E0-4724-8403-6B626ACB7A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24" name="TextBox 1" descr=""/>
          <p:cNvPicPr/>
          <p:nvPr/>
        </p:nvPicPr>
        <p:blipFill>
          <a:blip r:embed="rId1"/>
          <a:stretch/>
        </p:blipFill>
        <p:spPr>
          <a:xfrm>
            <a:off x="2664000" y="6224760"/>
            <a:ext cx="2998440" cy="37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out references, </a:t>
            </a:r>
            <a:r>
              <a:rPr b="1" lang="en-US" sz="3200" spc="-1" strike="noStrike">
                <a:solidFill>
                  <a:srgbClr val="000000"/>
                </a:solidFill>
                <a:latin typeface="Calibri"/>
              </a:rPr>
              <a:t>DESCRIBE </a:t>
            </a:r>
            <a:r>
              <a:rPr b="0" lang="en-US" sz="3200" spc="-1" strike="noStrike">
                <a:solidFill>
                  <a:srgbClr val="000000"/>
                </a:solidFill>
                <a:latin typeface="Calibri"/>
              </a:rPr>
              <a:t>the causes and effects of corrosion on metals and the type of chemistry used in a plant to minimize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0172-64E1-4650-846B-A4FB452AE9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a:t>
            </a:r>
            <a:endParaRPr b="0" lang="en-US" sz="4400" spc="-1" strike="noStrike">
              <a:solidFill>
                <a:srgbClr val="000000"/>
              </a:solidFill>
              <a:latin typeface="Calibri"/>
            </a:endParaRPr>
          </a:p>
        </p:txBody>
      </p:sp>
      <p:pic>
        <p:nvPicPr>
          <p:cNvPr id="726" name="Picture 2" descr=""/>
          <p:cNvPicPr/>
          <p:nvPr/>
        </p:nvPicPr>
        <p:blipFill>
          <a:blip r:embed="rId1"/>
          <a:stretch/>
        </p:blipFill>
        <p:spPr>
          <a:xfrm>
            <a:off x="1623960" y="1992240"/>
            <a:ext cx="5896080" cy="3886200"/>
          </a:xfrm>
          <a:prstGeom prst="rect">
            <a:avLst/>
          </a:prstGeom>
          <a:ln w="0">
            <a:noFill/>
          </a:ln>
        </p:spPr>
      </p:pic>
      <p:sp>
        <p:nvSpPr>
          <p:cNvPr id="7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A8D7-F3C3-4027-895B-2C8A0ACCD2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28" name="Rectangle 4"/>
          <p:cNvSpPr/>
          <p:nvPr/>
        </p:nvSpPr>
        <p:spPr>
          <a:xfrm>
            <a:off x="374760" y="5934240"/>
            <a:ext cx="846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Zn</a:t>
            </a:r>
            <a:r>
              <a:rPr b="0" lang="en-US" sz="1800" spc="-1" strike="noStrike" baseline="30000">
                <a:solidFill>
                  <a:srgbClr val="000000"/>
                </a:solidFill>
                <a:latin typeface="Arial"/>
              </a:rPr>
              <a:t>+2</a:t>
            </a:r>
            <a:r>
              <a:rPr b="0" lang="en-US" sz="1800" spc="-1" strike="noStrike">
                <a:solidFill>
                  <a:srgbClr val="000000"/>
                </a:solidFill>
                <a:latin typeface="Arial"/>
              </a:rPr>
              <a:t> increases and Cu</a:t>
            </a:r>
            <a:r>
              <a:rPr b="0" lang="en-US" sz="1800" spc="-1" strike="noStrike" baseline="30000">
                <a:solidFill>
                  <a:srgbClr val="000000"/>
                </a:solidFill>
                <a:latin typeface="Arial"/>
              </a:rPr>
              <a:t>+2</a:t>
            </a:r>
            <a:r>
              <a:rPr b="0" lang="en-US" sz="1800" spc="-1" strike="noStrike">
                <a:solidFill>
                  <a:srgbClr val="000000"/>
                </a:solidFill>
                <a:latin typeface="Arial"/>
              </a:rPr>
              <a:t> decreases, the electrical potential decre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crease in cell potential, which results from changes in concentrations, is one form of polarization called concentration polar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arization is the decrease in cell potential caused by the operation of the electrochemical cell.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arization can be in two forms; concentration or activation.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centration polarization is associated with the concentration of ions in solution which shields the metal, thereby causing a decrease in the electrical potential of the cel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tivation polarization is the formation of a layer containing absorbed hydrogen atoms that block the metal's surface from the corrosion proces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6B03-8578-40AC-949C-D63EC4F702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lvanic Cell: Zinc and Platinum Electrode</a:t>
            </a:r>
            <a:endParaRPr b="0" lang="en-US" sz="4000" spc="-1" strike="noStrike">
              <a:solidFill>
                <a:srgbClr val="000000"/>
              </a:solidFill>
              <a:latin typeface="Calibri"/>
            </a:endParaRPr>
          </a:p>
        </p:txBody>
      </p:sp>
      <p:sp>
        <p:nvSpPr>
          <p:cNvPr id="73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D48E-99F0-4007-B44D-926C35C49E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34" name="Picture 2" descr=""/>
          <p:cNvPicPr/>
          <p:nvPr/>
        </p:nvPicPr>
        <p:blipFill>
          <a:blip r:embed="rId1"/>
          <a:stretch/>
        </p:blipFill>
        <p:spPr>
          <a:xfrm>
            <a:off x="5310360" y="1968480"/>
            <a:ext cx="3409920" cy="3495600"/>
          </a:xfrm>
          <a:prstGeom prst="rect">
            <a:avLst/>
          </a:prstGeom>
          <a:ln w="0">
            <a:noFill/>
          </a:ln>
        </p:spPr>
      </p:pic>
      <p:pic>
        <p:nvPicPr>
          <p:cNvPr id="735" name="Picture 3" descr=""/>
          <p:cNvPicPr/>
          <p:nvPr/>
        </p:nvPicPr>
        <p:blipFill>
          <a:blip r:embed="rId2"/>
          <a:stretch/>
        </p:blipFill>
        <p:spPr>
          <a:xfrm>
            <a:off x="4856040" y="5594400"/>
            <a:ext cx="4154760" cy="949320"/>
          </a:xfrm>
          <a:prstGeom prst="rect">
            <a:avLst/>
          </a:prstGeom>
          <a:ln w="0">
            <a:noFill/>
          </a:ln>
        </p:spPr>
      </p:pic>
      <p:sp>
        <p:nvSpPr>
          <p:cNvPr id="736" name="Rectangle 5"/>
          <p:cNvSpPr/>
          <p:nvPr/>
        </p:nvSpPr>
        <p:spPr>
          <a:xfrm>
            <a:off x="463680" y="2095560"/>
            <a:ext cx="4572000" cy="4405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as the cell operates, the cel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drop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rease is partially due to the increase in Zn</a:t>
            </a:r>
            <a:r>
              <a:rPr b="0" lang="en-US" sz="1800" spc="-1" strike="noStrike" baseline="30000">
                <a:solidFill>
                  <a:srgbClr val="000000"/>
                </a:solidFill>
                <a:latin typeface="Arial"/>
              </a:rPr>
              <a:t>+2 </a:t>
            </a:r>
            <a:r>
              <a:rPr b="0" lang="en-US" sz="1800" spc="-1" strike="noStrike">
                <a:solidFill>
                  <a:srgbClr val="000000"/>
                </a:solidFill>
                <a:latin typeface="Arial"/>
              </a:rPr>
              <a:t>concentration and the decrease in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 </a:t>
            </a:r>
            <a:r>
              <a:rPr b="0" lang="en-US" sz="1800" spc="-1" strike="noStrike">
                <a:solidFill>
                  <a:srgbClr val="000000"/>
                </a:solidFill>
                <a:latin typeface="Arial"/>
              </a:rPr>
              <a:t>concentr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ype of polarization is associated with the reduction half-rea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on remains in the surface of the Pt electrode until it either recombines with a second hydrogen atom to form molecular hydrogen, H</a:t>
            </a:r>
            <a:r>
              <a:rPr b="0" lang="en-US" sz="1800" spc="-1" strike="noStrike" baseline="-25000">
                <a:solidFill>
                  <a:srgbClr val="000000"/>
                </a:solidFill>
                <a:latin typeface="Arial"/>
              </a:rPr>
              <a:t>2</a:t>
            </a:r>
            <a:r>
              <a:rPr b="0" lang="en-US" sz="1800" spc="-1" strike="noStrike">
                <a:solidFill>
                  <a:srgbClr val="000000"/>
                </a:solidFill>
                <a:latin typeface="Arial"/>
              </a:rPr>
              <a:t> or are removed by reacting with oxygen to form wat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tes are blocked until the hydrogen i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lvanic Cell: Zinc and Platinum Electrode</a:t>
            </a:r>
            <a:endParaRPr b="0" lang="en-US" sz="4000" spc="-1" strike="noStrike">
              <a:solidFill>
                <a:srgbClr val="000000"/>
              </a:solidFill>
              <a:latin typeface="Calibri"/>
            </a:endParaRPr>
          </a:p>
        </p:txBody>
      </p:sp>
      <p:sp>
        <p:nvSpPr>
          <p:cNvPr id="7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 2.6 is the slowest step in the process because it requires the greatest amount of energy to proceed (highest activation energy).</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H </a:t>
            </a:r>
            <a:r>
              <a:rPr b="0" lang="en-US" sz="1800" spc="-1" strike="noStrike">
                <a:solidFill>
                  <a:srgbClr val="000000"/>
                </a:solidFill>
                <a:latin typeface="Symbol"/>
                <a:ea typeface="Symbol"/>
              </a:rPr>
              <a:t></a:t>
            </a:r>
            <a:r>
              <a:rPr b="0" lang="en-US" sz="1800" spc="-1" strike="noStrike">
                <a:solidFill>
                  <a:srgbClr val="000000"/>
                </a:solidFill>
                <a:latin typeface="Calibri"/>
              </a:rPr>
              <a:t> H2</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action 2.6</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 oxidation half-reaction can occur no faster than the reduction half-reaction, the rate of the overall oxidation-reduction reaction is controlled by the reaction of Equation (2-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polarization is called </a:t>
            </a:r>
            <a:r>
              <a:rPr b="1" i="1" lang="en-US" sz="2000" spc="-1" strike="noStrike">
                <a:solidFill>
                  <a:srgbClr val="000000"/>
                </a:solidFill>
                <a:latin typeface="Calibri"/>
              </a:rPr>
              <a:t>activation polarization </a:t>
            </a:r>
            <a:r>
              <a:rPr b="0" lang="en-US" sz="2000" spc="-1" strike="noStrike">
                <a:solidFill>
                  <a:srgbClr val="000000"/>
                </a:solidFill>
                <a:latin typeface="Calibri"/>
              </a:rPr>
              <a:t>and is sometimes referred to as hydrogen polarization, or </a:t>
            </a:r>
            <a:r>
              <a:rPr b="1" i="1" lang="en-US" sz="2000" spc="-1" strike="noStrike">
                <a:solidFill>
                  <a:srgbClr val="000000"/>
                </a:solidFill>
                <a:latin typeface="Calibri"/>
              </a:rPr>
              <a:t>cathodic polarization</a:t>
            </a:r>
            <a:r>
              <a:rPr b="0" lang="en-US" sz="2000" spc="-1" strike="noStrike">
                <a:solidFill>
                  <a:srgbClr val="000000"/>
                </a:solidFill>
                <a:latin typeface="Calibri"/>
              </a:rPr>
              <a:t>, because the polarizing reaction occurs at the catho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oncentration and activation polarization decrease the net oxidation-reduction reaction rat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rrosion processes, activation polarization usually has the greater eff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BC13-2E58-44D4-A1EB-090CCD6D0F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7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tions that lead to general corro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 chemical reaction between the metal and water that forms an oxi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A6DE-7B5C-49A3-84C4-4E696BE3B2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xidation of Iron</a:t>
            </a:r>
            <a:endParaRPr b="0" lang="en-US" sz="4400" spc="-1" strike="noStrike">
              <a:solidFill>
                <a:srgbClr val="000000"/>
              </a:solidFill>
              <a:latin typeface="Calibri"/>
            </a:endParaRPr>
          </a:p>
        </p:txBody>
      </p:sp>
      <p:sp>
        <p:nvSpPr>
          <p:cNvPr id="744" name=""/>
          <p:cNvSpPr txBox="1"/>
          <p:nvPr/>
        </p:nvSpPr>
        <p:spPr>
          <a:xfrm>
            <a:off x="457200" y="12488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operating conditions, assume that the water is deaerated, at room temperature and with a pH close to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3D5D-90AB-49A3-BCDB-2E4432DB4B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46" name="Picture 2" descr=""/>
          <p:cNvPicPr/>
          <p:nvPr/>
        </p:nvPicPr>
        <p:blipFill>
          <a:blip r:embed="rId1"/>
          <a:stretch/>
        </p:blipFill>
        <p:spPr>
          <a:xfrm>
            <a:off x="1239840" y="2430360"/>
            <a:ext cx="6532560" cy="4243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the oxide layer has formed the metal is not in direct contact with the water.  For the reaction to continue the electrons and ions most diffuse through this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gnetite layer develops in between the Ferrous oxide and ferric oxid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lectrons  participate in the reduction reaction with hydronium 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latter reactions are believed to take place predominately at the oxide-water interface, but some reaction may occur within the oxide layer by the diffusion of H</a:t>
            </a:r>
            <a:r>
              <a:rPr b="0" lang="en-US" sz="2200" spc="-1" strike="noStrike" baseline="30000">
                <a:solidFill>
                  <a:srgbClr val="000000"/>
                </a:solidFill>
                <a:latin typeface="Calibri"/>
              </a:rPr>
              <a:t>+</a:t>
            </a:r>
            <a:r>
              <a:rPr b="0" lang="en-US" sz="2200" spc="-1" strike="noStrike">
                <a:solidFill>
                  <a:srgbClr val="000000"/>
                </a:solidFill>
                <a:latin typeface="Calibri"/>
              </a:rPr>
              <a:t> , OH</a:t>
            </a:r>
            <a:r>
              <a:rPr b="0" lang="en-US" sz="2200" spc="-1" strike="noStrike" baseline="30000">
                <a:solidFill>
                  <a:srgbClr val="000000"/>
                </a:solidFill>
                <a:latin typeface="Calibri"/>
              </a:rPr>
              <a:t>-</a:t>
            </a:r>
            <a:r>
              <a:rPr b="0" lang="en-US" sz="2200" spc="-1" strike="noStrike">
                <a:solidFill>
                  <a:srgbClr val="000000"/>
                </a:solidFill>
                <a:latin typeface="Calibri"/>
              </a:rPr>
              <a:t> , and H2O into th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DCEB-D0DE-4A75-8104-91AD5CD85D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1643040" y="420840"/>
            <a:ext cx="5857920" cy="3705120"/>
          </a:xfrm>
          <a:prstGeom prst="rect">
            <a:avLst/>
          </a:prstGeom>
          <a:ln w="0">
            <a:noFill/>
          </a:ln>
        </p:spPr>
      </p:pic>
      <p:sp>
        <p:nvSpPr>
          <p:cNvPr id="7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5B39-1525-4DF8-9C11-792B17C2DA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52" name="TextBox 4"/>
          <p:cNvSpPr/>
          <p:nvPr/>
        </p:nvSpPr>
        <p:spPr>
          <a:xfrm>
            <a:off x="1009800" y="4667400"/>
            <a:ext cx="7546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ection provided by the film depends on the tenacity of the 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 loosely attached film will continue to corrode.  If defects develop in the film, corrosion will take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General Corrosion Rate</a:t>
            </a:r>
            <a:endParaRPr b="0" lang="en-US" sz="4000" spc="-1" strike="noStrike">
              <a:solidFill>
                <a:srgbClr val="000000"/>
              </a:solidFill>
              <a:latin typeface="Calibri"/>
            </a:endParaRPr>
          </a:p>
        </p:txBody>
      </p:sp>
      <p:sp>
        <p:nvSpPr>
          <p:cNvPr id="75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rates increase as temperature in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erature and pressure of the medium govern the solubilities of the corrosive species in the fluid, such as oxygen (O2 ), carbon dioxide (CO2 ), chlorides, and hydroxi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le of thumb is that the reaction rate doubles with a 20°F to 50°F temperature rise. This linear increase with temperature does not continue indefinitely due, in part, to a change in the oxide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fluid velocities can remove the corrosion layer and increase the rate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n as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velocities of 30 to 40 ft per second are usually considered to cause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C2BB-A6BB-4EB2-8628-F3AAABBAD8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ce of oxygen in water increases the corrosion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son for this increase is the rapid reaction between oxygen and the polarizing layer of atomic hydrogen absorbed on the oxide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 2.11 removes the polarizing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all re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2E0B-6CDD-44DC-91EC-74D76CD654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59" name="Picture 3" descr=""/>
          <p:cNvPicPr/>
          <p:nvPr/>
        </p:nvPicPr>
        <p:blipFill>
          <a:blip r:embed="rId1"/>
          <a:stretch/>
        </p:blipFill>
        <p:spPr>
          <a:xfrm>
            <a:off x="2103480" y="4846680"/>
            <a:ext cx="5545080" cy="449280"/>
          </a:xfrm>
          <a:prstGeom prst="rect">
            <a:avLst/>
          </a:prstGeom>
          <a:ln w="0">
            <a:noFill/>
          </a:ln>
        </p:spPr>
      </p:pic>
      <p:pic>
        <p:nvPicPr>
          <p:cNvPr id="760" name="Picture 5" descr=""/>
          <p:cNvPicPr/>
          <p:nvPr/>
        </p:nvPicPr>
        <p:blipFill>
          <a:blip r:embed="rId2"/>
          <a:stretch/>
        </p:blipFill>
        <p:spPr>
          <a:xfrm>
            <a:off x="1770120" y="5835600"/>
            <a:ext cx="4010040" cy="4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Enabling Objective</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 </a:t>
            </a:r>
            <a:r>
              <a:rPr b="1" lang="en-US" sz="3200" spc="-1" strike="noStrike">
                <a:solidFill>
                  <a:srgbClr val="000000"/>
                </a:solidFill>
                <a:latin typeface="Calibri"/>
              </a:rPr>
              <a:t>DEFINE </a:t>
            </a:r>
            <a:r>
              <a:rPr b="0" lang="en-US" sz="3200" spc="-1" strike="noStrike">
                <a:solidFill>
                  <a:srgbClr val="000000"/>
                </a:solidFill>
                <a:latin typeface="Calibri"/>
              </a:rPr>
              <a:t>the following ter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Ioniz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 Conductiv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 Corro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 Electroly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 General corro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 Was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F695-4435-4289-99E5-6199ABB5E6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 therefore, has two effect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removes the polarizing layer of atomic hydrogen, an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can react directly with the metal or metal oxide; thus, the corrosion rate increas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 is known as a depolariz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 also affects the corrosion ra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 pH of less than 4 the FeO is solu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range of pH 4 to pH 10,  the corrosion rate of iron is relatively independent of the pH of the solutio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8837-A235-43B0-8D9E-E136EECAC9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lower pH the film cannot accumulate in the surface of the met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takes place at a higher ra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pH above 10 corrosion rate de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believed to be due to an increase in the rate of the reaction of oxygen with Fe(OH)2 (hydrated FeO) in the oxide layer to form the more protective Fe2O3 (note that this effect is not observed in deaerated water at high temperatu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FF4C-4E96-41F9-B8CD-6101D92429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67" name="Picture 2" descr=""/>
          <p:cNvPicPr/>
          <p:nvPr/>
        </p:nvPicPr>
        <p:blipFill>
          <a:blip r:embed="rId1"/>
          <a:stretch/>
        </p:blipFill>
        <p:spPr>
          <a:xfrm>
            <a:off x="5362560" y="40212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pH</a:t>
            </a:r>
            <a:endParaRPr b="0" lang="en-US" sz="4400" spc="-1" strike="noStrike">
              <a:solidFill>
                <a:srgbClr val="000000"/>
              </a:solidFill>
              <a:latin typeface="Calibri"/>
            </a:endParaRPr>
          </a:p>
        </p:txBody>
      </p:sp>
      <p:sp>
        <p:nvSpPr>
          <p:cNvPr id="7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range of pH 4 to pH 10, the corrosion rate of iron is relatively independent of the pH of the solu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H values below 4.0, ferrous oxide (FeO) is soluble. Thus, the oxide dissolves as it is formed rather than depositing on the metal surface to form a film.  Formation of hydrogen at lower pH means that depolarization with oxygen and hydrogen evolution are both playing a role.</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9C4C-C770-4D74-AFA3-9B4320F6A7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71" name="Picture 2" descr=""/>
          <p:cNvPicPr/>
          <p:nvPr/>
        </p:nvPicPr>
        <p:blipFill>
          <a:blip r:embed="rId1"/>
          <a:stretch/>
        </p:blipFill>
        <p:spPr>
          <a:xfrm>
            <a:off x="2579760" y="38070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2" descr=""/>
          <p:cNvPicPr/>
          <p:nvPr/>
        </p:nvPicPr>
        <p:blipFill>
          <a:blip r:embed="rId1"/>
          <a:stretch/>
        </p:blipFill>
        <p:spPr>
          <a:xfrm>
            <a:off x="1554120" y="385920"/>
            <a:ext cx="5614920" cy="3436920"/>
          </a:xfrm>
          <a:prstGeom prst="rect">
            <a:avLst/>
          </a:prstGeom>
          <a:ln w="0">
            <a:noFill/>
          </a:ln>
        </p:spPr>
      </p:pic>
      <p:sp>
        <p:nvSpPr>
          <p:cNvPr id="7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F3D5-DC3A-4969-8080-A3A54BD290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74" name="Text Box 5"/>
          <p:cNvSpPr/>
          <p:nvPr/>
        </p:nvSpPr>
        <p:spPr>
          <a:xfrm>
            <a:off x="662040" y="4037040"/>
            <a:ext cx="7799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layer is compromised at low and high pH at higher temper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 between 7 and 10 gives a lower rate of cor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 is always maintained alkaline to minimize corrosion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hydrogen in the water helps minimize the amount of corrosion by eliminating the amount of oxygen in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oxygen reacts with the protective hydrogen gas layer at the cathode to form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pects Affecting Corrosion Rate</a:t>
            </a:r>
            <a:endParaRPr b="0" lang="en-US" sz="4400" spc="-1" strike="noStrike">
              <a:solidFill>
                <a:srgbClr val="000000"/>
              </a:solidFill>
              <a:latin typeface="Calibri"/>
            </a:endParaRPr>
          </a:p>
        </p:txBody>
      </p:sp>
      <p:sp>
        <p:nvSpPr>
          <p:cNvPr id="776" name=""/>
          <p:cNvSpPr txBox="1"/>
          <p:nvPr/>
        </p:nvSpPr>
        <p:spPr>
          <a:xfrm>
            <a:off x="466560" y="1879200"/>
            <a:ext cx="8229600" cy="43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dition and composition of the metal surfaces affects the corrosion rat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osits, scale, or irregular surfaces create areas on the metal where local corrosion can initiate and proceed at a faster rate than normal.</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ron or steel is exposed to high temperature water, the rate of corrosion of the metal is observed to decrease with exposure time during the early period of exposu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exposure to hot water for a few thousand hours the corrosion rates reaches equilibrium at a low level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e at which the corrosion layer develops decreases as the level of corrosion slows down.  After a few thousand hours, the film does not grow any long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97AE-08FF-4DDF-872B-C3FEF34394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a tightly adhering corrosion film inhibits further corrosion, great care is taken during the initial fill of reactor plants to promote formation of the best possible corrosion fil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cess, referred to as pretreatment, or pickling, involves careful control of reactor coolant water chemistry and temperature during the pretreatment peri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D728-BF99-43F1-8372-D394C147E2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7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 chemistry is used to prevent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gs done to minimize corrosion include:</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ivators and inhibitors</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ivation is the condition where a naturally active metal corrodes at a very low rate, probably due to an oxide coating or an absorbed layer of oxygen.</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chemical substances, called passivators or inhibitors, if added to water, can provide this type of passivation by undergoing reduction at the metal surface.  Example: Potassium Chromate.</a:t>
            </a:r>
            <a:endParaRPr b="0" lang="en-US" sz="1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odic Protection</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use of cathodic protection, supplying an external electric current to the iron so that it acts as a cathode and has no anodic areas, is another method of preventative chemical control.  Uses a sacrificial electrode as an anode: Zinc.</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4D89-4BBC-448A-B6BD-28318C3E6A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78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Corrosive agents</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method is using deaerators to remove dissolved oxygen and to a lesser extent carbon dioxid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eating the water by softening and demineralization removes the dissolved solids and reduces the conductivity.</a:t>
            </a:r>
            <a:endParaRPr b="0" lang="en-US" sz="1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Addition</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s the addition of a chemical that will alter a chemical reaction or tie up a common corroda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ming amines (organic compounds that are derivatives of ammonia) accomplish protection by forming adhering organic films on metal surfaces to prevent contact between corrosive species in the condensate and the metal surfac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and sodium hydroxide are used to adjust the system pH and remove hardnes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CB6E-F4E1-422D-9673-2FD8A37787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788" name=""/>
          <p:cNvSpPr txBox="1"/>
          <p:nvPr/>
        </p:nvSpPr>
        <p:spPr>
          <a:xfrm>
            <a:off x="457200" y="1934640"/>
            <a:ext cx="8229600" cy="4588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s include environment, temperature, alloy in question, flow velocities, impurities present in the environment, and chemistry conditions to which it is exposed.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dditional factor that affects corrosion is pretreatmen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treatment, soluble and solid impurities, and chemistry are within the control of the operator and will be discussed in this tex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ments have shown that prefilming limits corrosion on aluminum-clad fuel assembl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urities are major contributors to the corrosion of aluminu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s include the Make up water and impurities from corrosion in other parts of the process.  Organic impurities due to resin residues from the ion exchangers can also be observed.</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8BF4-D478-4C43-8F86-0F9BEE97DC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7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stry controls, including pH, dissolved oxygen, and conductivity, greatly influence the formation and propagation of the oxide film on aluminum surfaces.</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s a quantitative indication of the impurities present in the system, and pH theoretically dictates the value of conductivity.</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sive tests carried out in support of DOE test reactors have revealed that minimum aluminum corrosion results with a pH of 5.0 at normal operating temperatures.</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ly, studies have shown that the aluminum corrosion products also exhibit a minimum solubility at a pH near 5.5 at 25ºC.</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should be noted that the values at which minimum corrosion and solubility are found shift to a lower pH as the temperature is increased. For example, at 300ºC, the value for minimum aluminum corrosion is near pH 3.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8F50-36C3-471B-9B3A-8FC17AEDC7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Why is corrosion control important?</a:t>
            </a:r>
            <a:endParaRPr b="0" lang="en-US" sz="4100" spc="-1" strike="noStrike">
              <a:solidFill>
                <a:srgbClr val="000000"/>
              </a:solidFill>
              <a:latin typeface="Calibri"/>
            </a:endParaRPr>
          </a:p>
        </p:txBody>
      </p:sp>
      <p:sp>
        <p:nvSpPr>
          <p:cNvPr id="6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pid localized corrosion may lead to penetration of the metal containing the coolant.  Radioactive coolant would then leak from the system and jeopardize safe ope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of the nuclear fuel cladding may cause the cladding to become brittle and less ductil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welling from the generation of fission gases within the fuel may then cause the cladding to crack or blister, and highly radioactive fission products may then be released to the coolan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of the metallic oxide corrosion products released to the coolant may be deposited on surfaces in the reactor cor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lids when in contact with the neutron flux become radioactive and accumulate in different regions throughout the system and outside the cor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ssues with maintenance and radiation levels outside the cor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8926-DC24-4DF1-89B5-A86B93058B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38AF-F5B0-4E98-8AEF-DB9A8489E8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96" name="Picture 4" descr=""/>
          <p:cNvPicPr/>
          <p:nvPr/>
        </p:nvPicPr>
        <p:blipFill>
          <a:blip r:embed="rId1"/>
          <a:stretch/>
        </p:blipFill>
        <p:spPr>
          <a:xfrm>
            <a:off x="2320920" y="142920"/>
            <a:ext cx="4824360" cy="6640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7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ditions that have proven to be most effective in limiting corrosion of aluminum are as follow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ing pH slightly acidic with the value of the pH depending largely upon operating temperatu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mination of dissolved oxyg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mination of soluble and solid impuriti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ion of the introduction of organic impuriti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treatment (or pick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ing water purit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6DE1-A408-47BA-B487-0A46460B13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ud</a:t>
            </a:r>
            <a:endParaRPr b="0" lang="en-US" sz="4400" spc="-1" strike="noStrike">
              <a:solidFill>
                <a:srgbClr val="000000"/>
              </a:solidFill>
              <a:latin typeface="Calibri"/>
            </a:endParaRPr>
          </a:p>
        </p:txBody>
      </p:sp>
      <p:sp>
        <p:nvSpPr>
          <p:cNvPr id="8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ddition to the corrosion film, corrosion products in the form of finely divided, insoluble oxide particles called </a:t>
            </a:r>
            <a:r>
              <a:rPr b="0" i="1" lang="en-US" sz="2200" spc="-1" strike="noStrike">
                <a:solidFill>
                  <a:srgbClr val="000000"/>
                </a:solidFill>
                <a:latin typeface="Calibri"/>
              </a:rPr>
              <a:t>crud </a:t>
            </a:r>
            <a:r>
              <a:rPr b="0" lang="en-US" sz="2200" spc="-1" strike="noStrike">
                <a:solidFill>
                  <a:srgbClr val="000000"/>
                </a:solidFill>
                <a:latin typeface="Calibri"/>
              </a:rPr>
              <a:t>become suspended in the reactor coolant or loosely adhere to metal surfac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accumulate and foul heat-transfer surfaces or clog flow passag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becomes activated when exposed to radia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crud can be transported throughout the reactor coolant system, it can collect outside the reactor core, causing radiation hot spots that increase ambient radiation level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t spots caused by collections of crud may occur at the entrance to the purification heat exchanger and other areas of low flow velocity.</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4E80-F072-4D00-97E4-2FB267BDF1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ud release can result from an increased oxygen concentration, a reduced (or significantly changed) pH, a large temperature change (heatup or cooldown), or a physical shock to the system. </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hocks include starting, stopping, or changing pump speeds, or other evolutions like a reactor scram or a relief valve lift.</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dden release of crud is called a crud burst.</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ud bursts often lead to the removal of protective corrosion films and make the freshly exposed metal more susceptible to additional corrosion.</a:t>
            </a:r>
            <a:endParaRPr b="0" lang="en-US" sz="1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corrosion byproduct is </a:t>
            </a:r>
            <a:r>
              <a:rPr b="0" i="1" lang="en-US" sz="2000" spc="-1" strike="noStrike">
                <a:solidFill>
                  <a:srgbClr val="000000"/>
                </a:solidFill>
                <a:latin typeface="Calibri"/>
              </a:rPr>
              <a:t>scale</a:t>
            </a:r>
            <a:r>
              <a:rPr b="0" lang="en-US" sz="2000" spc="-1" strike="noStrike">
                <a:solidFill>
                  <a:srgbClr val="000000"/>
                </a:solidFill>
                <a:latin typeface="Calibri"/>
              </a:rPr>
              <a:t>, which is made up of deposits on surfaces from the formation of insoluble compounds from normally soluble salts.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common are calcium or magnesium carbonates (CaCO3 or MgCO3 ).</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120C-E292-4FC5-A787-F035753BCF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Alloys used in a Nuclear System</a:t>
            </a:r>
            <a:endParaRPr b="0" lang="en-US" sz="4600" spc="-1" strike="noStrike">
              <a:solidFill>
                <a:srgbClr val="000000"/>
              </a:solidFill>
              <a:latin typeface="Calibri"/>
            </a:endParaRPr>
          </a:p>
        </p:txBody>
      </p:sp>
      <p:sp>
        <p:nvSpPr>
          <p:cNvPr id="8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7234-AF55-417A-BFA7-47F61AAE97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inless Steel</a:t>
            </a:r>
            <a:endParaRPr b="0" lang="en-US" sz="4400" spc="-1" strike="noStrike">
              <a:solidFill>
                <a:srgbClr val="000000"/>
              </a:solidFill>
              <a:latin typeface="Calibri"/>
            </a:endParaRPr>
          </a:p>
        </p:txBody>
      </p:sp>
      <p:sp>
        <p:nvSpPr>
          <p:cNvPr id="8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Iron, Chromium and Nickel.  Also contains carb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at least 12% chromium is what makes it resist corro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ron, chromium and nickel still undergo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 Nickel oxide (NiO), Chromium oxide (Cr</a:t>
            </a:r>
            <a:r>
              <a:rPr b="0" lang="en-US" sz="2800" spc="-1" strike="noStrike" baseline="-25000">
                <a:solidFill>
                  <a:srgbClr val="000000"/>
                </a:solidFill>
                <a:latin typeface="Calibri"/>
              </a:rPr>
              <a:t>2</a:t>
            </a:r>
            <a:r>
              <a:rPr b="0" lang="en-US" sz="2800" spc="-1" strike="noStrike">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 and magnetite (Fe</a:t>
            </a:r>
            <a:r>
              <a:rPr b="0" lang="en-US" sz="2800" spc="-1" strike="noStrike" baseline="-25000">
                <a:solidFill>
                  <a:srgbClr val="000000"/>
                </a:solidFill>
                <a:latin typeface="Calibri"/>
              </a:rPr>
              <a:t>3</a:t>
            </a:r>
            <a:r>
              <a:rPr b="0" lang="en-US" sz="2800" spc="-1" strike="noStrike">
                <a:solidFill>
                  <a:srgbClr val="000000"/>
                </a:solidFill>
                <a:latin typeface="Calibri"/>
              </a:rPr>
              <a:t>O</a:t>
            </a:r>
            <a:r>
              <a:rPr b="0" lang="en-US" sz="2800" spc="-1" strike="noStrike" baseline="-25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ck layer that adheres strongly to the surface of the metal.</a:t>
            </a:r>
            <a:endParaRPr b="0" lang="en-US" sz="2800" spc="-1" strike="noStrike">
              <a:solidFill>
                <a:srgbClr val="000000"/>
              </a:solidFill>
              <a:latin typeface="Calibri"/>
            </a:endParaRPr>
          </a:p>
        </p:txBody>
      </p:sp>
      <p:sp>
        <p:nvSpPr>
          <p:cNvPr id="8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E09A-BD46-4213-9C5C-9E5BA4A632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813" name="PlaceHolder 2"/>
          <p:cNvSpPr>
            <a:spLocks noGrp="1"/>
          </p:cNvSpPr>
          <p:nvPr>
            <p:ph/>
          </p:nvPr>
        </p:nvSpPr>
        <p:spPr>
          <a:xfrm>
            <a:off x="456840" y="1600200"/>
            <a:ext cx="800100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urface reacts in a similar way under the presence of water. It reacts to form ZrO</a:t>
            </a:r>
            <a:r>
              <a:rPr b="0" lang="en-US" sz="2400" spc="-1" strike="noStrike" baseline="-25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onium does not absorb protons through i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high melting point, adequate strength up to 800ºF, and </a:t>
            </a:r>
            <a:r>
              <a:rPr b="0" lang="en-US" sz="2400" spc="-1" strike="noStrike" u="sng">
                <a:solidFill>
                  <a:srgbClr val="000000"/>
                </a:solidFill>
                <a:uFillTx/>
                <a:latin typeface="Calibri"/>
              </a:rPr>
              <a:t>low neutron absorption</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xide layer prevents further corrosion from taking plac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aloys are normally used in the core of the reacto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formed in this alloy is a passivation layer.</a:t>
            </a:r>
            <a:endParaRPr b="0" lang="en-US" sz="2400" spc="-1" strike="noStrike">
              <a:solidFill>
                <a:srgbClr val="000000"/>
              </a:solidFill>
              <a:latin typeface="Calibri"/>
            </a:endParaRPr>
          </a:p>
        </p:txBody>
      </p:sp>
      <mc:AlternateContent>
        <mc:Choice xmlns:a14="http://schemas.microsoft.com/office/drawing/2010/main" Requires="a14">
          <p:sp>
            <p:nvSpPr>
              <p:cNvPr id="814" name="Object 4"/>
              <p:cNvSpPr txBox="1"/>
              <p:nvPr/>
            </p:nvSpPr>
            <p:spPr>
              <a:xfrm>
                <a:off x="2986200" y="2362320"/>
                <a:ext cx="3262320" cy="917280"/>
              </a:xfrm>
              <a:prstGeom prst="rect">
                <a:avLst/>
              </a:prstGeom>
            </p:spPr>
            <p:txBody>
              <a:bodyPr/>
              <a:p>
                <a14:m>
                  <m:oMath xmlns:m="http://schemas.openxmlformats.org/officeDocument/2006/math">
                    <m:eqArr>
                      <m:e>
                        <m:r>
                          <m:rPr>
                            <m:lit/>
                            <m:nor/>
                          </m:rPr>
                          <m:t xml:space="preserve">Zr</m:t>
                        </m:r>
                        <m:r>
                          <m:t xml:space="preserve">+</m:t>
                        </m:r>
                        <m:r>
                          <m:t xml:space="preserve">2</m:t>
                        </m:r>
                        <m:sSub>
                          <m:e>
                            <m:r>
                              <m:t xml:space="preserve">H</m:t>
                            </m:r>
                          </m:e>
                          <m:sub>
                            <m:r>
                              <m:t xml:space="preserve">2</m:t>
                            </m:r>
                          </m:sub>
                        </m:sSub>
                        <m:r>
                          <m:t xml:space="preserve">O</m:t>
                        </m:r>
                        <m:r>
                          <m:t xml:space="preserve">→</m:t>
                        </m:r>
                        <m:sSub>
                          <m:e>
                            <m:r>
                              <m:rPr>
                                <m:lit/>
                                <m:nor/>
                              </m:rPr>
                              <m:t xml:space="preserve">ZrO</m:t>
                            </m:r>
                          </m:e>
                          <m:sub>
                            <m:r>
                              <m:t xml:space="preserve">2</m:t>
                            </m:r>
                          </m:sub>
                        </m:sSub>
                        <m:r>
                          <m:t xml:space="preserve">+</m:t>
                        </m:r>
                        <m:r>
                          <m:t xml:space="preserve">2</m:t>
                        </m:r>
                        <m:sSub>
                          <m:e>
                            <m:r>
                              <m:t xml:space="preserve">H</m:t>
                            </m:r>
                          </m:e>
                          <m:sub>
                            <m:r>
                              <m:t xml:space="preserve">2</m:t>
                            </m:r>
                          </m:sub>
                        </m:sSub>
                      </m:e>
                      <m:e>
                        <m:r>
                          <m:t xml:space="preserve">2</m:t>
                        </m:r>
                        <m:sSub>
                          <m:e>
                            <m:r>
                              <m:t xml:space="preserve">H</m:t>
                            </m:r>
                          </m:e>
                          <m:sub>
                            <m:r>
                              <m:t xml:space="preserve">2</m:t>
                            </m:r>
                          </m:sub>
                        </m:sSub>
                        <m:r>
                          <m:t xml:space="preserve">→</m:t>
                        </m:r>
                        <m:r>
                          <m:t xml:space="preserve">4</m:t>
                        </m:r>
                        <m:sSup>
                          <m:e>
                            <m:r>
                              <m:t xml:space="preserve">H</m:t>
                            </m:r>
                          </m:e>
                          <m:sup>
                            <m:r>
                              <m:t xml:space="preserve">+</m:t>
                            </m:r>
                          </m:sup>
                        </m:sSup>
                        <m:r>
                          <m:t xml:space="preserve">+</m:t>
                        </m:r>
                        <m:r>
                          <m:t xml:space="preserve">4</m:t>
                        </m:r>
                        <m:sSup>
                          <m:e>
                            <m:r>
                              <m:t xml:space="preserve">e</m:t>
                            </m:r>
                          </m:e>
                          <m:sup>
                            <m:r>
                              <m:t xml:space="preserve">−</m:t>
                            </m:r>
                          </m:sup>
                        </m:sSup>
                      </m:e>
                    </m:eqArr>
                  </m:oMath>
                </a14:m>
              </a:p>
            </p:txBody>
          </p:sp>
        </mc:Choice>
        <mc:Fallback/>
      </mc:AlternateContent>
      <p:sp>
        <p:nvSpPr>
          <p:cNvPr id="81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FAC7-5200-4EE2-8B2A-882643C744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of Zircaloy</a:t>
            </a:r>
            <a:endParaRPr b="0" lang="en-US" sz="4400" spc="-1" strike="noStrike">
              <a:solidFill>
                <a:srgbClr val="000000"/>
              </a:solidFill>
              <a:latin typeface="Calibri"/>
            </a:endParaRPr>
          </a:p>
        </p:txBody>
      </p:sp>
      <p:sp>
        <p:nvSpPr>
          <p:cNvPr id="8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than 95% Zirconium and less than 2% of tin, niobium, iron, chromium, nickel and other meta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rosion of Zircaloy must be avoided because it leads to the formation of hydrogen which diffuses through the structure of the met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 reacts with zirconium to form zirconium hydrid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Zirconium hydride is not as strong as the alloy itsel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s in a weakened cladding.</a:t>
            </a:r>
            <a:endParaRPr b="0" lang="en-US" sz="2600" spc="-1" strike="noStrike">
              <a:solidFill>
                <a:srgbClr val="000000"/>
              </a:solidFill>
              <a:latin typeface="Calibri"/>
            </a:endParaRPr>
          </a:p>
        </p:txBody>
      </p:sp>
      <p:sp>
        <p:nvSpPr>
          <p:cNvPr id="8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D0E5-5CDA-42E7-97EB-F79D6409B8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8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 embrittlement can take pla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ydrogen can diffuse into the metal structure and react to form zirconium hydr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hydride is brittle, which can weaken the metal and cause structural fail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is often a by-product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very important to understand that this alloy is a barrier to the release of fission products (cladding).</a:t>
            </a:r>
            <a:endParaRPr b="0" lang="en-US" sz="2800" spc="-1" strike="noStrike">
              <a:solidFill>
                <a:srgbClr val="000000"/>
              </a:solidFill>
              <a:latin typeface="Calibri"/>
            </a:endParaRPr>
          </a:p>
        </p:txBody>
      </p:sp>
      <p:sp>
        <p:nvSpPr>
          <p:cNvPr id="8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4377-49E4-45A7-B039-70053A07BA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8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aloy-4 is less susceptible to hydrogen embrittlement than zircaloy-2 because: Zircaloy-4 contains less nick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roduction   of   niobium   into   zircaloy-4   reduces   the   amount   of hydrogen absorption in the me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dding-protective or insulating layer added on top of another me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isolate radiation from escaping the system.</a:t>
            </a:r>
            <a:endParaRPr b="0" lang="en-US" sz="2800" spc="-1" strike="noStrike">
              <a:solidFill>
                <a:srgbClr val="000000"/>
              </a:solidFill>
              <a:latin typeface="Calibri"/>
            </a:endParaRPr>
          </a:p>
        </p:txBody>
      </p:sp>
      <p:sp>
        <p:nvSpPr>
          <p:cNvPr id="82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E916-0845-43F4-B928-884035DC98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finitions</a:t>
            </a:r>
            <a:endParaRPr b="0" lang="en-US" sz="44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urrent </a:t>
            </a:r>
            <a:r>
              <a:rPr b="0" lang="en-US" sz="2200" spc="-1" strike="noStrike">
                <a:solidFill>
                  <a:srgbClr val="000000"/>
                </a:solidFill>
                <a:latin typeface="Calibri"/>
              </a:rPr>
              <a:t>is the flow of electrons through a medium.  A metal conducts electricity without changing its properties.  This is called metallic condu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onization </a:t>
            </a:r>
            <a:r>
              <a:rPr b="0" lang="en-US" sz="2200" spc="-1" strike="noStrike">
                <a:solidFill>
                  <a:srgbClr val="000000"/>
                </a:solidFill>
                <a:latin typeface="Calibri"/>
              </a:rPr>
              <a:t>is the process of adding electrons to or removing electrons from atoms or molecules, creating ions. High temperatures, electrical discharges, and nuclear radiation can cause ioniza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can be conducted by the movement of these 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unds that conduct electric current by ion movement are called </a:t>
            </a:r>
            <a:r>
              <a:rPr b="1" lang="en-US" sz="2200" spc="-1" strike="noStrike">
                <a:solidFill>
                  <a:srgbClr val="000000"/>
                </a:solidFill>
                <a:latin typeface="Calibri"/>
              </a:rPr>
              <a:t>electrolytes</a:t>
            </a:r>
            <a:r>
              <a:rPr b="0" lang="en-US" sz="2200" spc="-1" strike="noStrike">
                <a:solidFill>
                  <a:srgbClr val="000000"/>
                </a:solidFill>
                <a:latin typeface="Calibri"/>
              </a:rPr>
              <a:t>, and this ionic motion is call </a:t>
            </a:r>
            <a:r>
              <a:rPr b="1" lang="en-US" sz="2200" spc="-1" strike="noStrike">
                <a:solidFill>
                  <a:srgbClr val="000000"/>
                </a:solidFill>
                <a:latin typeface="Calibri"/>
              </a:rPr>
              <a:t>electrolytic conduc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nductivity </a:t>
            </a:r>
            <a:r>
              <a:rPr b="0" lang="en-US" sz="2200" spc="-1" strike="noStrike">
                <a:solidFill>
                  <a:srgbClr val="000000"/>
                </a:solidFill>
                <a:latin typeface="Calibri"/>
              </a:rPr>
              <a:t>is a measure of the ability of a substance to allow electron flow.</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dicates the amount of ions in solution, which relates directly to the potential of corrosion taking pla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8F10-71CC-47F3-A2F5-85AF339D35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nel</a:t>
            </a:r>
            <a:endParaRPr b="0" lang="en-US" sz="4400" spc="-1" strike="noStrike">
              <a:solidFill>
                <a:srgbClr val="000000"/>
              </a:solidFill>
              <a:latin typeface="Calibri"/>
            </a:endParaRPr>
          </a:p>
        </p:txBody>
      </p:sp>
      <p:sp>
        <p:nvSpPr>
          <p:cNvPr id="8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ed mainly of nickel (76%)</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ontains chrom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forms a corrosion layer that contains NiO and chromium oxid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serves as a barrier and minimizes further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slow corrosion r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the reactor core and other critical compon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very high temperature resistance and is used for extreme condi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s a thick self-passivating corrosion layer.</a:t>
            </a:r>
            <a:endParaRPr b="0" lang="en-US" sz="2400" spc="-1" strike="noStrike">
              <a:solidFill>
                <a:srgbClr val="000000"/>
              </a:solidFill>
              <a:latin typeface="Calibri"/>
            </a:endParaRPr>
          </a:p>
        </p:txBody>
      </p:sp>
      <p:sp>
        <p:nvSpPr>
          <p:cNvPr id="8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5C3E-DA1D-4A09-8CAC-987BF65CA3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Effects on Corrosion</a:t>
            </a:r>
            <a:endParaRPr b="0" lang="en-US" sz="4400" spc="-1" strike="noStrike">
              <a:solidFill>
                <a:srgbClr val="000000"/>
              </a:solidFill>
              <a:latin typeface="Calibri"/>
            </a:endParaRPr>
          </a:p>
        </p:txBody>
      </p:sp>
      <p:sp>
        <p:nvSpPr>
          <p:cNvPr id="8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s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velocity of the flu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composition of the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tion </a:t>
            </a:r>
            <a:endParaRPr b="0" lang="en-US" sz="2800" spc="-1" strike="noStrike">
              <a:solidFill>
                <a:srgbClr val="000000"/>
              </a:solidFill>
              <a:latin typeface="Calibri"/>
            </a:endParaRPr>
          </a:p>
        </p:txBody>
      </p:sp>
      <p:sp>
        <p:nvSpPr>
          <p:cNvPr id="8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FDAE-20DF-467A-8780-54512D28E1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a:t>
            </a:r>
            <a:endParaRPr b="0" lang="en-US" sz="4400" spc="-1" strike="noStrike">
              <a:solidFill>
                <a:srgbClr val="000000"/>
              </a:solidFill>
              <a:latin typeface="Calibri"/>
            </a:endParaRPr>
          </a:p>
        </p:txBody>
      </p:sp>
      <p:sp>
        <p:nvSpPr>
          <p:cNvPr id="8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emperature increases corrosion rate increa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transfer surfaces (heat exchangers) are greatly affec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makes it harder to transfer heat through the metal (lower thermal conductivit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icker the corrosion layer, the greater the amount of heat needed to maintain a constant operating temperature in the reactor co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temperature is increased, then the corrosion rate also increas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DAB9-197F-4D0D-8EB3-37BA4228E1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locity</a:t>
            </a:r>
            <a:endParaRPr b="0" lang="en-US" sz="4400" spc="-1" strike="noStrike">
              <a:solidFill>
                <a:srgbClr val="000000"/>
              </a:solidFill>
              <a:latin typeface="Calibri"/>
            </a:endParaRPr>
          </a:p>
        </p:txBody>
      </p:sp>
      <p:sp>
        <p:nvSpPr>
          <p:cNvPr id="835" name=""/>
          <p:cNvSpPr txBox="1"/>
          <p:nvPr/>
        </p:nvSpPr>
        <p:spPr>
          <a:xfrm>
            <a:off x="457200" y="1934640"/>
            <a:ext cx="8229600" cy="4923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 velocity, the corrosion layer will be relatively thin.</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lm in contact with the metal is mechanically scrubbed by the passing fluid.</a:t>
            </a:r>
            <a:endParaRPr b="0" lang="en-US" sz="2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flow rate areas have a higher corrosion rate.</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products can settle on this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maintenance problems because of possible radiation “hotspot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protection measures must be taken if repairs must be made in an area affected by high radiation levels (reactor drain).</a:t>
            </a:r>
            <a:endParaRPr b="0" lang="en-US" sz="2800" spc="-1" strike="noStrike">
              <a:solidFill>
                <a:srgbClr val="000000"/>
              </a:solidFill>
              <a:latin typeface="Calibri"/>
            </a:endParaRPr>
          </a:p>
        </p:txBody>
      </p:sp>
      <p:sp>
        <p:nvSpPr>
          <p:cNvPr id="83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A2AC-4DF6-4C99-9490-3D3F6F8070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in the Water</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hloride ions attack steel, fluoride attacks zirconium, and zinc causes damage to inco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avy metals </a:t>
            </a:r>
            <a:r>
              <a:rPr b="0" lang="en-US" sz="3200" spc="-1" strike="noStrike">
                <a:solidFill>
                  <a:srgbClr val="000000"/>
                </a:solidFill>
                <a:latin typeface="Calibri"/>
              </a:rPr>
              <a:t>(lead, mercury) cause </a:t>
            </a:r>
            <a:r>
              <a:rPr b="1" i="1" lang="en-US" sz="3200" spc="-1" strike="noStrike">
                <a:solidFill>
                  <a:srgbClr val="000000"/>
                </a:solidFill>
                <a:latin typeface="Calibri"/>
              </a:rPr>
              <a:t>damage in Nickel containing metals (inconel and stainless ste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these contaminants must be avoided.</a:t>
            </a:r>
            <a:endParaRPr b="0" lang="en-US" sz="3200" spc="-1" strike="noStrike">
              <a:solidFill>
                <a:srgbClr val="000000"/>
              </a:solidFill>
              <a:latin typeface="Calibri"/>
            </a:endParaRPr>
          </a:p>
        </p:txBody>
      </p:sp>
      <p:sp>
        <p:nvSpPr>
          <p:cNvPr id="83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4F1B-C185-454F-9B0A-594EB9E0AC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vironmental Concern: Radiation</a:t>
            </a:r>
            <a:endParaRPr b="0" lang="en-US" sz="40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levels of radiation can change the structure of a metal oxide la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products can become activated when they are exposed to the c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particles become a radiation hazard (precipitates on radioactive surfaces)</a:t>
            </a:r>
            <a:endParaRPr b="0" lang="en-US" sz="3200" spc="-1" strike="noStrike">
              <a:solidFill>
                <a:srgbClr val="000000"/>
              </a:solidFill>
              <a:latin typeface="Calibri"/>
            </a:endParaRPr>
          </a:p>
        </p:txBody>
      </p:sp>
      <p:sp>
        <p:nvSpPr>
          <p:cNvPr id="84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8B51-3A36-42F5-B464-8676637AF0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to avoid</a:t>
            </a: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hermal shoc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temperature chang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hemical shock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echanical shoc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from pump starts</a:t>
            </a:r>
            <a:endParaRPr b="0" lang="en-US" sz="2800" spc="-1" strike="noStrike">
              <a:solidFill>
                <a:srgbClr val="000000"/>
              </a:solidFill>
              <a:latin typeface="Calibri"/>
            </a:endParaRPr>
          </a:p>
        </p:txBody>
      </p:sp>
      <p:sp>
        <p:nvSpPr>
          <p:cNvPr id="84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A5A2-B030-4234-BDC7-E1C8D49A54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Oxygen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orrosion inhibi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 a neutral to basic pH</a:t>
            </a:r>
            <a:endParaRPr b="0" lang="en-US" sz="3200" spc="-1" strike="noStrike">
              <a:solidFill>
                <a:srgbClr val="000000"/>
              </a:solidFill>
              <a:latin typeface="Calibri"/>
            </a:endParaRPr>
          </a:p>
        </p:txBody>
      </p:sp>
      <p:sp>
        <p:nvSpPr>
          <p:cNvPr id="84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1E13-0497-4ED2-A67B-BF0334BE00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Oxygen Cont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eaerated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excess hydrogen in the water (to react with any oxyg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ng an oxygen scavenger (like Hydrazine, N</a:t>
            </a:r>
            <a:r>
              <a:rPr b="0" lang="en-US" sz="2800" spc="-1" strike="noStrike" baseline="-25000">
                <a:solidFill>
                  <a:srgbClr val="000000"/>
                </a:solidFill>
                <a:latin typeface="Calibri"/>
              </a:rPr>
              <a:t>2</a:t>
            </a:r>
            <a:r>
              <a:rPr b="0" lang="en-US" sz="2800" spc="-1" strike="noStrike">
                <a:solidFill>
                  <a:srgbClr val="000000"/>
                </a:solidFill>
                <a:latin typeface="Calibri"/>
              </a:rPr>
              <a:t>H</a:t>
            </a:r>
            <a:r>
              <a:rPr b="0" lang="en-US" sz="2800" spc="-1" strike="noStrike" baseline="-25000">
                <a:solidFill>
                  <a:srgbClr val="000000"/>
                </a:solidFill>
                <a:latin typeface="Calibri"/>
              </a:rPr>
              <a:t>4</a:t>
            </a:r>
            <a:r>
              <a:rPr b="0" lang="en-US" sz="2800" spc="-1" strike="noStrike">
                <a:solidFill>
                  <a:srgbClr val="000000"/>
                </a:solidFill>
                <a:latin typeface="Calibri"/>
              </a:rPr>
              <a:t>) (Only at low temperatures).</a:t>
            </a:r>
            <a:endParaRPr b="0" lang="en-US" sz="2800" spc="-1" strike="noStrike">
              <a:solidFill>
                <a:srgbClr val="000000"/>
              </a:solidFill>
              <a:latin typeface="Calibri"/>
            </a:endParaRPr>
          </a:p>
        </p:txBody>
      </p:sp>
      <p:sp>
        <p:nvSpPr>
          <p:cNvPr id="8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B17C-5742-4196-9E3C-6B6BC93BFA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7977-2678-4FE9-87AD-5137A0733B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854"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ized corrosion takes place a lot faster than general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xtreme cases, failure with localized corrosion will take just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specific metals  under specific conditions are susceptible to localized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Corrosion</a:t>
            </a:r>
            <a:endParaRPr b="0" lang="en-US" sz="4400" spc="-1" strike="noStrike">
              <a:solidFill>
                <a:srgbClr val="000000"/>
              </a:solidFill>
              <a:latin typeface="Calibri"/>
            </a:endParaRPr>
          </a:p>
        </p:txBody>
      </p:sp>
      <p:sp>
        <p:nvSpPr>
          <p:cNvPr id="646"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rrosion </a:t>
            </a:r>
            <a:r>
              <a:rPr b="0" lang="en-US" sz="2200" spc="-1" strike="noStrike">
                <a:solidFill>
                  <a:srgbClr val="000000"/>
                </a:solidFill>
                <a:latin typeface="Calibri"/>
              </a:rPr>
              <a:t>is the deterioration of a material due to interaction with its environm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lectrolysis </a:t>
            </a:r>
            <a:r>
              <a:rPr b="0" lang="en-US" sz="2200" spc="-1" strike="noStrike">
                <a:solidFill>
                  <a:srgbClr val="000000"/>
                </a:solidFill>
                <a:latin typeface="Calibri"/>
              </a:rPr>
              <a:t>is the decomposition by electric current (in the context of corrosion the use of electrical current to bring about chemical ch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electrolyte is defined as an electricity-conducting fluid; that is, it has positive and negative ions that can move and constitute an electrical curr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re water is a poor conductor (contains H+ and OH- ions only).  When a salt is added it becomes a good conducto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is electrochemical in nature because the corrosive chemical reactions involve transfer of char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487E-FEF2-42CF-956D-5D7D8FB96E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7D50-7C7E-4200-A6C0-316F4015A2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tress?</a:t>
            </a:r>
            <a:endParaRPr b="0" lang="en-US" sz="4400" spc="-1" strike="noStrike">
              <a:solidFill>
                <a:srgbClr val="000000"/>
              </a:solidFill>
              <a:latin typeface="Calibri"/>
            </a:endParaRPr>
          </a:p>
        </p:txBody>
      </p:sp>
      <p:sp>
        <p:nvSpPr>
          <p:cNvPr id="857" name="PlaceHolder 2"/>
          <p:cNvSpPr>
            <a:spLocks noGrp="1"/>
          </p:cNvSpPr>
          <p:nvPr>
            <p:ph/>
          </p:nvPr>
        </p:nvSpPr>
        <p:spPr>
          <a:xfrm>
            <a:off x="0" y="1934640"/>
            <a:ext cx="8229600" cy="43894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metal is subjected to a load (force), it is distorted or deformed, no matter how strong the metal or light the loa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astic strain – regains its shape</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stic strain – if after the load is applied the shape is not regaine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henomenon of elastic strain and plastic deformation in a material are called </a:t>
            </a:r>
            <a:r>
              <a:rPr b="0" i="1" lang="en-US" sz="2000" spc="-1" strike="noStrike">
                <a:solidFill>
                  <a:srgbClr val="000000"/>
                </a:solidFill>
                <a:latin typeface="Calibri"/>
              </a:rPr>
              <a:t>elasticity </a:t>
            </a:r>
            <a:r>
              <a:rPr b="0" lang="en-US" sz="2000" spc="-1" strike="noStrike">
                <a:solidFill>
                  <a:srgbClr val="000000"/>
                </a:solidFill>
                <a:latin typeface="Calibri"/>
              </a:rPr>
              <a:t>and </a:t>
            </a:r>
            <a:r>
              <a:rPr b="0" i="1" lang="en-US" sz="2000" spc="-1" strike="noStrike">
                <a:solidFill>
                  <a:srgbClr val="000000"/>
                </a:solidFill>
                <a:latin typeface="Calibri"/>
              </a:rPr>
              <a:t>plasticity</a:t>
            </a:r>
            <a:r>
              <a:rPr b="0" lang="en-US" sz="2000" spc="-1" strike="noStrike">
                <a:solidFill>
                  <a:srgbClr val="000000"/>
                </a:solidFill>
                <a:latin typeface="Calibri"/>
              </a:rPr>
              <a:t>, respectively.</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 in a material are arranged in a specific geometry which depends in the intermolecular interaction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distort the pattern of a crystal, work most be done in the material.</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 Force times the distance that the force move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tress </a:t>
            </a:r>
            <a:r>
              <a:rPr b="0" lang="en-US" sz="2000" spc="-1" strike="noStrike">
                <a:solidFill>
                  <a:srgbClr val="000000"/>
                </a:solidFill>
                <a:latin typeface="Calibri"/>
              </a:rPr>
              <a:t>is the internal resistance, or counterforce, of a material to the distorting effects of an external force or load.</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4EBE-4E27-4147-B5E0-933418642A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5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Example of a Crystal Lattice Structure</a:t>
            </a:r>
            <a:endParaRPr b="0" lang="en-US" sz="4100" spc="-1" strike="noStrike">
              <a:solidFill>
                <a:srgbClr val="000000"/>
              </a:solidFill>
              <a:latin typeface="Calibri"/>
            </a:endParaRPr>
          </a:p>
        </p:txBody>
      </p:sp>
      <p:pic>
        <p:nvPicPr>
          <p:cNvPr id="860" name="Picture 5" descr="hexdia"/>
          <p:cNvPicPr/>
          <p:nvPr/>
        </p:nvPicPr>
        <p:blipFill>
          <a:blip r:embed="rId1"/>
          <a:stretch/>
        </p:blipFill>
        <p:spPr>
          <a:xfrm>
            <a:off x="1898640" y="2114640"/>
            <a:ext cx="5897520" cy="4743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866C-EE23-4864-93AB-FD76026404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2"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Types of stress</a:t>
            </a:r>
            <a:br>
              <a:rPr sz="4100"/>
            </a:br>
            <a:endParaRPr b="0" lang="en-US" sz="4100" spc="-1" strike="noStrike">
              <a:solidFill>
                <a:srgbClr val="000000"/>
              </a:solidFill>
              <a:latin typeface="Calibri"/>
            </a:endParaRPr>
          </a:p>
        </p:txBody>
      </p:sp>
      <p:sp>
        <p:nvSpPr>
          <p:cNvPr id="863" name="PlaceHolder 2"/>
          <p:cNvSpPr>
            <a:spLocks noGrp="1"/>
          </p:cNvSpPr>
          <p:nvPr>
            <p:ph/>
          </p:nvPr>
        </p:nvSpPr>
        <p:spPr>
          <a:xfrm>
            <a:off x="0" y="1823760"/>
            <a:ext cx="8229600" cy="438948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esidual stresses </a:t>
            </a:r>
            <a:r>
              <a:rPr b="0" lang="en-US" sz="1800" spc="-1" strike="noStrike">
                <a:solidFill>
                  <a:srgbClr val="000000"/>
                </a:solidFill>
                <a:latin typeface="Calibri"/>
              </a:rPr>
              <a:t>are due to the manufacturing processes that leave stresses in a material. Welding leaves residual stresses in the metals welded.</a:t>
            </a:r>
            <a:endParaRPr b="0" lang="en-US" sz="1800" spc="-1" strike="noStrike">
              <a:solidFill>
                <a:srgbClr val="000000"/>
              </a:solidFill>
              <a:latin typeface="Calibri"/>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uctural stresses </a:t>
            </a:r>
            <a:r>
              <a:rPr b="0" lang="en-US" sz="1800" spc="-1" strike="noStrike">
                <a:solidFill>
                  <a:srgbClr val="000000"/>
                </a:solidFill>
                <a:latin typeface="Calibri"/>
              </a:rPr>
              <a:t>are stresses produced in structural members because of the weights they support.</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ssure stresses </a:t>
            </a:r>
            <a:r>
              <a:rPr b="0" lang="en-US" sz="1800" spc="-1" strike="noStrike">
                <a:solidFill>
                  <a:srgbClr val="000000"/>
                </a:solidFill>
                <a:latin typeface="Calibri"/>
              </a:rPr>
              <a:t>are stresses induced in vessels containing pressurized material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low stresses </a:t>
            </a:r>
            <a:r>
              <a:rPr b="0" lang="en-US" sz="1800" spc="-1" strike="noStrike">
                <a:solidFill>
                  <a:srgbClr val="000000"/>
                </a:solidFill>
                <a:latin typeface="Calibri"/>
              </a:rPr>
              <a:t>occur when a mass of flowing fluid induces a dynamic pressure on a conduit wall. The force of the fluid striking the wall acts as the load.</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hermal stresses </a:t>
            </a:r>
            <a:r>
              <a:rPr b="0" lang="en-US" sz="1800" spc="-1" strike="noStrike">
                <a:solidFill>
                  <a:srgbClr val="000000"/>
                </a:solidFill>
                <a:latin typeface="Calibri"/>
              </a:rPr>
              <a:t>exist whenever temperature gradients are present in a material.  Different temperatures produce different expansions and subject materials to internal stres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atigue stresses </a:t>
            </a:r>
            <a:r>
              <a:rPr b="0" lang="en-US" sz="1800" spc="-1" strike="noStrike">
                <a:solidFill>
                  <a:srgbClr val="000000"/>
                </a:solidFill>
                <a:latin typeface="Calibri"/>
              </a:rPr>
              <a:t>are due to cyclic application of a stress. The stresses could be due to vibration or thermal cycling.</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C0A2-6FB8-4F82-B74B-E94DA6546B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5"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tress</a:t>
            </a:r>
            <a:endParaRPr b="0" lang="en-US" sz="4400" spc="-1" strike="noStrike">
              <a:solidFill>
                <a:srgbClr val="000000"/>
              </a:solidFill>
              <a:latin typeface="Calibri"/>
            </a:endParaRPr>
          </a:p>
        </p:txBody>
      </p:sp>
      <p:sp>
        <p:nvSpPr>
          <p:cNvPr id="866"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ensile stress </a:t>
            </a:r>
            <a:r>
              <a:rPr b="0" lang="en-US" sz="2000" spc="-1" strike="noStrike">
                <a:solidFill>
                  <a:srgbClr val="000000"/>
                </a:solidFill>
                <a:latin typeface="Calibri"/>
              </a:rPr>
              <a:t>is that type of stress in which the two sections of material on either side of a stress plane tend to pull apart or elongat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ressive stress </a:t>
            </a:r>
            <a:r>
              <a:rPr b="0" lang="en-US" sz="2000" spc="-1" strike="noStrike">
                <a:solidFill>
                  <a:srgbClr val="000000"/>
                </a:solidFill>
                <a:latin typeface="Calibri"/>
              </a:rPr>
              <a:t>is the reverse of tensile stress.</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hear stress </a:t>
            </a:r>
            <a:r>
              <a:rPr b="0" lang="en-US" sz="2000" spc="-1" strike="noStrike">
                <a:solidFill>
                  <a:srgbClr val="000000"/>
                </a:solidFill>
                <a:latin typeface="Calibri"/>
              </a:rPr>
              <a:t>exists when two parts of a material tend to slide across each other in any typical plane of shear upon application of force parallel to that plan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ssibility is the ability of a material to react to compressive stress or pressure.</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CFD7-3B73-4392-8374-2F41C62019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8"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ocalized Corrosion</a:t>
            </a:r>
            <a:endParaRPr b="0" lang="en-US" sz="4400" spc="-1" strike="noStrike">
              <a:solidFill>
                <a:srgbClr val="000000"/>
              </a:solidFill>
              <a:latin typeface="Calibri"/>
            </a:endParaRPr>
          </a:p>
        </p:txBody>
      </p:sp>
      <p:sp>
        <p:nvSpPr>
          <p:cNvPr id="869"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vice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1140-B63F-4C6B-AFD5-ED687E145C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1"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872" name="PlaceHolder 2"/>
          <p:cNvSpPr>
            <a:spLocks noGrp="1"/>
          </p:cNvSpPr>
          <p:nvPr>
            <p:ph/>
          </p:nvPr>
        </p:nvSpPr>
        <p:spPr>
          <a:xfrm>
            <a:off x="0" y="1792440"/>
            <a:ext cx="8229600" cy="4922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ss Cracking Corrosi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a:t>
            </a:r>
            <a:r>
              <a:rPr b="0" lang="en-US" sz="1800" spc="-1" strike="noStrike" u="sng">
                <a:solidFill>
                  <a:srgbClr val="000000"/>
                </a:solidFill>
                <a:uFillTx/>
                <a:latin typeface="Calibri"/>
              </a:rPr>
              <a:t>all</a:t>
            </a:r>
            <a:r>
              <a:rPr b="0" lang="en-US" sz="1800" spc="-1" strike="noStrike">
                <a:solidFill>
                  <a:srgbClr val="000000"/>
                </a:solidFill>
                <a:latin typeface="Calibri"/>
              </a:rPr>
              <a:t> alloy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ess corrosion cracking </a:t>
            </a:r>
            <a:r>
              <a:rPr b="0" lang="en-US" sz="1800" spc="-1" strike="noStrike">
                <a:solidFill>
                  <a:srgbClr val="000000"/>
                </a:solidFill>
                <a:latin typeface="Calibri"/>
              </a:rPr>
              <a:t>(SCC) is a type of intergranular attack corrosion that occurs at the grain boundaries under tensile stres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pure metals are immune to this type of attack.</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rding to the most widely accepted theory, stress corrosion cracking is caused by a process called chemisorption. Unlike relatively weak physical absorption, such as hydrogen gas on platinum metal, chemisorption may be thought of as the formation of a compound between the metal atoms on the surface as a monomolecular layer of the chemisorbed substance, such as Cl-, OH-, Br-, and some other 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Conditions for this corrosion to exist</a:t>
            </a:r>
            <a:endParaRPr b="0" lang="en-US" sz="18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sceptible metal alloy and a corroding substance</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nsile stress</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xygen in water</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mperature greater than 140 </a:t>
            </a:r>
            <a:r>
              <a:rPr b="0" lang="en-US" sz="1700" spc="-1" strike="noStrike">
                <a:solidFill>
                  <a:srgbClr val="000000"/>
                </a:solidFill>
                <a:latin typeface="Calibri"/>
                <a:ea typeface="Arial"/>
              </a:rPr>
              <a:t>ºF</a:t>
            </a:r>
            <a:endParaRPr b="0" lang="en-US" sz="17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large tensile stress is required for it to occur.</a:t>
            </a:r>
            <a:endParaRPr b="0" lang="en-US" sz="1800" spc="-1" strike="noStrike">
              <a:solidFill>
                <a:srgbClr val="000000"/>
              </a:solidFill>
              <a:latin typeface="Calibri"/>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FEA2-7155-432A-8BFE-F5F7E94F02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Cracking Corrosion, co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ess can come from service loads, residual stress from manufacturing processes, mismatch of components during construction, or a wedging action due to accumulation of corrosion prod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a stress is present, the other factors must also be present for corrosion to occu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efect initially present then grows as the metal atoms separate under stress, more chemisorption occurs, and the process contin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inless steels containing 18 percent chromium and 8 percent nickel are susceptible to cracking in environments containing chloride ions and in concentrated caustic environments (that is, in environments where the hydroxyl ion concentration is hig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environment is severe enough, cracking can occur in a very short period of time.</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5"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250F-4F8F-4D21-8632-4B9F1AF75D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 co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ful fabrication of plant compon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chloride, fluoride and oxygen content below the specified limi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xygen is kept at very low limits, then higher chloride and fluoride limits can be tolera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verse is also true.</a:t>
            </a:r>
            <a:endParaRPr b="0" lang="en-US" sz="2400" spc="-1" strike="noStrike">
              <a:solidFill>
                <a:srgbClr val="000000"/>
              </a:solidFill>
              <a:latin typeface="Calibri"/>
            </a:endParaRPr>
          </a:p>
        </p:txBody>
      </p:sp>
      <p:sp>
        <p:nvSpPr>
          <p:cNvPr id="878"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8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i="1" lang="en-US" sz="2200" spc="-1" strike="noStrike">
                <a:solidFill>
                  <a:srgbClr val="000000"/>
                </a:solidFill>
                <a:latin typeface="Calibri"/>
              </a:rPr>
              <a:t>three conditions that must be present </a:t>
            </a:r>
            <a:r>
              <a:rPr b="0" lang="en-US" sz="2200" spc="-1" strike="noStrike">
                <a:solidFill>
                  <a:srgbClr val="000000"/>
                </a:solidFill>
                <a:latin typeface="Calibri"/>
              </a:rPr>
              <a:t>for chloride stress corrosion to occur are as follow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hloride ions </a:t>
            </a:r>
            <a:r>
              <a:rPr b="0" lang="en-US" sz="2000" spc="-1" strike="noStrike">
                <a:solidFill>
                  <a:srgbClr val="000000"/>
                </a:solidFill>
                <a:latin typeface="Calibri"/>
              </a:rPr>
              <a:t>are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issolved oxygen </a:t>
            </a:r>
            <a:r>
              <a:rPr b="0" lang="en-US" sz="2000" spc="-1" strike="noStrike">
                <a:solidFill>
                  <a:srgbClr val="000000"/>
                </a:solidFill>
                <a:latin typeface="Calibri"/>
              </a:rPr>
              <a:t>is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l is under </a:t>
            </a:r>
            <a:r>
              <a:rPr b="0" i="1" lang="en-US" sz="2000" spc="-1" strike="noStrike">
                <a:solidFill>
                  <a:srgbClr val="000000"/>
                </a:solidFill>
                <a:latin typeface="Calibri"/>
              </a:rPr>
              <a:t>tensile stres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loride stress corrosion involves selective attack of the metal along grain boundar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ormation of the steel, a chromium-rich carbide precipitates at the grain boundaries leaving these areas low in protective chromium, and thereby, susceptible to attack.</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is form of corrosion is controlled by maintaining low chloride ion and oxygen content in the environment and the use of low carbon steel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913E-B345-4860-845B-04C55ECCD0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8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loride ions can enter these systems via leaks in condensers or at other locations where auxiliary systems associated with the nuclear facility are cooled by unpurified cooling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ED43-394B-4EB1-8CE5-884914E9BF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85" name="Picture 4" descr=""/>
          <p:cNvPicPr/>
          <p:nvPr/>
        </p:nvPicPr>
        <p:blipFill>
          <a:blip r:embed="rId1"/>
          <a:stretch/>
        </p:blipFill>
        <p:spPr>
          <a:xfrm>
            <a:off x="2273400" y="3735360"/>
            <a:ext cx="5064120" cy="31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orrosion of Iron in the presence of water or acidic water</a:t>
            </a:r>
            <a:endParaRPr b="0" lang="en-US" sz="41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on goes into solution as Fe</a:t>
            </a:r>
            <a:r>
              <a:rPr b="0" lang="en-US" sz="2400" spc="-1" strike="noStrike" baseline="30000">
                <a:solidFill>
                  <a:srgbClr val="000000"/>
                </a:solidFill>
                <a:latin typeface="Calibri"/>
              </a:rPr>
              <a:t>++</a:t>
            </a:r>
            <a:r>
              <a:rPr b="0" lang="en-US" sz="2400" spc="-1" strike="noStrike">
                <a:solidFill>
                  <a:srgbClr val="000000"/>
                </a:solidFill>
                <a:latin typeface="Calibri"/>
              </a:rPr>
              <a:t> ions. As these ions go into solution, the metal becomes negatively charged (by the electrons left behind) with respect to the electroly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difference is observ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0906-C39B-4150-95DC-5613458C8C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4" descr=""/>
          <p:cNvPicPr/>
          <p:nvPr/>
        </p:nvPicPr>
        <p:blipFill>
          <a:blip r:embed="rId1"/>
          <a:stretch/>
        </p:blipFill>
        <p:spPr>
          <a:xfrm>
            <a:off x="5326200" y="3325680"/>
            <a:ext cx="3589200" cy="3532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88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loride stress corrosion is a particularly significant problem in the operation of nuclear facilities because of the wide use of austenitic stainless steel, and the inherent presence of high tensile stresses associated with pressur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loride stress corrosion cracks have been known to propagate in austenitic stainless steel at stresses of about one-fifth yield strength with chloride concentrations of less than </a:t>
            </a:r>
            <a:r>
              <a:rPr b="1" lang="en-US" sz="3000" spc="-1" strike="noStrike">
                <a:solidFill>
                  <a:srgbClr val="000000"/>
                </a:solidFill>
                <a:latin typeface="Calibri"/>
              </a:rPr>
              <a:t>50 ppm</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E48C-D56C-49C8-A1E0-5529FE6079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pic>
        <p:nvPicPr>
          <p:cNvPr id="890" name="Picture 3" descr=""/>
          <p:cNvPicPr/>
          <p:nvPr/>
        </p:nvPicPr>
        <p:blipFill>
          <a:blip r:embed="rId1"/>
          <a:stretch/>
        </p:blipFill>
        <p:spPr>
          <a:xfrm>
            <a:off x="1717560" y="1643040"/>
            <a:ext cx="4451400" cy="5214960"/>
          </a:xfrm>
          <a:prstGeom prst="rect">
            <a:avLst/>
          </a:prstGeom>
          <a:ln w="0">
            <a:noFill/>
          </a:ln>
        </p:spPr>
      </p:pic>
      <p:sp>
        <p:nvSpPr>
          <p:cNvPr id="89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33D0-FE92-4DF5-9368-BB6F02863D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2DB2-CC5E-4E20-96D9-8D976A9865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in zircalloy and ferrous metal (iron containing met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requir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ceptible met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ed Caustic conditions (pH close to 14)</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le stres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ce between tensile stress corrosion and caustic corrosion is the chemicals involved to start the reaction.</a:t>
            </a:r>
            <a:endParaRPr b="0" lang="en-US" sz="2800" spc="-1" strike="noStrike">
              <a:solidFill>
                <a:srgbClr val="000000"/>
              </a:solidFill>
              <a:latin typeface="Calibri"/>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4"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8927-C99F-4918-83CC-787EBA4AD1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897" name="Picture 4" descr=""/>
          <p:cNvPicPr/>
          <p:nvPr/>
        </p:nvPicPr>
        <p:blipFill>
          <a:blip r:embed="rId1"/>
          <a:srcRect l="0" t="4671" r="0" b="0"/>
          <a:stretch/>
        </p:blipFill>
        <p:spPr>
          <a:xfrm>
            <a:off x="2514600" y="1447920"/>
            <a:ext cx="6629400" cy="54100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15BB-A076-4B39-AB7B-2580A4D945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900" name="Picture 3" descr=""/>
          <p:cNvPicPr/>
          <p:nvPr/>
        </p:nvPicPr>
        <p:blipFill>
          <a:blip r:embed="rId1"/>
          <a:srcRect l="0" t="4671" r="0" b="0"/>
          <a:stretch/>
        </p:blipFill>
        <p:spPr>
          <a:xfrm>
            <a:off x="2514600" y="1447920"/>
            <a:ext cx="6629400" cy="5410080"/>
          </a:xfrm>
          <a:prstGeom prst="rect">
            <a:avLst/>
          </a:prstGeom>
          <a:ln w="0">
            <a:noFill/>
          </a:ln>
        </p:spPr>
      </p:pic>
      <p:sp>
        <p:nvSpPr>
          <p:cNvPr id="901" name="Oval 4"/>
          <p:cNvSpPr/>
          <p:nvPr/>
        </p:nvSpPr>
        <p:spPr>
          <a:xfrm>
            <a:off x="5791320" y="3962520"/>
            <a:ext cx="152388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5"/>
          <p:cNvSpPr/>
          <p:nvPr/>
        </p:nvSpPr>
        <p:spPr>
          <a:xfrm>
            <a:off x="5638680" y="29718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very caustic conditions, corrosion rate increases (pH = 14)</a:t>
            </a:r>
            <a:endParaRPr b="0" lang="en-US" sz="1800" spc="-1" strike="noStrike">
              <a:solidFill>
                <a:srgbClr val="000000"/>
              </a:solidFill>
              <a:latin typeface="Arial"/>
            </a:endParaRPr>
          </a:p>
        </p:txBody>
      </p:sp>
      <p:sp>
        <p:nvSpPr>
          <p:cNvPr id="903" name="Line 6"/>
          <p:cNvSpPr/>
          <p:nvPr/>
        </p:nvSpPr>
        <p:spPr>
          <a:xfrm>
            <a:off x="4267080" y="4495680"/>
            <a:ext cx="3812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7"/>
          <p:cNvSpPr/>
          <p:nvPr/>
        </p:nvSpPr>
        <p:spPr>
          <a:xfrm>
            <a:off x="3505320" y="3505320"/>
            <a:ext cx="213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should be maintained between 7 and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F482-6C1F-456E-8AA7-029876446B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907" name="PlaceHolder 2"/>
          <p:cNvSpPr>
            <a:spLocks noGrp="1"/>
          </p:cNvSpPr>
          <p:nvPr>
            <p:ph/>
          </p:nvPr>
        </p:nvSpPr>
        <p:spPr>
          <a:xfrm>
            <a:off x="0" y="1839960"/>
            <a:ext cx="8229600" cy="49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tic Corro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inimize general corrosion of most metal a pH of 7 or greater.</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H = 11.3 – zircaloy corrosion layer is dissolved (pH must be maintained below 11.3 to ensure that the zircaloy layer is protec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sure of the zircaloy structure increases the chances of zirc-hydriding.</a:t>
            </a:r>
            <a:endParaRPr b="0" lang="en-US" sz="2000" spc="-1" strike="noStrike">
              <a:solidFill>
                <a:srgbClr val="000000"/>
              </a:solidFill>
              <a:latin typeface="Calibri"/>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entrated basic conditions are caused by boiling (basic solution concentrates in crevices).  The caustic material plates out of solution. When it is remoistened it creates a region with a highly caustic environment.</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d resistance to caustic stress corrosion cracking can be given to Inconel by heat treating it at 620ºC to 705ºC, depending upon prior solution treating temperature. </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ct pH control is the onl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s cannot be changed and boiling cannot be avoided.</a:t>
            </a:r>
            <a:endParaRPr b="0" lang="en-US" sz="2000" spc="-1" strike="noStrike">
              <a:solidFill>
                <a:srgbClr val="000000"/>
              </a:solidFill>
              <a:latin typeface="Calibri"/>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5680-7851-4D85-B629-3BC1B4B95B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9" name="Picture 5" descr="Intergranular stress corrosion cracking in Inconel heat exchanger tube with the crack following the grain boundaries"/>
          <p:cNvPicPr/>
          <p:nvPr/>
        </p:nvPicPr>
        <p:blipFill>
          <a:blip r:embed="rId1"/>
          <a:stretch/>
        </p:blipFill>
        <p:spPr>
          <a:xfrm>
            <a:off x="1143000" y="2362320"/>
            <a:ext cx="2400480" cy="2857320"/>
          </a:xfrm>
          <a:prstGeom prst="rect">
            <a:avLst/>
          </a:prstGeom>
          <a:ln w="0">
            <a:noFill/>
          </a:ln>
        </p:spPr>
      </p:pic>
      <p:pic>
        <p:nvPicPr>
          <p:cNvPr id="910" name="Picture 7" descr="Transgranular cracking of 316 stainless steel"/>
          <p:cNvPicPr/>
          <p:nvPr/>
        </p:nvPicPr>
        <p:blipFill>
          <a:blip r:embed="rId2"/>
          <a:stretch/>
        </p:blipFill>
        <p:spPr>
          <a:xfrm>
            <a:off x="5410080" y="2362320"/>
            <a:ext cx="2514600" cy="2914560"/>
          </a:xfrm>
          <a:prstGeom prst="rect">
            <a:avLst/>
          </a:prstGeom>
          <a:ln w="0">
            <a:noFill/>
          </a:ln>
        </p:spPr>
      </p:pic>
      <p:sp>
        <p:nvSpPr>
          <p:cNvPr id="911" name="Text Box 8"/>
          <p:cNvSpPr/>
          <p:nvPr/>
        </p:nvSpPr>
        <p:spPr>
          <a:xfrm>
            <a:off x="828360" y="5294160"/>
            <a:ext cx="328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Inco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grain boundaries</a:t>
            </a:r>
            <a:endParaRPr b="0" lang="en-US" sz="1800" spc="-1" strike="noStrike">
              <a:solidFill>
                <a:srgbClr val="000000"/>
              </a:solidFill>
              <a:latin typeface="Arial"/>
            </a:endParaRPr>
          </a:p>
        </p:txBody>
      </p:sp>
      <p:sp>
        <p:nvSpPr>
          <p:cNvPr id="912" name="Rectangle 9"/>
          <p:cNvSpPr/>
          <p:nvPr/>
        </p:nvSpPr>
        <p:spPr>
          <a:xfrm>
            <a:off x="5338080" y="548640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316 stainless ste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6C44-7865-4E89-9D74-8B66EC532E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915"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dissimilar metals in contact of electrically conductive wat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metals can develop accelerated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s </a:t>
            </a:r>
            <a:r>
              <a:rPr b="1" i="1" lang="en-US" sz="2800" spc="-1" strike="noStrike">
                <a:solidFill>
                  <a:srgbClr val="000000"/>
                </a:solidFill>
                <a:latin typeface="Calibri"/>
              </a:rPr>
              <a:t>must have a different electric potential</a:t>
            </a:r>
            <a:r>
              <a:rPr b="1" lang="en-US" sz="2800" spc="-1" strike="noStrike">
                <a:solidFill>
                  <a:srgbClr val="000000"/>
                </a:solidFill>
                <a:latin typeface="Calibri"/>
              </a:rPr>
              <a:t> </a:t>
            </a:r>
            <a:r>
              <a:rPr b="0" lang="en-US" sz="2800" spc="-1" strike="noStrike">
                <a:solidFill>
                  <a:srgbClr val="000000"/>
                </a:solidFill>
                <a:latin typeface="Calibri"/>
              </a:rPr>
              <a:t>for the reaction to occu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ce in potential creates a small current (flow of electr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 with the lower oxidation potential readily oxidizes in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955E-49C4-4BB7-9A51-54985FEF39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918" name="PlaceHolder 2"/>
          <p:cNvSpPr>
            <a:spLocks noGrp="1"/>
          </p:cNvSpPr>
          <p:nvPr>
            <p:ph/>
          </p:nvPr>
        </p:nvSpPr>
        <p:spPr>
          <a:xfrm>
            <a:off x="0" y="1935000"/>
            <a:ext cx="4038480" cy="4648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Condi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ssimilar metals in contac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dissolved in water</a:t>
            </a:r>
            <a:endParaRPr b="0" lang="en-US" sz="2000" spc="-1" strike="noStrike">
              <a:solidFill>
                <a:srgbClr val="000000"/>
              </a:solidFill>
              <a:latin typeface="Calibri"/>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u and Zn are oxidized in the presence of oxygen in water.</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lectric potential of copper is 1.90 and for zinc is 1.65.  </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s flow from least potential to higher potential.</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pper does not corrode and zinc corrodes at an accelerated pac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19" name="Picture 5" descr=""/>
          <p:cNvPicPr/>
          <p:nvPr/>
        </p:nvPicPr>
        <p:blipFill>
          <a:blip r:embed="rId1"/>
          <a:stretch/>
        </p:blipFill>
        <p:spPr>
          <a:xfrm>
            <a:off x="4495680" y="1600200"/>
            <a:ext cx="4648320" cy="43783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4391-ED4C-46CB-B5CE-180D9BCA3D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How can we do to minimize corrosion?</a:t>
            </a:r>
            <a:endParaRPr b="0" lang="en-US" sz="4100" spc="-1" strike="noStrike">
              <a:solidFill>
                <a:srgbClr val="000000"/>
              </a:solidFill>
              <a:latin typeface="Calibri"/>
            </a:endParaRPr>
          </a:p>
        </p:txBody>
      </p:sp>
      <p:pic>
        <p:nvPicPr>
          <p:cNvPr id="922" name="Picture 4" descr=""/>
          <p:cNvPicPr/>
          <p:nvPr/>
        </p:nvPicPr>
        <p:blipFill>
          <a:blip r:embed="rId1"/>
          <a:stretch/>
        </p:blipFill>
        <p:spPr>
          <a:xfrm>
            <a:off x="0" y="2230560"/>
            <a:ext cx="4038480" cy="3689280"/>
          </a:xfrm>
          <a:prstGeom prst="rect">
            <a:avLst/>
          </a:prstGeom>
          <a:ln w="0">
            <a:noFill/>
          </a:ln>
        </p:spPr>
      </p:pic>
      <p:sp>
        <p:nvSpPr>
          <p:cNvPr id="923" name="PlaceHolder 2"/>
          <p:cNvSpPr>
            <a:spLocks noGrp="1"/>
          </p:cNvSpPr>
          <p:nvPr>
            <p:ph/>
          </p:nvPr>
        </p:nvSpPr>
        <p:spPr>
          <a:xfrm>
            <a:off x="4556160" y="1917720"/>
            <a:ext cx="458784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tions</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inimize it </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rrosion resistant materi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materials with similar electronegativity. For example: Cupper and Nickel: 1.90 and 1.91.</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 sacrificial anode (to corrode this material intentionally)</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 transition piece between the metals (the transition piece must have similar properties than the two met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ented by minimizing the oxygen content in water.</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924" name="Object 7"/>
              <p:cNvSpPr txBox="1"/>
              <p:nvPr/>
            </p:nvSpPr>
            <p:spPr>
              <a:xfrm>
                <a:off x="6299280" y="2384280"/>
                <a:ext cx="2844720" cy="919440"/>
              </a:xfrm>
              <a:prstGeom prst="rect">
                <a:avLst/>
              </a:prstGeom>
            </p:spPr>
            <p:txBody>
              <a:bodyPr/>
              <a:p>
                <a14:m>
                  <m:oMath xmlns:m="http://schemas.openxmlformats.org/officeDocument/2006/math">
                    <m:eqArr>
                      <m:e>
                        <m:r>
                          <m:t xml:space="preserve">2</m:t>
                        </m:r>
                        <m:r>
                          <m:rPr>
                            <m:lit/>
                            <m:nor/>
                          </m:rPr>
                          <m:t xml:space="preserve">Zn</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Zn</m:t>
                            </m:r>
                          </m:e>
                          <m:sup>
                            <m:r>
                              <m:t xml:space="preserve">2</m:t>
                            </m:r>
                            <m:r>
                              <m:t xml:space="preserve">+</m:t>
                            </m:r>
                          </m:sup>
                        </m:sSup>
                        <m:r>
                          <m:t xml:space="preserve">+</m:t>
                        </m:r>
                        <m:r>
                          <m:t xml:space="preserve">2</m:t>
                        </m:r>
                        <m:sSub>
                          <m:e>
                            <m:r>
                              <m:t xml:space="preserve">H</m:t>
                            </m:r>
                          </m:e>
                          <m:sub>
                            <m:r>
                              <m:t xml:space="preserve">2</m:t>
                            </m:r>
                          </m:sub>
                        </m:sSub>
                        <m:r>
                          <m:t xml:space="preserve">O</m:t>
                        </m:r>
                      </m:e>
                      <m:e>
                        <m:r>
                          <m:t xml:space="preserve">2</m:t>
                        </m:r>
                        <m:r>
                          <m:rPr>
                            <m:lit/>
                            <m:nor/>
                          </m:rPr>
                          <m:t xml:space="preserve">Cu</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Cu</m:t>
                            </m:r>
                          </m:e>
                          <m:sup>
                            <m:r>
                              <m:t xml:space="preserve">2</m:t>
                            </m:r>
                            <m:r>
                              <m:t xml:space="preserve">+</m:t>
                            </m:r>
                          </m:sup>
                        </m:sSup>
                        <m:r>
                          <m:t xml:space="preserve">+</m:t>
                        </m:r>
                        <m:r>
                          <m:t xml:space="preserve">2</m:t>
                        </m:r>
                        <m:sSub>
                          <m:e>
                            <m:r>
                              <m:t xml:space="preserve">H</m:t>
                            </m:r>
                          </m:e>
                          <m:sub>
                            <m:r>
                              <m:t xml:space="preserve">2</m:t>
                            </m:r>
                          </m:sub>
                        </m:sSub>
                        <m:r>
                          <m:t xml:space="preserve">O</m:t>
                        </m:r>
                      </m:e>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tes at which the oxidation takes place on the surface of the metal become electrochemical cells made up of micro-electrodes of the two different substances; the metal and the electroly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micro-electrodes set up many micro-cells connected through the bulk of the met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of a metal to corrode will depend on the potential difference between the metal and the electroly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magnesium and zinc go into solution to a greater extent than iron, and these metals will be more negative with respect to the electrolyte than iron.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ckel, lead, and copper go into solution less readily and produce a smaller potential differen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tential difference depends on the ability of the metal to gain or loose electron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1 lists the potential differences for various metals in water.  It changes with different electroly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CDA9-1657-4776-8981-556F482066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9860-8EF5-4587-A003-E2F18FF76A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927"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type of galvanic corros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s two pieces of the same met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ditions for it to occur</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closely fitted par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uble salts or oxygen in wa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curs if a difference in oxygen concentration or salt concentration exist between the crevice and the surfa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crease concentration of salt in the crevice increases the corrosion in this are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BF5E-7A8A-4368-877C-8387858CCE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pic>
        <p:nvPicPr>
          <p:cNvPr id="930" name="Picture 5" descr="Stage one of a crevice formation"/>
          <p:cNvPicPr/>
          <p:nvPr/>
        </p:nvPicPr>
        <p:blipFill>
          <a:blip r:embed="rId1"/>
          <a:stretch/>
        </p:blipFill>
        <p:spPr>
          <a:xfrm>
            <a:off x="533520" y="2438280"/>
            <a:ext cx="2354040" cy="2571840"/>
          </a:xfrm>
          <a:prstGeom prst="rect">
            <a:avLst/>
          </a:prstGeom>
          <a:ln w="0">
            <a:noFill/>
          </a:ln>
        </p:spPr>
      </p:pic>
      <p:pic>
        <p:nvPicPr>
          <p:cNvPr id="931" name="Picture 7" descr="Crevic2"/>
          <p:cNvPicPr/>
          <p:nvPr/>
        </p:nvPicPr>
        <p:blipFill>
          <a:blip r:embed="rId2"/>
          <a:stretch/>
        </p:blipFill>
        <p:spPr>
          <a:xfrm>
            <a:off x="3124080" y="2438280"/>
            <a:ext cx="2347920" cy="2514600"/>
          </a:xfrm>
          <a:prstGeom prst="rect">
            <a:avLst/>
          </a:prstGeom>
          <a:ln w="0">
            <a:noFill/>
          </a:ln>
        </p:spPr>
      </p:pic>
      <p:pic>
        <p:nvPicPr>
          <p:cNvPr id="932" name="Picture 9" descr="Stage three of a crevice formation"/>
          <p:cNvPicPr/>
          <p:nvPr/>
        </p:nvPicPr>
        <p:blipFill>
          <a:blip r:embed="rId3"/>
          <a:stretch/>
        </p:blipFill>
        <p:spPr>
          <a:xfrm>
            <a:off x="5867280" y="2438280"/>
            <a:ext cx="2362320" cy="2562480"/>
          </a:xfrm>
          <a:prstGeom prst="rect">
            <a:avLst/>
          </a:prstGeom>
          <a:ln w="0">
            <a:noFill/>
          </a:ln>
        </p:spPr>
      </p:pic>
      <p:sp>
        <p:nvSpPr>
          <p:cNvPr id="933" name="Rectangle 10"/>
          <p:cNvSpPr/>
          <p:nvPr/>
        </p:nvSpPr>
        <p:spPr>
          <a:xfrm>
            <a:off x="918000" y="6248520"/>
            <a:ext cx="504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rrosion-doctors.org/Forms-cr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44D1-A470-4F38-B12F-A93CEAA9E4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936"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stage three of the crevice development a few more accelerating factors fully develop: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tal ions produced by the anodic corrosion reaction readily hydrolyze giving off protons (acid) and forming corrosion products. The </a:t>
            </a:r>
            <a:r>
              <a:rPr b="1" lang="en-US" sz="1800" spc="-1" strike="noStrike">
                <a:solidFill>
                  <a:srgbClr val="000000"/>
                </a:solidFill>
                <a:latin typeface="Calibri"/>
              </a:rPr>
              <a:t>pH</a:t>
            </a:r>
            <a:r>
              <a:rPr b="0" lang="en-US" sz="1800" spc="-1" strike="noStrike">
                <a:solidFill>
                  <a:srgbClr val="000000"/>
                </a:solidFill>
                <a:latin typeface="Calibri"/>
              </a:rPr>
              <a:t> in a crevice can reach very acidic values, sometimes equivalent to pure acids.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cidification of the local environment can produce a serious increase in the corrosion rate of most metals. See, for example, how the corrosion of steel is affected as a function of water pH.</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rrosion products seal even further the crevice environmen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ccumulation of positive charge in the crevice becomes a strong attractor to negative ions in the environment</a:t>
            </a:r>
            <a:r>
              <a:rPr b="0" lang="en-US" sz="1800" spc="-1" strike="noStrike">
                <a:solidFill>
                  <a:srgbClr val="000000"/>
                </a:solidFill>
                <a:latin typeface="Calibri"/>
              </a:rPr>
              <a:t>, such as chlorides and sulfates, that can be corrosive in their own right.</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7" name="Rectangle 4"/>
          <p:cNvSpPr/>
          <p:nvPr/>
        </p:nvSpPr>
        <p:spPr>
          <a:xfrm>
            <a:off x="918000" y="6095880"/>
            <a:ext cx="705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corrosion-doctors.org/Forms-crevice/crevice3.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B6C3-8B5B-4FBF-925D-CADD6F98CE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940"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inimiz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water very p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ble salt and oxygen must be minimiz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crevices (to minimize high concentration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movement of the parts will minimize i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itting corrosion </a:t>
            </a:r>
            <a:r>
              <a:rPr b="0" lang="en-US" sz="3200" spc="-1" strike="noStrike">
                <a:solidFill>
                  <a:srgbClr val="000000"/>
                </a:solidFill>
                <a:latin typeface="Calibri"/>
              </a:rPr>
              <a:t>occurs where the anodic site becomes fixed in a small area and the formation of holes (deep attack) in an otherwise unaffected area takes pla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revice corrosion </a:t>
            </a:r>
            <a:r>
              <a:rPr b="0" lang="en-US" sz="3200" spc="-1" strike="noStrike">
                <a:solidFill>
                  <a:srgbClr val="000000"/>
                </a:solidFill>
                <a:latin typeface="Calibri"/>
              </a:rPr>
              <a:t>is a type of pitting corrosion that occurs specifically within the low flow region of a cre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7262-0AFF-4638-8D58-28972F0B75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4" name="Picture 4" descr=""/>
          <p:cNvPicPr/>
          <p:nvPr/>
        </p:nvPicPr>
        <p:blipFill>
          <a:blip r:embed="rId1"/>
          <a:stretch/>
        </p:blipFill>
        <p:spPr>
          <a:xfrm>
            <a:off x="1711440" y="158760"/>
            <a:ext cx="6014880" cy="3981600"/>
          </a:xfrm>
          <a:prstGeom prst="rect">
            <a:avLst/>
          </a:prstGeom>
          <a:ln w="0">
            <a:noFill/>
          </a:ln>
        </p:spPr>
      </p:pic>
      <p:sp>
        <p:nvSpPr>
          <p:cNvPr id="94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98B8-CC3A-4151-82A6-7704E430D8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46" name="Text Box 5"/>
          <p:cNvSpPr/>
          <p:nvPr/>
        </p:nvSpPr>
        <p:spPr>
          <a:xfrm>
            <a:off x="520560" y="4219560"/>
            <a:ext cx="830592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or oxygen) is bubbled around one electrode, and nitrogen is bubbled around the other. A current flows through the wire connecting the two electrod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n potential is a result of the difference in oxygen concentration at the two electrode surfa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lectrode exposed to nitrogen, electrons are given up by the iron as it is oxidiz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xidation occurs at the electrode exposed to nitrogen and reduction occurs at the aerated electrode.  Corrosion takes place in the oxygen free area and reduction takes place in the cath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ccurs at the electrode exposed to nitrogen and reduction occurs at the aerated electrod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at one electrode and reduction at the other creates a potential and a flow of current through the connecting wi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that loss of metal occurs at the electrode that is deficient in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ron that is exposed to water, a similar action can occur if adjacent areas of the metal surface become exposed to solutions with different oxygen concentrat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ygen in the solution inside the crevice will be depleted initially by the corrosion rea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146E-37FD-400C-9293-54B0DD3BED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50" name="Picture 4" descr=""/>
          <p:cNvPicPr/>
          <p:nvPr/>
        </p:nvPicPr>
        <p:blipFill>
          <a:blip r:embed="rId1"/>
          <a:stretch/>
        </p:blipFill>
        <p:spPr>
          <a:xfrm>
            <a:off x="1959120" y="6132600"/>
            <a:ext cx="5549760" cy="384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differential in the oxygen concentration inside the crevice versus outside the crevice results in a concentration ce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wo adjacent areas then establish a concentration cell with electrons flowing from the region of low oxygen concentration to the region of high concentr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metal goes into solution (oxidation) inside the crevice, and reduction occurs out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 ions diffuse out of the crevice, more metal dissolves, and the process continues. This results in the formation of a pit in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8248-701C-4978-A0F9-5ABF92CC9B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55" name="Picture 4" descr=""/>
          <p:cNvPicPr/>
          <p:nvPr/>
        </p:nvPicPr>
        <p:blipFill>
          <a:blip r:embed="rId1"/>
          <a:stretch/>
        </p:blipFill>
        <p:spPr>
          <a:xfrm>
            <a:off x="647640" y="1285920"/>
            <a:ext cx="7858080" cy="5243400"/>
          </a:xfrm>
          <a:prstGeom prst="rect">
            <a:avLst/>
          </a:prstGeom>
          <a:ln w="0">
            <a:noFill/>
          </a:ln>
        </p:spPr>
      </p:pic>
      <p:sp>
        <p:nvSpPr>
          <p:cNvPr id="9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D495-E81D-4F55-9D33-255CEAAFCB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oxygen can also promote pitting at areas on the metal surface that are initially anodic with respect to an adjacent ar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suppose that adjacent areas on a metal surface exhibit slightly different oxidation potenti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r loss of metal, proceeds at the region of higher potenti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verall result is corrosion, or wasting away, of the metal in the anodic region under the thicker fil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a pit in the metal surface is formed under the mound of surface oxide, as illustrated in Figure 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of this type is common in both low temperature and high temperature iron-water systems if precautions are not taken to remove the oxygen from the water within th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441C-0F35-467C-9231-AA26DB654B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Peggy Hines IRSC</cp:lastModifiedBy>
  <dcterms:modified xsi:type="dcterms:W3CDTF">2013-03-13T20:07:31Z</dcterms:modified>
  <cp:revision>109</cp:revision>
  <dc:subject/>
  <dc:title>Fundamentals of Chemistry</dc:title>
</cp:coreProperties>
</file>