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43.xml" ContentType="application/vnd.openxmlformats-officedocument.theme+xml"/>
  <Override PartName="/ppt/theme/theme55.xml" ContentType="application/vnd.openxmlformats-officedocument.theme+xml"/>
  <Override PartName="/ppt/theme/theme44.xml" ContentType="application/vnd.openxmlformats-officedocument.theme+xml"/>
  <Override PartName="/ppt/theme/theme56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.jpeg" ContentType="image/jpeg"/>
  <Override PartName="/ppt/media/image23.jpeg" ContentType="image/jpeg"/>
  <Override PartName="/ppt/media/image26.jpeg" ContentType="image/jpeg"/>
  <Override PartName="/ppt/media/image25.jpeg" ContentType="image/jpeg"/>
  <Override PartName="/ppt/media/image2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</p:sldMasterIdLst>
  <p:notesMasterIdLst>
    <p:notesMasterId r:id="rId57"/>
  </p:notesMasterIdLst>
  <p:sldIdLst>
    <p:sldId id="256" r:id="rId58"/>
    <p:sldId id="257" r:id="rId59"/>
    <p:sldId id="258" r:id="rId60"/>
    <p:sldId id="259" r:id="rId61"/>
    <p:sldId id="260" r:id="rId62"/>
    <p:sldId id="261" r:id="rId63"/>
    <p:sldId id="262" r:id="rId64"/>
    <p:sldId id="263" r:id="rId65"/>
    <p:sldId id="264" r:id="rId66"/>
    <p:sldId id="265" r:id="rId67"/>
    <p:sldId id="266" r:id="rId68"/>
    <p:sldId id="267" r:id="rId69"/>
    <p:sldId id="268" r:id="rId70"/>
    <p:sldId id="269" r:id="rId71"/>
    <p:sldId id="270" r:id="rId72"/>
    <p:sldId id="271" r:id="rId73"/>
    <p:sldId id="272" r:id="rId74"/>
    <p:sldId id="273" r:id="rId75"/>
    <p:sldId id="274" r:id="rId76"/>
    <p:sldId id="275" r:id="rId77"/>
    <p:sldId id="276" r:id="rId78"/>
    <p:sldId id="277" r:id="rId79"/>
    <p:sldId id="278" r:id="rId80"/>
    <p:sldId id="279" r:id="rId81"/>
    <p:sldId id="280" r:id="rId82"/>
    <p:sldId id="281" r:id="rId83"/>
    <p:sldId id="282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notesMaster" Target="notesMasters/notesMaster1.xml"/><Relationship Id="rId58" Type="http://schemas.openxmlformats.org/officeDocument/2006/relationships/slide" Target="slides/slide1.xml"/><Relationship Id="rId59" Type="http://schemas.openxmlformats.org/officeDocument/2006/relationships/slide" Target="slides/slide2.xml"/><Relationship Id="rId60" Type="http://schemas.openxmlformats.org/officeDocument/2006/relationships/slide" Target="slides/slide3.xml"/><Relationship Id="rId61" Type="http://schemas.openxmlformats.org/officeDocument/2006/relationships/slide" Target="slides/slide4.xml"/><Relationship Id="rId62" Type="http://schemas.openxmlformats.org/officeDocument/2006/relationships/slide" Target="slides/slide5.xml"/><Relationship Id="rId63" Type="http://schemas.openxmlformats.org/officeDocument/2006/relationships/slide" Target="slides/slide6.xml"/><Relationship Id="rId64" Type="http://schemas.openxmlformats.org/officeDocument/2006/relationships/slide" Target="slides/slide7.xml"/><Relationship Id="rId65" Type="http://schemas.openxmlformats.org/officeDocument/2006/relationships/slide" Target="slides/slide8.xml"/><Relationship Id="rId66" Type="http://schemas.openxmlformats.org/officeDocument/2006/relationships/slide" Target="slides/slide9.xml"/><Relationship Id="rId67" Type="http://schemas.openxmlformats.org/officeDocument/2006/relationships/slide" Target="slides/slide10.xml"/><Relationship Id="rId68" Type="http://schemas.openxmlformats.org/officeDocument/2006/relationships/slide" Target="slides/slide11.xml"/><Relationship Id="rId69" Type="http://schemas.openxmlformats.org/officeDocument/2006/relationships/slide" Target="slides/slide12.xml"/><Relationship Id="rId70" Type="http://schemas.openxmlformats.org/officeDocument/2006/relationships/slide" Target="slides/slide13.xml"/><Relationship Id="rId71" Type="http://schemas.openxmlformats.org/officeDocument/2006/relationships/slide" Target="slides/slide14.xml"/><Relationship Id="rId72" Type="http://schemas.openxmlformats.org/officeDocument/2006/relationships/slide" Target="slides/slide15.xml"/><Relationship Id="rId73" Type="http://schemas.openxmlformats.org/officeDocument/2006/relationships/slide" Target="slides/slide16.xml"/><Relationship Id="rId74" Type="http://schemas.openxmlformats.org/officeDocument/2006/relationships/slide" Target="slides/slide17.xml"/><Relationship Id="rId75" Type="http://schemas.openxmlformats.org/officeDocument/2006/relationships/slide" Target="slides/slide18.xml"/><Relationship Id="rId76" Type="http://schemas.openxmlformats.org/officeDocument/2006/relationships/slide" Target="slides/slide19.xml"/><Relationship Id="rId77" Type="http://schemas.openxmlformats.org/officeDocument/2006/relationships/slide" Target="slides/slide20.xml"/><Relationship Id="rId78" Type="http://schemas.openxmlformats.org/officeDocument/2006/relationships/slide" Target="slides/slide21.xml"/><Relationship Id="rId79" Type="http://schemas.openxmlformats.org/officeDocument/2006/relationships/slide" Target="slides/slide22.xml"/><Relationship Id="rId80" Type="http://schemas.openxmlformats.org/officeDocument/2006/relationships/slide" Target="slides/slide23.xml"/><Relationship Id="rId81" Type="http://schemas.openxmlformats.org/officeDocument/2006/relationships/slide" Target="slides/slide24.xml"/><Relationship Id="rId82" Type="http://schemas.openxmlformats.org/officeDocument/2006/relationships/slide" Target="slides/slide25.xml"/><Relationship Id="rId83" Type="http://schemas.openxmlformats.org/officeDocument/2006/relationships/slide" Target="slides/slide26.xml"/><Relationship Id="rId84" Type="http://schemas.openxmlformats.org/officeDocument/2006/relationships/slide" Target="slides/slide27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 type="dt" idx="10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5" name="PlaceHolder 5"/>
          <p:cNvSpPr>
            <a:spLocks noGrp="1"/>
          </p:cNvSpPr>
          <p:nvPr>
            <p:ph type="ftr" idx="10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PlaceHolder 6"/>
          <p:cNvSpPr>
            <a:spLocks noGrp="1"/>
          </p:cNvSpPr>
          <p:nvPr>
            <p:ph type="sldNum" idx="10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6B45-0029-48AF-A7C5-FE55DAEF72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C831-195F-4C19-BB66-519E9742BE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en.wikipedia.org/wiki/API_oil-water_sepa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ADAD-A3D3-468E-9C32-F2C3A546B1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emical and Oily Waste Wate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ALO VERD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UCLEAR GENERATING S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Instrumentation &amp; Controls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lassroom Les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O 1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dentify the functions of the Chemical and Oily Waste Water Syste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.1.1 Main Id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PG 11663:OB 79503(1114)&gt;&lt;&lt;A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inage and Leakage are facts of life for a power station.  At a Nuclear Power Station, we have to consider types of dr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Waste D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amounts of dissolved so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os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vironmental pollut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y Waste D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kage from heavy equipment, hydraul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mages water purification media - res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vironmental pollu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mm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D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 a large portion of systems at plant; many are or have potential to be radioa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icate segregation of other drains (chemical, oily, et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others can be treated and released to environment easily, radioactive contamination complicates treatment and rele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e or low dissolved solid d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al - can be released to environment easi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y to reclaim by some means – demin. water is expens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need means of segregating the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parate out kn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drains - sent to Liquid Radwaste low TDS holdup tanks.  Includes drains fro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x. Building Su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ainment Drainage Su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- Chemical Drains sent to Chem Drain Tank then to either Solid or Liquid Radwaste.  Includ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on Station D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oratory D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ly Contaminated Chemical Drains - sent to Cooling Water Holdup Tank. 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ential Cooling Water Room D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ous Radwaste Room D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dissolved solid wastes -sent to Chemical Waste Neutralizing Tank.  Includ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ensate Demineralizer Regeneration Was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down Demineralizer Regeneration Was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y Waste - sent to Oily Waste Separator.  Include various sump drains that usually contain oi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systems to discus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ing Water Waste Drain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ensate Polisher Waste and Drain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y and Non-Radioactive Waste Drain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adioactive Drains are discussed in the Radwaste Systems lecture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5D35-EA47-4798-9CB4-9039CDF677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emical and Oily Waste Wate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ALO VERD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UCLEAR GENERATING S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Instrumentation &amp; Controls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lassroom Les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49EB-79F1-4573-875F-B6A063E73D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emical and Oily Waste Wate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ALO VERD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UCLEAR GENERATING S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Instrumentation &amp; Controls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lassroom Les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05EA-83E9-4EDD-8140-991BF8043A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emical and Oily Waste Wate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ALO VERD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UCLEAR GENERATING S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Instrumentation &amp; Controls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lassroom Les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7AEF-6AF0-44E2-B354-50B48C8475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6A61-698D-4F40-8ABE-2E0969C57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6C20-7E82-4B45-9C7A-50268D5E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74192-176A-4508-A912-64AB8458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7D504-683C-41F2-9A88-0F1CD332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79E622-9A77-4313-9130-954BAD12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27E72-F092-44CA-96E6-880BCEC4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47432-81B4-4046-AB15-692DE28C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BF02F-E4C5-4191-B4AE-62007211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F992E-4D46-4255-B95A-AAC721BB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4BAAB4-C892-4868-A55B-471670D4E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8C4E8-BFD5-4072-8E89-3DEF7876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D70E22-921B-4CD0-AE29-A0C15BFF9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C086-2E4D-476E-8094-53F739F99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CD8F9A-C3DA-4AA4-B97D-960AE5CA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7F477F-D795-483F-99D6-737F28F1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1C6A30-9EF1-4DD5-AC27-62630CD2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321226-6E54-45E2-9B39-186FA28B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C909FE-B5A4-4D29-8158-FC20801E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DCAF0F-D122-4DF4-B0A9-9BE2751D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6E843C-ED08-4C9E-B774-5913ED26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CFA2A-B7C3-4FEC-90B1-CE4394B5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03F4E1-B284-4FE6-8702-B0F10942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EE60E-4448-4EBF-8480-2C9EA1E7C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7CE8-1543-4DC9-9287-2B4E4640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7A9680-0262-4197-8027-5F4BFB28F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E044B-E387-4FAA-A8C6-1C9D16D56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86315-1157-40CF-8500-2726FBD9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0706F-04B5-4C94-8718-E3F8374C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62B8B-2617-46A0-A225-261A046A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D3F2D-FBF1-4FC2-9072-3B3C52C5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8354D-D076-404B-A8A3-96DA3233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72B7E-C897-47FD-8502-F2F8C5F1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22B560-C7DD-4FB4-ABB2-7781A1FD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0E862-DF3C-4580-944C-595618E4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5443C-651B-4940-8DB2-708A2652B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43BFC-D1E9-4C3E-9D7A-5DFFAD2F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7F748-82B0-40B1-B2AB-2F755BD57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91A43-63C5-48CA-8951-67391E327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B37BF7-F538-439C-9A91-BDCEE8EB8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4A91BD-B0B4-47F2-BE80-C1441787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C40B69-FD43-4877-ACE7-B4D7F459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3A34E-7DC5-466C-AE80-B2CC8B69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B5387E-C696-4041-9203-AB6EB58B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DE2A22-1FF2-41FF-AF58-197EBBD1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DE9D04-F75E-43E2-8A11-F4BC693E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14CD-F562-4587-A1D9-B454EF7D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F2302E-298B-4686-9E0F-DCD70B7F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196494-7603-49A8-B883-66140C1A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85ADBA-E6FD-47CD-BE4A-E257A7BA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9C64D7-3763-47A9-924E-4F7963D98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2503F3-B655-433B-8D98-ABA9FA120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2E64-B6AF-45E7-9B41-82CA03BC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1DC3-B4B6-42B0-A43E-ECA2CD74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26E8-7927-40ED-A8A9-707FF210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2F1A-CFB4-4DA2-8EA6-F31A50E1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8E3E-BCA7-410C-97BC-ECF90889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F9D8-E460-41AE-BFFB-FAEF1299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EC12-9556-449E-BFC7-7A6969F5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4D48-B6A9-4332-BA8A-1D528467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0EC2-B127-49B2-A724-ABD955FF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34E7-2C68-40BD-89F7-1B0205661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B9D5-03B8-49DC-B767-D0E6123B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509BC-CC8A-4055-BCC6-66B8C177B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99829-58CD-4E02-8B82-A3DDA5A7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25AB5-D7AF-4E73-A780-3842BF19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9BA1F-47CE-445E-8099-654CFD25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654DF-777E-4EB9-9298-7DB87934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B614-75E5-4828-B618-7C00311E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A350B-BC59-4CD3-94F2-12687317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36231-765F-4F83-8593-96B8FF03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EA522-02E0-47DE-8C02-97F5AFCB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82288-394F-4AE0-A824-4416590A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1D329-45AB-4DB1-8091-8290F67D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8ADF8-EE06-4717-A9A6-27EEA5911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E2469-7466-4926-9655-8D6FF9070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622E8-14EE-43FC-B775-8CEB1CF35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5CABC-3864-48F9-809F-E759BCD3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16655-D822-4E52-A2D5-22FB99E6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A40513-9B9D-4A23-900C-CA4DDA423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900DC9-FCB4-4C30-8283-2AFEED97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0E17DE-4A39-4748-8A1D-072F5D51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2C9A-9EDB-4A1B-86A9-344A31F4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9694D-37F5-4D17-AE54-6CD363D2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D39BB0-2D86-4FA4-B4D2-9C0C5C5B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2363AB-8971-4C81-8738-A7EF5FBC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17E2B8-8211-41DE-B68A-6DF7656A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0A5D30-FCA7-4540-A08B-308085A5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1DB704-D93B-49C6-A648-55D268DC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743DB6-4DA8-47C5-B40E-8D6C97FD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DE2A8E-996F-4B4C-AFE9-CA84F738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0BA3DF-0CC6-4BDD-ADAE-D557C710F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023305-AD37-45A0-8F07-8B2376314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D78AEB-4805-4E5D-A218-C050DCCEA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2E63E-B0C2-4079-B110-1D36AAD4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D14C94-03CC-4F21-B190-081406ED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5993FD-618C-4F3D-8E78-585EF33F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F2204D-2BE9-4DDE-BF9C-20FAEC50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9BC971-336A-4BE4-933D-37265072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9C5A8D-A0D4-4CB4-8477-35644A7F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39689C-D9CE-4F0B-8D2E-23E7FF38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41233B-9FD1-4B3A-AE10-A88F978C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7D0F8B-F063-472E-A102-D8DC97FD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BB960A-17DF-47CB-87FA-F29D5761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40F163-BED7-4171-B2F4-F8385FE11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4FF46-EF27-421A-AD05-AB9F988E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AC69DB-D50A-4BCF-A61B-CF188E91C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581649-99F8-41DB-94B2-61692804E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DEE3C4-D982-4878-B938-672F3BA3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B45B3A-F412-4482-8EAC-8F9B5267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FE6661-FD0F-4773-AAE0-122E4975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1DDFD3-EE62-49C8-A344-B19317A3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2B90D8-BEF9-497D-91A8-951F33E7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E5B2B4-B8C6-4030-A72B-32537CE5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50A567-660C-405F-8690-15CA8CEC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0BA1AC-5413-478B-BCEA-9B751348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76638-3422-467E-8FA5-01C72902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28D8C5-3E41-4355-B473-5C36F80D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9A2392-0C82-487C-8D74-FD38F8DB1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952D81-7C07-44E6-941E-335692A90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BD9832-C90D-401D-8D5B-1C3E4A6C6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85CB9B-19BB-4589-8A8E-F8823AA2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811109-33DC-4CAF-B035-B77D7A47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126F03-3C89-43E4-94C0-BFED8820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9F803F-6000-4043-8D57-5736C077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A84E2E-6D2D-428C-BD14-BADE202D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19B64E-A200-4709-AF24-D24B3DF8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DC294-0878-45B4-A84A-968C00A0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425B50-483B-4D14-BFBA-C916B673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A328B0-01A5-42B3-815C-B310E917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09567B-BB91-4C52-A307-ED0450CF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812F29-9198-481E-870A-F3BAA40F8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088E7E-B334-4682-A452-8122C2624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0FD37D-3DCE-42A8-9B27-F236675A1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E538D9-F41D-4C01-A69A-50631FEA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360B7D-12E6-4E3B-A004-14FE2EF2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0BB26E-D9F6-4D3A-B61B-76C61D5F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E19F2E-52AC-4A59-9A4F-41CC408C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2E462-DEA2-4BB0-BEE2-FDC6629E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DA1ADD-9572-47E9-B4F3-5ECB54D1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8D09F4-50F3-4E02-848D-B998E92C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058AEC-A671-4CE3-A30B-105B15CF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993B11-5626-40D0-B57F-A7EB5285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0C21BB-64CF-4FFA-B689-2529C5A2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5AD209-7C66-45C8-8483-D32991A0A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8B9AF2-E766-445F-9375-C1C125E7E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E44F6C-00E1-4387-80E0-4B309A45D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88F228-DADA-463F-94FF-19162285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596A80-5D71-4205-8F00-AFE225F1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2A30E-192F-4415-BCA4-93B5264D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AEDD0F-36A8-44A0-A67F-B0223852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769282-0B39-4742-A0B5-7D8FA44F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321BC0-DAA3-4953-BA51-45BEE465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7C61F8-BDEE-496E-A308-41315E03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C24B63-9D73-4969-832A-26AF0261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D03EA6-88B1-4AE0-98B0-B04D8C05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3D8008-0248-4B62-935B-FD885C42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FCBC61-2EBB-439E-9343-AB043A8D0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42B1C6-54D7-4076-A8EE-DAC64FB70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CF3771-7F98-436C-A65B-09AA65E9A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F1D53-7AD3-421E-9C8B-3D3D79FEA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99DA25-C1C4-42A4-A991-BB898424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BC5397-7C74-4012-9540-93487D2B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FE894C-B08B-4406-9EA2-88C5DC42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8F198C-3B81-4AE6-A69D-0BA213A8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93312D-A232-4151-9095-863D94BF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93D8F7-BEDE-4CC7-82FD-D0E99075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A5625F-FD3C-4BF3-BD5A-6FAE502A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B8BD7B-73F7-49BF-A4EC-B3B2B881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AD523A-AA64-4949-8B44-255869EB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885965-C942-4445-9771-D4FA2B6B9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CE2A9-F95B-4A9C-9365-2DED7BAC9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088FD7-752B-46D0-AA10-2C80042CD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FAE39D-DB99-40B0-9E3D-6D28550A5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0C28C8-EAF4-497B-8414-A867756A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8E9C12-1DC0-40DA-AC93-512B76E6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40731B-B983-4547-86D3-43F0207B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6A950E-C7C2-447D-B2A7-F11A0914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0524E1-399E-4244-9A57-5D15E2EC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DC2F25-37A5-4118-99D3-0EFC8D50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B8A922-32DD-4BE6-8FDA-D1ED72D9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F11D1D-8E69-4B70-8786-6FDF119E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1377B-8F10-4099-9AA8-9A93CBB5C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71615A-F3BD-4BEB-A536-91C0C321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62177B-FD8B-448F-BA4A-D55654EDF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AC4D69-E956-4D79-92CB-034FB5887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C4B7E0-3E6A-41E2-A1FE-7F02D449E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6C6CF0-F17C-4CAA-92D8-FB24C9A6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862422-955A-446A-929F-D1C1A38D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8ED96B-BC6A-45EF-BE64-9375F5E9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A92857-D657-4A30-A8CA-4590C0AA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B851A2-2298-41C4-B968-7F14A220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E82DC5-60EF-4C05-9535-73E61E0B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FF9D-2804-4570-A563-84736E53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7F922-E641-4FFD-ADE7-31305B0C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4CE2A8-6CA3-4DDC-9632-8D268955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60707D-7C1D-4335-BEFE-9B4BC372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23AEF2-ADE9-4956-933D-BF1F462A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AF7B0C-71B4-4E52-BDF7-F44198E5E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9823D1-B523-4B7A-A9BE-EA48F4AE1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1ABCF0-89A6-4212-886C-3BD6C26B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725555-AD6C-4349-8A96-6BAEB715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0EBBCF-1243-4745-AC5C-FF7AB6F0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B2A8C2-DC6F-4D56-83B8-57446B0D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A49B91-998B-46FB-91B9-67590FE0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B37C4-E4FB-478E-88C4-3A75EB6C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4BCA7B-7858-4C5B-9C4E-C6F8B9EB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A70CDA-992C-4F03-8F7E-22B8B587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A23B70-3BDC-4341-B103-025E0F41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3E657A-AE58-45D5-A021-48FC7A8C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9C4A94-0F69-4F56-BBAC-254DDFD3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C422A6-C2A0-41CB-B772-B3398135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61B8AD-CF93-470E-93F1-0A5E11A12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400B7D-F31C-4823-A79E-193039D4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22D120-1662-4A92-9B4F-931BFC83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89C2E9-4D6B-453C-AD8C-715DCFC4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2ECC2-BB35-47EA-BD1A-5FCC7D1F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F01300-0F43-4175-95B6-CF0F3562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2CBE03-0C0D-4063-8A5D-BF3BF6D3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F64B32-35DF-426F-95ED-A2DAB8C0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12D39E-E8B7-41E7-A70A-B4BDCD74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1C6B41-D72B-459E-A4AD-173E3B64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5D3CC0-C609-42E2-9242-D1DB18FF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612254-C35F-4B55-BDD5-6C4919C4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4D4AB3-24FA-47B7-9179-10A8C0A09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3CBE0D-DF77-42EE-82DC-14C8FA63B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C13916-578F-4090-9859-D860A5771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89201-3FD0-45D6-9D12-7F6C3136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0B04F2-685A-4884-A971-4AC451B4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F11DE7-EA76-4DFB-B79E-32DE4C17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95715A-50FB-4609-881C-423AD3BB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3D30DD-F34F-4E59-912B-752E3190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00BB2C-4EB9-4F94-AF5A-1C91810B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1A34F7-D139-41EE-B348-68DD09DB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DB5AC1-DAF0-48B1-9435-F77AA6C7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C5DC1A-909F-4305-B641-0244688C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0E1829-F616-414B-8493-9BADF8B9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D44304-E0C7-4C87-A19C-271F214DD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282C7-91F9-4E73-91D8-0BCE43F8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60E005-F338-4C66-935C-E0C4708AD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97703A-CBFE-43E4-8733-163A14CE7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EB93D4-2296-4067-BD43-402D9B76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B1DD3EF-21EF-420F-A221-49309B2F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B591B14-665F-459F-97AA-7F65EDD6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096BDA8-FD91-4D9D-92A8-B83ABF46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521540-A4AD-4F9B-9574-8AE29E35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E15A898-4ECB-4F8B-8C38-B4DB1E49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74EB04-2D0E-4F36-90A0-9E59153A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78CC58-E32E-4A83-B689-81F3F697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4814A-84A3-4E1C-83F6-FC80F9E7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BAFCC7-F2A8-49FF-B200-397E2C2B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C28A878-FA90-4ECB-831B-6ADF3D53D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E168AC2-7B42-403B-8F04-150083756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41A76B-4288-4342-A805-DA56CAAE5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6ACC70B-E7E7-495C-9E72-AE2C059B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1571B4E-3310-4C18-B5D2-2DDF5099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B799A5A-0884-4DAF-AB2B-6CAC1592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3481BEB-AEEA-4D6E-8043-81E8BEB3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271EAD9-C45C-4010-B62F-56A43344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D426547-86D0-48F2-B61A-B9FE6733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3BE1D-A935-480C-A3D2-2D7C1B2A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5CA8073-9D20-432B-9154-5DD2ABC0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5AF84E-12A1-4950-A398-68ABE66B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F7DB883-FC0D-4306-B665-89817FD8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77E124-BEB1-418C-9059-2F2C0DFDA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51433E-05CC-428F-86CB-D5F27D604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784A53-A663-4BEF-B0A4-38EFFED94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2A08307-8791-4FED-9B95-38350175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0F20A6E-F704-41E6-998A-56580E49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7C361C5-DC6C-4523-8BE8-18274504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3228BE4-A4F6-45A2-A906-19BB5FB3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D56FF-1B65-48D9-A729-B0DE68D8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E5681A-EC67-480A-B3FE-D1706986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8A4B573-FB33-480B-ADF5-49B1BA29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740625-3FB6-4B62-A83B-01CBB46D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8367CF-6E63-4DF7-A175-23693D67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248A07C-2440-4837-BA38-6E1D21DD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1CD9B7F-CFAF-498C-BDA9-ACD8D22F8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4A9D8F-606E-465E-BA0F-F03E18965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6B6164F-B331-4EBF-8754-99980282A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FF99A2C-AD56-4CE4-9C4F-25D653BD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77EF268-E1D6-47EE-BDBA-26685D1C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752C9-E7B9-400D-AF14-13CFC181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0F3988-F711-4B81-9DD7-9E89DC37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8D30A66-70E9-4BC1-907D-AD77EA85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C029A7F-91B6-4E92-8635-283AACBF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AB4B430-904B-4D0B-8DA0-B45044A7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CBE0D88-323E-424A-81EC-022699CD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465A035-A059-4583-B7C2-E0638F3B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B4DFB5C-177F-497E-A2CF-5240B7A1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8035C18-B3F7-404D-8399-6DD1B03D0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0478702-43D7-49AB-A343-AE1A64DB4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669AF4A-EDE7-4A89-B266-0B442AEE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7280C-18D9-4CCF-8A7F-EAF5B393F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4D942CE-9711-4D4C-BF8B-673AE1F4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7A45CD6-5036-40B1-9E8D-94CBA20A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21ED848-F19D-4A2D-8573-F1EDD489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488813D-E285-43D3-B665-B10B9C0E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0B80CC4-2D4A-4221-922C-D2B874F0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BB0A109-CBF9-4499-B8F5-6C0FD32A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DA66E00-81BC-4E5F-833A-DA4E1DF6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7E08C93-5A30-4B97-AE1E-B4AFE92D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9D6995F-8DC4-4419-9D18-1A6FA7FE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BFFEE72-B36A-41B2-91A8-99FB0EED7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C434-699C-41DF-8120-A1821D6E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74168-5804-41E9-961D-588C89078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AFDC0E8-8F9B-4C4B-9FC1-8983148C9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A316B9A-39AB-4C59-8612-6C02490CA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E90754E-852B-4BFB-9C08-0F44D003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4B92682-E604-46E9-9816-7A29E3AA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3A3A2F1-2F38-4F92-A723-AA03BAB9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476A0FD-94C8-4D89-9932-AC7154F9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807A2D6-7911-4B1B-80A9-657945E4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783B4DD-B111-4FD3-8A02-8917D423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5C6882B-0FA4-4004-88A9-E64C955C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0454AB5-04E7-414E-84FB-2433AC1B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2E79C-CC28-478E-BE21-3A963EB83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EAC803E-4A82-4136-8594-D528BFC8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0544CE9-FF54-44A3-8209-EEB0DBB34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041C640-21F9-4528-BB93-3F60088F4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049CF4F-E5BA-4885-B6AA-D4BE23A0F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4A13801-AEFC-4971-8DB6-10F697B9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A17E1FC-FAFA-467D-A93D-B9AFE4E5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6F23A8E-686D-45EA-9141-580B1891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239E908-0ABB-4623-B2D8-96EE6362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BF4D0E4-1DCB-43E2-81E3-E1EA312F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98ED767-7162-4AE6-B617-0750C8DE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F651B-DED9-4DDE-9D6F-6403EA74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2E85948-C940-4969-8E0C-F8E4B3A2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EE8C0D5-67C4-4709-B9A8-5502A048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9260A6D-5FA6-4126-8E42-5C7B8F0D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4DA1F6A-25EC-40B6-9F13-0CFC20C9C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AA7F1EF-1CBF-4915-8388-646CD6ED1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8F85898-7279-4644-ACAF-49ACC0F84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6006BE2-2074-462E-9926-CD5414A1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3A70E10-57E8-45FC-83BF-5C59FE89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96476F7-6DE0-4E1C-9B0E-2DA671FE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9F7053C-A1CF-48BB-A3FB-53F4BD3F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F2EA1-CA7C-4279-8017-A2909947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AE271A8-C0AB-4593-875F-6B0A8138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087E325-2557-46B4-A860-56EBA71F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777F2DF-8B44-4927-BBCB-3C7A6CA7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E1D4C23-368B-4A6F-8BFE-4A1D20A8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9498E16-B416-4C32-9EE2-1C4C56F5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455A010-4705-4C99-B838-2E835D4A1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5CC1425-53A5-461C-9644-D6FB3BC16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8B70758-A234-4A70-AD6A-491D9A82D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680DBFB-446A-448E-952D-1A5C6CFE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7AA724B-6C0E-4B60-BE79-75E75419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B3457-2BC8-4900-8323-43470C66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B9986F2-1255-4A98-901C-ECC36015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7428406-D4F0-43E3-9DB0-9D8F80CA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218EAE5-0B7C-40FC-8E29-5E79019E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2952617-84BA-490E-943D-140CD802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4A06E90-7E3A-43A9-AD1E-792C4A24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7739225-366A-4B1A-846C-B4085369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961E411-98FF-45F8-8269-EBFCB274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EB26623-E146-4D4E-B101-DDD257EC3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641E485-FFA4-4382-8109-3D0F72DF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0EDF376-087A-42F8-94C1-FF5F165B2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D9566-ECED-4D19-922F-98C6396F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13FF155-C606-4E3A-B0BB-FA422D80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0C6835D-2818-4DB3-A954-A49DD38B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C9D2B43-AF17-4C1D-BB8A-11F7E666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0D38588-C64E-4E01-B76A-86E6737A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E32F928-7BEC-4FFC-868C-2ABB0161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D137553-AD7C-4BE5-A991-A71F79FF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280E18C-B2FE-4F71-8AA0-0CC6C058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EC4990C-1913-4E02-9D38-4BAA1A97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E5B02BD-C724-454E-BDB0-2A0861C6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398864B-C0D7-4C84-9F5F-6C27A33A5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CB1F4-DE42-4957-AC28-D1AF3F92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7368F7B-D28C-4C00-A603-CC5C9FA56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B44A0-493A-478F-AB08-99BA973C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55395-6BEA-4492-B8D8-7081ED0F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BB584-A2F0-4CF3-BA17-5E422CC2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1022-C31C-4C43-8091-1B5EC4C0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26303-BBB2-416E-ADC2-4C4CA4D9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0B012-739A-4A14-B1C8-F7762B030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2D85F-1B60-48E9-9B10-77C702116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FF476-0C45-49BF-BC82-9801A3035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28745-198E-4BEB-84BF-75670113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1EC38-E60D-448D-8DFD-E4451B3A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42861-2226-44E9-A0DE-46520077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7F530-F2D0-428F-879F-FC956501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5774B-AD81-43AA-A5FC-0CA9577F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69245-AA69-4D28-969C-91A63CD3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994B-4E63-4B2C-B0E0-FA1C91C8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073C3-DE0F-4F87-82F1-B0864E4C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6F2AF-E3B0-44C8-8E0B-9823FBA8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5B2D1-6B11-4406-BA89-733963B3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B5C30-57D1-4813-9220-770FDC550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35740-24D3-41A4-B396-39F44011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D6B58-8734-469F-8411-9E129F5FA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3DA3D-A2A6-40E8-8DCE-7A6BED1D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4BF46-4DA1-4AA6-9F8D-CD6FFB40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C3CBF-7D35-452C-836F-FD8B6404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7324A-64C8-4E1D-AC39-18A5559B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DE0E-D266-4C0E-B0C2-B35C438E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A22DF-D2CF-4456-8865-1F4CECFF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A08D7-A6C7-4CC5-A25C-327A6954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12639-A265-45D2-8700-7F8F09F0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74CF2-E142-41F5-8C07-21ADC2BA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9B851-07EA-45DF-8998-5E780A86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683A0-069D-4AE3-A0AD-A5F471BA0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3D4D4-5093-417F-B820-B08E7E470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0602E-1D77-4463-A0AF-53B158573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881DBC-496C-4709-B0E8-88EE615F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69A61-2DDE-414A-BB98-782A1F74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69.xml"/><Relationship Id="rId6" Type="http://schemas.openxmlformats.org/officeDocument/2006/relationships/slideLayout" Target="../slideLayouts/slideLayout470.xml"/><Relationship Id="rId7" Type="http://schemas.openxmlformats.org/officeDocument/2006/relationships/slideLayout" Target="../slideLayouts/slideLayout471.xml"/><Relationship Id="rId8" Type="http://schemas.openxmlformats.org/officeDocument/2006/relationships/slideLayout" Target="../slideLayouts/slideLayout472.xml"/><Relationship Id="rId9" Type="http://schemas.openxmlformats.org/officeDocument/2006/relationships/slideLayout" Target="../slideLayouts/slideLayout473.xml"/><Relationship Id="rId10" Type="http://schemas.openxmlformats.org/officeDocument/2006/relationships/slideLayout" Target="../slideLayouts/slideLayout474.xml"/><Relationship Id="rId11" Type="http://schemas.openxmlformats.org/officeDocument/2006/relationships/slideLayout" Target="../slideLayouts/slideLayout475.xml"/><Relationship Id="rId12" Type="http://schemas.openxmlformats.org/officeDocument/2006/relationships/slideLayout" Target="../slideLayouts/slideLayout476.xml"/><Relationship Id="rId13" Type="http://schemas.openxmlformats.org/officeDocument/2006/relationships/slideLayout" Target="../slideLayouts/slideLayout477.xml"/><Relationship Id="rId14" Type="http://schemas.openxmlformats.org/officeDocument/2006/relationships/slideLayout" Target="../slideLayouts/slideLayout478.xml"/><Relationship Id="rId15" Type="http://schemas.openxmlformats.org/officeDocument/2006/relationships/slideLayout" Target="../slideLayouts/slideLayout479.xml"/><Relationship Id="rId16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01.xml"/><Relationship Id="rId6" Type="http://schemas.openxmlformats.org/officeDocument/2006/relationships/slideLayout" Target="../slideLayouts/slideLayout602.xml"/><Relationship Id="rId7" Type="http://schemas.openxmlformats.org/officeDocument/2006/relationships/slideLayout" Target="../slideLayouts/slideLayout603.xml"/><Relationship Id="rId8" Type="http://schemas.openxmlformats.org/officeDocument/2006/relationships/slideLayout" Target="../slideLayouts/slideLayout604.xml"/><Relationship Id="rId9" Type="http://schemas.openxmlformats.org/officeDocument/2006/relationships/slideLayout" Target="../slideLayouts/slideLayout605.xml"/><Relationship Id="rId10" Type="http://schemas.openxmlformats.org/officeDocument/2006/relationships/slideLayout" Target="../slideLayouts/slideLayout606.xml"/><Relationship Id="rId11" Type="http://schemas.openxmlformats.org/officeDocument/2006/relationships/slideLayout" Target="../slideLayouts/slideLayout607.xml"/><Relationship Id="rId12" Type="http://schemas.openxmlformats.org/officeDocument/2006/relationships/slideLayout" Target="../slideLayouts/slideLayout608.xml"/><Relationship Id="rId13" Type="http://schemas.openxmlformats.org/officeDocument/2006/relationships/slideLayout" Target="../slideLayouts/slideLayout609.xml"/><Relationship Id="rId14" Type="http://schemas.openxmlformats.org/officeDocument/2006/relationships/slideLayout" Target="../slideLayouts/slideLayout610.xml"/><Relationship Id="rId15" Type="http://schemas.openxmlformats.org/officeDocument/2006/relationships/slideLayout" Target="../slideLayouts/slideLayout611.xml"/><Relationship Id="rId16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47DE-15C2-4C0E-8BA1-2E6DCB2518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CEEA-49F5-4F6E-927B-3292A2765E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5E80-1AF2-4443-9FC5-30C656BA65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4DDC-B23F-4016-B6B6-EE409C9C0B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505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4DC7-CED9-4B65-BFF5-6AC1370938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546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65A1-7DC2-4886-9E86-272FF49549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587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F91A-3CB1-4FBD-9B99-B3B747E5FF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628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8535-0C3C-4BFC-9B09-29ACAD0DC7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669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FE07-2618-415B-B12E-3394CE0AAF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710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2C49-B800-4584-B0B1-3831BE1BD8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751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DBD0-DA0A-4209-934F-CA6541EF10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CEBD-02D6-4CEE-8CE1-747E6FF881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792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C67E-C73D-4F8B-AC85-E8F889BBCB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833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3A3F-7A66-42AA-9EEE-464D622EA3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874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AA33-227C-403B-8044-3D85354D33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915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6BB4-7608-4D44-B306-737326784C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956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F110-B18C-44E2-82C4-85E51EB919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997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D4DD-6BF3-47BE-AC7A-AF35DDE1C5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1038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83D3-768F-42E7-89FF-2BB6C31256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1079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2125-5850-4694-A622-71026F7E3C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9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1120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CD3B-DCEF-4D98-A1C5-CD66AFF6BA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0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1161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ECC2-0B40-4893-AB1F-61FBE656CC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D262-2043-4935-8525-CA234CD332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1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1202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4A76-3B22-4D79-BD07-1897F1BC2B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2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1243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A5C4-2AAF-4327-8791-42EFF06E9D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1284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BF65-845C-40A5-88A1-009A3E9CB0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4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pic>
        <p:nvPicPr>
          <p:cNvPr id="1325" name="Picture 8" descr="chstcc.jpg"/>
          <p:cNvPicPr/>
          <p:nvPr/>
        </p:nvPicPr>
        <p:blipFill>
          <a:blip r:embed="rId4"/>
          <a:stretch/>
        </p:blipFill>
        <p:spPr>
          <a:xfrm>
            <a:off x="1219320" y="6248520"/>
            <a:ext cx="1224000" cy="533160"/>
          </a:xfrm>
          <a:prstGeom prst="rect">
            <a:avLst/>
          </a:prstGeom>
          <a:ln w="0">
            <a:noFill/>
          </a:ln>
        </p:spPr>
      </p:pic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B8CF-0CCE-40D8-8EF3-D30674B913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A28D-2FCC-46BC-8888-1EC95C5ACA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180C-7ACE-462D-B58B-551C99DF0C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2F60-1B8F-41E8-9777-FA98BF65E3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F848-75E9-450A-9264-FFD7059176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EFC8-35CC-439C-9B47-CE7DFDB2EB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F8C5-11D6-4D8D-AB79-09A413074D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0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1611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E045-2CCD-4E8E-9A5F-B78DAE5DE6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5"/>
    <p:sldLayoutId id="2147484157" r:id="rId6"/>
    <p:sldLayoutId id="2147484158" r:id="rId7"/>
    <p:sldLayoutId id="2147484159" r:id="rId8"/>
    <p:sldLayoutId id="2147484160" r:id="rId9"/>
    <p:sldLayoutId id="2147484161" r:id="rId10"/>
    <p:sldLayoutId id="2147484162" r:id="rId11"/>
    <p:sldLayoutId id="2147484163" r:id="rId12"/>
    <p:sldLayoutId id="2147484164" r:id="rId13"/>
    <p:sldLayoutId id="2147484165" r:id="rId14"/>
    <p:sldLayoutId id="2147484166" r:id="rId15"/>
    <p:sldLayoutId id="2147484167" r:id="rId16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DF73-6FA9-4788-B44F-831819A1F3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9425-C326-4C9A-93F9-F10A85562A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4BDC-D3D3-4936-9128-7568529B99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2CD2-8796-4187-B63B-F69F76AA2B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D995-3295-4FEF-82FE-D2F86A1E5A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C696-BD4C-4430-A568-0E20F703B6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6D2D-6C4D-49CE-9271-112F432D96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557D-0662-4CE3-8465-8F905A4C19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2AB1-2753-4037-8666-80D9EA8481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4A19-2FFA-42AC-B688-87AF9EEBFF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7A8F-DDB4-406C-BEF0-E4B0ADE290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3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2064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EDCF-1F3F-4723-86E8-B56070199E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5"/>
    <p:sldLayoutId id="2147484300" r:id="rId6"/>
    <p:sldLayoutId id="2147484301" r:id="rId7"/>
    <p:sldLayoutId id="2147484302" r:id="rId8"/>
    <p:sldLayoutId id="2147484303" r:id="rId9"/>
    <p:sldLayoutId id="2147484304" r:id="rId10"/>
    <p:sldLayoutId id="2147484305" r:id="rId11"/>
    <p:sldLayoutId id="2147484306" r:id="rId12"/>
    <p:sldLayoutId id="2147484307" r:id="rId13"/>
    <p:sldLayoutId id="2147484308" r:id="rId14"/>
    <p:sldLayoutId id="2147484309" r:id="rId15"/>
    <p:sldLayoutId id="2147484310" r:id="rId16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6CE0-7B76-4AAD-B743-D32AD71805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CF72-1E41-4353-BD22-54D554AE97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0BBC-E21D-4845-AC50-9740632E67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1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6361-C2DC-486D-999F-625CD803F3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ACB3-59A8-4810-A120-1957B7CCDB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RCNET.jpg"/>
          <p:cNvPicPr/>
          <p:nvPr/>
        </p:nvPicPr>
        <p:blipFill>
          <a:blip r:embed="rId4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IRSC_NSFPoster.jpg"/>
          <p:cNvPicPr/>
          <p:nvPr/>
        </p:nvPicPr>
        <p:blipFill>
          <a:blip r:embed="rId5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AC49-BED6-4970-B251-897C424365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A15A-9122-4C20-831E-C6355D7235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FC64-D222-4CFD-AF82-9E6C608250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6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2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8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0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TextBox 1"/>
          <p:cNvSpPr/>
          <p:nvPr/>
        </p:nvSpPr>
        <p:spPr>
          <a:xfrm>
            <a:off x="152280" y="10238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mineralization, reverse osmosis, evaporation, distillation, oil separation, condensate polishing, boiler prot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8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9" name=""/>
          <p:cNvGraphicFramePr/>
          <p:nvPr/>
        </p:nvGraphicFramePr>
        <p:xfrm>
          <a:off x="237960" y="1523880"/>
          <a:ext cx="8668080" cy="1463760"/>
        </p:xfrm>
        <a:graphic>
          <a:graphicData uri="http://schemas.openxmlformats.org/drawingml/2006/table">
            <a:tbl>
              <a:tblPr/>
              <a:tblGrid>
                <a:gridCol w="1084320"/>
                <a:gridCol w="1082880"/>
                <a:gridCol w="1084320"/>
                <a:gridCol w="1082520"/>
                <a:gridCol w="1084320"/>
                <a:gridCol w="1082520"/>
                <a:gridCol w="1084320"/>
                <a:gridCol w="10828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6.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6.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.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0.1.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2.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2.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2.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Text Box 4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mistry Basics – Other Contamin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0" name="Picture 5" descr=""/>
          <p:cNvPicPr/>
          <p:nvPr/>
        </p:nvPicPr>
        <p:blipFill>
          <a:blip r:embed="rId1"/>
          <a:srcRect l="1677" t="0" r="12693" b="56204"/>
          <a:stretch/>
        </p:blipFill>
        <p:spPr>
          <a:xfrm>
            <a:off x="990720" y="1752480"/>
            <a:ext cx="8153280" cy="317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2" name="Picture 4" descr=""/>
          <p:cNvPicPr/>
          <p:nvPr/>
        </p:nvPicPr>
        <p:blipFill>
          <a:blip r:embed="rId1"/>
          <a:srcRect l="1677" t="43773" r="12693" b="5989"/>
          <a:stretch/>
        </p:blipFill>
        <p:spPr>
          <a:xfrm>
            <a:off x="1066680" y="1752480"/>
            <a:ext cx="8077320" cy="3611520"/>
          </a:xfrm>
          <a:prstGeom prst="rect">
            <a:avLst/>
          </a:prstGeom>
          <a:ln w="0">
            <a:noFill/>
          </a:ln>
        </p:spPr>
      </p:pic>
      <p:sp>
        <p:nvSpPr>
          <p:cNvPr id="2313" name="Text Box 5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mistry Basics – Other Contamin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il 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il and water separators are commonly used in electrical subst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ransformers found in substations use a large amount of oil for cooling purpo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ats are constructed surrounding unenclosed substations to catch any leaked oil, but these will also catch rainwater. Oil and water separators therefore provide a quicker and easier cleanup of an oil lea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il 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ive:  Recognize the components, functions and operation of the Chemical and Oily Waste Water System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il 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inage and Leakage are facts of life for a power station.  At a Nuclear Power Station, we have to consider types of drai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ily Waste Drai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kage from heavy equipment, hydraul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mages water purification media - res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vironmental pollu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amm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il 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ily and Non-Radioactive Waste Drai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unction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llect and transport liquid waste from equipment and floor drains of th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urbine Bld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trol Bld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esel Generator Bld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lant yard are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move entrailed oil from the waste for disposal and transfer the oil free water to the retention basin and then to the evaporation pon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il 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ily and Non-Radioactive Waste Dra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p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ystem consists of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ous sumps and respective pum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ily waste separ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ention Bas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poration P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5" name="Picture 5" descr="1-s2"/>
          <p:cNvPicPr/>
          <p:nvPr/>
        </p:nvPicPr>
        <p:blipFill>
          <a:blip r:embed="rId1"/>
          <a:srcRect l="0" t="0" r="0" b="47516"/>
          <a:stretch/>
        </p:blipFill>
        <p:spPr>
          <a:xfrm>
            <a:off x="1066680" y="1295280"/>
            <a:ext cx="3733920" cy="3319560"/>
          </a:xfrm>
          <a:prstGeom prst="rect">
            <a:avLst/>
          </a:prstGeom>
          <a:ln w="0">
            <a:noFill/>
          </a:ln>
        </p:spPr>
      </p:pic>
      <p:sp>
        <p:nvSpPr>
          <p:cNvPr id="2326" name="Text Box 6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7" name="Picture 7" descr="1-s2"/>
          <p:cNvPicPr/>
          <p:nvPr/>
        </p:nvPicPr>
        <p:blipFill>
          <a:blip r:embed="rId2"/>
          <a:srcRect l="0" t="52489" r="0" b="0"/>
          <a:stretch/>
        </p:blipFill>
        <p:spPr>
          <a:xfrm>
            <a:off x="5105520" y="2819520"/>
            <a:ext cx="4038480" cy="3249360"/>
          </a:xfrm>
          <a:prstGeom prst="rect">
            <a:avLst/>
          </a:prstGeom>
          <a:ln w="0">
            <a:noFill/>
          </a:ln>
        </p:spPr>
      </p:pic>
      <p:sp>
        <p:nvSpPr>
          <p:cNvPr id="2328" name="Line 10"/>
          <p:cNvSpPr/>
          <p:nvPr/>
        </p:nvSpPr>
        <p:spPr>
          <a:xfrm>
            <a:off x="1689120" y="4578480"/>
            <a:ext cx="0" cy="533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Line 11"/>
          <p:cNvSpPr/>
          <p:nvPr/>
        </p:nvSpPr>
        <p:spPr>
          <a:xfrm>
            <a:off x="1676520" y="5105520"/>
            <a:ext cx="3213000" cy="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Line 12"/>
          <p:cNvSpPr/>
          <p:nvPr/>
        </p:nvSpPr>
        <p:spPr>
          <a:xfrm flipV="1">
            <a:off x="4889520" y="2521080"/>
            <a:ext cx="0" cy="2590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Line 13"/>
          <p:cNvSpPr/>
          <p:nvPr/>
        </p:nvSpPr>
        <p:spPr>
          <a:xfrm flipV="1">
            <a:off x="4889520" y="2514600"/>
            <a:ext cx="892080" cy="6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Line 14"/>
          <p:cNvSpPr/>
          <p:nvPr/>
        </p:nvSpPr>
        <p:spPr>
          <a:xfrm>
            <a:off x="5775480" y="2514600"/>
            <a:ext cx="0" cy="380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Text Box 2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treatment – Wast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5" name="Picture 5" descr="water_treat"/>
          <p:cNvPicPr/>
          <p:nvPr/>
        </p:nvPicPr>
        <p:blipFill>
          <a:blip r:embed="rId1"/>
          <a:stretch/>
        </p:blipFill>
        <p:spPr>
          <a:xfrm>
            <a:off x="1905120" y="1193760"/>
            <a:ext cx="5753160" cy="5454720"/>
          </a:xfrm>
          <a:prstGeom prst="rect">
            <a:avLst/>
          </a:prstGeom>
          <a:ln w="0">
            <a:noFill/>
          </a:ln>
        </p:spPr>
      </p:pic>
      <p:sp>
        <p:nvSpPr>
          <p:cNvPr id="2336" name="Text Box 6"/>
          <p:cNvSpPr/>
          <p:nvPr/>
        </p:nvSpPr>
        <p:spPr>
          <a:xfrm>
            <a:off x="6553080" y="914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Varies b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8" name="Picture 4" descr=""/>
          <p:cNvPicPr/>
          <p:nvPr/>
        </p:nvPicPr>
        <p:blipFill>
          <a:blip r:embed="rId1"/>
          <a:srcRect l="5174" t="5478" r="1654" b="4108"/>
          <a:stretch/>
        </p:blipFill>
        <p:spPr>
          <a:xfrm>
            <a:off x="4322880" y="838080"/>
            <a:ext cx="4551120" cy="5562720"/>
          </a:xfrm>
          <a:prstGeom prst="rect">
            <a:avLst/>
          </a:prstGeom>
          <a:ln w="0">
            <a:noFill/>
          </a:ln>
        </p:spPr>
      </p:pic>
      <p:sp>
        <p:nvSpPr>
          <p:cNvPr id="2339" name="Rectangle 5"/>
          <p:cNvSpPr/>
          <p:nvPr/>
        </p:nvSpPr>
        <p:spPr>
          <a:xfrm>
            <a:off x="5686560" y="2743200"/>
            <a:ext cx="1600200" cy="1143000"/>
          </a:xfrm>
          <a:prstGeom prst="rect">
            <a:avLst/>
          </a:prstGeom>
          <a:solidFill>
            <a:srgbClr val="cc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Rectangle 6"/>
          <p:cNvSpPr/>
          <p:nvPr/>
        </p:nvSpPr>
        <p:spPr>
          <a:xfrm>
            <a:off x="5715000" y="3886200"/>
            <a:ext cx="1600200" cy="1143000"/>
          </a:xfrm>
          <a:prstGeom prst="rect">
            <a:avLst/>
          </a:prstGeom>
          <a:solidFill>
            <a:srgbClr val="0000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AutoShape 9"/>
          <p:cNvSpPr/>
          <p:nvPr/>
        </p:nvSpPr>
        <p:spPr>
          <a:xfrm rot="5400000">
            <a:off x="6400440" y="4343400"/>
            <a:ext cx="152280" cy="1523880"/>
          </a:xfrm>
          <a:prstGeom prst="flowChartDelay">
            <a:avLst/>
          </a:prstGeom>
          <a:solidFill>
            <a:srgbClr val="0000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AutoShape 11"/>
          <p:cNvSpPr/>
          <p:nvPr/>
        </p:nvSpPr>
        <p:spPr>
          <a:xfrm rot="5400000">
            <a:off x="6400080" y="4724280"/>
            <a:ext cx="152640" cy="1066680"/>
          </a:xfrm>
          <a:prstGeom prst="flowChartDelay">
            <a:avLst/>
          </a:prstGeom>
          <a:solidFill>
            <a:srgbClr val="0000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3" name="Picture 13" descr="Cation%2Banion_exchanger"/>
          <p:cNvPicPr/>
          <p:nvPr/>
        </p:nvPicPr>
        <p:blipFill>
          <a:blip r:embed="rId2"/>
          <a:srcRect l="48550" t="0" r="7126" b="9217"/>
          <a:stretch/>
        </p:blipFill>
        <p:spPr>
          <a:xfrm>
            <a:off x="1066680" y="4114800"/>
            <a:ext cx="2297160" cy="2514600"/>
          </a:xfrm>
          <a:prstGeom prst="rect">
            <a:avLst/>
          </a:prstGeom>
          <a:ln w="0">
            <a:noFill/>
          </a:ln>
        </p:spPr>
      </p:pic>
      <p:pic>
        <p:nvPicPr>
          <p:cNvPr id="2344" name="Picture 14" descr="Cation%2Banion_exchanger"/>
          <p:cNvPicPr/>
          <p:nvPr/>
        </p:nvPicPr>
        <p:blipFill>
          <a:blip r:embed="rId3"/>
          <a:srcRect l="0" t="0" r="53567" b="9217"/>
          <a:stretch/>
        </p:blipFill>
        <p:spPr>
          <a:xfrm>
            <a:off x="1066680" y="1219320"/>
            <a:ext cx="2332080" cy="2438280"/>
          </a:xfrm>
          <a:prstGeom prst="rect">
            <a:avLst/>
          </a:prstGeom>
          <a:ln w="0">
            <a:noFill/>
          </a:ln>
        </p:spPr>
      </p:pic>
      <p:sp>
        <p:nvSpPr>
          <p:cNvPr id="2345" name="Text Box 15"/>
          <p:cNvSpPr/>
          <p:nvPr/>
        </p:nvSpPr>
        <p:spPr>
          <a:xfrm>
            <a:off x="2971800" y="12193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Negative V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Text Box 16"/>
          <p:cNvSpPr/>
          <p:nvPr/>
        </p:nvSpPr>
        <p:spPr>
          <a:xfrm>
            <a:off x="2590920" y="38862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ositive V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7" name="Group 21"/>
          <p:cNvGrpSpPr/>
          <p:nvPr/>
        </p:nvGrpSpPr>
        <p:grpSpPr>
          <a:xfrm>
            <a:off x="3352680" y="4343400"/>
            <a:ext cx="1142280" cy="1371240"/>
            <a:chOff x="3352680" y="4343400"/>
            <a:chExt cx="1142280" cy="1371240"/>
          </a:xfrm>
        </p:grpSpPr>
        <p:pic>
          <p:nvPicPr>
            <p:cNvPr id="2348" name="Picture 19" descr="HydrIons"/>
            <p:cNvPicPr/>
            <p:nvPr/>
          </p:nvPicPr>
          <p:blipFill>
            <a:blip r:embed="rId4"/>
            <a:srcRect l="59326" t="8825" r="1866" b="0"/>
            <a:stretch/>
          </p:blipFill>
          <p:spPr>
            <a:xfrm>
              <a:off x="3431880" y="4386240"/>
              <a:ext cx="1063080" cy="132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9" name="Rectangle 20"/>
            <p:cNvSpPr/>
            <p:nvPr/>
          </p:nvSpPr>
          <p:spPr>
            <a:xfrm>
              <a:off x="3352680" y="4343400"/>
              <a:ext cx="18180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0" name="Group 23"/>
          <p:cNvGrpSpPr/>
          <p:nvPr/>
        </p:nvGrpSpPr>
        <p:grpSpPr>
          <a:xfrm>
            <a:off x="3200400" y="2286000"/>
            <a:ext cx="1142640" cy="1395000"/>
            <a:chOff x="3200400" y="2286000"/>
            <a:chExt cx="1142640" cy="1395000"/>
          </a:xfrm>
        </p:grpSpPr>
        <p:pic>
          <p:nvPicPr>
            <p:cNvPr id="2351" name="Picture 18" descr="HydrIons"/>
            <p:cNvPicPr/>
            <p:nvPr/>
          </p:nvPicPr>
          <p:blipFill>
            <a:blip r:embed="rId5"/>
            <a:srcRect l="4121" t="12196" r="61518" b="4875"/>
            <a:stretch/>
          </p:blipFill>
          <p:spPr>
            <a:xfrm>
              <a:off x="3284640" y="2310840"/>
              <a:ext cx="1058400" cy="13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2" name="Rectangle 22"/>
            <p:cNvSpPr/>
            <p:nvPr/>
          </p:nvSpPr>
          <p:spPr>
            <a:xfrm>
              <a:off x="3200400" y="2286000"/>
              <a:ext cx="253800" cy="10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3" name="Text Box 2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mineralization – Resin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subTitle"/>
          </p:nvPr>
        </p:nvSpPr>
        <p:spPr>
          <a:xfrm>
            <a:off x="1295280" y="1904760"/>
            <a:ext cx="7391520" cy="2895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wer Plant Construction and QA/Q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ction 2.6– Water Treat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1" name="Picture 8" descr="chstcc.jpg"/>
          <p:cNvPicPr/>
          <p:nvPr/>
        </p:nvPicPr>
        <p:blipFill>
          <a:blip r:embed="rId1"/>
          <a:stretch/>
        </p:blipFill>
        <p:spPr>
          <a:xfrm>
            <a:off x="3505320" y="5334120"/>
            <a:ext cx="2620800" cy="1143000"/>
          </a:xfrm>
          <a:prstGeom prst="rect">
            <a:avLst/>
          </a:prstGeom>
          <a:ln w="0">
            <a:noFill/>
          </a:ln>
        </p:spPr>
      </p:pic>
      <p:sp>
        <p:nvSpPr>
          <p:cNvPr id="2282" name="Rectangle 9"/>
          <p:cNvSpPr/>
          <p:nvPr/>
        </p:nvSpPr>
        <p:spPr>
          <a:xfrm>
            <a:off x="1219320" y="228600"/>
            <a:ext cx="71406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c000"/>
                </a:solidFill>
                <a:latin typeface="Calibri"/>
              </a:rPr>
              <a:t>Engineering Technology Division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Rectangle 10"/>
          <p:cNvSpPr/>
          <p:nvPr/>
        </p:nvSpPr>
        <p:spPr>
          <a:xfrm>
            <a:off x="7543800" y="15228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Text Box 4"/>
          <p:cNvSpPr/>
          <p:nvPr/>
        </p:nvSpPr>
        <p:spPr>
          <a:xfrm>
            <a:off x="1447920" y="7621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mineralization – Reverse Osmosis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6" name="Picture 10" descr="reverse-osmosis"/>
          <p:cNvPicPr/>
          <p:nvPr/>
        </p:nvPicPr>
        <p:blipFill>
          <a:blip r:embed="rId1"/>
          <a:stretch/>
        </p:blipFill>
        <p:spPr>
          <a:xfrm>
            <a:off x="1143000" y="1523880"/>
            <a:ext cx="7467480" cy="373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8" name="Picture 4" descr="rodiagram"/>
          <p:cNvPicPr/>
          <p:nvPr/>
        </p:nvPicPr>
        <p:blipFill>
          <a:blip r:embed="rId1"/>
          <a:stretch/>
        </p:blipFill>
        <p:spPr>
          <a:xfrm>
            <a:off x="1143000" y="1295280"/>
            <a:ext cx="7620120" cy="5018040"/>
          </a:xfrm>
          <a:prstGeom prst="rect">
            <a:avLst/>
          </a:prstGeom>
          <a:ln w="0">
            <a:noFill/>
          </a:ln>
        </p:spPr>
      </p:pic>
      <p:sp>
        <p:nvSpPr>
          <p:cNvPr id="2359" name="Text Box 5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mineralization – Reverse Osm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Rectangle 2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Text Box 4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mineralization – Eva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2" name="Picture 7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363" name="Picture 8" descr=""/>
          <p:cNvPicPr/>
          <p:nvPr/>
        </p:nvPicPr>
        <p:blipFill>
          <a:blip r:embed="rId2"/>
          <a:stretch/>
        </p:blipFill>
        <p:spPr>
          <a:xfrm>
            <a:off x="1066680" y="1928880"/>
            <a:ext cx="8007480" cy="3427200"/>
          </a:xfrm>
          <a:prstGeom prst="rect">
            <a:avLst/>
          </a:prstGeom>
          <a:ln w="0">
            <a:noFill/>
          </a:ln>
        </p:spPr>
      </p:pic>
      <p:sp>
        <p:nvSpPr>
          <p:cNvPr id="2364" name="Text Box 9"/>
          <p:cNvSpPr/>
          <p:nvPr/>
        </p:nvSpPr>
        <p:spPr>
          <a:xfrm>
            <a:off x="1600200" y="563868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ypically operates in a vacuum to reduce source he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Rectangle 2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Text Box 3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mineralization –Disti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7" name="Picture 4" descr="dist1_001"/>
          <p:cNvPicPr/>
          <p:nvPr/>
        </p:nvPicPr>
        <p:blipFill>
          <a:blip r:embed="rId1"/>
          <a:stretch/>
        </p:blipFill>
        <p:spPr>
          <a:xfrm>
            <a:off x="1447920" y="1447920"/>
            <a:ext cx="6476760" cy="4975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Text Box 2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densate Poli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0" name="Picture 6" descr=""/>
          <p:cNvPicPr/>
          <p:nvPr/>
        </p:nvPicPr>
        <p:blipFill>
          <a:blip r:embed="rId1"/>
          <a:stretch/>
        </p:blipFill>
        <p:spPr>
          <a:xfrm>
            <a:off x="1143000" y="1454040"/>
            <a:ext cx="7848720" cy="4988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2" name="Picture 5" descr="iis201106042-01_072dpi"/>
          <p:cNvPicPr/>
          <p:nvPr/>
        </p:nvPicPr>
        <p:blipFill>
          <a:blip r:embed="rId1"/>
          <a:stretch/>
        </p:blipFill>
        <p:spPr>
          <a:xfrm>
            <a:off x="1143000" y="1312920"/>
            <a:ext cx="7467480" cy="5057640"/>
          </a:xfrm>
          <a:prstGeom prst="rect">
            <a:avLst/>
          </a:prstGeom>
          <a:ln w="0">
            <a:noFill/>
          </a:ln>
        </p:spPr>
      </p:pic>
      <p:sp>
        <p:nvSpPr>
          <p:cNvPr id="2373" name="Text Box 6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densate Poli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Text Box 2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iler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Text Box 4"/>
          <p:cNvSpPr/>
          <p:nvPr/>
        </p:nvSpPr>
        <p:spPr>
          <a:xfrm>
            <a:off x="1219320" y="1600200"/>
            <a:ext cx="761976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source water is properly analyzed and water treatment address the impurities, then Boiler Protection is provi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Improve protection, additional chemicals can be added (Oxalates, pH controls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xygen and Carbon Dioxide reduction in the De-aeration process reduces corrosive environ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7" name="Picture 5" descr="MPj04331650000[1]"/>
          <p:cNvPicPr/>
          <p:nvPr/>
        </p:nvPicPr>
        <p:blipFill>
          <a:blip r:embed="rId1"/>
          <a:stretch/>
        </p:blipFill>
        <p:spPr>
          <a:xfrm>
            <a:off x="2666880" y="1981080"/>
            <a:ext cx="4921200" cy="3692520"/>
          </a:xfrm>
          <a:prstGeom prst="rect">
            <a:avLst/>
          </a:prstGeom>
          <a:ln w="0">
            <a:noFill/>
          </a:ln>
        </p:spPr>
      </p:pic>
      <p:sp>
        <p:nvSpPr>
          <p:cNvPr id="2378" name="TextBox 6"/>
          <p:cNvSpPr/>
          <p:nvPr/>
        </p:nvSpPr>
        <p:spPr>
          <a:xfrm>
            <a:off x="3581280" y="1295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Rectangle 5"/>
          <p:cNvSpPr/>
          <p:nvPr/>
        </p:nvSpPr>
        <p:spPr>
          <a:xfrm>
            <a:off x="121932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Text Box 3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Rectangle 5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Text Box 7"/>
          <p:cNvSpPr/>
          <p:nvPr/>
        </p:nvSpPr>
        <p:spPr>
          <a:xfrm>
            <a:off x="1447920" y="1523880"/>
            <a:ext cx="70866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stry Ba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iner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ensate Poli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iler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Text Box 2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Rectangle 7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Text Box 10"/>
          <p:cNvSpPr/>
          <p:nvPr/>
        </p:nvSpPr>
        <p:spPr>
          <a:xfrm>
            <a:off x="1219320" y="1447920"/>
            <a:ext cx="76960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Treatment is the attempt to remove anything that is not water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s and compounds in water create corrosive environ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is a measure of acidity or alkali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ure to maintain chemistry control can lead to reduced efficiency and/or premature fail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the source water chemistry is the key to determining Water Treatment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Text Box 4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mistry Basics – Water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2" name="Picture 5" descr=""/>
          <p:cNvPicPr/>
          <p:nvPr/>
        </p:nvPicPr>
        <p:blipFill>
          <a:blip r:embed="rId1"/>
          <a:stretch/>
        </p:blipFill>
        <p:spPr>
          <a:xfrm>
            <a:off x="6553080" y="838080"/>
            <a:ext cx="2318040" cy="2743200"/>
          </a:xfrm>
          <a:prstGeom prst="rect">
            <a:avLst/>
          </a:prstGeom>
          <a:ln w="0">
            <a:noFill/>
          </a:ln>
        </p:spPr>
      </p:pic>
      <p:pic>
        <p:nvPicPr>
          <p:cNvPr id="2293" name="Picture 9" descr=""/>
          <p:cNvPicPr/>
          <p:nvPr/>
        </p:nvPicPr>
        <p:blipFill>
          <a:blip r:embed="rId2"/>
          <a:stretch/>
        </p:blipFill>
        <p:spPr>
          <a:xfrm>
            <a:off x="1143000" y="2057400"/>
            <a:ext cx="5638680" cy="4600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Rectangle 2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Text Box 3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mistry Basics – Water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6" name="Picture 5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7010640" cy="4865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Text Box 2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mistry Basics – River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9" name="Picture 5" descr="salinity-791740"/>
          <p:cNvPicPr/>
          <p:nvPr/>
        </p:nvPicPr>
        <p:blipFill>
          <a:blip r:embed="rId1"/>
          <a:stretch/>
        </p:blipFill>
        <p:spPr>
          <a:xfrm>
            <a:off x="1143000" y="1752480"/>
            <a:ext cx="7696080" cy="4071960"/>
          </a:xfrm>
          <a:prstGeom prst="rect">
            <a:avLst/>
          </a:prstGeom>
          <a:ln w="0">
            <a:noFill/>
          </a:ln>
        </p:spPr>
      </p:pic>
      <p:sp>
        <p:nvSpPr>
          <p:cNvPr id="2300" name="Rectangle 6"/>
          <p:cNvSpPr/>
          <p:nvPr/>
        </p:nvSpPr>
        <p:spPr>
          <a:xfrm>
            <a:off x="6705720" y="2666880"/>
            <a:ext cx="685800" cy="3124440"/>
          </a:xfrm>
          <a:prstGeom prst="rect">
            <a:avLst/>
          </a:prstGeom>
          <a:solidFill>
            <a:srgbClr val="ffff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2" name="Picture 6" descr="americus_water2"/>
          <p:cNvPicPr/>
          <p:nvPr/>
        </p:nvPicPr>
        <p:blipFill>
          <a:blip r:embed="rId1"/>
          <a:srcRect l="0" t="4038" r="0" b="0"/>
          <a:stretch/>
        </p:blipFill>
        <p:spPr>
          <a:xfrm>
            <a:off x="1143000" y="1258920"/>
            <a:ext cx="7772400" cy="5097600"/>
          </a:xfrm>
          <a:prstGeom prst="rect">
            <a:avLst/>
          </a:prstGeom>
          <a:ln w="0">
            <a:noFill/>
          </a:ln>
        </p:spPr>
      </p:pic>
      <p:sp>
        <p:nvSpPr>
          <p:cNvPr id="2303" name="Text Box 7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mistry Basics – Tap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5" name="Picture 5" descr="hvymetals"/>
          <p:cNvPicPr/>
          <p:nvPr/>
        </p:nvPicPr>
        <p:blipFill>
          <a:blip r:embed="rId1"/>
          <a:srcRect l="2322" t="9231" r="7512" b="0"/>
          <a:stretch/>
        </p:blipFill>
        <p:spPr>
          <a:xfrm>
            <a:off x="1066680" y="1914480"/>
            <a:ext cx="8077320" cy="4078440"/>
          </a:xfrm>
          <a:prstGeom prst="rect">
            <a:avLst/>
          </a:prstGeom>
          <a:ln w="0">
            <a:noFill/>
          </a:ln>
        </p:spPr>
      </p:pic>
      <p:sp>
        <p:nvSpPr>
          <p:cNvPr id="2306" name="Text Box 6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mistry Basics – Industrial Contamin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Rectangle 7"/>
          <p:cNvSpPr/>
          <p:nvPr/>
        </p:nvSpPr>
        <p:spPr>
          <a:xfrm>
            <a:off x="1066680" y="5562720"/>
            <a:ext cx="6172200" cy="304560"/>
          </a:xfrm>
          <a:prstGeom prst="rect">
            <a:avLst/>
          </a:prstGeom>
          <a:solidFill>
            <a:srgbClr val="cc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Peggy's Computer</dc:creator>
  <dc:description/>
  <dc:language>en-US</dc:language>
  <cp:lastModifiedBy>Peggy Hines IRSC</cp:lastModifiedBy>
  <dcterms:modified xsi:type="dcterms:W3CDTF">2013-03-13T19:42:28Z</dcterms:modified>
  <cp:revision>332</cp:revision>
  <dc:subject/>
  <dc:title>Engineering technology</dc:title>
</cp:coreProperties>
</file>