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43.xml" ContentType="application/vnd.openxmlformats-officedocument.theme+xml"/>
  <Override PartName="/ppt/theme/theme55.xml" ContentType="application/vnd.openxmlformats-officedocument.theme+xml"/>
  <Override PartName="/ppt/theme/theme44.xml" ContentType="application/vnd.openxmlformats-officedocument.theme+xml"/>
  <Override PartName="/ppt/theme/theme56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.jpeg" ContentType="image/jpeg"/>
  <Override PartName="/ppt/media/image23.jpeg" ContentType="image/jpeg"/>
  <Override PartName="/ppt/media/image26.jpeg" ContentType="image/jpeg"/>
  <Override PartName="/ppt/media/image25.jpeg" ContentType="image/jpeg"/>
  <Override PartName="/ppt/media/image2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</p:sldMasterIdLst>
  <p:notesMasterIdLst>
    <p:notesMasterId r:id="rId57"/>
  </p:notesMasterIdLst>
  <p:sldIdLst>
    <p:sldId id="256" r:id="rId58"/>
    <p:sldId id="257" r:id="rId59"/>
    <p:sldId id="258" r:id="rId60"/>
    <p:sldId id="259" r:id="rId61"/>
    <p:sldId id="260" r:id="rId62"/>
    <p:sldId id="261" r:id="rId63"/>
    <p:sldId id="262" r:id="rId64"/>
    <p:sldId id="263" r:id="rId65"/>
    <p:sldId id="264" r:id="rId66"/>
    <p:sldId id="265" r:id="rId67"/>
    <p:sldId id="266" r:id="rId68"/>
    <p:sldId id="267" r:id="rId69"/>
    <p:sldId id="268" r:id="rId70"/>
    <p:sldId id="269" r:id="rId71"/>
    <p:sldId id="270" r:id="rId72"/>
    <p:sldId id="271" r:id="rId73"/>
    <p:sldId id="272" r:id="rId74"/>
    <p:sldId id="273" r:id="rId75"/>
    <p:sldId id="274" r:id="rId76"/>
    <p:sldId id="275" r:id="rId77"/>
    <p:sldId id="276" r:id="rId78"/>
    <p:sldId id="277" r:id="rId79"/>
    <p:sldId id="278" r:id="rId80"/>
    <p:sldId id="279" r:id="rId81"/>
    <p:sldId id="280" r:id="rId82"/>
    <p:sldId id="281" r:id="rId83"/>
    <p:sldId id="282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notesMaster" Target="notesMasters/notesMaster1.xml"/><Relationship Id="rId58" Type="http://schemas.openxmlformats.org/officeDocument/2006/relationships/slide" Target="slides/slide1.xml"/><Relationship Id="rId59" Type="http://schemas.openxmlformats.org/officeDocument/2006/relationships/slide" Target="slides/slide2.xml"/><Relationship Id="rId60" Type="http://schemas.openxmlformats.org/officeDocument/2006/relationships/slide" Target="slides/slide3.xml"/><Relationship Id="rId61" Type="http://schemas.openxmlformats.org/officeDocument/2006/relationships/slide" Target="slides/slide4.xml"/><Relationship Id="rId62" Type="http://schemas.openxmlformats.org/officeDocument/2006/relationships/slide" Target="slides/slide5.xml"/><Relationship Id="rId63" Type="http://schemas.openxmlformats.org/officeDocument/2006/relationships/slide" Target="slides/slide6.xml"/><Relationship Id="rId64" Type="http://schemas.openxmlformats.org/officeDocument/2006/relationships/slide" Target="slides/slide7.xml"/><Relationship Id="rId65" Type="http://schemas.openxmlformats.org/officeDocument/2006/relationships/slide" Target="slides/slide8.xml"/><Relationship Id="rId66" Type="http://schemas.openxmlformats.org/officeDocument/2006/relationships/slide" Target="slides/slide9.xml"/><Relationship Id="rId67" Type="http://schemas.openxmlformats.org/officeDocument/2006/relationships/slide" Target="slides/slide10.xml"/><Relationship Id="rId68" Type="http://schemas.openxmlformats.org/officeDocument/2006/relationships/slide" Target="slides/slide11.xml"/><Relationship Id="rId69" Type="http://schemas.openxmlformats.org/officeDocument/2006/relationships/slide" Target="slides/slide12.xml"/><Relationship Id="rId70" Type="http://schemas.openxmlformats.org/officeDocument/2006/relationships/slide" Target="slides/slide13.xml"/><Relationship Id="rId71" Type="http://schemas.openxmlformats.org/officeDocument/2006/relationships/slide" Target="slides/slide14.xml"/><Relationship Id="rId72" Type="http://schemas.openxmlformats.org/officeDocument/2006/relationships/slide" Target="slides/slide15.xml"/><Relationship Id="rId73" Type="http://schemas.openxmlformats.org/officeDocument/2006/relationships/slide" Target="slides/slide16.xml"/><Relationship Id="rId74" Type="http://schemas.openxmlformats.org/officeDocument/2006/relationships/slide" Target="slides/slide17.xml"/><Relationship Id="rId75" Type="http://schemas.openxmlformats.org/officeDocument/2006/relationships/slide" Target="slides/slide18.xml"/><Relationship Id="rId76" Type="http://schemas.openxmlformats.org/officeDocument/2006/relationships/slide" Target="slides/slide19.xml"/><Relationship Id="rId77" Type="http://schemas.openxmlformats.org/officeDocument/2006/relationships/slide" Target="slides/slide20.xml"/><Relationship Id="rId78" Type="http://schemas.openxmlformats.org/officeDocument/2006/relationships/slide" Target="slides/slide21.xml"/><Relationship Id="rId79" Type="http://schemas.openxmlformats.org/officeDocument/2006/relationships/slide" Target="slides/slide22.xml"/><Relationship Id="rId80" Type="http://schemas.openxmlformats.org/officeDocument/2006/relationships/slide" Target="slides/slide23.xml"/><Relationship Id="rId81" Type="http://schemas.openxmlformats.org/officeDocument/2006/relationships/slide" Target="slides/slide24.xml"/><Relationship Id="rId82" Type="http://schemas.openxmlformats.org/officeDocument/2006/relationships/slide" Target="slides/slide25.xml"/><Relationship Id="rId83" Type="http://schemas.openxmlformats.org/officeDocument/2006/relationships/slide" Target="slides/slide26.xml"/><Relationship Id="rId84" Type="http://schemas.openxmlformats.org/officeDocument/2006/relationships/slide" Target="slides/slide27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 type="dt" idx="10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5" name="PlaceHolder 5"/>
          <p:cNvSpPr>
            <a:spLocks noGrp="1"/>
          </p:cNvSpPr>
          <p:nvPr>
            <p:ph type="ftr" idx="10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PlaceHolder 6"/>
          <p:cNvSpPr>
            <a:spLocks noGrp="1"/>
          </p:cNvSpPr>
          <p:nvPr>
            <p:ph type="sldNum" idx="10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F411-D291-43A2-AECE-2EA496076C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C72B-80B5-49CB-9E3D-AD3FE554AB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en.wikipedia.org/wiki/API_oil-water_sepa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1E76-673F-43AC-BEEA-942C25C5CB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emical and Oily Waste Wate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ALO VERD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UCLEAR GENERATING S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Instrumentation &amp; Controls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lassroom Les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O 1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dentify the functions of the Chemical and Oily Waste Water Syste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.1.1 Main Id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PG 11663:OB 79503(1114)&gt;&lt;&lt;A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inage and Leakage are facts of life for a power station.  At a Nuclear Power Station, we have to consider types of dr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Waste D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amounts of dissolved so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os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vironmental pollut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y Waste D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kage from heavy equipment, hydraul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mages water purification media - res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vironmental pollu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mm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D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 a large portion of systems at plant; many are or have potential to be radioa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icate segregation of other drains (chemical, oily, et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others can be treated and released to environment easily, radioactive contamination complicates treatment and rele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e or low dissolved solid d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al - can be released to environment easi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y to reclaim by some means – demin. water is expens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need means of segregating the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parate out kn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drains - sent to Liquid Radwaste low TDS holdup tanks.  Includes drains fro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x. Building Su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ainment Drainage Su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- Chemical Drains sent to Chem Drain Tank then to either Solid or Liquid Radwaste.  Includ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on Station D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oratory D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ly Contaminated Chemical Drains - sent to Cooling Water Holdup Tank. 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ential Cooling Water Room D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ous Radwaste Room D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dissolved solid wastes -sent to Chemical Waste Neutralizing Tank.  Includ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ensate Demineralizer Regeneration Was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down Demineralizer Regeneration Was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y Waste - sent to Oily Waste Separator.  Include various sump drains that usually contain oi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systems to discus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ing Water Waste Drain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ensate Polisher Waste and Drain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y and Non-Radioactive Waste Drain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adioactive Drains are discussed in the Radwaste Systems lecture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7B2A-6093-4167-BD4F-14F37B60D1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emical and Oily Waste Wate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ALO VERD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UCLEAR GENERATING S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Instrumentation &amp; Controls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lassroom Les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F93E-D774-468D-94AE-C6A20F2619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emical and Oily Waste Wate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ALO VERD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UCLEAR GENERATING S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Instrumentation &amp; Controls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lassroom Les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C265-2690-4A20-A630-75C607B583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emical and Oily Waste Wate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ALO VERD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UCLEAR GENERATING S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Instrumentation &amp; Controls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lassroom Les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FC1D-D17A-44F5-945A-61930C9A40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E6C9-642E-445B-A777-9E00E877C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5853-8A8B-401D-A0CA-916A04B0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77961-80D1-4117-AFA8-89CD5F2D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38CF0-1C00-4A85-A034-2B516B39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080A7-74D5-4436-922F-08E81C8B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2CDB7-469F-4DA2-82A3-22E2D5BC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66EC6-C74C-4418-A45C-EAB0DA2F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550D8-A88D-45DC-BAF6-0AEE8AFE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0676F-87E7-4C52-8DC6-30BB8550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2B28D4-7E02-400C-8E4C-905357583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A4CF1D-DE72-4C03-93DC-40FBE7F50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99882-960F-464A-A0B8-FE89B8724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96DC-553B-4277-8691-B42E04142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746F2-B65A-4F03-B024-B5CC5025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EEA89-91DB-4BB7-8CC4-9ACB7DAA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FE9EE-B936-488A-BC56-C68F0DEF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F73D27-A4EB-4236-84FE-41A65BEF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18A43B-B524-4B3B-B409-8C5741CB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2EE7F8-12FD-47C8-A9B5-B349B495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FEC900-3F16-485A-99C0-A882309C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1975D1-2343-422A-950E-C13D0C39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2A8C6F-0A7E-40BF-A724-03E4EEDA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2ABAD6-AD8E-4DC5-9A22-589300D9D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8805-4183-4446-ABDF-C7F45A101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C800AC-F027-4E38-BF01-A0946F5CA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89172-AA86-47BE-9116-E3D218E7E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BEAB5-F576-4F90-A6D4-A4FB8640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448EB-00EE-497D-AF8F-AB446312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A7EC3-A291-4C38-BAC6-4AAEF729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7E1F0-9620-4D8A-8EC2-B140B9FE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D81D9-21BE-4397-9E2E-01DD085D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39C90-05E6-47A8-A336-37E41A31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F3785-C211-4BF4-8748-9C60008A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096E7-7FDF-4CA6-86D0-8E95C7C9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3991-163C-4A6D-A04E-E14A10D5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09DDB-CD7C-471E-99D9-9FDE9E1F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ACD24-0AC6-44E9-A01C-D596A83B7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89071-6285-41F2-9A81-8A5F27CBD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D7DE7F-8836-4126-A88E-E06BE4A59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25A3A6-A034-4892-89C3-D0570C39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70E877-6A70-4330-A79E-40328E0E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8A383F-25A4-40DA-9354-36B5C73F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E466A4-E8EB-47B7-9582-55D4913C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521175-5C0E-496A-AFF1-1F93D2B2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982736-31DD-4320-9F26-7491919E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62E6-ECEC-4CEB-BC2B-A48FAB3B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12EBE4-719F-4B9F-BC4B-0DADE65E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5C3E85-F58B-41F4-8DCE-3945AE30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EC95FA-56F8-4209-ADD1-1B0044EC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40FD62-46A3-462D-9DAC-51AF05B1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C33B7-BF0B-41ED-8761-A73CEF458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2648-54D5-4B04-8B11-5500C49C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CFDC-80C3-4DFA-91A3-5ED05E06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7D47-215D-450A-BE16-0CE9DC36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47E9-8FCF-48BA-92C9-36440904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BEC6-59B0-4ABA-B5A1-88E48B63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F10A-47D1-4FF3-8DF2-D612C2A6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5ABD-F383-498B-A615-9FB58665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86F0-08AF-45B2-9CBF-F222CC85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B222-93A8-4C1E-A043-6D308BAF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28A4-C290-4D20-B099-028ACD1B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DFA5-EF75-4652-9A9E-EE08FE629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D90C3-A19A-48F7-A631-BEDA718D5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11FAA-576D-42AD-8BF0-94283928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88443-EAAB-4257-B8C6-3AC56DF7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C4DD4-0A14-49D2-A673-4BE5D0BC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85E26-B061-47EC-8A63-52FA91A9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C04F-BB0C-41F3-AF06-2F70111E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2B4FE-1B06-4FE3-B473-754BC3E8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AD3D0-C97A-433A-A593-E40BFE9B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FA38C-78C5-4BE6-AF47-70495FC7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286F5-1FB6-4611-AEE4-38CDD8EA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2BE8F-2E0C-4855-BDD2-F28A7719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1790C-E4D0-4AC9-8E18-5704B292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4F12D-30C9-4C45-BCB5-1359D953D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F32B6-BC82-46A9-9534-7B5C2BEB0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D97B4-0E72-403D-9BFD-0A46AF58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5BAE0-4C2F-46FE-ACD4-2D11F08E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934795-0DCC-44BC-9979-ED07FCF43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1EC5B5-6C65-451F-A008-80C5A6F6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15A24E-F317-4B65-A267-B0955963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FBC1-2CA0-4580-AD44-C2BE7A31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2773C-FA4D-4C3F-B231-1862C3A7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67ACD6-2FDC-4AEC-9840-E2E25181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A3F9B8-109E-4250-92EA-B3607B72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CDEDEF-C8AC-4CAD-B60E-36B57AB1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452D4D-7107-42DF-9DDA-A814E4CB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62CE50-FC25-44CC-A614-709D40D5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517950-D9EB-4832-BF3F-2CCCD301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DD86A0-4A49-4F3B-B13C-A93BFB85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D466C4-5B91-4B5E-B5FE-4EE412D8C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59E5DA-913E-4080-8F6D-8F2BD4AAF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83EDD6-32A4-4999-A5A7-09F406C65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7A3B2-C751-4AD9-8BE5-C3C9C550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A3CAB4-4821-41C8-8C7D-783168D1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7F124E-7EB5-4A6D-9561-3E9EE23C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B4D7A7-F115-4FE5-A3FB-8082E6A4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04EF95-575F-41CF-ACB1-8DC3E399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F068FD-811E-48A3-A4D9-9591B961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B5D7C2-72BF-46C5-A99C-A65F8353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36685B-19EB-4ABD-A613-B9757114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CB6516-93AE-4392-9F06-1A608677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411C06-413E-4DC4-9C64-29F2B646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D52C55-03C4-47BB-88F5-658251AF2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23F8F-2A42-4092-B164-1D0CD81E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DC8435-5CCE-4D10-ABFA-38E798DCC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9FA2DB-87D9-4D2B-876C-B2A21B1F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617C12-A98E-4DB8-B38B-13FDE802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FF6E7A-CBA8-4AF0-A389-8BD3C73F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552E35-2450-4838-ACD5-434B2F2F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5955F6-1EDE-43C7-9589-A9887FCA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5EBE4F-943D-44BB-8709-5CF1EB3D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4C88DC-B7ED-4D89-BA60-AD6C0F24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F82C6F-6EF1-4196-88F2-98201348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2BCB07-058E-4629-AE89-0C29BEE2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7CCBE-EF98-42E3-81C0-F205FD30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369796-749D-463E-9849-1D791939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BDBBB8-5D78-4D70-8A8C-CCCCF913C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CE251C-C0EB-4DBD-95CB-5BF9F986A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FB0621-886A-4515-AE6E-C6BA1D87A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BBED6E-0DA6-4226-96F7-811CE187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0ACF31-1853-4C64-8490-26C734C5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00F544-555E-454C-A1F3-59455859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3E9FF3-6F12-4E55-A924-B8E2F6CB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2F86A0-1E5B-4313-B711-689C80F1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DF84FF-245E-45A0-BCEF-FCD8202D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95155-332F-429F-85FE-D770CC88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B97F8B-8232-4AAA-82CF-CE3D70D8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D51E39-3BBA-431C-B5F1-8C26CC72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9D81F1-ACCE-4F4E-BEA0-49263492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D2AC65-2CAA-451C-A315-322B2A2A3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DDA3AF-6E0C-43F9-BDE5-2C62AD2D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3CA2A5-A52A-4CA2-9A6B-28BCC6430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9AF398-1CF8-4677-9F53-79999908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256FEB-2F16-46CE-93E0-73F02692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045436-ACA0-455F-8C7C-0AD74D71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85C334-DDD5-49B1-B687-AC414013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8B0B3-4C5F-4C16-8A3C-EEDB87C4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70AAE0-C536-4C55-A52C-7355A16E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D7EA69-D4A2-4432-ACE5-0B35366E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13D2DA-E69D-497F-94BF-E9A793F7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1CC83F-7F82-46EA-8402-EA3B37B5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C36E92-0283-49C9-A7E3-7157D753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569E55-9236-4CE9-AD76-DC9607334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1E3CA6-C4A3-4699-8743-7AA326D47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C6B5DE-AA49-4A89-A821-03024E5ED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A5AC93-FEBB-45FF-9A4B-B297EB05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335146-4A6D-4A66-8E0D-EFF8F278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1B813-CFA8-4C03-908B-9F6AECF7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56453D-0106-4DDA-BD11-E56AB3A3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A8BB91-46A8-4FD8-BAE4-8CAC36EF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982596-2A48-440E-866A-A9336B5C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704E64-B91A-4AA0-B548-8A7018B6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5E4261-1496-4C89-AC12-ED6EA382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EDA491-8753-4285-B5B3-79F17854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BD03F8-D5A1-4C7B-871D-98929529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6B0A6D-6396-4CA2-A46E-F758CB55E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421D79-5912-4C4F-BB8F-3D615285B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FE026B-F191-4489-8BAB-851CE355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9AA2F-7FB5-4709-89AE-3FDA60DE1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279170-EA67-4DE3-9944-3A761218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830B35-9CE6-4B8D-A526-D506E2F0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E7B3C1-2EB8-4A08-B110-0640A893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5AF74F-4D72-484C-B6C8-3987DB95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8ABCCF-D151-4F71-9E9A-8564D6C1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E2507C-2AB0-4FF9-989F-F4227C78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E25622-E29A-4FE3-AD89-1B0BF99B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91BAFB-4C9C-49FC-9D97-81E24AB3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73DD4F-8E4A-43B4-B830-0202BBEC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D6AB97-189C-4553-8BAB-B6A04A116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83F9F-AF99-4808-8DA5-C82F650E9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C7EAA3-9DB7-43C2-A38E-1739D64B1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441E85-8A0D-439A-ADE6-D7E11995E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CAFC40-7E88-4AC0-AA2F-443A1312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B2B0F9-D50D-40D2-ADB9-37CA4682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1112E4-A51B-4C83-8388-4259B7BD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093147-379C-4B94-B2AC-612077C8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8A7BE0-4037-4AC9-95B8-F187B96B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BEAB7E-89D9-4A68-A6F8-BE2EA390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600B4B-5A14-4E1E-80CE-6DE6EBD9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C00EC8-63D4-43A8-ABC9-B948BA25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BAC89-47C7-41D3-B935-239F46F40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A35476-1103-4A48-97F9-3E15C13E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9E4091-DF25-4F7A-A5EA-A40432254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67B989-A70F-455F-9BB5-A5474C713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C09959-268D-4168-A253-AF57BB23E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657219-A839-4B16-9E70-D80DC032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B5B15E-72B0-48B7-B3EC-C98AD7CC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ED4C96-97EE-4709-A1CA-11745852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0D4E82-9B1D-4422-8356-08C6C7C3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25014A-8EC1-4BBA-8DB0-6ECDBB3E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73D1D8-67BE-48C7-BFFE-22BFD377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0EF1-9308-45DB-B91E-F8785F3D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3E0F4-8040-4D92-AFBC-D26041F9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7032F9-7B40-4652-8E27-729BE28A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AB413D-45CD-4E29-9BA2-9802AF78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0A7D2E-F326-4E47-98D7-CD5C5732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42C07C-75C0-47A1-98C3-78EC8A167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BEE9E3-FE45-474F-9D46-DED754B1E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674418-39BC-46BF-A0BD-AD41C28F7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7D80A9-C64B-46AE-8635-0F6D2303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DB55C6-F4EB-4BD5-82C7-5E9C7FB9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D63D86-2B0C-4014-9E58-5873AA6A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8E1EA5-941C-47D6-88E4-35BC0A14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EDD19-4925-43EC-9881-83F0D364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28AE3C-C30B-4118-9A0D-3EC20B9E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7721EC-EC14-4868-90C2-26B3D8A2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8C55E8-430F-4F5F-B2DA-F1786C8B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F5D00F-DAFB-4882-B944-74836FF7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5E0DC4-FEA8-462E-B149-C9E74445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491040-4E18-4583-AC4F-3C4304FC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8E8D5C-C117-4824-B847-E119103D0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D08F8C-D358-44D2-856C-21399D68B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2DC9A0-5472-456A-A3EA-DC67BBBE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65793E-A9FE-458B-B2CE-735C2D64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ED9A9-B6B7-483F-A2AA-AB317BB6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1A96EB-5F18-4C38-9918-74D25340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DE5A18-521C-4ACF-A271-F9EF093D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E2552C-0780-4626-BB1D-5787B93C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AD0AAE-6A17-4300-B01C-D4667743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3550F4-73AF-4219-8028-BB6C3C93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FB92D7-3379-4956-8FFD-22BD5B5D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6D2718-0BE4-494B-9CDD-D53224CE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E3E8D8-A742-4184-9C5E-838D935C8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62769F-B9A7-4DC8-A340-B8B03895A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DD3BF2-B1C4-42AB-87C7-AE1593B35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758EB-44CA-4DB1-BAC4-02ABFFBB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AAF585-6EE6-4EB2-87EB-1BD70347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6993BC-E473-4C45-BC66-5B3C85B9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36EC57-2808-456C-B331-CEB1252C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D38878-3829-49E1-A7BB-8DB235B8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611B6E-9C0C-46BB-8695-C582AA26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FCB428-E20C-4EBA-AAAE-C98106B3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E752F3-0F76-446F-90EF-2BB57DC2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C6065B-0115-4E86-BBF6-B380E860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78E690-276C-4040-9329-B85DFD98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2C8F04-1000-48E8-BA2A-FEABEA4A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B2D1D-051A-4B73-A5EC-5D249850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6A349A-39DA-4119-BA95-CBD1568D0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7818A5D-21C9-48B8-AC28-B910A1D4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30661CE-148B-45F1-AC13-641E9969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189B59-EA03-4BE0-91C1-4849EA36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3167B2-18EF-48E9-AD0C-36C18F1F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47A6003-582E-430B-8465-9C1845F4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4E5F57C-1F89-432E-84D9-15D64360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73280D-0C60-49CB-9868-473F21A1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18D91A1-A4E7-44E4-A6AA-D9FCED97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62DFCB5-B294-47F2-AABD-D778094B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C3571-2F94-44BF-A845-19E1CAB4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DB80AE-2F38-43F5-AF58-C7EC6260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0FE494-B64B-4BA6-B4B0-E49A67620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53D94E-D635-44BC-B78B-4026BFDFD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F566F07-E581-40CE-9067-985AF0100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9FE3EE-97AE-453C-A0AA-E715F145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400CB5-CECF-4027-A698-99BB7D85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4BFDDE3-EB61-463D-80F2-1F6C2D69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C78A44A-6009-48A5-AE1E-D54335B7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DBC5209-745F-40EA-98BD-F2F34B6E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5B5197E-C0B3-4090-8C40-97645D9A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89236-EE02-422D-B926-4B6A7E24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ABAEA6A-ACBE-482F-A1F0-55F135D1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2A5419-02D8-4D5E-8800-1DE2BFBE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BBC044B-3CA8-4233-8BA6-725A25CD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32D0AB8-0CE3-47A6-9901-92B04914C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27EA9C-8B8F-4FFB-AA05-A199E0394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8E987F5-4991-4BFA-B63B-5ABBC625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A6167B0-D7B9-4949-8978-D1FFDDFA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008C7A7-B918-4784-A665-422345C5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3AE1C6A-C77E-4C14-845F-BD778BC5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BD10CDB-0B67-4C94-8D3F-263D498B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62002-EBE4-45F7-84E5-36AD06FB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F6C2CE8-1BD5-49D0-A25F-06B0B7C2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09C98E2-61E8-4B39-B72D-5359D04D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F21BDF7-C5DF-4D02-962A-16C18388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3157E7C-667F-43A8-906B-444704C2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436AD32-B90C-4B4D-B97B-66F915D6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80642D7-8877-460D-B196-38D2774B9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AD1539-7991-4DC4-8395-A42BFB07B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6C19F1C-EA04-46AF-98A4-39996AEFA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0FBE619-EF9F-4949-9799-3E567F6E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EFE4218-7E64-42F0-9C86-D472F080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C6202-F361-472F-91D6-ED3AE69D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7A30825-CF72-4BEC-A833-AD120234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5DCF55C-1B7D-49C3-9DA0-03CEA64E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44C8257-2BC8-45D0-A115-9ABACCDE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8635BA-FDFC-491D-A3C7-127D14E9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60EEA2D-F1E6-4D47-9C7A-663B6C52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4DA3EE8-C9AA-4D48-926D-E057F0E0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CD31F8D-5B84-4928-AE86-0B08E10F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791FF27-0251-460D-B7EC-7DEE3E098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881927A-EC50-41A9-8BE1-923EA2806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51E94E4-5358-4A9A-BD94-9F49BA210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3F298-E4E1-4568-9F45-95C97D160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553E73D-B5E5-4691-AEC7-41793A7B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7956329-3B74-4E74-83D3-84C9AD5D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5E47BBE-C552-4FA6-AC37-48703389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4A7E729-7396-4DBC-9B6F-C7096CE9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F06C4B3-D891-41ED-BB4F-3159E615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7A23861-70AC-4E43-833A-23332913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C72AF0C-C072-49CE-8CDF-24AA0B59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A0AB66C-7AB3-4BEE-84F5-BB5925EA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C6290C4-D48A-4E1E-9F03-13013566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D81D6C0-718C-4CB9-B186-5502100B9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2B57-7F7E-4E30-A3B7-27315E25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0E9F6-4B22-4431-8A67-C35693C4B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A5D1ECD-58AC-408D-874D-37A74E380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570D4DA-1806-4246-BD43-4EAE1E54C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2A47BF9-45AF-450B-B798-17207863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46F169F-CC3B-4165-8A56-2635C715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00EC771-C8E3-4556-AD72-7AB96451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E9103E2-D6A4-4A8F-9D72-3C2D05CA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F78C142-7443-47ED-8E59-ABB0B456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BE7FA8A-B831-4A6F-B210-26F2FC78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51B9300-9965-4775-B767-753F7F70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123D4FE-1598-4489-8B37-9DB8BE50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E5F50-C988-49D6-9FA7-8067EBE92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6030CF0-26E0-47E6-86AE-77B7C467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3A6DECA-5A9E-497E-9A01-8892D957D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5FE61B1-4E20-49CE-AF96-3AE2BE12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3898AE4-6CCB-4F5E-8607-595693FFF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AB990A8-9E63-4090-8AFC-425BF141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82B26EF-07FD-4588-B181-24156C2F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19B0BAE-AD7B-415B-9E97-66B3B09F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018450A-AB24-4E90-8F50-E086357D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FFB3C12-BCF4-4B70-AEFF-A62F08F5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8BB3A1-6B9E-49FE-8B96-3C3098C2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310F0-87CE-4D71-8C35-FA1BDC75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7FC93BC-C9E2-4C1A-99D3-F99701B1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7C8E045-4249-4B5D-A76D-4E8271E9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38C5AA8-F9BD-4E60-A2C6-7F727059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5804551-6A74-4AAC-9536-6DCF5F092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E6561D8-97DD-401A-9DB1-5E73178E5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834340E-9F09-4B0B-99FC-07CE6CDEC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A64D53E-1962-4953-82CF-EB8B006E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18D6A26-146F-42A6-BE72-B139B09E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CFE37A5-1C93-4609-8F9C-B8A3466B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CADC52A-0B7B-4A6D-9D59-52636ABF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5682A-D485-4C63-8119-275240F0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1EEBB85-419B-4F64-91B2-09AEF06F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1963A92-4128-4DB0-A34E-F0C9DD19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CF48F77-07C0-4104-8729-D06943EE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032E65C-3A83-4893-A9ED-29CD00F8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E9E5A85-DDA7-46EB-8FFF-B5E4871E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3B798B4-573A-41D9-9360-4D9601EE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EEC16E9-789B-4FD7-AF04-BB4EEC421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6B2F6F5-C419-44F3-A5BF-069C7761B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07401F0-BC98-45A7-B5BD-ABC42869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3720388-BD04-4136-8262-D885A679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BD043-6724-4AA6-A5A1-ABEB4A4F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A503C8E-ADCD-4589-AE14-71AFE293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883AA21-C524-43B9-B0C9-340FAF02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B454654-27D0-4DF5-8A8B-9560D4A2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34D817B-C253-43BF-9F69-525C0728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FE6715E-50EB-4DBB-9DEF-B707D5CD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F692013-C704-414D-902E-A9CBF040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C53C6B4-005E-42DF-B8F9-D2F3B9BD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EC22D13-32C3-4873-A2D2-66A04F2F1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6D3B904-6E0E-4B05-8FA1-8C0DF1E78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0CF9311-816E-4C2F-B0E1-0F843ACBE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D6E93-501B-4C89-B24C-075501CF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8503E49-FFEB-48AA-BF06-C020CABD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7FD6684-0711-42D3-8858-3500CD17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46A5E78-3716-46A2-9182-662DDB5A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DD9D0CD-55B1-4768-9F2D-2573DBA8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EC4D0E4-1582-468B-820F-3F5D1580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C90421C-B5C5-47FB-8878-331E7B06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E320E71-E275-47A7-852A-E20C1944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7CEFB38-3749-4429-9A87-1B209575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E6034A8-7FAD-489B-B939-BD3A180E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04201DB-9137-441D-8363-00D02C784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AF0F5-28D0-47B4-8636-98B373E7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D7A934B-1F3D-425C-8136-22241CDAE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6159A-B29A-4841-8FF0-0CEDB21D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25E7B-F41E-447C-97DD-AFEFEBE7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7FF9B-9469-4B8A-81F6-CDAF1356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A42C-29D5-4EA2-8188-23817ABE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61DB5-395C-4AAC-8F34-3C2FF57D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48F7F-7CCE-4137-A745-7A1BC3419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23EAB-E0C5-4C1A-B85E-A2E04C3A1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0FD52-D656-4FA1-B6B2-8D7C9922B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101D3-DFB7-4551-9303-346CE2B5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B03D4-16A3-43D9-9153-92D413A6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8BCDB-4CE3-40BB-A448-E0BCC4CB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B2A64-2B5B-49C1-810A-D8EF2362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940C8-7F15-4A12-893C-EE0A401A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66F8A-87E9-4DA6-8581-D772FE69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7CE9-1376-4305-BB94-719A3535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A69AC-B786-4AF3-804B-00C317D6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8B3A7-72EC-4689-8BC6-78BA7DA5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42D6C-C1FE-4837-B0AA-9BAA2FA4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BC48D-AEBC-4245-96A2-96893048A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29D8A-62F0-4F5D-86EF-7FAE516C8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E18EA-579C-4C44-8FE9-4CBBD966B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1023B-0AAF-4CFB-921C-DD722863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B137A-8C55-4541-BE5D-19011445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FA89E-9F6B-4E48-87C6-52C65D8B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D6195-21C1-4856-BFEF-98A2B5E8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C075-2E2E-414A-808B-9212CF38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947CA-C187-4EB2-A74A-E8C5B153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0127C-8AF7-43EA-82CE-622AB85F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9430D-F310-4C0C-8E60-A9F2D646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4475F-E922-4C67-B85D-1CCEB6FA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74A8C-813D-43C4-916D-28799DDC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F5B6B-9354-4A20-A9ED-B979A6583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5A370-7F35-40D6-8D66-0B1048AD8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403C8-D5FC-4DB8-9A73-BF574B8DF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77BF9-1EDB-4383-82CC-75D654A0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B62FD-30A5-482F-B389-CF584439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69.xml"/><Relationship Id="rId6" Type="http://schemas.openxmlformats.org/officeDocument/2006/relationships/slideLayout" Target="../slideLayouts/slideLayout470.xml"/><Relationship Id="rId7" Type="http://schemas.openxmlformats.org/officeDocument/2006/relationships/slideLayout" Target="../slideLayouts/slideLayout471.xml"/><Relationship Id="rId8" Type="http://schemas.openxmlformats.org/officeDocument/2006/relationships/slideLayout" Target="../slideLayouts/slideLayout472.xml"/><Relationship Id="rId9" Type="http://schemas.openxmlformats.org/officeDocument/2006/relationships/slideLayout" Target="../slideLayouts/slideLayout473.xml"/><Relationship Id="rId10" Type="http://schemas.openxmlformats.org/officeDocument/2006/relationships/slideLayout" Target="../slideLayouts/slideLayout474.xml"/><Relationship Id="rId11" Type="http://schemas.openxmlformats.org/officeDocument/2006/relationships/slideLayout" Target="../slideLayouts/slideLayout475.xml"/><Relationship Id="rId12" Type="http://schemas.openxmlformats.org/officeDocument/2006/relationships/slideLayout" Target="../slideLayouts/slideLayout476.xml"/><Relationship Id="rId13" Type="http://schemas.openxmlformats.org/officeDocument/2006/relationships/slideLayout" Target="../slideLayouts/slideLayout477.xml"/><Relationship Id="rId14" Type="http://schemas.openxmlformats.org/officeDocument/2006/relationships/slideLayout" Target="../slideLayouts/slideLayout478.xml"/><Relationship Id="rId15" Type="http://schemas.openxmlformats.org/officeDocument/2006/relationships/slideLayout" Target="../slideLayouts/slideLayout479.xml"/><Relationship Id="rId16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01.xml"/><Relationship Id="rId6" Type="http://schemas.openxmlformats.org/officeDocument/2006/relationships/slideLayout" Target="../slideLayouts/slideLayout602.xml"/><Relationship Id="rId7" Type="http://schemas.openxmlformats.org/officeDocument/2006/relationships/slideLayout" Target="../slideLayouts/slideLayout603.xml"/><Relationship Id="rId8" Type="http://schemas.openxmlformats.org/officeDocument/2006/relationships/slideLayout" Target="../slideLayouts/slideLayout604.xml"/><Relationship Id="rId9" Type="http://schemas.openxmlformats.org/officeDocument/2006/relationships/slideLayout" Target="../slideLayouts/slideLayout605.xml"/><Relationship Id="rId10" Type="http://schemas.openxmlformats.org/officeDocument/2006/relationships/slideLayout" Target="../slideLayouts/slideLayout606.xml"/><Relationship Id="rId11" Type="http://schemas.openxmlformats.org/officeDocument/2006/relationships/slideLayout" Target="../slideLayouts/slideLayout607.xml"/><Relationship Id="rId12" Type="http://schemas.openxmlformats.org/officeDocument/2006/relationships/slideLayout" Target="../slideLayouts/slideLayout608.xml"/><Relationship Id="rId13" Type="http://schemas.openxmlformats.org/officeDocument/2006/relationships/slideLayout" Target="../slideLayouts/slideLayout609.xml"/><Relationship Id="rId14" Type="http://schemas.openxmlformats.org/officeDocument/2006/relationships/slideLayout" Target="../slideLayouts/slideLayout610.xml"/><Relationship Id="rId15" Type="http://schemas.openxmlformats.org/officeDocument/2006/relationships/slideLayout" Target="../slideLayouts/slideLayout611.xml"/><Relationship Id="rId16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A8AC-63EE-4B6D-9CC5-54D564DDCB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5EED-693D-4480-8CCB-A5B3A1FF78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E5CF-9B91-48E3-9AA2-715561B60C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7D0C-BD31-4FBE-B446-E1C387F4FB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505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8C12-E19C-4E92-8F3F-2D6C202C23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546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54D9-A820-4F6E-9F72-50E48E7E4B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587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9311-513C-4F9F-BCAB-54562C0962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628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5AAC-A0E0-4D07-BB2B-096FDB834F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669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0D1A-01BE-4084-9086-1F2A646D96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710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96F9-F18A-4063-978C-B8B4499D3C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751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5D3A-6A88-439E-90A7-E46ED2C494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D713-A0D9-4F5E-BC60-8A437E0578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792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DC10-829D-4071-BD58-6ED58246DF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833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9066-4E24-42A7-8268-FADC5B9827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874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A734-C938-4A1A-9D88-1C5AB357D4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915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0985-BECE-4D2B-B1A4-852FB8F0F6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956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2D4C-A2E4-4BFA-9308-306ACB8EF9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997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3A44-4A38-405E-84A6-1E9C42E476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1038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A203-19EF-458E-86D6-032AA1D40A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1079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57C3-FA94-4052-B7BD-B6AF7EAE30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9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1120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7D9A-25E6-4481-811B-CB40DB0AF8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0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1161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C7E5-8399-4D17-A581-8415F02479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30A8-CAAB-4B1A-BE74-7E098CA5D6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1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1202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FAB9-0906-47E5-A827-E882C55DAA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2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1243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661C-731F-4A61-82CB-5B521DBBBD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1284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BB90-6AA2-4803-B817-CDB4B4DEA6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4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pic>
        <p:nvPicPr>
          <p:cNvPr id="1325" name="Picture 8" descr="chstcc.jpg"/>
          <p:cNvPicPr/>
          <p:nvPr/>
        </p:nvPicPr>
        <p:blipFill>
          <a:blip r:embed="rId4"/>
          <a:stretch/>
        </p:blipFill>
        <p:spPr>
          <a:xfrm>
            <a:off x="1219320" y="6248520"/>
            <a:ext cx="1224000" cy="533160"/>
          </a:xfrm>
          <a:prstGeom prst="rect">
            <a:avLst/>
          </a:prstGeom>
          <a:ln w="0">
            <a:noFill/>
          </a:ln>
        </p:spPr>
      </p:pic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0182-AB43-46AE-95FB-BCF000F327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CFAB-EDDA-4705-87B5-31C488BD76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201F-2C53-4153-9682-AFF5DA35FE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65AF-4329-4093-A4D5-1F614CB0F6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D531-E0A5-4F42-BF0B-4EC560C8C6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5492-CE72-4C5E-834F-303C21A284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F96D-6573-4F63-861A-0A7B4AAC03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0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1611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2D01-A743-4AFA-9E1D-6708551B5F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5"/>
    <p:sldLayoutId id="2147484157" r:id="rId6"/>
    <p:sldLayoutId id="2147484158" r:id="rId7"/>
    <p:sldLayoutId id="2147484159" r:id="rId8"/>
    <p:sldLayoutId id="2147484160" r:id="rId9"/>
    <p:sldLayoutId id="2147484161" r:id="rId10"/>
    <p:sldLayoutId id="2147484162" r:id="rId11"/>
    <p:sldLayoutId id="2147484163" r:id="rId12"/>
    <p:sldLayoutId id="2147484164" r:id="rId13"/>
    <p:sldLayoutId id="2147484165" r:id="rId14"/>
    <p:sldLayoutId id="2147484166" r:id="rId15"/>
    <p:sldLayoutId id="2147484167" r:id="rId16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D56F-13B1-440A-90BE-0FB742E709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67B0-10BC-40DE-9FF4-8E619A4C35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FAA8-0B06-4545-BEF1-F59A94425A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EB8C-D4B3-4600-B0C6-F28FBCCD99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009D-1BDC-48D6-8178-C1ADF4ABF8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1052-FBB5-4DB5-95BC-BAE9198857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5F5B-15B0-4044-A436-53FAB0AB88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425A-34AA-407A-9428-D758A508B3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494A-6933-4325-984B-53CCEDE8B6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63B9-5AB1-42E1-90E8-4B10B1E245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938D-9739-4630-963C-0A488A2BA4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3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2064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12D9-5257-425F-945F-3F25F82EAB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5"/>
    <p:sldLayoutId id="2147484300" r:id="rId6"/>
    <p:sldLayoutId id="2147484301" r:id="rId7"/>
    <p:sldLayoutId id="2147484302" r:id="rId8"/>
    <p:sldLayoutId id="2147484303" r:id="rId9"/>
    <p:sldLayoutId id="2147484304" r:id="rId10"/>
    <p:sldLayoutId id="2147484305" r:id="rId11"/>
    <p:sldLayoutId id="2147484306" r:id="rId12"/>
    <p:sldLayoutId id="2147484307" r:id="rId13"/>
    <p:sldLayoutId id="2147484308" r:id="rId14"/>
    <p:sldLayoutId id="2147484309" r:id="rId15"/>
    <p:sldLayoutId id="2147484310" r:id="rId16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6B05-A448-4D60-8915-5AEE8E5712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DB53-BCAE-4AC4-8837-47A3EE65E2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F140-AED4-4CEC-96A9-007E905906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1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B153-3C6D-4251-8D0C-1AE7B1F2D4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7039-DED8-4CE5-BFC7-85CA1D8A6C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RCNET.jpg"/>
          <p:cNvPicPr/>
          <p:nvPr/>
        </p:nvPicPr>
        <p:blipFill>
          <a:blip r:embed="rId4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IRSC_NSFPoster.jpg"/>
          <p:cNvPicPr/>
          <p:nvPr/>
        </p:nvPicPr>
        <p:blipFill>
          <a:blip r:embed="rId5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F1A7-A1A4-4090-B13E-6C8705F0D5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A578-4E80-4356-829F-AA8C2FD634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52BE-F74C-43AC-B5A7-A817508550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6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2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8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0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TextBox 1"/>
          <p:cNvSpPr/>
          <p:nvPr/>
        </p:nvSpPr>
        <p:spPr>
          <a:xfrm>
            <a:off x="152280" y="10238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mineralization, reverse osmosis, evaporation, distillation, oil separation, condensate polishing, boiler prot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8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9" name=""/>
          <p:cNvGraphicFramePr/>
          <p:nvPr/>
        </p:nvGraphicFramePr>
        <p:xfrm>
          <a:off x="237960" y="1523880"/>
          <a:ext cx="8668080" cy="1463760"/>
        </p:xfrm>
        <a:graphic>
          <a:graphicData uri="http://schemas.openxmlformats.org/drawingml/2006/table">
            <a:tbl>
              <a:tblPr/>
              <a:tblGrid>
                <a:gridCol w="1084320"/>
                <a:gridCol w="1082880"/>
                <a:gridCol w="1084320"/>
                <a:gridCol w="1082520"/>
                <a:gridCol w="1084320"/>
                <a:gridCol w="1082520"/>
                <a:gridCol w="1084320"/>
                <a:gridCol w="10828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6.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6.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.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0.1.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2.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2.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2.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Text Box 4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mistry Basics – Other Contamin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0" name="Picture 5" descr=""/>
          <p:cNvPicPr/>
          <p:nvPr/>
        </p:nvPicPr>
        <p:blipFill>
          <a:blip r:embed="rId1"/>
          <a:srcRect l="1677" t="0" r="12693" b="56204"/>
          <a:stretch/>
        </p:blipFill>
        <p:spPr>
          <a:xfrm>
            <a:off x="990720" y="1752480"/>
            <a:ext cx="8153280" cy="317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2" name="Picture 4" descr=""/>
          <p:cNvPicPr/>
          <p:nvPr/>
        </p:nvPicPr>
        <p:blipFill>
          <a:blip r:embed="rId1"/>
          <a:srcRect l="1677" t="43773" r="12693" b="5989"/>
          <a:stretch/>
        </p:blipFill>
        <p:spPr>
          <a:xfrm>
            <a:off x="1066680" y="1752480"/>
            <a:ext cx="8077320" cy="3611520"/>
          </a:xfrm>
          <a:prstGeom prst="rect">
            <a:avLst/>
          </a:prstGeom>
          <a:ln w="0">
            <a:noFill/>
          </a:ln>
        </p:spPr>
      </p:pic>
      <p:sp>
        <p:nvSpPr>
          <p:cNvPr id="2313" name="Text Box 5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mistry Basics – Other Contamin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il 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il and water separators are commonly used in electrical subst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ransformers found in substations use a large amount of oil for cooling purpo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ats are constructed surrounding unenclosed substations to catch any leaked oil, but these will also catch rainwater. Oil and water separators therefore provide a quicker and easier cleanup of an oil lea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il 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ive:  Recognize the components, functions and operation of the Chemical and Oily Waste Water System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il 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inage and Leakage are facts of life for a power station.  At a Nuclear Power Station, we have to consider types of drai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ily Waste Drai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kage from heavy equipment, hydraul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mages water purification media - res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vironmental pollu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amm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il 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ily and Non-Radioactive Waste Drai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unction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llect and transport liquid waste from equipment and floor drains of th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urbine Bld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trol Bld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esel Generator Bld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lant yard are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move entrailed oil from the waste for disposal and transfer the oil free water to the retention basin and then to the evaporation pon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il 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ily and Non-Radioactive Waste Dra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p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ystem consists of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ous sumps and respective pum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ily waste separ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ention Bas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poration P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5" name="Picture 5" descr="1-s2"/>
          <p:cNvPicPr/>
          <p:nvPr/>
        </p:nvPicPr>
        <p:blipFill>
          <a:blip r:embed="rId1"/>
          <a:srcRect l="0" t="0" r="0" b="47516"/>
          <a:stretch/>
        </p:blipFill>
        <p:spPr>
          <a:xfrm>
            <a:off x="1066680" y="1295280"/>
            <a:ext cx="3733920" cy="3319560"/>
          </a:xfrm>
          <a:prstGeom prst="rect">
            <a:avLst/>
          </a:prstGeom>
          <a:ln w="0">
            <a:noFill/>
          </a:ln>
        </p:spPr>
      </p:pic>
      <p:sp>
        <p:nvSpPr>
          <p:cNvPr id="2326" name="Text Box 6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7" name="Picture 7" descr="1-s2"/>
          <p:cNvPicPr/>
          <p:nvPr/>
        </p:nvPicPr>
        <p:blipFill>
          <a:blip r:embed="rId2"/>
          <a:srcRect l="0" t="52489" r="0" b="0"/>
          <a:stretch/>
        </p:blipFill>
        <p:spPr>
          <a:xfrm>
            <a:off x="5105520" y="2819520"/>
            <a:ext cx="4038480" cy="3249360"/>
          </a:xfrm>
          <a:prstGeom prst="rect">
            <a:avLst/>
          </a:prstGeom>
          <a:ln w="0">
            <a:noFill/>
          </a:ln>
        </p:spPr>
      </p:pic>
      <p:sp>
        <p:nvSpPr>
          <p:cNvPr id="2328" name="Line 10"/>
          <p:cNvSpPr/>
          <p:nvPr/>
        </p:nvSpPr>
        <p:spPr>
          <a:xfrm>
            <a:off x="1689120" y="4578480"/>
            <a:ext cx="0" cy="533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Line 11"/>
          <p:cNvSpPr/>
          <p:nvPr/>
        </p:nvSpPr>
        <p:spPr>
          <a:xfrm>
            <a:off x="1676520" y="5105520"/>
            <a:ext cx="3213000" cy="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Line 12"/>
          <p:cNvSpPr/>
          <p:nvPr/>
        </p:nvSpPr>
        <p:spPr>
          <a:xfrm flipV="1">
            <a:off x="4889520" y="2521080"/>
            <a:ext cx="0" cy="2590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Line 13"/>
          <p:cNvSpPr/>
          <p:nvPr/>
        </p:nvSpPr>
        <p:spPr>
          <a:xfrm flipV="1">
            <a:off x="4889520" y="2514600"/>
            <a:ext cx="892080" cy="6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Line 14"/>
          <p:cNvSpPr/>
          <p:nvPr/>
        </p:nvSpPr>
        <p:spPr>
          <a:xfrm>
            <a:off x="5775480" y="2514600"/>
            <a:ext cx="0" cy="380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Text Box 2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treatment – Wast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5" name="Picture 5" descr="water_treat"/>
          <p:cNvPicPr/>
          <p:nvPr/>
        </p:nvPicPr>
        <p:blipFill>
          <a:blip r:embed="rId1"/>
          <a:stretch/>
        </p:blipFill>
        <p:spPr>
          <a:xfrm>
            <a:off x="1905120" y="1193760"/>
            <a:ext cx="5753160" cy="5454720"/>
          </a:xfrm>
          <a:prstGeom prst="rect">
            <a:avLst/>
          </a:prstGeom>
          <a:ln w="0">
            <a:noFill/>
          </a:ln>
        </p:spPr>
      </p:pic>
      <p:sp>
        <p:nvSpPr>
          <p:cNvPr id="2336" name="Text Box 6"/>
          <p:cNvSpPr/>
          <p:nvPr/>
        </p:nvSpPr>
        <p:spPr>
          <a:xfrm>
            <a:off x="6553080" y="914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Varies b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8" name="Picture 4" descr=""/>
          <p:cNvPicPr/>
          <p:nvPr/>
        </p:nvPicPr>
        <p:blipFill>
          <a:blip r:embed="rId1"/>
          <a:srcRect l="5174" t="5478" r="1654" b="4108"/>
          <a:stretch/>
        </p:blipFill>
        <p:spPr>
          <a:xfrm>
            <a:off x="4322880" y="838080"/>
            <a:ext cx="4551120" cy="5562720"/>
          </a:xfrm>
          <a:prstGeom prst="rect">
            <a:avLst/>
          </a:prstGeom>
          <a:ln w="0">
            <a:noFill/>
          </a:ln>
        </p:spPr>
      </p:pic>
      <p:sp>
        <p:nvSpPr>
          <p:cNvPr id="2339" name="Rectangle 5"/>
          <p:cNvSpPr/>
          <p:nvPr/>
        </p:nvSpPr>
        <p:spPr>
          <a:xfrm>
            <a:off x="5686560" y="2743200"/>
            <a:ext cx="1600200" cy="1143000"/>
          </a:xfrm>
          <a:prstGeom prst="rect">
            <a:avLst/>
          </a:prstGeom>
          <a:solidFill>
            <a:srgbClr val="cc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Rectangle 6"/>
          <p:cNvSpPr/>
          <p:nvPr/>
        </p:nvSpPr>
        <p:spPr>
          <a:xfrm>
            <a:off x="5715000" y="3886200"/>
            <a:ext cx="1600200" cy="1143000"/>
          </a:xfrm>
          <a:prstGeom prst="rect">
            <a:avLst/>
          </a:prstGeom>
          <a:solidFill>
            <a:srgbClr val="0000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AutoShape 9"/>
          <p:cNvSpPr/>
          <p:nvPr/>
        </p:nvSpPr>
        <p:spPr>
          <a:xfrm rot="5400000">
            <a:off x="6400440" y="4343400"/>
            <a:ext cx="152280" cy="1523880"/>
          </a:xfrm>
          <a:prstGeom prst="flowChartDelay">
            <a:avLst/>
          </a:prstGeom>
          <a:solidFill>
            <a:srgbClr val="0000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AutoShape 11"/>
          <p:cNvSpPr/>
          <p:nvPr/>
        </p:nvSpPr>
        <p:spPr>
          <a:xfrm rot="5400000">
            <a:off x="6400080" y="4724280"/>
            <a:ext cx="152640" cy="1066680"/>
          </a:xfrm>
          <a:prstGeom prst="flowChartDelay">
            <a:avLst/>
          </a:prstGeom>
          <a:solidFill>
            <a:srgbClr val="0000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3" name="Picture 13" descr="Cation%2Banion_exchanger"/>
          <p:cNvPicPr/>
          <p:nvPr/>
        </p:nvPicPr>
        <p:blipFill>
          <a:blip r:embed="rId2"/>
          <a:srcRect l="48550" t="0" r="7126" b="9217"/>
          <a:stretch/>
        </p:blipFill>
        <p:spPr>
          <a:xfrm>
            <a:off x="1066680" y="4114800"/>
            <a:ext cx="2297160" cy="2514600"/>
          </a:xfrm>
          <a:prstGeom prst="rect">
            <a:avLst/>
          </a:prstGeom>
          <a:ln w="0">
            <a:noFill/>
          </a:ln>
        </p:spPr>
      </p:pic>
      <p:pic>
        <p:nvPicPr>
          <p:cNvPr id="2344" name="Picture 14" descr="Cation%2Banion_exchanger"/>
          <p:cNvPicPr/>
          <p:nvPr/>
        </p:nvPicPr>
        <p:blipFill>
          <a:blip r:embed="rId3"/>
          <a:srcRect l="0" t="0" r="53567" b="9217"/>
          <a:stretch/>
        </p:blipFill>
        <p:spPr>
          <a:xfrm>
            <a:off x="1066680" y="1219320"/>
            <a:ext cx="2332080" cy="2438280"/>
          </a:xfrm>
          <a:prstGeom prst="rect">
            <a:avLst/>
          </a:prstGeom>
          <a:ln w="0">
            <a:noFill/>
          </a:ln>
        </p:spPr>
      </p:pic>
      <p:sp>
        <p:nvSpPr>
          <p:cNvPr id="2345" name="Text Box 15"/>
          <p:cNvSpPr/>
          <p:nvPr/>
        </p:nvSpPr>
        <p:spPr>
          <a:xfrm>
            <a:off x="2971800" y="12193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Negative V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Text Box 16"/>
          <p:cNvSpPr/>
          <p:nvPr/>
        </p:nvSpPr>
        <p:spPr>
          <a:xfrm>
            <a:off x="2590920" y="38862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ositive V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7" name="Group 21"/>
          <p:cNvGrpSpPr/>
          <p:nvPr/>
        </p:nvGrpSpPr>
        <p:grpSpPr>
          <a:xfrm>
            <a:off x="3352680" y="4343400"/>
            <a:ext cx="1142280" cy="1371240"/>
            <a:chOff x="3352680" y="4343400"/>
            <a:chExt cx="1142280" cy="1371240"/>
          </a:xfrm>
        </p:grpSpPr>
        <p:pic>
          <p:nvPicPr>
            <p:cNvPr id="2348" name="Picture 19" descr="HydrIons"/>
            <p:cNvPicPr/>
            <p:nvPr/>
          </p:nvPicPr>
          <p:blipFill>
            <a:blip r:embed="rId4"/>
            <a:srcRect l="59326" t="8825" r="1866" b="0"/>
            <a:stretch/>
          </p:blipFill>
          <p:spPr>
            <a:xfrm>
              <a:off x="3431880" y="4386240"/>
              <a:ext cx="1063080" cy="132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9" name="Rectangle 20"/>
            <p:cNvSpPr/>
            <p:nvPr/>
          </p:nvSpPr>
          <p:spPr>
            <a:xfrm>
              <a:off x="3352680" y="4343400"/>
              <a:ext cx="18180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0" name="Group 23"/>
          <p:cNvGrpSpPr/>
          <p:nvPr/>
        </p:nvGrpSpPr>
        <p:grpSpPr>
          <a:xfrm>
            <a:off x="3200400" y="2286000"/>
            <a:ext cx="1142640" cy="1395000"/>
            <a:chOff x="3200400" y="2286000"/>
            <a:chExt cx="1142640" cy="1395000"/>
          </a:xfrm>
        </p:grpSpPr>
        <p:pic>
          <p:nvPicPr>
            <p:cNvPr id="2351" name="Picture 18" descr="HydrIons"/>
            <p:cNvPicPr/>
            <p:nvPr/>
          </p:nvPicPr>
          <p:blipFill>
            <a:blip r:embed="rId5"/>
            <a:srcRect l="4121" t="12196" r="61518" b="4875"/>
            <a:stretch/>
          </p:blipFill>
          <p:spPr>
            <a:xfrm>
              <a:off x="3284640" y="2310840"/>
              <a:ext cx="1058400" cy="13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2" name="Rectangle 22"/>
            <p:cNvSpPr/>
            <p:nvPr/>
          </p:nvSpPr>
          <p:spPr>
            <a:xfrm>
              <a:off x="3200400" y="2286000"/>
              <a:ext cx="253800" cy="10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3" name="Text Box 2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mineralization – Resin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subTitle"/>
          </p:nvPr>
        </p:nvSpPr>
        <p:spPr>
          <a:xfrm>
            <a:off x="1295280" y="1904760"/>
            <a:ext cx="7391520" cy="2895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wer Plant Construction and QA/Q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ction 2.6– Water Treat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1" name="Picture 8" descr="chstcc.jpg"/>
          <p:cNvPicPr/>
          <p:nvPr/>
        </p:nvPicPr>
        <p:blipFill>
          <a:blip r:embed="rId1"/>
          <a:stretch/>
        </p:blipFill>
        <p:spPr>
          <a:xfrm>
            <a:off x="3505320" y="5334120"/>
            <a:ext cx="2620800" cy="1143000"/>
          </a:xfrm>
          <a:prstGeom prst="rect">
            <a:avLst/>
          </a:prstGeom>
          <a:ln w="0">
            <a:noFill/>
          </a:ln>
        </p:spPr>
      </p:pic>
      <p:sp>
        <p:nvSpPr>
          <p:cNvPr id="2282" name="Rectangle 9"/>
          <p:cNvSpPr/>
          <p:nvPr/>
        </p:nvSpPr>
        <p:spPr>
          <a:xfrm>
            <a:off x="1219320" y="228600"/>
            <a:ext cx="71406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c000"/>
                </a:solidFill>
                <a:latin typeface="Calibri"/>
              </a:rPr>
              <a:t>Engineering Technology Division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Rectangle 10"/>
          <p:cNvSpPr/>
          <p:nvPr/>
        </p:nvSpPr>
        <p:spPr>
          <a:xfrm>
            <a:off x="7543800" y="15228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Text Box 4"/>
          <p:cNvSpPr/>
          <p:nvPr/>
        </p:nvSpPr>
        <p:spPr>
          <a:xfrm>
            <a:off x="1447920" y="7621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mineralization – Reverse Osmosis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6" name="Picture 10" descr="reverse-osmosis"/>
          <p:cNvPicPr/>
          <p:nvPr/>
        </p:nvPicPr>
        <p:blipFill>
          <a:blip r:embed="rId1"/>
          <a:stretch/>
        </p:blipFill>
        <p:spPr>
          <a:xfrm>
            <a:off x="1143000" y="1523880"/>
            <a:ext cx="7467480" cy="373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8" name="Picture 4" descr="rodiagram"/>
          <p:cNvPicPr/>
          <p:nvPr/>
        </p:nvPicPr>
        <p:blipFill>
          <a:blip r:embed="rId1"/>
          <a:stretch/>
        </p:blipFill>
        <p:spPr>
          <a:xfrm>
            <a:off x="1143000" y="1295280"/>
            <a:ext cx="7620120" cy="5018040"/>
          </a:xfrm>
          <a:prstGeom prst="rect">
            <a:avLst/>
          </a:prstGeom>
          <a:ln w="0">
            <a:noFill/>
          </a:ln>
        </p:spPr>
      </p:pic>
      <p:sp>
        <p:nvSpPr>
          <p:cNvPr id="2359" name="Text Box 5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mineralization – Reverse Osm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Rectangle 2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Text Box 4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mineralization – Eva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2" name="Picture 7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363" name="Picture 8" descr=""/>
          <p:cNvPicPr/>
          <p:nvPr/>
        </p:nvPicPr>
        <p:blipFill>
          <a:blip r:embed="rId2"/>
          <a:stretch/>
        </p:blipFill>
        <p:spPr>
          <a:xfrm>
            <a:off x="1066680" y="1928880"/>
            <a:ext cx="8007480" cy="3427200"/>
          </a:xfrm>
          <a:prstGeom prst="rect">
            <a:avLst/>
          </a:prstGeom>
          <a:ln w="0">
            <a:noFill/>
          </a:ln>
        </p:spPr>
      </p:pic>
      <p:sp>
        <p:nvSpPr>
          <p:cNvPr id="2364" name="Text Box 9"/>
          <p:cNvSpPr/>
          <p:nvPr/>
        </p:nvSpPr>
        <p:spPr>
          <a:xfrm>
            <a:off x="1600200" y="563868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ypically operates in a vacuum to reduce source he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Rectangle 2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Text Box 3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mineralization –Disti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7" name="Picture 4" descr="dist1_001"/>
          <p:cNvPicPr/>
          <p:nvPr/>
        </p:nvPicPr>
        <p:blipFill>
          <a:blip r:embed="rId1"/>
          <a:stretch/>
        </p:blipFill>
        <p:spPr>
          <a:xfrm>
            <a:off x="1447920" y="1447920"/>
            <a:ext cx="6476760" cy="4975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Text Box 2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densate Poli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0" name="Picture 6" descr=""/>
          <p:cNvPicPr/>
          <p:nvPr/>
        </p:nvPicPr>
        <p:blipFill>
          <a:blip r:embed="rId1"/>
          <a:stretch/>
        </p:blipFill>
        <p:spPr>
          <a:xfrm>
            <a:off x="1143000" y="1454040"/>
            <a:ext cx="7848720" cy="4988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2" name="Picture 5" descr="iis201106042-01_072dpi"/>
          <p:cNvPicPr/>
          <p:nvPr/>
        </p:nvPicPr>
        <p:blipFill>
          <a:blip r:embed="rId1"/>
          <a:stretch/>
        </p:blipFill>
        <p:spPr>
          <a:xfrm>
            <a:off x="1143000" y="1312920"/>
            <a:ext cx="7467480" cy="5057640"/>
          </a:xfrm>
          <a:prstGeom prst="rect">
            <a:avLst/>
          </a:prstGeom>
          <a:ln w="0">
            <a:noFill/>
          </a:ln>
        </p:spPr>
      </p:pic>
      <p:sp>
        <p:nvSpPr>
          <p:cNvPr id="2373" name="Text Box 6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densate Poli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Text Box 2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iler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Text Box 4"/>
          <p:cNvSpPr/>
          <p:nvPr/>
        </p:nvSpPr>
        <p:spPr>
          <a:xfrm>
            <a:off x="1219320" y="1600200"/>
            <a:ext cx="761976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source water is properly analyzed and water treatment address the impurities, then Boiler Protection is provi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Improve protection, additional chemicals can be added (Oxalates, pH controls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xygen and Carbon Dioxide reduction in the De-aeration process reduces corrosive environ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7" name="Picture 5" descr="MPj04331650000[1]"/>
          <p:cNvPicPr/>
          <p:nvPr/>
        </p:nvPicPr>
        <p:blipFill>
          <a:blip r:embed="rId1"/>
          <a:stretch/>
        </p:blipFill>
        <p:spPr>
          <a:xfrm>
            <a:off x="2666880" y="1981080"/>
            <a:ext cx="4921200" cy="3692520"/>
          </a:xfrm>
          <a:prstGeom prst="rect">
            <a:avLst/>
          </a:prstGeom>
          <a:ln w="0">
            <a:noFill/>
          </a:ln>
        </p:spPr>
      </p:pic>
      <p:sp>
        <p:nvSpPr>
          <p:cNvPr id="2378" name="TextBox 6"/>
          <p:cNvSpPr/>
          <p:nvPr/>
        </p:nvSpPr>
        <p:spPr>
          <a:xfrm>
            <a:off x="3581280" y="1295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Rectangle 5"/>
          <p:cNvSpPr/>
          <p:nvPr/>
        </p:nvSpPr>
        <p:spPr>
          <a:xfrm>
            <a:off x="121932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Text Box 3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Rectangle 5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Text Box 7"/>
          <p:cNvSpPr/>
          <p:nvPr/>
        </p:nvSpPr>
        <p:spPr>
          <a:xfrm>
            <a:off x="1447920" y="1523880"/>
            <a:ext cx="70866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stry Ba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iner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ensate Poli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iler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Text Box 2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Rectangle 7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Text Box 10"/>
          <p:cNvSpPr/>
          <p:nvPr/>
        </p:nvSpPr>
        <p:spPr>
          <a:xfrm>
            <a:off x="1219320" y="1447920"/>
            <a:ext cx="76960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Treatment is the attempt to remove anything that is not water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s and compounds in water create corrosive environ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is a measure of acidity or alkali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ure to maintain chemistry control can lead to reduced efficiency and/or premature fail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the source water chemistry is the key to determining Water Treatment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Text Box 4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mistry Basics – Water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2" name="Picture 5" descr=""/>
          <p:cNvPicPr/>
          <p:nvPr/>
        </p:nvPicPr>
        <p:blipFill>
          <a:blip r:embed="rId1"/>
          <a:stretch/>
        </p:blipFill>
        <p:spPr>
          <a:xfrm>
            <a:off x="6553080" y="838080"/>
            <a:ext cx="2318040" cy="2743200"/>
          </a:xfrm>
          <a:prstGeom prst="rect">
            <a:avLst/>
          </a:prstGeom>
          <a:ln w="0">
            <a:noFill/>
          </a:ln>
        </p:spPr>
      </p:pic>
      <p:pic>
        <p:nvPicPr>
          <p:cNvPr id="2293" name="Picture 9" descr=""/>
          <p:cNvPicPr/>
          <p:nvPr/>
        </p:nvPicPr>
        <p:blipFill>
          <a:blip r:embed="rId2"/>
          <a:stretch/>
        </p:blipFill>
        <p:spPr>
          <a:xfrm>
            <a:off x="1143000" y="2057400"/>
            <a:ext cx="5638680" cy="4600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Rectangle 2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Text Box 3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mistry Basics – Water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6" name="Picture 5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7010640" cy="4865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Text Box 2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mistry Basics – River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9" name="Picture 5" descr="salinity-791740"/>
          <p:cNvPicPr/>
          <p:nvPr/>
        </p:nvPicPr>
        <p:blipFill>
          <a:blip r:embed="rId1"/>
          <a:stretch/>
        </p:blipFill>
        <p:spPr>
          <a:xfrm>
            <a:off x="1143000" y="1752480"/>
            <a:ext cx="7696080" cy="4071960"/>
          </a:xfrm>
          <a:prstGeom prst="rect">
            <a:avLst/>
          </a:prstGeom>
          <a:ln w="0">
            <a:noFill/>
          </a:ln>
        </p:spPr>
      </p:pic>
      <p:sp>
        <p:nvSpPr>
          <p:cNvPr id="2300" name="Rectangle 6"/>
          <p:cNvSpPr/>
          <p:nvPr/>
        </p:nvSpPr>
        <p:spPr>
          <a:xfrm>
            <a:off x="6705720" y="2666880"/>
            <a:ext cx="685800" cy="3124440"/>
          </a:xfrm>
          <a:prstGeom prst="rect">
            <a:avLst/>
          </a:prstGeom>
          <a:solidFill>
            <a:srgbClr val="ffff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2" name="Picture 6" descr="americus_water2"/>
          <p:cNvPicPr/>
          <p:nvPr/>
        </p:nvPicPr>
        <p:blipFill>
          <a:blip r:embed="rId1"/>
          <a:srcRect l="0" t="4038" r="0" b="0"/>
          <a:stretch/>
        </p:blipFill>
        <p:spPr>
          <a:xfrm>
            <a:off x="1143000" y="1258920"/>
            <a:ext cx="7772400" cy="5097600"/>
          </a:xfrm>
          <a:prstGeom prst="rect">
            <a:avLst/>
          </a:prstGeom>
          <a:ln w="0">
            <a:noFill/>
          </a:ln>
        </p:spPr>
      </p:pic>
      <p:sp>
        <p:nvSpPr>
          <p:cNvPr id="2303" name="Text Box 7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mistry Basics – Tap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5" name="Picture 5" descr="hvymetals"/>
          <p:cNvPicPr/>
          <p:nvPr/>
        </p:nvPicPr>
        <p:blipFill>
          <a:blip r:embed="rId1"/>
          <a:srcRect l="2322" t="9231" r="7512" b="0"/>
          <a:stretch/>
        </p:blipFill>
        <p:spPr>
          <a:xfrm>
            <a:off x="1066680" y="1914480"/>
            <a:ext cx="8077320" cy="4078440"/>
          </a:xfrm>
          <a:prstGeom prst="rect">
            <a:avLst/>
          </a:prstGeom>
          <a:ln w="0">
            <a:noFill/>
          </a:ln>
        </p:spPr>
      </p:pic>
      <p:sp>
        <p:nvSpPr>
          <p:cNvPr id="2306" name="Text Box 6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mistry Basics – Industrial Contamin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Rectangle 7"/>
          <p:cNvSpPr/>
          <p:nvPr/>
        </p:nvSpPr>
        <p:spPr>
          <a:xfrm>
            <a:off x="1066680" y="5562720"/>
            <a:ext cx="6172200" cy="304560"/>
          </a:xfrm>
          <a:prstGeom prst="rect">
            <a:avLst/>
          </a:prstGeom>
          <a:solidFill>
            <a:srgbClr val="cc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Peggy's Computer</dc:creator>
  <dc:description/>
  <dc:language>en-US</dc:language>
  <cp:lastModifiedBy>Peggy Hines IRSC</cp:lastModifiedBy>
  <dcterms:modified xsi:type="dcterms:W3CDTF">2013-03-13T19:42:28Z</dcterms:modified>
  <cp:revision>332</cp:revision>
  <dc:subject/>
  <dc:title>Engineering technology</dc:title>
</cp:coreProperties>
</file>