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538F-9177-4FDD-9D55-3AB9F0CD6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CC0C-9E0E-4517-AC6A-F117FD104D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BCCC-5FAA-4B52-96C4-BABB047F72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1217-3C1E-4C16-B619-1F492EF352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9A07-3E09-48AE-952B-3034A9D276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4528-4E4B-45CA-9200-323CFE5F7A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EF1C-DDBC-485E-AFD1-79BA62975A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BAAD-53C4-4422-B520-FEE2D381F2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67E3-5150-493D-84D7-0C7F08F0C9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33EB-F56D-4F0B-A999-37234D75B9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A210-AF8A-4CF0-9349-4A692B3F806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DBB4-392C-4F7E-B285-1CA2641272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C67D-3696-45CC-9A6B-9222570BB8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23B3-6EC9-4ABA-89A4-5634F9AC2E4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92CF-488E-4732-9747-E926750BA2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6A5C-3BC0-433E-8DF7-9E5DEF5F71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F5CD-CE25-4A77-9046-7F46984185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6A7F-1D86-4FB3-A7A5-869C85996E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EF24-C974-4AF4-B2E9-DE91B09B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C23-500D-4064-811A-8839B182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508F4-A39A-4B5D-8660-29B4D830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F97A5-A031-42D1-A360-BC769E15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D2881-91C4-4994-AC87-BF4F57CC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A3C6D-C767-46F3-AAEC-06B36634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A3C5A-BB89-43B0-8CD3-A4B68F36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32ABE-3D1E-4EEC-BF0D-E31DF46A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85914-79BB-44C2-9853-3C42F84E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B8403-F5FE-4169-8460-6EFAC96B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23F6A-F350-431C-B135-69B507E0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4E568-5A3D-41ED-8D70-584B2C82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003-7C9B-41E9-979E-D69E03B3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F8357-2D67-41F8-A8EB-20D5F01E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08690-47B6-4646-8792-AD9C0E6C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51A69-D5C5-495D-B324-07F0A5C6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5322E-39C4-4D49-8783-59F00142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6E79A-C8BB-42CB-B486-B26461AE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CD870-DE18-48DD-956C-FC2E2201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97EB1-0DDD-4A06-A543-008E0FD8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55054-9EFF-4795-848D-7E03ACF6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CDB39-5E38-4017-A9E8-ACB895E7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1C86E-9A8D-4BEB-8A07-FCB7A437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430B-0ABA-46C5-941F-BFC3A4DE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A6D3F-8F61-4E57-82BC-BA88FE29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BD7CF-F481-4262-BFF7-46B6FCF8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DC665-EDDB-4033-9B8A-11862912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4C604-E010-497B-BAC1-8B07B953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BED86-951E-441B-989C-547F91EA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F6D45-0F4B-4275-8970-855765DB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B591D-266E-4E11-98DD-E9AF1FF0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6F1CB-818A-4ED6-B2BF-B239F387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6E99A-80A9-4BEF-A4DC-5D40C2B2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36369-3B4F-4CF9-AD0D-AF52F608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062A-F5BD-4684-BA4D-524409F6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AC45E-2B57-48CC-B24A-2743F6F6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DB461-E874-4F99-BDB0-7D27C635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2A856-781D-4586-8C55-CB73838A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C4001-FBDA-48AA-9B0A-EC454096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70C1E-0DFE-4115-AF6F-1B4591B5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F8063-C3D1-4EE3-B635-9E632AAC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F2962-42C6-4AA7-B43E-37E18E10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F1294-730A-433A-8469-DDCB015A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91732-9E02-468C-81AD-5146DCCC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6E572-0259-4E15-A393-6B51D093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17BD-0D11-419A-BE9B-A7DBEDDC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5417C-5851-49B2-81CB-5B95C06B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83638-D8A5-46D9-B643-BEA03013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5458C-4DA9-4F55-B17A-5B6428DB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A5E62-B686-45C6-B12B-40F20565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57D6C-590E-4A13-A162-188FB24E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F56B7-69F8-4680-B06A-D81D0F8E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0C203-D621-4D51-B340-9D8DF23D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4EB67-47F0-4E0C-9420-0B4C2B69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707842-D413-4DDD-B370-F5B390A5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BB5255-5EC5-4A9C-8053-EAE22B0B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0267-D67B-447F-86D3-7FCDAC39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FA6365-0EC9-49F4-B2C5-BD1A4E81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1DEB8-7FDA-4F6C-B472-5A1C1E68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01514D-9CAC-4814-8F86-C7F5712F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D3C9D-E15B-4F2B-9FE7-5803651A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A0ADA5-DD39-4BBD-B1CD-411B14B1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9596E-2EA4-43D2-8B88-E6DE03BE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50876D-208C-4C65-B92C-2CD416CC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44F9CE-57A5-4F38-A5A5-274C4D27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D0D8B9-88FF-4151-818E-8E44CB6B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F19ED-BBCF-4252-93B4-21B8173F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76A0-24CC-4050-855F-8D31E1DB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BC1389-53C2-40AC-9218-6305C9F6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A6E626-7F1E-4054-A043-0BD543DB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1BA05C-CF84-480A-B208-B38B726E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A396C5-6D10-461E-B627-384BDF33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32FA88-BD95-48D6-A08A-B7BE6709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BD554F-2282-4391-B613-231E51A2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5B241-A66E-42AD-9D6F-E7C3970E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BC60FE-4E87-4F2F-908C-EE83FD6D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90DD0B-B1A7-46AE-BCF0-7782F112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A978-91FE-499C-9EA1-14290459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5692-3A7B-4770-8D04-3A14176C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46E0-3D96-44BB-8921-EB1F9EF2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CE2-B3F0-4479-8BEE-808E3F73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B3D7-DE1C-4016-AB77-1E1516A0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CDE2-42E8-4B84-9BCF-087C321C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38AC-5F81-4504-89E1-8D943559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D612-75B7-474F-857E-0E5E2782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2703-5449-4BC9-A784-C64EB760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19CD9-51C2-449A-AD60-50E87BCF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B5B9E-6613-48F8-B0E7-7688DD54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0EDB3-F3CE-4204-8E9C-2FB32BDA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84936-DFCB-41D8-AEFE-272B1E8D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BCAA4-0081-4A45-9085-14E019D5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8F1-2465-4AA9-93BC-24136032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19966-027F-49D8-BAA5-BABE7BAD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E1BE0-6DE7-472A-821E-9E7F1503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51DCD-49ED-467B-8FBD-32B2A230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30C4B-A0DE-4133-BF64-955FBAEF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97129-DB0E-48B1-8F0D-DCBEDCC9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B2553-3C45-4879-BFD4-235553AB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35B48-14BC-455A-AC08-7C76BED3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83B3F-C04E-440D-95FD-878550C5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DA463-BE7B-4673-A6A3-6AB00703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ED38C-7144-42D4-AA65-4C1E7351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8FA-D088-4416-9F69-38D9B20C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1536F-FDBB-48F3-A367-FC550770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C867E-E168-4B9F-B6D7-B4F9D7AE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2B7FC-F3C2-44EB-821A-6890024E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C3A31-9309-4E1F-9BE7-6EB59DEF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8B9DE-3E04-400E-9FC1-0E96C11E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296A1-69BD-483C-809C-E9870A36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D5612-1351-44DD-9AD4-D6E9FD3D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DAE1F-F54D-46AC-A8BA-02C1ABC2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1012C-ABA1-468E-8CD0-2BC7E504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EFF4A-5151-4134-86B1-32D1F488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F45-6EB9-40F8-9AF6-D3E398A5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FEB89-550B-42C3-B4A7-1A5748E1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8CC82-CBBC-46C2-92B5-F5DF284F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CE84F-FD94-4F5D-A238-9B0420D0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9828B-82B0-4E57-8564-D58849CB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28FEF-F6D9-4A37-8BA6-89614324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D3693-A824-4963-AF7B-13A4DE8B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C360D-7288-4E64-B646-79E00111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24C77-951B-45C6-926E-796D6683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63B42-4184-4D22-A2B1-4CED6AF7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9BC28-001F-4179-AE13-83DC8EF9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DD5A-7048-4F1B-86F5-660F1DE8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8F4F3-D986-474C-B0B0-8FA53A9E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36400-0BF3-4F04-B6A6-88C01F8D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293DC-4329-4F36-9B5A-8DE6D979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15147-2CB6-4C6E-9401-B0AC94CF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2F5D8-A19F-45C4-B228-F32B7A40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BE84A-3289-4688-9F8D-751E12BA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BF038-2E8A-4F27-8802-522BEAEA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B29DE-BAC7-44DD-AD99-116E0AD4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98050-3179-407A-A754-60854606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512D0-86DB-488E-A1E9-57D8FE1F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021-FCAC-4AC4-9AA2-94E1A3E4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ADDAC-C80A-43AB-95DC-99F342CC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EDDDF-36A3-4592-B08A-78F037A5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77B85-5F19-4205-815C-9EE5983F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D9E7C-CF7A-48BD-8127-AC01DB64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25DF1-6B2D-4499-939C-12B1261F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0DBE8-7A25-46BE-846F-C10DBFF7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9BD7E-97CF-4457-9898-46FD4FFD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FA3F1-04D4-45CE-A924-E465EF6C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7E24F-3980-4F75-B454-CBCF8A11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4F8B9-9695-4AD8-B838-E3EE8AA0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A902-65E5-4B8F-9F7D-EF5D2447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E4E54-6946-4129-A4C3-5FDEEED6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F28B4-13EF-40D6-B7E4-7F68E7EB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51F3B-2210-4558-B587-E36301ED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19F1E-A7BF-470D-A36B-7787D3CC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E7B87-B981-416A-B632-0012FE50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D44AF-48F9-449B-A3ED-48817B43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46068-D7E6-4150-B143-1A30DC8E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345E5-70E7-422E-A092-10A218BB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42FB6-3347-46B5-9BE5-DFAFF2E5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8D183-E01B-4FAD-8C41-75B9D265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374-CA73-4AB1-8913-C12B1574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6F401-D28D-423F-A772-A019F165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E9674-2D6A-476E-8508-6D91EDE0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529BC-63C2-4897-AE60-FD667C75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D8969-08AB-40A6-B744-BDCE05CE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52181-6B8F-46FE-8BC8-53EC1F03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A6C21-D30C-4DE0-BAEE-4D7CDEF6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D499F-AE44-4FE6-90DC-6AA365DC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445C1-DAFA-40B8-8D4D-4235344D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153A5-723E-4387-A6CF-091F6652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A0323-F2B6-4CFA-9EE7-1EC7C7D9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970B-2AA3-4419-8DE0-A740C35226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28FD-94C1-414E-B48A-7324EEC53C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E163-FCB9-4C50-A385-0E39C0513E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EC3F-C750-46C0-97DB-D0F648E667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685A-DAC1-41B0-A531-4A4D95B086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B369-0438-4634-951A-3C1F09E319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DD86-A2A4-413F-A0F3-70751E56F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8FA6-BEFA-415A-A940-6EFC150D26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29FE-9D76-48C7-8EC9-3FA0918CCC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C406-332C-4AA4-8492-C2AB031876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012A-BFC7-439C-9F7A-ACE9FA7D93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5C53-2DB3-4F2B-A8DF-82AE9A6908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8555-0084-48C6-BA5E-06DDABFF70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FCB4-2FA4-4E3B-B4E9-ACA4416907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R policy, CFR violation, CFR enfor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8196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73844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084320"/>
                <a:gridCol w="1082520"/>
                <a:gridCol w="1084320"/>
                <a:gridCol w="1082520"/>
                <a:gridCol w="1084320"/>
                <a:gridCol w="108288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8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Proceeding to modify, suspend, or revoke a lic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cates alleged violations or potentially hazardous conditions and specifies proposed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written response to the order under oath or affi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s licensee of right to demand a hearing on all or part of the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es the issues for the hea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 the effective date of the order – may be immediately effective if public health or safety of conc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Llicensee must admit or deny each alle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and for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ssued by Commission to determine if an order should be iss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Licensee must reply in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066320" y="198108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1911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, Appendix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, Appendix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 - Rules Of Practice For Domestic Licensing Proceedings And Issuance Of Ord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ls with proceeding relating to all aspects of licensing issues, and the enforcement of licensing agre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19 - Notices, Instructions And Reports To Workers: Inspection And Investig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0 - Standards For Protection Against Radi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ols the receipt, possession, use, transfer, and disposal of licensed mater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1 - Reporting Of Defects And Noncompli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responsible officer of a nuclear faciity to immediately notify the Commission of an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ilure to comply with laws relating to substantial safety haza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ects which could create a substantial safety haz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6 - Fitness For Duty Progra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 - Domestic Licensing Of Production And Utilization Facil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ments for obtaining an operating license or construction perm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, Appendix A - General Design Criteria For Nuclear Power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es necessary design, fabrication, construction, testing, and performance requirements for structures, systems, and components important to saf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, Appendix B - Quality Assurance Criteria For Nuclear Power Plants And Fuel Reprocessing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/A requirements for the design, construction, and operation of all structures, systems, and components included in a production or utilization fac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re details: student reports on criterion I - XVI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1 - Environmental Protection Regulations For Domestic Licensing And Related Regulatory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5 - Operators' Licen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ls with the issuance and renewal of licenses for operators and senior operators at nuclear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73 - Physical Protection Of Plants And Materi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ther words,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100 - Reactor Site Criter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d on population zones, seismic activity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Existing U.S. Nuclear Reactors (10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Content Placeholder 3" descr="reactors-map.gif"/>
          <p:cNvPicPr/>
          <p:nvPr/>
        </p:nvPicPr>
        <p:blipFill>
          <a:blip r:embed="rId1"/>
          <a:stretch/>
        </p:blipFill>
        <p:spPr>
          <a:xfrm>
            <a:off x="1295280" y="1905120"/>
            <a:ext cx="68677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roposed New U.S. Nuclear Reactors (2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Content Placeholder 5" descr="new-plants.jpg"/>
          <p:cNvPicPr/>
          <p:nvPr/>
        </p:nvPicPr>
        <p:blipFill>
          <a:blip r:embed="rId1"/>
          <a:stretch/>
        </p:blipFill>
        <p:spPr>
          <a:xfrm>
            <a:off x="1295280" y="1828800"/>
            <a:ext cx="66294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Quality Assurance for Nuclear Re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assurance (QA) comprises all planned and systematic actions that are necessary to provide adequate confidence that a structure, system, or component will perform satisfactorily in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ributes of a QA program include procedures, recordkeeping, inspections, corrective actions, and au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le 1"/>
          <p:cNvSpPr/>
          <p:nvPr/>
        </p:nvSpPr>
        <p:spPr>
          <a:xfrm>
            <a:off x="1066680" y="1905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NE 127 – Codes, Standards, and Regul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Subtitle 2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Key Parts of 10CFR (for the Nuclear Industry)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NSTRUCTOR: Chattanooga State C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Review of QA Pr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RC reviews and inspects QA programs and their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RC's objective is to determine whether licensees and their contractors are meeting the agency's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particular, the NRC reviews the QA programs for commercial nuclear power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ddition, for operating nuclear power plants, the NRC reviews any changes that reduce previous commitments to the plant’s QA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Regulatory Gu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ail acceptable methods of design, fabrication, construction, operation, and quality assur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ions are manda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ory Guides and NUREGs mandatory only as committed to by the applicant (as stipulated in the construction permit or operating licen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ory Guides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 forth requirements for submitting environmental reports, safety analysis report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AR – Preliminary Safety Analysis Report (for construction permi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SAR – Final Safety Analysis Report  (for operating licens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ulatory Guide 1.70 describes the type of information to be submitted by the applicant for PSARs and FS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URE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 NURE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ical reports relative to the regulation of nuclear ener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REG-800 - Standard Review Plan For The Review Of Safety Analysis Reports For Nuclear Power Plants: LWR Edi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bes what the NRC expects to see in the SAR, including the applicable acceptance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auditors for identification of specific regulations and guideline documents that address each topic of a S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REG-1946 - Inservice Testing of Pumps and Valves, and Inservice Examination and Testing of Dynamic Restraints (Snubbers) at Nuclear Pow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ences the ASME c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Institute of Nuclear Power Operations (INPO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in 1979 following the Three Mile Island incid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ts mission is to “promote the highest levels of safety and reliability – to promote excellence – in the operation of commercial nuclear power plants” by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ing performance objectives, criteria and guidelines for the nuclear power indus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ing regular detailed evaluations of nuclear power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ing assistance to help nuclear power plants continually improve their perform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INPO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O provi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t evalu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ining and accreditation (ACAD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ents analysis and information ex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to be confused wit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I (Nuclear Energy Institute) – lobbyist group for nuclear energy indus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CP (National Uniform Curriculum Program) – program sponsored by NEI to provide a national certificate of accreditation for QA/QC progr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Technical Training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ed in Chattanooga (off Marlin Road near the air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RC TTC Administration Offices are located on the second floor of a 6-story all glass exterior office buil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ors are located on the first, second, third, and fourth flo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Next Tim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SME Boiler and Pressure Vessel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RC Enforcement Pol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pecified in 10CFR2: Rules of Practice for Domestic Licensing Procedures and Issuance of Or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sures compliance with NRC regulations and licensee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s prompt correction of licensee weakn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s a deterrent to future non-compli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courages improvement of licensee performance – leads to enhanced degree of public health and safe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ce of Vio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ssessed based on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 safety conseq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ch as actual release of radiation, damage to core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tential safety conseq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ed on risk fac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act on the regulatory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ailure to report or keep accurate and timely reco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lful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cates deliberate intent to violate or falsif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rity Level of Vio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Normally categorized in terms of four levels of severity to show their relative importance or signific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everity Level I – most signific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s I and II involve actual or high potential consequences on public health and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everity Level IV – least signific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forcement 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The NRC Commission may issue 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n-Cited Vio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ice of Vio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ivil Penal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ated Administrative Action (such as a Demand for Informati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on-Cited Vio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issues of very low safety signific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umented as violations in inspection reports to establish public records of the vio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cited in Notices of Violation which normally require written responses from licens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otice of Vio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rved by the Commi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May require licensee submit a written statement to address all alleged violations includ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sons for violation, or, if contested, basis for disputing the vio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rective steps taken by licensee and results achie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rective steps whic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 ta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e for full compli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Available for viewing on www.nrc.g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vil Penal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Civil penalties may be imposed for up to $140,000 per day for each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Actual fee based on severity level of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f a violation is on-going, each day of the violation constitutes a separate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dcterms:modified xsi:type="dcterms:W3CDTF">2013-02-14T14:49:00Z</dcterms:modified>
  <cp:revision>248</cp:revision>
  <dc:subject/>
  <dc:title>Statics and Strength of Materials</dc:title>
</cp:coreProperties>
</file>