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0127-1146-403F-918D-49F23E263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BB287-28E8-4F6B-A980-0D43765E35D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8D97-8166-4752-B081-3B538D0F579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59FE-17B9-4E9D-9B65-C2945085553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2B7C-EB6E-4CA0-928D-4B1EDF2F782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92BA-193E-4F13-B147-A72C4848E71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FB57F-096F-4064-B61C-F543AF6A119C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CB42-C353-4545-95B6-13840304F3B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475F-A0C7-4283-ADB1-1E336F05E68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778B-9B5C-4D09-93BF-EBC0BB4B2E7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E5FA-5787-4571-8522-E4BD67F86929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AA18B-B84E-49EB-A149-835211920C2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8FED-0934-4DDC-BDD5-7FC0886D53D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AEC9-8341-4487-BE40-4FD77C237C3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6535-2361-4D96-AE63-558E77DCF05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DF6A-127D-4DF1-BC3C-BDE2859FA58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2FBC-025B-4220-A4E8-B9F79CC7EC48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1BA0-E56B-4B78-9E44-FCCE36D98C5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84A5-6B46-4F82-B84A-7D40355A3605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113D-79C3-4DA2-8AFF-0D6AAF54190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987F-BC6D-4383-975F-FD945C3F89E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442C-6B70-4FA8-BF44-1C8C345BC70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7999-3FA0-4672-9043-C7F308CA3314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F3E2-5C09-41A3-A50B-EFD0CCC901D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3E79A-177C-42E8-8FCE-794F9E12413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659A-CDA3-4C3C-80C0-62AE19EC95E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594B-87BD-4E79-97D2-B2AE0F801A1E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AD5D-C425-4904-837B-5C8757D2951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5231-8BA1-4AA1-9572-21C8036666AD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09AD-2B1F-45A1-B2D3-233A3A61F18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A0C22-6226-47F6-B965-BFEAF31FF47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E9F0-7AFE-44B9-BB8D-6BB2E91FC6E2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C20C-394F-4EBE-8A37-6FBD739A9FB7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292F-6F9E-4CA6-8EAE-6E8376647EDB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2E2A-A728-4099-B42F-AE45543276CA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4B2A-E1A9-4A5F-8BED-F3DF2BC567D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655C-C825-44ED-8725-39FA7FE710A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CA85A-F76C-4B97-BA53-6D71BDA98F7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F2DD-D925-45B5-BE16-36F3CD9C85E3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61A6-2404-46A1-A80A-8E118ACA34D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2929-D8E3-4D6B-8FE2-E451392BA571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B91A-46B4-41A1-BA83-FDED3AC483D0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60C1-725A-42FE-9E1D-2B3CAB4ECEB6}" type="slidenum">
              <a:rPr b="0" lang="en-US" sz="1200" spc="-1" strike="noStrike">
                <a:solidFill>
                  <a:srgbClr val="2f2b2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478F-36D0-4331-B82F-A2AEA6ED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1BE-7E0F-4DE8-A9F0-D7F8355B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BAB4-195F-4615-B37D-246ECC313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2B7D-2F4D-42C8-9D8E-0EEABEDD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616D-3AAA-4FBB-B6B8-D7D094EA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EC77-6D68-48A1-A57F-811E5EB4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3CF16-946A-4FEA-8996-DDDF3829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F405-38A4-4C54-A38F-4332762B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C1EA-5DC8-450D-9E5F-E184D6DC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2163-FDA1-428B-98A2-69744B37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C3E4-088E-4F45-9AAE-DC1AF51D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BE6-AC7B-4B90-AB27-683E31550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972C-BEED-4D6B-9C90-CEEACE5B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9A07-804B-448A-8891-95F8812A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3A59-5CEB-42E5-BF2B-3AD614CA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946E-4A55-4D48-8C4D-5CEECB86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7115-9592-41DF-9A1E-CDD6B2A4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75E0-F0A9-486E-A08D-48F2648A4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CBA2-A8CB-456F-88E8-B380521A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6459-1764-4A52-B0EC-17DE1E31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AD5D-4B96-426C-BE1E-36C900D0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D9E-CF82-46D5-B50E-C82A324E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B2B5-C6C3-4152-A6FD-DCFCEA49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FCC5-5660-4528-A14F-949FB551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A7D2-FE8F-4FFC-89B4-F8967DDD535A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RCNET.jpg"/>
          <p:cNvPicPr/>
          <p:nvPr/>
        </p:nvPicPr>
        <p:blipFill>
          <a:blip r:embed="rId3"/>
          <a:stretch/>
        </p:blipFill>
        <p:spPr>
          <a:xfrm>
            <a:off x="8121600" y="5961240"/>
            <a:ext cx="1044720" cy="9666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IRSC_NSFPoster.jpg"/>
          <p:cNvPicPr/>
          <p:nvPr/>
        </p:nvPicPr>
        <p:blipFill>
          <a:blip r:embed="rId4"/>
          <a:stretch/>
        </p:blipFill>
        <p:spPr>
          <a:xfrm>
            <a:off x="0" y="6443640"/>
            <a:ext cx="457200" cy="358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2f2b2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e8d8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10D1-066B-4AF1-B56F-1D545E60CF1B}" type="slidenum">
              <a:rPr b="0" lang="en-US" sz="1200" spc="-1" strike="noStrike">
                <a:solidFill>
                  <a:srgbClr val="8e8d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amma%20Exposure%20Video.mov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52280" y="1023840"/>
            <a:ext cx="883944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ACADs (08-006)  Covered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Keywords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ographic testing,  x-ray,  natural radiation, curie, becquerel, personnel monitoring, decay, half-life, intensity, exposure limits, inverse square, stochastic, nonstochastic, radiation safety officer.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Description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upporting Material</a:t>
            </a: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ahoma"/>
            </a:endParaRPr>
          </a:p>
        </p:txBody>
      </p:sp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-195120" y="0"/>
            <a:ext cx="9339120" cy="126216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5"/>
          <p:cNvSpPr/>
          <p:nvPr/>
        </p:nvSpPr>
        <p:spPr>
          <a:xfrm>
            <a:off x="3124080" y="6524640"/>
            <a:ext cx="2895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Augusta Technical College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	</a:t>
            </a:r>
            <a:r>
              <a:rPr b="0" lang="en-US" sz="1000" spc="-1" strike="noStrike">
                <a:solidFill>
                  <a:srgbClr val="8e8d8c"/>
                </a:solidFill>
                <a:latin typeface="Tahoma"/>
              </a:rPr>
              <a:t>2011</a:t>
            </a:r>
            <a:endParaRPr b="0" lang="en-US" sz="1000" spc="-1" strike="noStrike">
              <a:solidFill>
                <a:srgbClr val="2f2b20"/>
              </a:solidFill>
              <a:latin typeface="Tahom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237960" y="1752480"/>
          <a:ext cx="8668080" cy="146376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2520"/>
                <a:gridCol w="1084320"/>
                <a:gridCol w="1084320"/>
                <a:gridCol w="1082520"/>
                <a:gridCol w="1084320"/>
                <a:gridCol w="1082880"/>
              </a:tblGrid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.1.8.3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1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2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3.1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4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5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.7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9.8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0.4.5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3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1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2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1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14.6.4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ucleus of atom – contains the positively-charged protons and neutrally-charge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lectrons – negatively-charged particles that travel at high speed around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number – based on an element’s number of prot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. Carbon (C) has atomic number 6, Potassium (K) has atomic number 19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sotopes – atoms of the same element with different number of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ic mass – approximately equal to sum of protons and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release of energy and matter that results from changes in the nucleus of an ato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 atom that contains additional neutrons is unst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order to move to a more stable state, the nucleus seeks to remove the extra neutrons, thereby emitting radiatio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toms with atomic numbers &gt; 83 referred to as radioisotopes – they have unstable nuclei and are radioactiv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spontaneous breakdown of an atomic nucleus resulting in the release of energy and matter from the nucleu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ccurs by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lpha decay (emits 2 protons and 2 neutrons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eta decay (a neutron split into a proton and an electron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Gamma decay (energy in the form of gamma radiation emitted from the nucleu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pha and beta decay involve particl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 nuclear reacti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9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3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e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+ gamma ray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cxnSp>
        <p:nvCxnSpPr>
          <p:cNvPr id="117" name="Straight Arrow Connector 4"/>
          <p:cNvCxnSpPr/>
          <p:nvPr/>
        </p:nvCxnSpPr>
        <p:spPr>
          <a:xfrm>
            <a:off x="2438280" y="6324120"/>
            <a:ext cx="610560" cy="2520"/>
          </a:xfrm>
          <a:prstGeom prst="straightConnector1">
            <a:avLst/>
          </a:prstGeom>
          <a:ln w="9360">
            <a:solidFill>
              <a:srgbClr val="2f2b2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When an atom undergoes radiographic decay, it emits one or more forms of radiation with sufficient energy to ionize the atoms with which it intera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ing radiation – high speed subatomic particles ejected from the nucleus, or gamma rays emitted by the either the nucleus or orbital elec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Ionization – complete removal of an electron from an atom following the transfer of energy from a passing charged partic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active Deca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ctivity – quantity which expresses the degree of radioactivity or the radiation-producing potential of a given amount of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iven in units of Curie (English system) or Becquerel (SI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One Curie is quantity of radioactive material in which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atoms disintegrate per second (move to a more stable state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Becquerel = quantity of radioactive material in which 1 atom disintegrates per secon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 Curie = 3.7 * 10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Becquer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pecific activity – activity per unit mass or volu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ime required for the activity of a particular radioisotope to decrease to half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Varies for different radioisotop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anges from microseconds to billions of years (uranium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of Cobalt-60 = 5.3 yea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Half-life Iridium-192 = 74 day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arbon-14 dat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sed to approximate the age of fossils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cays with a half-life of 5730 year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Life Exampl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xample:  You originally have a 30-Curie source of  Cobalt-60.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many Curies will you have in 5.3 year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The source will have decayed by one half-life in 5.3 years, therefore half of the original source will remain, or 1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Calibri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How long will it take for the source to decay to 3.75 Curies?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914400" indent="-457200">
              <a:spcBef>
                <a:spcPts val="476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nswer:  Every 5.3 years the source will be reduced by half.  In 1 half-life, the source will be reduced to 15 Curies.  In 2 half-lives, the source will be down to 7.5 Curies.  Finally, in 3 half-lives, the source will be 3.75 Curies.  Therefore, it will take a total of 3 half-lives (or 15.9 years) for the source to decay to 3.75 Curies.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6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netrating Power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nly x-rays and gamma rays can penetrate solid materials to a significant extent (alpha and beta particles can penetrate skin only up to 8 mm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ransmission of radiation depends on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thickn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terial densit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buClr>
                <a:srgbClr val="2f2b2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of the phot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hotons that are not transmitted are attenuated (absorbed or scatter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3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cience of radiation protection (also called health physics) developed to address acceptable radiation levels to reduce risk of injury to huma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rimary health concern (for chronic, not acute exposure) is increased risk for canc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pends on amount of radiation dose, duration of dose, and specific body parts expos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ion and use of radioactive materials strictly regulated by the Nuclear Regulatory Commission (NRC) as specified in Title 10 of the Code of Federal Regulations (CF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y 1900 it was understood that use of x-rays and gamma radiation required safety precautions to protect one’s healt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20’s – routine use of film badges for personnel monitoring begun, genetic effects of radiation recogniz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rigin of radiation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atural (sun, radon ga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(x-rays, gamma ray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ubtitle 2"/>
          <p:cNvSpPr/>
          <p:nvPr/>
        </p:nvSpPr>
        <p:spPr>
          <a:xfrm>
            <a:off x="1371600" y="10666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2f2b20"/>
                </a:solidFill>
                <a:latin typeface="Calibri"/>
              </a:rPr>
              <a:t>Radiographic Testing</a:t>
            </a:r>
            <a:endParaRPr b="0" lang="en-US" sz="38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Prepared by: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2f2b20"/>
                </a:solidFill>
                <a:latin typeface="Tahoma"/>
              </a:rPr>
              <a:t>Chattanooga State Community College</a:t>
            </a:r>
            <a:endParaRPr b="0" lang="en-US" sz="2500" spc="-1" strike="noStrike">
              <a:solidFill>
                <a:srgbClr val="2f2b2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Energ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ifferent radioactive materials and x-ray generators produce radiation at different energie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nergy of radiation – responsible for the ability to penetrate mat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easured in electronvolts (eV) or kiloelectronvolts (keV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n electronvolt is the energy gained by an electron passing through a potential difference of 1 vol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djustable on an x-ray generato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ergy an unchangeable characteristic of a radioisotop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Intensit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mount of energy passing through a given area (perpendicular to the direction of radiation travel) in a given unit of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rvey meter – used to measure intensity or radiation dose rate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nits in mRem/hr or Rem/h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requently referred to as the most important tool a radiographer has to determine the presence and intensity of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er the inverse square law, the intensity varies inversely with the square of the distanc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posure – measure of the strength of a radiation fie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oentgen or 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(also called absorbed dose) – amount of ionizing energy absorbed by an object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ad (“radiation absorbed dose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equivalent relates absorbed dose to biological effect of dose – equals absorbed dose times a quality factor (quality factor = 1 for x-ray and gamma radiation in human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em (“Roentgen equivalent in man”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r humans, 1 R = 1 Rad = 1 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8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Dose vs. Dose Rat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6632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rate – measure of how fast a radiation dose is being receiv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rate = dose /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nits of R/hr, mR/hr, Rem/hr, mRem/hr (same units as intensit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calculate a person’s dose, multiply the dose rate (measured with a survey meter) by the duration of exposur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f2b20"/>
                </a:solidFill>
                <a:latin typeface="Calibri"/>
              </a:rPr>
              <a:t>dose = dose rate * tim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radiation intensity in a particular area is 5 mRem/hr, and the person remains in that area for 30 minutes, what is the person’s radiation dose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     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ose = 5 mRem/hr * 0.5 hr = 2.5 mRe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0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5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Biological Effects of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bsorbed dose depends on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ntensity of radiation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istance from sourc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ime of exposur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onization of living tissue causes molecules in cells to be broken apar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logical effects vary with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Type of radiation (penetrating ability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ize of dose received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ose rate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Body part exposed (extremities can handle more exposure than blood-forming organs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ge of individual (cell divisions slow with age – older people less sensitive to ionizing radi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7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2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2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7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2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Stochastic and Nonstochastic Effect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tochastic effects are delayed and difficult to specifically correlate to radiation exposure (canc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nstochastic effects are acute effec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rectly proportional to size of dos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35480" indent="-28296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ymptom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redd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kin and tissue burn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taract forma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teril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ation sickness (nausea, vomiting, diarrhea, headache, fever, dizziness, weakness, hair los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ath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31480" indent="-226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7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0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3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6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Important NRC Cod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19 – Notices, Instructions, and Reports to Workers: Inspection and Investig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20 – Standards for Protection Against Radia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0CFR34 – Licenses for Industrial Radiography and Radiation Safety Requirements for Industrial Radiographic Oper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Guidelines established to both prevent acute exposure and limit chronic exposure to “acceptable” level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sire to maintain all exposure “as low as reasonably achievable” – referred to as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ALA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BANAN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– “build absolutely nothing anywhere near anyone”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4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Effect of exposure (dose received in a 24-hour period):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0-25 Rem – no evident injury (blood changes detectable at 5 Rem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400-500 Rem – results in death in 50% of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1000+ Rem – results in death in ALL cas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Occupational Limi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otal effective dose – 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regnant women - 0.5 Rem during gestation perio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or people younger than age 18 – 0.5 R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6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1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6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1" dur="500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6" dur="500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Exposure Limit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nnual Non-Occupational Limits (for general public exposure to industrial ionizing radiation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1 Rem (2% of occupational limi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Doesn’t include natural background radiation (0.3 Rem) or radiation from man-made sources, such as medical x-rays (0.05 Rem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ull-body X-ray Scanners at Airport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According to the FAA web-site, the effective dose per scan is less than 0.0001 mSv (milliSievert)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0.01 Sievert = 1 Rem, therefore 0.0001 mSv = 0.01 mRem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e Health Physics Society (HPS) recommends 0.25 mSv (25 mRem) max annual dose from single source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76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f2b20"/>
                </a:solidFill>
                <a:latin typeface="Calibri"/>
              </a:rPr>
              <a:t>This corresponds to 2500 exposures per year</a:t>
            </a:r>
            <a:endParaRPr b="0" lang="en-US" sz="19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8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3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8" dur="5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member: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TIME, DISTANCE, and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call that dose = dose rate * tim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llimator – device used to direct radiation onto a part and shield the radiation in other direc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 general, the denser the material the greater the shielding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ost effective shielding by depleted uranium – used to shield the source in gamma ray camera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Lead and concrete commonly used for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opic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66320" y="19810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History of RT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Science of Radiation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Terminolog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lvl="1" marL="1009800" indent="-609840">
              <a:lnSpc>
                <a:spcPct val="80000"/>
              </a:lnSpc>
              <a:spcBef>
                <a:spcPts val="901"/>
              </a:spcBef>
              <a:buClr>
                <a:srgbClr val="2f2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Radiation Safety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Controlling Radiation Exposure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66320" y="198108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call </a:t>
            </a:r>
            <a:r>
              <a:rPr b="1" lang="en-US" sz="2200" spc="-1" strike="noStrike">
                <a:solidFill>
                  <a:srgbClr val="2f2b20"/>
                </a:solidFill>
                <a:latin typeface="Calibri"/>
              </a:rPr>
              <a:t>inverse square law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– “the radiation intensity varies inversely with the square of the distance”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= I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*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0" lang="en-US" sz="22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xample: If the intensity at 1’ from the source is 500 Rem/hr, at what distance is the intensity 2 mRem/hr?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ution:  Let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500 Rem/hr; D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1 foot; I</a:t>
            </a:r>
            <a:r>
              <a:rPr b="0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= 2 mRem/hr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Solve for D2.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05600" indent="-2714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= Square root (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*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D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1</a:t>
            </a:r>
            <a:r>
              <a:rPr b="1" lang="en-US" sz="1800" spc="-1" strike="noStrike" baseline="30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 / I</a:t>
            </a:r>
            <a:r>
              <a:rPr b="1" lang="en-US" sz="1800" spc="-1" strike="noStrike" baseline="-25000">
                <a:solidFill>
                  <a:srgbClr val="2f2b20"/>
                </a:solidFill>
                <a:latin typeface="Calibri"/>
              </a:rPr>
              <a:t>2</a:t>
            </a:r>
            <a:r>
              <a:rPr b="1" lang="en-US" sz="1800" spc="-1" strike="noStrike">
                <a:solidFill>
                  <a:srgbClr val="2f2b20"/>
                </a:solidFill>
                <a:latin typeface="Calibri"/>
              </a:rPr>
              <a:t>) = 500 feet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25800" indent="-3258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must be posted at intensity boundaries (usually 2 mRem/hr and 100 mRem/hr) to warn individuals that radiographic testing is in prog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519920" indent="-21708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2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7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2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7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2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alf-Value Lay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ed as the thickness of a material needed to reduce the radiation intensity to ½ of its original valu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o provide shi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radioisotope used for gamma radiation (or voltage if radiation source is an x-ray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epends on voltage if radiation source if an x-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838080" y="4419720"/>
          <a:ext cx="7674120" cy="1882800"/>
        </p:xfrm>
        <a:graphic>
          <a:graphicData uri="http://schemas.openxmlformats.org/drawingml/2006/table">
            <a:tbl>
              <a:tblPr/>
              <a:tblGrid>
                <a:gridCol w="1324080"/>
                <a:gridCol w="1270080"/>
                <a:gridCol w="1270080"/>
                <a:gridCol w="1269720"/>
                <a:gridCol w="1270080"/>
                <a:gridCol w="1270080"/>
              </a:tblGrid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alf-Value Layer, mm (inch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a9a57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ourc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ncrete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Steel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Lead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Tungsten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Uranium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Iridium-192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4.5 (1.7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7 (0.5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4.8 (0.19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3.3 (0.13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.8 (0.1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f1f0ec"/>
                    </a:solidFill>
                  </a:tcPr>
                </a:tc>
              </a:tr>
              <a:tr h="561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Cobalt-60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0.5 (2.38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21.6 (0.85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12.5 (0.49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7.9 (0.31) 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2f2b20"/>
                          </a:solidFill>
                          <a:latin typeface="Calibri"/>
                        </a:rPr>
                        <a:t>6.9 (0.27)</a:t>
                      </a:r>
                      <a:endParaRPr b="0" lang="en-US" sz="1800" spc="-1" strike="noStrike">
                        <a:solidFill>
                          <a:srgbClr val="2f2b20"/>
                        </a:solidFill>
                        <a:latin typeface="Tahoma"/>
                      </a:endParaRPr>
                    </a:p>
                  </a:txBody>
                  <a:tcPr anchor="t">
                    <a:lnL w="5760">
                      <a:solidFill>
                        <a:srgbClr val="2f2b20"/>
                      </a:solidFill>
                    </a:lnL>
                    <a:lnR w="5760">
                      <a:solidFill>
                        <a:srgbClr val="2f2b20"/>
                      </a:solidFill>
                    </a:lnR>
                    <a:lnT w="5760">
                      <a:solidFill>
                        <a:srgbClr val="2f2b20"/>
                      </a:solidFill>
                    </a:lnT>
                    <a:lnB w="5760">
                      <a:solidFill>
                        <a:srgbClr val="2f2b20"/>
                      </a:solidFill>
                    </a:lnB>
                    <a:solidFill>
                      <a:srgbClr val="e2e1d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nodeType="clickEffect" fill="hold">
                      <p:stCondLst>
                        <p:cond delay="0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4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Safety Officer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ation Safety Officer (RSO) - individual authorized by company to ensure radiation activities performed safely and per approved procedures and regulati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adiographers required to wear personnel monitoring devices to aid in tracking and minimizing their radiation exposur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sonnel Monitoring Devic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66320" y="18288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cket dosimeter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imilar in appearance to small mark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Reads radiation dose (not dose rate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llows workers to track daily dose received (reset at the start of each shif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Audible alarm rate met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ounds an alarm at a preset dose rate (typically 500 mRem/h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NOT a replacement for a survey meter!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d25814"/>
                </a:solidFill>
                <a:uFillTx/>
                <a:latin typeface="Calibri"/>
                <a:hlinkClick r:id="rId1"/>
              </a:rPr>
              <a:t>Gamma Exposure Video.mo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7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2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7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2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7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2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7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nodeType="clickEffect" fill="hold">
                      <p:stCondLst>
                        <p:cond delay="indefinite"/>
                      </p:stCondLst>
                      <p:childTnLst>
                        <p:par>
                          <p:cTn id="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2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Personnel Monitoring Devices - Continued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Film bad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iece of radiation-sensitive film that provides a permanent record of radiation dose receiv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TLD (thermoluminescent dosimeter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Often used instead of a film badge (may be reused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Both film badges and TLDs typically worn for 1-3 months before being processed to determine dos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9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9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4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9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X-Ray Generator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re generated by directing a stream of high-speed electrons at a target material, such as tungsten, which has a high atomic numbe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teraction with the tungsten atoms slows or stops the electrons, and x-rays are produc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Major components of an x-ray machin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ube – contains a cathode (coiled wire) and an anode (target) – operates in a vacu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voltage generator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ntrol console (to adjust output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oling syste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6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6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X-Ray Generators Continued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X-ray control console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current (or milliamperage) increases number  of electrons that flow from the cathode to the anode – thus increases the x-ray intens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Increasing the voltage increases the speed at which the electrons travel – thus increasing the energy or penetrating power of the x-ra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-made radioactive sources produced by introducing an extra neutron to atoms of the source material by neutron bombardmen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s the atoms shed the neutron energy is released in the form of gamma ra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-60 and Ir-192 common industrial gamma ray sources due to: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ie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Portability (as opposed to x-ray machines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sadvantage of gamma sources – cannot be turned off, therefore source must be isolated and shielded within an exposure device (camera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nodeType="clickEffect" fill="hold">
                      <p:stCondLst>
                        <p:cond delay="indefinite"/>
                      </p:stCondLst>
                      <p:childTnLst>
                        <p:par>
                          <p:cTn id="10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5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nodeType="clickEffect" fill="hold">
                      <p:stCondLst>
                        <p:cond delay="indefinite"/>
                      </p:stCondLst>
                      <p:childTnLst>
                        <p:par>
                          <p:cTn id="1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0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5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0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5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2b20"/>
                </a:solidFill>
                <a:latin typeface="Calibri"/>
              </a:rPr>
              <a:t>Radiography Equipment – Gamma Sources</a:t>
            </a:r>
            <a:endParaRPr b="0" lang="en-US" sz="40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ources typically consist of multiple pellets loaded into a stainless steel capsule to obtain desired activity level (number of Curies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psule sealed by wel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ttached to a short flexible cable called a pigtail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Housed in a shielding device referred to as an exposure device or camer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tivity of source governs amount of shielding require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has a higher activity (1.25MeV) than Ir-192 (460keV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-60 cameras typically weigh 500 lbs vs. ~45 lbs for Ir-192 camera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2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2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7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2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7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2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Performing Radiography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Exposure device connected to source tube on one end and a crank-out mechanism on the other en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ource tube in positioned as needed to obtain radiograph of component (with the source itself safely housed in the exposure devic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From as far away as possible, the radiograph turns the crank to move the source from the camera to the tip of the source tub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fter the proper exposure time (calculated based on source strength, source to film distance, and thickness of the component), the radiographer cranks the source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The radiographer must use the survey meter to confirm the source fully extracted back into the camer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4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9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4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9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5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ic Testing (RT)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f2b20"/>
                </a:solidFill>
                <a:latin typeface="Calibri"/>
              </a:rPr>
              <a:t>Definition: </a:t>
            </a:r>
            <a:r>
              <a:rPr b="0" lang="en-US" sz="3600" spc="-1" strike="noStrike">
                <a:solidFill>
                  <a:srgbClr val="2f2b20"/>
                </a:solidFill>
                <a:latin typeface="Calibri"/>
              </a:rPr>
              <a:t>An NDT method that utilizes x-rays or gamma radiation to detect discontinuities in materials, and to present their images on recording medium.</a:t>
            </a: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ensitivity – a measure of the quality of the image in terms of the smallest detail that may be detected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Image Quality Indicators (IQIs or penetrameters) – devices used to indicate the quality level or sensitivity of the radiograph (plaque type or wire type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pends on contrast and definition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ontrast – degree of density difference between two areas on a radiograph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Definition – degree of sharpness of the radiographic imag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odes require a minimum “unsharpness”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6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1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6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6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1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ograph Image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y – degree of film darkening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0.01% of transmitted light reaches far side of film the density is 4.0 (based on an exponential equation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If 1.0% of transmitted light reaches far side of film the density is 2.0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Many governing codes require densities of 2-4% (don’t want image too light or too dark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Densitometer – device used to measure film density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Density through the IQI must meet code (2-4%)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Also, the density in the area of interest (the weld perhaps), must satisfy plus/minus criteria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Darkest area must have a density of not more than 30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Calibri"/>
              </a:rPr>
              <a:t>Lightest area must have  a density of not less than 15% of the density under the IQI</a:t>
            </a: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buClr>
                <a:srgbClr val="2f2b2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8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3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nodeType="clickEffect" fill="hold">
                      <p:stCondLst>
                        <p:cond delay="indefinite"/>
                      </p:stCondLst>
                      <p:childTnLst>
                        <p:par>
                          <p:cTn id="1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3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3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8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2f2b20"/>
                </a:solidFill>
                <a:latin typeface="Calibri"/>
              </a:rPr>
              <a:t>Assignment…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RT Worksheet/Calculations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2b20"/>
                </a:solidFill>
                <a:latin typeface="Calibri"/>
              </a:rPr>
              <a:t>Densitometersa</a:t>
            </a:r>
            <a:endParaRPr b="0" lang="en-US" sz="3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X-Ray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discovered in 1895 by Wilhelm Roentge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used by physicians to locate bullets in wounded soldier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13 – development of high vacuum x-ray tubes enabled voltages of 100,000 V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creased penetrating power of x-rays led to industrial applicatio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31 – GE developed 1,000,000 V x-ray generator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ASME approved use of x-ray to test fusion-welded pressure vesse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History – Natural Radiation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6 – Henri Becquerel identified uranium as radioactive material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898 – Pierre and Marie Curie discovered polonium, followed by radium (“shining” element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adium capable of filming through 10-12” thick steel casting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Used extensively during WWII as part of U.S. Navy shipbuilding progra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1946 – cobalt and iridium became available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Both stronger and cheaper than radium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What is radiation?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are types of electromagnetic radiation of shorter wavelengths than visible light: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visible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 = 600 Angstroms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x-rays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 = 1 A, </a:t>
            </a:r>
            <a:r>
              <a:rPr b="0" lang="el-GR" sz="2000" spc="-1" strike="noStrike">
                <a:solidFill>
                  <a:srgbClr val="2f2b20"/>
                </a:solidFill>
                <a:latin typeface="Calibri"/>
              </a:rPr>
              <a:t>λ</a:t>
            </a:r>
            <a:r>
              <a:rPr b="0" lang="en-US" sz="2000" spc="-1" strike="noStrike" baseline="-25000">
                <a:solidFill>
                  <a:srgbClr val="2f2b20"/>
                </a:solidFill>
                <a:latin typeface="Calibri"/>
              </a:rPr>
              <a:t>gamma rays </a:t>
            </a: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= 0.0001 A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shorter wavelengths permit penetration through material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high energy levels break chemical bonds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*Leads to destruction of living tissue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X-rays and gamma rays differ only in source of origin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Radiation Propertie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66320" y="19807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Undetectable by human senses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Cannot be seen, felt, heard, or smelled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ossesses no charge or mas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2f2b2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2b20"/>
                </a:solidFill>
                <a:latin typeface="Calibri"/>
              </a:rPr>
              <a:t>Referred to as photons (packets of energy)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Generally travels in straight lines (can bend at material interfaces)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Characterized by frequency, wavelength, and velocity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Part of electromagnetic spectrum but not influenced by electrical or magnetic field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b20"/>
                </a:solidFill>
                <a:latin typeface="Calibri"/>
              </a:rPr>
              <a:t>Atoms</a:t>
            </a:r>
            <a:endParaRPr b="0" lang="en-US" sz="4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90512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f2b20"/>
                </a:solidFill>
                <a:latin typeface="Calibri"/>
              </a:rPr>
              <a:t>Atom - the smallest particle of any element that retains the characteristics of that element</a:t>
            </a:r>
            <a:endParaRPr b="0" lang="en-US" sz="26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2b20"/>
                </a:solidFill>
                <a:latin typeface="Calibri"/>
              </a:rPr>
              <a:t>Subatomic particles – protons, electrons, neutrons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110" name="Picture 3" descr="AtomLabeledLarge.gif"/>
          <p:cNvPicPr/>
          <p:nvPr/>
        </p:nvPicPr>
        <p:blipFill>
          <a:blip r:embed="rId1"/>
          <a:stretch/>
        </p:blipFill>
        <p:spPr>
          <a:xfrm>
            <a:off x="3352680" y="2971800"/>
            <a:ext cx="266724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2T17:57:16Z</dcterms:created>
  <dc:creator>Mark and Jacki Smith</dc:creator>
  <dc:description/>
  <dc:language>en-US</dc:language>
  <cp:lastModifiedBy>Peggy Hines IRSC</cp:lastModifiedBy>
  <cp:lastPrinted>2011-10-20T14:45:59Z</cp:lastPrinted>
  <dcterms:modified xsi:type="dcterms:W3CDTF">2013-02-07T17:17:01Z</dcterms:modified>
  <cp:revision>321</cp:revision>
  <dc:subject/>
  <dc:title>Statics and Strength of Materials</dc:title>
</cp:coreProperties>
</file>