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2ED9-C020-41FB-84C4-93F4C40475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edit other slides, use Arial (Headings) 36 flush left for titles and Arial (Body) 24 for body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3B3D-40DC-4298-862D-7CEC520E4E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E0D6-D039-4B1E-9C64-ECEA077D0E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F73C-AA10-44A1-8D7B-0E03CC36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D4C2-6331-4B05-9F90-6BE63D8C6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1A5E-4C89-4504-A805-E720D109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8CA-9E99-4E8E-B7B7-C9A60B46F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C6B0-816E-4DF1-AD95-03CDA17D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64BA-6041-4698-94D4-3348C01F6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21F9-A9A3-474C-B6BD-EA0D6FF1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2B7A-9A1D-402B-BFAB-64C43EB7F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F6C40-2032-46DD-848D-871ED18E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283BB-F8B5-4F32-9BB2-6AF4B6993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D78B-DC0F-4605-AEEE-1FAD5E7C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0A4E-B9E0-464D-8123-A69914A3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26500-5525-4C6F-B941-8A85BFE7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5B88-D5B0-4970-BE29-F04F6C9F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7047-FC06-441F-AA49-D392C28F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7D63-1C85-412A-BDBC-D927DC61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F0D0-3689-4569-8FD1-3DC1FAEC1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AD8C-6AD4-4AB6-B522-FEBB9CBC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5AC-A6F7-4B4F-82D9-85D11F8F3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C088-261A-4227-959C-D0064A6E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EA82-719A-4FBE-B736-6645576F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EC6C-E3C8-4E05-9726-B205AE6E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6416-3B67-4B62-998B-A23834BF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F909-3C0C-4EDB-8B99-350C0C69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D7D1-4E20-4D48-95DA-C861CD34BA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3CBF-D02A-4756-AB5C-039824A6E21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152280" y="10288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CADs (08-006)  Cov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Keywor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smic terrestrial internal radiation, uranium, thorium, radium, curie, becquerel, roentgen, dose, RAD, REM, x-rays, gamma, beta, alpha, fission fragments,  mrad,  tissue, organ,  affect on cells, blood,  whole body exposure,  acute, chronic,  genetic,  body burden, time distance shielding, gon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his module examines the affects of short and long term exposure to all types of radi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upporting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280" y="1600200"/>
          <a:ext cx="8107560" cy="1515960"/>
        </p:xfrm>
        <a:graphic>
          <a:graphicData uri="http://schemas.openxmlformats.org/drawingml/2006/table">
            <a:tbl>
              <a:tblPr/>
              <a:tblGrid>
                <a:gridCol w="1351080"/>
                <a:gridCol w="1351080"/>
                <a:gridCol w="1350720"/>
                <a:gridCol w="1352520"/>
                <a:gridCol w="1351080"/>
                <a:gridCol w="1351080"/>
              </a:tblGrid>
              <a:tr h="401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.8.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.4.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9033B-1A3B-463F-AA12-EE6AA4B75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minous watches (trit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tern mantles (thor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bacco (polonium-210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hthalmic glass used in eyeglass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me ceramic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5B261-199B-43A4-B8FB-01B838EAF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-360" y="15998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pationally Exposed Individuals (Work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dustrial radiography (X-ray imag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medicine depart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logy (medical imaging, X-rays, etc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oncology (cancer treat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power pla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uclear fuel cycle fac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spos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vernment and university research laborator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active Material Quant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urie :: the amount of radioactive material decaying at 2.22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minute or 3.7 X 10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tom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.7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ays per second (dp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cquerel :: the amount of radioactive material decaying at 1 decay per seco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ci = 3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 ×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q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Bq = 1 d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1251-1349-4367-A925-8CE7CCB5C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5D3E-2DFC-47CC-B9E0-4EAE81367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Effe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fully described by decay rate of radioactive mater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factors must consid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ation ener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Measurement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oentgen (R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218960"/>
            <a:ext cx="8686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gamma or x-ray interactions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lates to energy deposition in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ty of x-ray or gamma radiation producing 1 esu of charge (positive or negative) in 1 cc (c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of dry a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u = electrostatic unit of char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ionizing event = addition or removal of 1 electron =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-10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su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2.08 X10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on pai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R = 88 erg/gram energy deposition in ai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rg = unit of work or energ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oesn’t relate to biological dam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23A4-4F3B-4231-AC8D-1421FC4E6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457200" y="50328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Radiation Absorbed Dose (RAD)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= Total amount of energy delivered to a specific area or organ by radi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 = dose units per unit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is an amount of any type of ionizing radiation that deposits 100 ergs/gram i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 RAD = 100 ergs/gram energy deposition (tiss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blem: Different types of ionizing radiation might have the same energy, but have totally different effects on tissu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544A-2824-4475-9982-924F0570FF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Radiation Measurement Units:</a:t>
            </a:r>
            <a:br>
              <a:rPr sz="31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oentgen Equivalent Man </a:t>
            </a:r>
            <a:r>
              <a:rPr b="0" lang="en-US" sz="3100" spc="-1" strike="noStrike">
                <a:solidFill>
                  <a:srgbClr val="000000"/>
                </a:solidFill>
                <a:latin typeface="Calibri"/>
              </a:rPr>
              <a:t>(REM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amount of ionizing radiation required to produce the same biological effect as one rad of high-penetration x-ray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dose in rem is referred to as the dose equivalent (D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(rem) = Dose (rad)  x 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lity Factor (QF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unts for differences in biological effect for different types of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BA76-E69D-4946-BC59-96C9E183B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Quality Fact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3808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Gamma, X-Rays, and High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1 rad =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lpha, Proton, Neutron, and Low-Energy Be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ad </a:t>
            </a:r>
            <a:r>
              <a:rPr b="0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1 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1 rem = 1 rad * Q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63E5-7544-45B7-989B-C9DBECC36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219320" y="3591000"/>
          <a:ext cx="6232320" cy="3051000"/>
        </p:xfrm>
        <a:graphic>
          <a:graphicData uri="http://schemas.openxmlformats.org/drawingml/2006/table">
            <a:tbl>
              <a:tblPr/>
              <a:tblGrid>
                <a:gridCol w="3116160"/>
                <a:gridCol w="31161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Rectangle 136"/>
          <p:cNvSpPr/>
          <p:nvPr/>
        </p:nvSpPr>
        <p:spPr>
          <a:xfrm>
            <a:off x="0" y="2413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1219320" y="3895560"/>
            <a:ext cx="6219720" cy="91440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1219320" y="4838760"/>
            <a:ext cx="6221160" cy="1792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048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ifferent Radiation Typ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58760" y="823680"/>
            <a:ext cx="8763120" cy="578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logical effect of any radiation is related to rate at which radiation transfers energy to tiss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of the interaction density along radiation travel pa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quivalent to ionization potential or stopping power of body tiss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rsely proportional to radiation r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 range particles like alphas have a high LE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damaging types of radiation to a biological system are those with a high LE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LET radiation deposits all of its energy in a short distance of trav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052A-CA35-457A-8360-11C9A0214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 increases with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mass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charge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energy of incident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rder of decreasing LET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ssion frag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ass number nucl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pha parti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utr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energy beta, x-ray and gam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B794-D880-40BD-B56A-CE6A463B7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Different Radiatio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24E1-CB94-488E-A860-3CABFEE35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62000"/>
            <a:ext cx="9144000" cy="7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ources of Radiation Exposure in the U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Object 8"/>
          <p:cNvGraphicFramePr/>
          <p:nvPr/>
        </p:nvGraphicFramePr>
        <p:xfrm>
          <a:off x="1031760" y="993600"/>
          <a:ext cx="6672240" cy="541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993600"/>
                    <a:ext cx="6672240" cy="541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onship between LET and Q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5DEE-8284-4810-9037-96339EA1AA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80880" y="990720"/>
          <a:ext cx="8382240" cy="518148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21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NEAR ENERGY TRANSFE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LET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eV/micron in water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QF)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or less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 – 7.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– 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.0 – 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– 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 - 5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– 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 – 17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- 2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82"/>
          <p:cNvSpPr/>
          <p:nvPr/>
        </p:nvSpPr>
        <p:spPr>
          <a:xfrm>
            <a:off x="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02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123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otal dose of alpha particles to an individual is three rad.  Calculate the dose equivalent in rem using the appropriate Quality Factor (QF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10AA-9354-4204-A124-725157669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1"/>
              <p:cNvSpPr txBox="1"/>
              <p:nvPr/>
            </p:nvSpPr>
            <p:spPr>
              <a:xfrm>
                <a:off x="162000" y="3570120"/>
                <a:ext cx="3638520" cy="316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ra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α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04" name=""/>
          <p:cNvGraphicFramePr/>
          <p:nvPr/>
        </p:nvGraphicFramePr>
        <p:xfrm>
          <a:off x="4179960" y="3589200"/>
          <a:ext cx="4767120" cy="3051360"/>
        </p:xfrm>
        <a:graphic>
          <a:graphicData uri="http://schemas.openxmlformats.org/drawingml/2006/table">
            <a:tbl>
              <a:tblPr/>
              <a:tblGrid>
                <a:gridCol w="2790720"/>
                <a:gridCol w="19764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ITY FAC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23840" y="814320"/>
            <a:ext cx="9020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measured by instruments, an individual was exposed to radiation field consisting of 5 mrad gamma, 2 mrad beta, and 5 mrad fast neutrons. Calculate the dose equivalent in re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6780-3A44-4B86-8CF2-D266AAD6F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1"/>
              <p:cNvSpPr txBox="1"/>
              <p:nvPr/>
            </p:nvSpPr>
            <p:spPr>
              <a:xfrm>
                <a:off x="419040" y="2255760"/>
                <a:ext cx="4135320" cy="401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ose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ad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γ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β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F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N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</m:d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7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re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12" name=""/>
          <p:cNvGraphicFramePr/>
          <p:nvPr/>
        </p:nvGraphicFramePr>
        <p:xfrm>
          <a:off x="5742000" y="3521160"/>
          <a:ext cx="3273480" cy="3051000"/>
        </p:xfrm>
        <a:graphic>
          <a:graphicData uri="http://schemas.openxmlformats.org/drawingml/2006/table">
            <a:tbl>
              <a:tblPr/>
              <a:tblGrid>
                <a:gridCol w="2790720"/>
                <a:gridCol w="4827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M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&gt;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TA, ELECTRON &lt; 0.03 M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MAL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ST NEUTR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T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VY 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logical Orga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– basic unit of the human bod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ssue - cells with similar structure performing sam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 – cells with different structure (different tissues) performing similar overall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stem – group of organs performing common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ganis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4CBD1-CB8B-4ADF-A721-FAE7A322D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294F5-59C2-476A-9712-61F5ECB95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cell from external influences, such as tox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keep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%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s convert nutrients into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ion of biochemical reactions for bodil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1"/>
          <a:srcRect l="0" t="15406" r="29839" b="16427"/>
          <a:stretch/>
        </p:blipFill>
        <p:spPr>
          <a:xfrm>
            <a:off x="4491000" y="3860640"/>
            <a:ext cx="4653000" cy="2826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1"/>
          <p:cNvSpPr/>
          <p:nvPr/>
        </p:nvSpPr>
        <p:spPr>
          <a:xfrm>
            <a:off x="5529240" y="766800"/>
            <a:ext cx="3614760" cy="30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ol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ib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esic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ough endoplasmic reticulum (E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skelet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ys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entrioles within centros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2036880" y="6176880"/>
            <a:ext cx="31654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 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9E26-04E8-457C-9F52-49A3F3D6D4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457200" y="74520"/>
            <a:ext cx="82296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Biological Organization: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Content Placeholder 3"/>
          <p:cNvSpPr/>
          <p:nvPr/>
        </p:nvSpPr>
        <p:spPr>
          <a:xfrm>
            <a:off x="0" y="873000"/>
            <a:ext cx="5073480" cy="59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instructions fo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re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3504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d within chromosom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nds of amino acids (deoxyribonucleic acids – 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0640" indent="-228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normal bodily function if damaged or mal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"/>
          <p:cNvPicPr/>
          <p:nvPr/>
        </p:nvPicPr>
        <p:blipFill>
          <a:blip r:embed="rId1"/>
          <a:srcRect l="2859" t="20147" r="43381" b="12370"/>
          <a:stretch/>
        </p:blipFill>
        <p:spPr>
          <a:xfrm>
            <a:off x="4419720" y="1236600"/>
            <a:ext cx="4724280" cy="37051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6878520" y="4890960"/>
            <a:ext cx="22654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EF3C-C3DE-4845-B30F-051C877AD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457200" y="74520"/>
            <a:ext cx="82296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Segment of DNA Str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8" descr=""/>
          <p:cNvPicPr/>
          <p:nvPr/>
        </p:nvPicPr>
        <p:blipFill>
          <a:blip r:embed="rId1"/>
          <a:srcRect l="520" t="21499" r="48358" b="10002"/>
          <a:stretch/>
        </p:blipFill>
        <p:spPr>
          <a:xfrm>
            <a:off x="660240" y="939960"/>
            <a:ext cx="6634440" cy="55562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9"/>
          <p:cNvSpPr/>
          <p:nvPr/>
        </p:nvSpPr>
        <p:spPr>
          <a:xfrm>
            <a:off x="7532640" y="55148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 form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4D11-43CD-4088-96AF-D1BC4217C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76040" y="1382400"/>
            <a:ext cx="87919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 atom (either neutral or charged) with unpaired electrons that wants to join with another atom to stabilize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e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cals that have not yet bonded with other 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ly reactive atoms or chemical compounds that can alter existing state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in cellular chemistry are the root causes of all the harmful effects of radi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9A6C-06E6-4E3B-A2EC-5C86F0F22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246240" y="1580760"/>
            <a:ext cx="8681760" cy="49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Ionization and excitation of intracellular water molecules produces free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Indirect Effect of Radiation on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ubsequent interference of free radicals with cells not direct affected by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8056-0D4B-4030-9062-A0B99B4B5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 background radiation comes from three sourc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nal Radi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8281-7BEF-4575-87CA-ED0786F36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E2CE-DC56-47E6-BB7F-18A4CFD69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4252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: production of free radicals in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adiolysis by Ionization: Hydrogen Radical (H</a:t>
            </a:r>
            <a:r>
              <a:rPr b="0" lang="en-US" sz="3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lectron absorb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ydrogen radical and hydroxyl ion form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5600" spc="-1" strike="noStrike" baseline="30000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 radic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" name="Object 3"/>
              <p:cNvSpPr txBox="1"/>
              <p:nvPr/>
            </p:nvSpPr>
            <p:spPr>
              <a:xfrm>
                <a:off x="1160640" y="4595760"/>
                <a:ext cx="6845040" cy="10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H</m:t>
                        </m:r>
                      </m:e>
                      <m:sup/>
                    </m:sSup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1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946E-A5FF-40C4-890A-260F70B9A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181440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olysis by Ionizat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ydroxyl Radical (OH</a:t>
            </a:r>
            <a:r>
              <a:rPr b="0" lang="en-US" sz="2300" spc="-1" strike="noStrike" baseline="75000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lectron removed from water molec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itively ionized water removes hydrogen from neutral water to form hydroxyl radic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1"/>
              <p:cNvSpPr txBox="1"/>
              <p:nvPr/>
            </p:nvSpPr>
            <p:spPr>
              <a:xfrm>
                <a:off x="1374840" y="4827600"/>
                <a:ext cx="6013440" cy="15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8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81A5-A1C9-4844-A5C8-DBE154CF7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0" y="1442520"/>
            <a:ext cx="9020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lysis by Excita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and Hydroxyl Radic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ident electron excites water molecule, but is not absorb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ited water molecule splits into hydrogen and hydroxyl radic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398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3"/>
              <p:cNvSpPr txBox="1"/>
              <p:nvPr/>
            </p:nvSpPr>
            <p:spPr>
              <a:xfrm>
                <a:off x="1633680" y="4665600"/>
                <a:ext cx="5441760" cy="18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5" name="Rectangle 6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7120080" y="627228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= exc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ADD7-1616-4B68-9EAF-7D065D81D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1420560"/>
            <a:ext cx="884700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se radicals immediately react with each other to produce harmless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ever, they might react with other molecules in the cell, causing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3"/>
              <p:cNvSpPr txBox="1"/>
              <p:nvPr/>
            </p:nvSpPr>
            <p:spPr>
              <a:xfrm>
                <a:off x="1382760" y="2577960"/>
                <a:ext cx="4554360" cy="257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H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/>
                        </m:sSup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O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85" name="Rectangle 10"/>
          <p:cNvSpPr/>
          <p:nvPr/>
        </p:nvSpPr>
        <p:spPr>
          <a:xfrm>
            <a:off x="457200" y="84240"/>
            <a:ext cx="823896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ellular Effects of Radiation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Free Radical 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5958000" y="265428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ydrogen Per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but new cells may d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roduce producing abnormal cel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 may repair itself and function norm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6D99-1909-46C3-9B92-6F5CFE9CD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23CB-B0D5-40E7-8CCF-252AD4706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0" y="979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adiation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1835280" y="4106880"/>
            <a:ext cx="11430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7"/>
          <p:cNvSpPr/>
          <p:nvPr/>
        </p:nvSpPr>
        <p:spPr>
          <a:xfrm>
            <a:off x="457200" y="9360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ellular Effect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0" descr=""/>
          <p:cNvPicPr/>
          <p:nvPr/>
        </p:nvPicPr>
        <p:blipFill>
          <a:blip r:embed="rId1"/>
          <a:srcRect l="0" t="51499" r="0" b="2798"/>
          <a:stretch/>
        </p:blipFill>
        <p:spPr>
          <a:xfrm>
            <a:off x="2725560" y="2157480"/>
            <a:ext cx="3079800" cy="416700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11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8A49-B43C-49E8-8AC2-152835F0D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ecul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enzymes, DNA etc. and interference with biological pathw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cellul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mage to cell membranes, nucleus, chromosomes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Inhibition of cell division, cell death, transformation to a malignant st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B336-040D-4E0A-946A-11AC196B4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issue, Org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ruption to central nervous system, bone marrow, intestinal tr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duction of canc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le Anima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at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ife shorte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opul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anges in the genetic characteristics of individual memb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457200" y="93600"/>
            <a:ext cx="82882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Effects of Radiation by Biological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232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diosensi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fferent cells within the body have different structures and 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ry in their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radiosensi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sceptibility to radiation-induced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411F-ED57-4519-9183-196F49273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466560" y="107964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division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pidly dividing cells are more sensitivity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ular metabolism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with high metabolism rat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velopmental s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lls in division stage are more susceptible to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/ nourishment to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rmally undernourished cells reproduce l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ster reproduction = more mut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7591-1A83-4F5F-9C82-B60CD820B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457200" y="112680"/>
            <a:ext cx="8229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4 Factors Affecting Radiosensi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Radi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n and stars send constant stream of cosmic radiation to Ear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ke steady drizzle of 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fferences in certain variables can change the amount (or dose) of cosmic radiation that we recei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e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mospheric cond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th's magnetic fi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2071-DF98-46CB-95F7-CBBA370D1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/ tissue radiosensitivity influenced by 2 fac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sensitivity of the tissue/organ cell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ortance to overall organi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st radiosensitive organs and t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 (tissu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lood-forming orga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Gonads (reproductive orga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Lens of the ey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east radiosensitive org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Brain (cells do not reprodu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A461-FC72-4D71-A41A-BADC95C2D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8424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rgan / Tissue Radiation Effec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0" y="1147680"/>
            <a:ext cx="9144000" cy="571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of the most radiosensitive tissues in the human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rmal blood cells have an already short lifespan and high metabolic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ake in toxins quick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nads (reproductive orga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tations occurring in egg or sperm cells could result in a mutation in the offsp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0 rads: temporary depletion of sperm 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0 to 400 rad: function of ovaries impa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FD45-5725-4A70-B68C-8810F5E9B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4D86-BD5C-4012-BFB9-BB04FBB60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0" y="46080"/>
            <a:ext cx="91440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Blo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225360" y="700200"/>
          <a:ext cx="8575920" cy="5945040"/>
        </p:xfrm>
        <a:graphic>
          <a:graphicData uri="http://schemas.openxmlformats.org/drawingml/2006/table">
            <a:tbl>
              <a:tblPr/>
              <a:tblGrid>
                <a:gridCol w="1602000"/>
                <a:gridCol w="1611000"/>
                <a:gridCol w="1638360"/>
                <a:gridCol w="1478160"/>
                <a:gridCol w="2246400"/>
              </a:tblGrid>
              <a:tr h="1006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ELL TYP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UN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SI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FETIME OF CEL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FFECT OF SINGLE RADIATION EXPOSURE OF &gt; 100 RAD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777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 (Erythrocyte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rry oxygen and nutrients to bod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light decrease in numb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ocyte (type of white blood cell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ymph nodes and splee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d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within 2 days after exposure; large decrease in number can result in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uthrophils (type of white blood cell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ght infec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proportional to dose; depletion results in infection and fev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tele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clot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ne marro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– 10 day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ighly radiosensitive; decrease in number increases with dose; decrease in number can result in hemorrhag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0720" y="772920"/>
            <a:ext cx="8962920" cy="25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st tissue to exhibit noticeable radiation inju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radiosensitivity due to the high rate of cell division and degree of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400 to 500 rad: Erythema (redden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er dose: blistering and ulceration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 term complications: scarring and skin canc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A724-7C94-4D71-BEBE-C31DEDA4C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0" y="58680"/>
            <a:ext cx="914400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 Sk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9" descr=""/>
          <p:cNvPicPr/>
          <p:nvPr/>
        </p:nvPicPr>
        <p:blipFill>
          <a:blip r:embed="rId1"/>
          <a:stretch/>
        </p:blipFill>
        <p:spPr>
          <a:xfrm>
            <a:off x="2801880" y="3276720"/>
            <a:ext cx="3178080" cy="326700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10"/>
          <p:cNvSpPr/>
          <p:nvPr/>
        </p:nvSpPr>
        <p:spPr>
          <a:xfrm>
            <a:off x="6865920" y="548496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331B-BB30-4A9E-B2A3-94EF8882B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1600200"/>
            <a:ext cx="879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taract formation (cloudin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dose of 200-500 r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mulative (spread over several months) dose of 1000 ra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6560" y="182520"/>
            <a:ext cx="826776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Organ / Tissue Radiation Effects:</a:t>
            </a:r>
            <a:br>
              <a:rPr sz="4000"/>
            </a:b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Lens of the 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9" descr=""/>
          <p:cNvPicPr/>
          <p:nvPr/>
        </p:nvPicPr>
        <p:blipFill>
          <a:blip r:embed="rId1"/>
          <a:srcRect l="16669" t="20483" r="24977" b="12186"/>
          <a:stretch/>
        </p:blipFill>
        <p:spPr>
          <a:xfrm>
            <a:off x="3960720" y="3413160"/>
            <a:ext cx="4419720" cy="318600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0"/>
          <p:cNvSpPr/>
          <p:nvPr/>
        </p:nvSpPr>
        <p:spPr>
          <a:xfrm>
            <a:off x="2397240" y="560088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9324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diation Effects on Huma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 facto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a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1DED-2387-4756-AA26-4768BDA66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139680" y="1599840"/>
            <a:ext cx="90043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radiation of same type, range in tissue increases with increasing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th of penetration is function of type of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ged particles and neutrons will not penetrate as far as electromagnetic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ear Energy Transfer (LE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T depends on charge, mass, and ener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er LET = higher QF = more biological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17B4-1C26-4098-A624-6B20F2034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"/>
          <p:cNvSpPr/>
          <p:nvPr/>
        </p:nvSpPr>
        <p:spPr>
          <a:xfrm>
            <a:off x="457200" y="274680"/>
            <a:ext cx="822960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diation 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diation of all cells, organs, and tiss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mptoms depends on which organ is sensitive at the given dos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al Body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mage limited to tissues and organs within exposed ar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high localized doses of radiation are used to treat certain cancers without significant damage to the rest of the bod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6CDD-673C-4966-8ABC-4175A4F08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457200" y="227160"/>
            <a:ext cx="833760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Portion of Body Expos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59984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ological damage decreases with decreasing dose r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cute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High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Short exposure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Chronic Expo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w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Long exposure ti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 radiation expos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posure from natural background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7EFD-BC07-4568-8A57-35B2478A3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5"/>
          <p:cNvSpPr/>
          <p:nvPr/>
        </p:nvSpPr>
        <p:spPr>
          <a:xfrm>
            <a:off x="457200" y="93600"/>
            <a:ext cx="840564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Radiation Effects on Humans: Rate of Expo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70920"/>
            <a:ext cx="8933040" cy="128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10600" y="1599840"/>
            <a:ext cx="8750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clinical Range (0 to 1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o sickness occurs which requires medical atten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ome changes occur in the blood for doses near 1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apeutic Range (100 to 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, vomiting, loss of appetite, and fatig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lood damag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ness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thal Range (&gt;200 re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usea and vomiting become more sev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hemorrhaging may occ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ir loss at 300 r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00 - 600 rem: small percentage of people will die within 30 day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00 - 1000 rem: higher chance of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&gt;1000 rem: Certain dea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EF0A-59B3-4355-9C4D-7B2D047B1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rrestri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arth itself is a source of terrestrial radi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adioactive materials exist naturally in soil and roc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ran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o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ad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contains small amounts of dissolved uranium and thori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organic matter (both plant and animal) contains radioactive carbon and potassiu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3445-1FDF-4422-B39C-FE23FE9DD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7C6B-F7F6-424D-A8F4-0936728D5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442800" y="1074600"/>
          <a:ext cx="8229600" cy="5346720"/>
        </p:xfrm>
        <a:graphic>
          <a:graphicData uri="http://schemas.openxmlformats.org/drawingml/2006/table">
            <a:tbl>
              <a:tblPr/>
              <a:tblGrid>
                <a:gridCol w="2359080"/>
                <a:gridCol w="58705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Dose (Rads*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5-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irst sign of physical eff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drop in white blood cell coun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hreshold for vomi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in a few hours of exposu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20 - 3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5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minimal supportive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80 - 5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50 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with supportive medical car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,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~ 100% die within 30 da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Rectangle 28"/>
          <p:cNvSpPr/>
          <p:nvPr/>
        </p:nvSpPr>
        <p:spPr>
          <a:xfrm>
            <a:off x="0" y="71280"/>
            <a:ext cx="91440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Arial"/>
              </a:rPr>
              <a:t>Acute Radiation Effects: Whole Body 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F2F2D-A92D-4BB4-9337-A928A0B2D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0" y="0"/>
          <a:ext cx="9144000" cy="6561000"/>
        </p:xfrm>
        <a:graphic>
          <a:graphicData uri="http://schemas.openxmlformats.org/drawingml/2006/table">
            <a:tbl>
              <a:tblPr/>
              <a:tblGrid>
                <a:gridCol w="1488960"/>
                <a:gridCol w="1263600"/>
                <a:gridCol w="1378080"/>
                <a:gridCol w="1252440"/>
                <a:gridCol w="1257480"/>
                <a:gridCol w="1254240"/>
                <a:gridCol w="212400"/>
                <a:gridCol w="1036800"/>
              </a:tblGrid>
              <a:tr h="430560"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row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CLINIC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EUTIC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THAL RAN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TO 2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TO 6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 TO 1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00 TO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VER 5,000 R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EFFEC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ROMIS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 PALLIATIV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5e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vomit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rems: 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 rems: 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0 rems =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lay tim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h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5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ding org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atopoietic tiss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astrointestinal tra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 nervous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9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racteristic sig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derate Leukopen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e leucopenia; purpose; hemorrhage; infection.  Hair loss above 300 rem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arrhea; fever, disturb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ulsions; tremor; ataxia; letharg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itical period post expo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to 6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 to 14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48 hou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4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ap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assurance; hematological surveil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lood transfusion; antibio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sider bone marrow transplan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ntenance of electrolyte bal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dativ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no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cell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uard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pele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8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4b4b4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valescent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veral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to 1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 to 10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cidenc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 to 100% (variabl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ath occurs with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month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wee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d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use of dea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morrhage; inf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rculatory collap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iratory fail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cute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ocalized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A11A-AF06-4722-A03E-81AFA7DB5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Content Placeholder 4" descr="capture4.jpg"/>
          <p:cNvPicPr/>
          <p:nvPr/>
        </p:nvPicPr>
        <p:blipFill>
          <a:blip r:embed="rId1"/>
          <a:srcRect l="22911" t="0" r="21263" b="13409"/>
          <a:stretch/>
        </p:blipFill>
        <p:spPr>
          <a:xfrm>
            <a:off x="0" y="2152800"/>
            <a:ext cx="2490840" cy="3903480"/>
          </a:xfrm>
          <a:prstGeom prst="rect">
            <a:avLst/>
          </a:prstGeom>
          <a:ln w="0">
            <a:noFill/>
          </a:ln>
        </p:spPr>
      </p:pic>
      <p:pic>
        <p:nvPicPr>
          <p:cNvPr id="403" name="Content Placeholder 3" descr="capture12.jpg"/>
          <p:cNvPicPr/>
          <p:nvPr/>
        </p:nvPicPr>
        <p:blipFill>
          <a:blip r:embed="rId2"/>
          <a:srcRect l="31803" t="0" r="0" b="0"/>
          <a:stretch/>
        </p:blipFill>
        <p:spPr>
          <a:xfrm>
            <a:off x="2778120" y="2317680"/>
            <a:ext cx="2968560" cy="3359160"/>
          </a:xfrm>
          <a:prstGeom prst="rect">
            <a:avLst/>
          </a:prstGeom>
          <a:ln w="0">
            <a:noFill/>
          </a:ln>
        </p:spPr>
      </p:pic>
      <p:pic>
        <p:nvPicPr>
          <p:cNvPr id="404" name="Content Placeholder 3" descr="capture6.jpg"/>
          <p:cNvPicPr/>
          <p:nvPr/>
        </p:nvPicPr>
        <p:blipFill>
          <a:blip r:embed="rId3"/>
          <a:srcRect l="15212" t="0" r="12209" b="0"/>
          <a:stretch/>
        </p:blipFill>
        <p:spPr>
          <a:xfrm>
            <a:off x="5959440" y="2522520"/>
            <a:ext cx="30322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2B72-1A96-4FCB-9A75-F47B50DB1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Content Placeholder 3" descr="capture8.jpg"/>
          <p:cNvPicPr/>
          <p:nvPr/>
        </p:nvPicPr>
        <p:blipFill>
          <a:blip r:embed="rId1"/>
          <a:stretch/>
        </p:blipFill>
        <p:spPr>
          <a:xfrm>
            <a:off x="0" y="2298600"/>
            <a:ext cx="5429160" cy="3660840"/>
          </a:xfrm>
          <a:prstGeom prst="rect">
            <a:avLst/>
          </a:prstGeom>
          <a:ln w="0">
            <a:noFill/>
          </a:ln>
        </p:spPr>
      </p:pic>
      <p:pic>
        <p:nvPicPr>
          <p:cNvPr id="409" name="Content Placeholder 3" descr="capture10.jpg"/>
          <p:cNvPicPr/>
          <p:nvPr/>
        </p:nvPicPr>
        <p:blipFill>
          <a:blip r:embed="rId2"/>
          <a:stretch/>
        </p:blipFill>
        <p:spPr>
          <a:xfrm>
            <a:off x="5624640" y="1373040"/>
            <a:ext cx="3352680" cy="527076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6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C53F1-5FAE-44D6-8A42-19DBD889E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Content Placeholder 3" descr="capture15.jpg"/>
          <p:cNvPicPr/>
          <p:nvPr/>
        </p:nvPicPr>
        <p:blipFill>
          <a:blip r:embed="rId1"/>
          <a:stretch/>
        </p:blipFill>
        <p:spPr>
          <a:xfrm>
            <a:off x="0" y="1405080"/>
            <a:ext cx="3618000" cy="5219640"/>
          </a:xfrm>
          <a:prstGeom prst="rect">
            <a:avLst/>
          </a:prstGeom>
          <a:ln w="0">
            <a:noFill/>
          </a:ln>
        </p:spPr>
      </p:pic>
      <p:sp>
        <p:nvSpPr>
          <p:cNvPr id="41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6840" y="1599840"/>
            <a:ext cx="8504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angiecta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lation (expansion) of the blood vessels in the sk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me areas receive excessive blood flow, diverting blood away from other are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cells that LOSE blood flow suffer from oxygen depriv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CEBD2-5272-4B06-BC2B-16728535F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600200"/>
            <a:ext cx="822960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rythe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ly Transient: Slight inflammation of skin due to inflam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: more severe inflam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te: Severe inflammation of skin due to damaged blood vess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A4DD-E9C3-4FF2-9D39-078C13EC0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71000" y="1600200"/>
            <a:ext cx="8791560" cy="48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ute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arly loss of outer skin cells (peel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rmal Atroph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nning of the skin tiss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pilation (hair lo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y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eratinization (hardening) of the sk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ist Desqua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loss due to inability of damaged skin cells to reprodu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ary Ulc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kin damage due to dehydration and infection resulting from severe moist desquam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FBB9-31BA-4805-B995-AC33A45F0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610C-D8B2-4BE2-B273-6DFF28567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ell/tissue death due to insufficient blood f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ute Epidermal Necro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re tissue lo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-dose, low-energy beta ir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5"/>
          <p:cNvSpPr/>
          <p:nvPr/>
        </p:nvSpPr>
        <p:spPr>
          <a:xfrm>
            <a:off x="457200" y="74520"/>
            <a:ext cx="8298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Acute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Localized Expos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47840" y="-360"/>
            <a:ext cx="8229600" cy="12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hronic Radiation Effect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ole Body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95280"/>
            <a:ext cx="8259840" cy="52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tolerates small doses of radiation exposure better over a long period of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body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airs radiation dama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liminates radiation-induced byproduc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As long as the repair or elimination rate is larger than the production ra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500 rem acute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Severe radiation sick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alibri"/>
              </a:rPr>
              <a:t>500 rem delivered at 10 rem per we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Little noticeable eff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3DB3-F40E-403B-962B-3AD038258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animals (including people) have internal 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es from radioactive potassium-40 and carbon-14 inside their bo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t from bir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y minor sources of exposure to o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68CD-75C3-40C5-81F2-4C8316958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Natural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728640" y="2027160"/>
            <a:ext cx="7796160" cy="42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 permanent biological damage occurs unless total dose exceeds some value (threshol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mit long term chronic exposures to less than threshold values to protect against permanent dam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790E-8436-44DB-B414-4713823F6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496800" y="32544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hreshold Eff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0" y="149508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dy continuously attempts to repair damage as it occ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amage too sev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mechanisms become strai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ging effects are increa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ed exposure shortens average life sp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result in canc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tic mutation of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ukemia: Inability to produce white blood cells norm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8F20-C81C-4C4A-A994-DD907E649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2"/>
          <p:cNvSpPr/>
          <p:nvPr/>
        </p:nvSpPr>
        <p:spPr>
          <a:xfrm>
            <a:off x="447840" y="0"/>
            <a:ext cx="82296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Chronic Radiation Effects: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Tissue Damage and Rep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tic Effects of Radi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38120" y="1030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seen in offspring of exposed work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s to genetic information in reproductive cells due to damaged DNA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 be spontaneous changes due to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CD67B-6085-4D62-87FB-0B854B87E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44D3-AD02-4CC5-943E-76F9FCCB4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cur in the exposed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in reddening (erythem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ends 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tal D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ose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n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dy % Exp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457200" y="93600"/>
            <a:ext cx="822960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Somatic Effects of Rad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nal Radiation Exposu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 ways radionuclides can enter the bod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hal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allow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Cu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E215-525A-42DC-BF0D-0BD32C79A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itical or Target Organ Concept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allowing and Inhalation of Radionucl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599840"/>
            <a:ext cx="82296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swallowed, radionuclides pass through normal digestion proces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inhaled, radionuclides enter the lu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soluble, transmitted through blood str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blood stream, it travels through out the bod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organs have an affinity to specific elements – radioactive or no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18017-3235-41E5-8A80-C58BB9A27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-360" y="727200"/>
            <a:ext cx="8986680" cy="35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l painters contract bone cancer after years of “pointing” the radium dipped brush with their tongu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um falls in same periodic table grouping as Calci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places Calcium in b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target organ for Radium is b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5A6D-49BF-4508-87F7-7D9DC1583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9" descr=""/>
          <p:cNvPicPr/>
          <p:nvPr/>
        </p:nvPicPr>
        <p:blipFill>
          <a:blip r:embed="rId1"/>
          <a:srcRect l="24505" t="19688" r="28569" b="19066"/>
          <a:stretch/>
        </p:blipFill>
        <p:spPr>
          <a:xfrm>
            <a:off x="0" y="4203720"/>
            <a:ext cx="2459160" cy="240660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10"/>
          <p:cNvSpPr/>
          <p:nvPr/>
        </p:nvSpPr>
        <p:spPr>
          <a:xfrm>
            <a:off x="2527200" y="573264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11" descr=""/>
          <p:cNvPicPr/>
          <p:nvPr/>
        </p:nvPicPr>
        <p:blipFill>
          <a:blip r:embed="rId2"/>
          <a:stretch/>
        </p:blipFill>
        <p:spPr>
          <a:xfrm>
            <a:off x="6626160" y="4137120"/>
            <a:ext cx="2517840" cy="251784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12"/>
          <p:cNvSpPr/>
          <p:nvPr/>
        </p:nvSpPr>
        <p:spPr>
          <a:xfrm>
            <a:off x="5176800" y="5769000"/>
            <a:ext cx="137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age sour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Wikimedia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(public doma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6B150-205B-4509-9C18-CD7B31CE4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tium – B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balt – whole 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sium – large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dine - Thyro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157320"/>
            <a:ext cx="914400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1f497d"/>
                </a:solidFill>
                <a:latin typeface="Arial"/>
              </a:rPr>
              <a:t>Critical or Target Organ Concep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dy Bu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mount  of internally-deposited radioactivity causing maximum permissible dose to any org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7358-F088-45D5-9D6E-29561D8F7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14120" y="71280"/>
            <a:ext cx="890244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tection from External Radioa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 – minimize time expo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ance – Increase distance from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ielding – Increase shield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6907-8294-4FF8-B653-AF0460BB3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living things are exposed to natural background radi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osure to man-made radiation sources differs by group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ccupationally Exposed Individuals (Worker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A69C-0B1F-4FCC-A918-88C232FDE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3670-7AA7-43AD-83A0-740F60DF0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ively controlled: PREVEN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i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eating / drinking in contaminated are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 open w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Rectangle 6"/>
          <p:cNvSpPr/>
          <p:nvPr/>
        </p:nvSpPr>
        <p:spPr>
          <a:xfrm>
            <a:off x="114480" y="71280"/>
            <a:ext cx="890244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Arial"/>
              </a:rPr>
              <a:t>Protection from Internal Radio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F47A-A99C-4972-AFD7-E5CFCC8456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mbers of the Pub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dical Sources (by far, the most significant man-made sourc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gnostic x-ray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ar medicine procedures (iodine-131, cesium-137, and others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3: Biological Effects of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D9A3-0A89-4DE2-94B8-6A93645F9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umer Produc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nd road construction material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bustible fuels, including gas and co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X-ray security system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levis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escent lamp start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moke detectors (americiu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Man-Made Sources of Ra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Margaret Hines</dc:creator>
  <dc:description/>
  <dc:language>en-US</dc:language>
  <cp:lastModifiedBy>Peggy Hines IRSC</cp:lastModifiedBy>
  <dcterms:modified xsi:type="dcterms:W3CDTF">2013-02-07T19:55:15Z</dcterms:modified>
  <cp:revision>1166</cp:revision>
  <dc:subject/>
  <dc:title>Biological Effects of Radiation</dc:title>
</cp:coreProperties>
</file>