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9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9EC9-AF17-4E18-8835-9A8B96C0B2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edit other slides, use Arial (Headings) 36 flush left for titles and Arial (Body) 24 for body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0561-D8BD-4D18-B61D-E213E56BD4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160C-1046-474E-9D37-4FD8E72F08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841A-CCA3-4D01-868B-641BC120F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4845-EA0E-403B-A342-318CBAE8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E30D-A8B7-4536-9367-06487104A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011D-D168-4224-9E09-5101A2E6F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1205-B13F-4E7A-80B8-E398B7FCF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586E-7DBA-4501-8D07-72C36031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6C6D-14F8-4BAA-80EF-85AB41FE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2CCA-3966-457D-B996-B64B913C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8451-A4E0-4212-8ADE-CA04AA23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73FFF-C6C5-4869-99D6-CB691A98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689B1-294A-441B-ADCC-92ACDBB9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B281-E281-4F43-AD16-40914189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234AB-AEAD-42BC-8964-3930C9A3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CEF6-5642-4380-B669-3AE2998F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749C-8D65-424C-AE67-98C81336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0B50E-1A9E-4578-8CA7-4F08628CE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6DDA-FE7A-49A7-A907-1DC46C922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7C63-86D7-45E3-A349-9F9343EA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E7A2-7B22-4DED-83B6-1F4A63A9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FACB-C7FD-4BF5-84DA-E99E56B7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72E2-2114-457B-A68E-D3B0F8C6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D273-DCEB-40A2-B22F-1E9FDB75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59EE-BFD1-4620-9876-1D550D21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42A0-50DD-4F3C-BA7C-DED50206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1B02-5ACD-4D4E-95A3-F410840244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D64C-6138-4F69-BCB0-6C1ED5C268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26216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152280" y="1028880"/>
            <a:ext cx="8839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ADs (08-006)  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eywor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smic terrestrial internal radiation, uranium, thorium, radium, curie, becquerel, roentgen, dose, RAD, REM, x-rays, gamma, beta, alpha, fission fragments,  mrad,  tissue, organ,  affect on cells, blood,  whole body exposure,  acute, chronic,  genetic,  body burden, time distance shielding, gon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scrip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is module examines the affects of short and long term exposure to all types of radia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pporting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52280" y="1600200"/>
          <a:ext cx="8107560" cy="1515960"/>
        </p:xfrm>
        <a:graphic>
          <a:graphicData uri="http://schemas.openxmlformats.org/drawingml/2006/table">
            <a:tbl>
              <a:tblPr/>
              <a:tblGrid>
                <a:gridCol w="1351080"/>
                <a:gridCol w="1351080"/>
                <a:gridCol w="1350720"/>
                <a:gridCol w="1352520"/>
                <a:gridCol w="1351080"/>
                <a:gridCol w="1351080"/>
              </a:tblGrid>
              <a:tr h="401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4.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4.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4.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4.4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0.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0.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0.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0.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231C-5BB7-46AB-B990-4B14166D7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umer Produ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uminous watches (tritium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ntern mantles (thorium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bacco (polonium-210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hthalmic glass used in eyeglas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ceramic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Man-Made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CF81-C010-4FB1-B88E-23460551E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-360" y="15998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cupationally Exposed Individuals (Work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ustrial radiography (X-ray imag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clear medicine departm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ology (medical imaging, X-rays, etc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ation oncology (cancer treat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clear power pla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clear fuel cycle fac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pos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 and university research laborator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Man-Made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ation Measurement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active Material Quant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rie :: the amount of radioactive material decaying at 2.22 X 10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toms per minute or 3.7 X 10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toms per seco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ci = 3.7 X1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ecays per second (dp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querel :: the amount of radioactive material decaying at 1 decay per seco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ci = 3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 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q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Bq = 1 d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5B60-4ED8-4752-B177-4CF9020A6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0CA3-E9CF-49F1-A9B4-AC31C9988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logical Effe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fully described by decay rate of radioactive mater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itional factors must conside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ation 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ation ener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Radiation Measurement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Radiation Measurement Units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Roentgen (R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2189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es to gamma or x-ray interactions in 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es to energy deposition in 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ty of x-ray or gamma radiation producing 1 esu of charge (positive or negative) in 1 cc (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of dry 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u = electrostatic unit of char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ionizing event = addition or removal of 1 electron 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8 X1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-1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s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R = 2.08 X1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9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on pai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R = 88 erg/gram energy deposition in ai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rg = unit of work or ener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blem: Doesn’t relate to biological dam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EF5D-3D17-4AF1-858E-F0AF4CE8E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457200" y="5032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Radiation Measurement Units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Radiation Absorbed Dose (RAD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se = Total amount of energy delivered to a specific area or organ by radi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se rate = dose units per unit of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RAD is an amount of any type of ionizing radiation that deposits 100 ergs/gram in tiss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RAD = 100 ergs/gram energy deposition (tiss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blem: Different types of ionizing radiation might have the same energy, but have totally different effects on tiss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19CD-5368-4BA1-AD50-759BA065A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Radiation Measurement Units:</a:t>
            </a:r>
            <a:br>
              <a:rPr sz="31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oentgen Equivalent Man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(REM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mount of ionizing radiation required to produce the same biological effect as one rad of high-penetration x-ray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ation dose in rem is referred to as the dose equivalent (D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 (rem) = Dose (rad)  x  Q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lity Factor (QF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unts for differences in biological effect for different types of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86EF-F26B-4CE1-85D5-6D7334D4B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ality Fac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83808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Gamma, X-Rays, and High-Energy Be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1 rad = 1 r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lpha, Proton, Neutron, and Low-Energy Be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1 rad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1 r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1 rem = 1 rad * Q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44D3-BF1A-4349-A7F8-9F0B69D6D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219320" y="3591000"/>
          <a:ext cx="6232320" cy="3051000"/>
        </p:xfrm>
        <a:graphic>
          <a:graphicData uri="http://schemas.openxmlformats.org/drawingml/2006/table">
            <a:tbl>
              <a:tblPr/>
              <a:tblGrid>
                <a:gridCol w="3116160"/>
                <a:gridCol w="31161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LITY FA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M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&gt;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 &lt; 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MAL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ST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T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P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AVY 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Rectangle 136"/>
          <p:cNvSpPr/>
          <p:nvPr/>
        </p:nvSpPr>
        <p:spPr>
          <a:xfrm>
            <a:off x="0" y="24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1219320" y="3895560"/>
            <a:ext cx="6219720" cy="9144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1219320" y="4838760"/>
            <a:ext cx="6221160" cy="1792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fferent Radiation Typ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58760" y="823680"/>
            <a:ext cx="8763120" cy="57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logical effect of any radiation is related to rate at which radiation transfers energy to tiss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near Energy Transfer (L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sure of the interaction density along radiation travel pa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quivalent to ionization potential or stopping power of body tiss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ersely proportional to radiation r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 range particles like alphas have a high L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damaging types of radiation to a biological system are those with a high L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LET radiation deposits all of its energy in a short distance of trav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16CB-6E87-4DC9-A538-9AD7AB41A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52280" y="83772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T increases wi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ing mass of incident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ing charge of incident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asing energy of incident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order of decreasing LE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ssion frag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mass number nucle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pha parti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utr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energy Beta, x-ray and gam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energy beta, x-ray and gam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CC29-4236-4E8F-84C6-023B72116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Different Radiation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511C-3D4F-4308-BDEA-815222E2F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62000"/>
            <a:ext cx="914400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Sources of Radiation Exposure in the U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Object 8"/>
          <p:cNvGraphicFramePr/>
          <p:nvPr/>
        </p:nvGraphicFramePr>
        <p:xfrm>
          <a:off x="1031760" y="993600"/>
          <a:ext cx="6672240" cy="541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1760" y="993600"/>
                    <a:ext cx="6672240" cy="54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lationship between LET and QF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4B0B-9A15-4CC9-B779-DF58CA43B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80880" y="990720"/>
          <a:ext cx="8382240" cy="5181480"/>
        </p:xfrm>
        <a:graphic>
          <a:graphicData uri="http://schemas.openxmlformats.org/drawingml/2006/table">
            <a:tbl>
              <a:tblPr/>
              <a:tblGrid>
                <a:gridCol w="4191120"/>
                <a:gridCol w="4191120"/>
              </a:tblGrid>
              <a:tr h="217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NEAR ENERGY TRANSFE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LET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KeV/micron in water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LITY FACTO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QF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 or les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 – 7.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– 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0 – 2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– 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 - 5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– 1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 – 17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- 2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82"/>
          <p:cNvSpPr/>
          <p:nvPr/>
        </p:nvSpPr>
        <p:spPr>
          <a:xfrm>
            <a:off x="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02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2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otal dose of alpha particles to an individual is three rad.  Calculate the dose equivalent in rem using the appropriate Quality Factor (QF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3A56-83BC-422E-89C4-46C105CA9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1"/>
              <p:cNvSpPr txBox="1"/>
              <p:nvPr/>
            </p:nvSpPr>
            <p:spPr>
              <a:xfrm>
                <a:off x="162000" y="3570120"/>
                <a:ext cx="3638520" cy="316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ose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ose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04" name=""/>
          <p:cNvGraphicFramePr/>
          <p:nvPr/>
        </p:nvGraphicFramePr>
        <p:xfrm>
          <a:off x="4179960" y="3589200"/>
          <a:ext cx="4767120" cy="3051360"/>
        </p:xfrm>
        <a:graphic>
          <a:graphicData uri="http://schemas.openxmlformats.org/drawingml/2006/table">
            <a:tbl>
              <a:tblPr/>
              <a:tblGrid>
                <a:gridCol w="2790720"/>
                <a:gridCol w="1976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LITY FA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M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&gt;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 &lt; 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MAL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ST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T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P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AVY 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23840" y="814320"/>
            <a:ext cx="9020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measured by instruments, an individual was exposed to radiation field consisting of 5 mrad gamma, 2 mrad beta, and 5 mrad fast neutrons. Calculate the dose equivalent in r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C077-0FBF-4145-9873-6FD141D41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1"/>
              <p:cNvSpPr txBox="1"/>
              <p:nvPr/>
            </p:nvSpPr>
            <p:spPr>
              <a:xfrm>
                <a:off x="419040" y="2255760"/>
                <a:ext cx="4135320" cy="401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m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ose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ad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γ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β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N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5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re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12" name=""/>
          <p:cNvGraphicFramePr/>
          <p:nvPr/>
        </p:nvGraphicFramePr>
        <p:xfrm>
          <a:off x="5742000" y="3521160"/>
          <a:ext cx="3273480" cy="3051000"/>
        </p:xfrm>
        <a:graphic>
          <a:graphicData uri="http://schemas.openxmlformats.org/drawingml/2006/table">
            <a:tbl>
              <a:tblPr/>
              <a:tblGrid>
                <a:gridCol w="2790720"/>
                <a:gridCol w="4827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M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&gt;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 &lt; 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MAL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ST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T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P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AVY 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logical Orga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– basic unit of the human bod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ssue - cells with similar structure performing sam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 – cells with different structure (different tissues) performing similar overall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stem – group of organs performing common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5845-0995-4D10-BD47-D1FCA24CB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43F1-5224-45A4-8F28-EABF2C0EF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457200" y="7452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Biological Organization: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ontent Placeholder 3"/>
          <p:cNvSpPr/>
          <p:nvPr/>
        </p:nvSpPr>
        <p:spPr>
          <a:xfrm>
            <a:off x="0" y="873000"/>
            <a:ext cx="5073480" cy="59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s cell from external influences, such as tox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ekeep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toplas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%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s convert nutrients into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 of biochemical reactions for bodily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0" descr=""/>
          <p:cNvPicPr/>
          <p:nvPr/>
        </p:nvPicPr>
        <p:blipFill>
          <a:blip r:embed="rId1"/>
          <a:srcRect l="0" t="15406" r="29839" b="16427"/>
          <a:stretch/>
        </p:blipFill>
        <p:spPr>
          <a:xfrm>
            <a:off x="4491000" y="3860640"/>
            <a:ext cx="4653000" cy="28260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1"/>
          <p:cNvSpPr/>
          <p:nvPr/>
        </p:nvSpPr>
        <p:spPr>
          <a:xfrm>
            <a:off x="5529240" y="766800"/>
            <a:ext cx="3614760" cy="30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ucleol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iboso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esic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ough endoplasmic reticulum (ER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olgi apparat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ytoskelet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mooth endoplasmic reticul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acuo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ysoso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entrioles within centroso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2036880" y="6176880"/>
            <a:ext cx="3165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 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33A9-75B0-4CC3-B94C-E0B0F385A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457200" y="7452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Biological Organization: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Content Placeholder 3"/>
          <p:cNvSpPr/>
          <p:nvPr/>
        </p:nvSpPr>
        <p:spPr>
          <a:xfrm>
            <a:off x="0" y="873000"/>
            <a:ext cx="5073480" cy="59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instructions fo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ular re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ular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504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ed within chromoso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oso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nds of amino acids (deoxyribonucleic acids – D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normal bodily function if damaged or mal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0" descr=""/>
          <p:cNvPicPr/>
          <p:nvPr/>
        </p:nvPicPr>
        <p:blipFill>
          <a:blip r:embed="rId1"/>
          <a:srcRect l="2859" t="20147" r="43381" b="12370"/>
          <a:stretch/>
        </p:blipFill>
        <p:spPr>
          <a:xfrm>
            <a:off x="4419720" y="1236600"/>
            <a:ext cx="4724280" cy="370512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1"/>
          <p:cNvSpPr/>
          <p:nvPr/>
        </p:nvSpPr>
        <p:spPr>
          <a:xfrm>
            <a:off x="6878520" y="4890960"/>
            <a:ext cx="22654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B3A4-3A8E-4ACE-B9BA-975B2BE6B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457200" y="74520"/>
            <a:ext cx="822960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Segment of DNA Str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8" descr=""/>
          <p:cNvPicPr/>
          <p:nvPr/>
        </p:nvPicPr>
        <p:blipFill>
          <a:blip r:embed="rId1"/>
          <a:srcRect l="520" t="21499" r="48358" b="10002"/>
          <a:stretch/>
        </p:blipFill>
        <p:spPr>
          <a:xfrm>
            <a:off x="660240" y="939960"/>
            <a:ext cx="6634440" cy="55562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9"/>
          <p:cNvSpPr/>
          <p:nvPr/>
        </p:nvSpPr>
        <p:spPr>
          <a:xfrm>
            <a:off x="7532640" y="551484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9324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llular Effects of Ra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e radical form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 radiation dam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1212-39AC-4AA6-BA04-16D9FCEC2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176040" y="1382400"/>
            <a:ext cx="879192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tom (either neutral or charged) with unpaired electrons that wants to join with another atom to stabilize it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e radic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cals that have not yet bonded with other 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reactive atoms or chemical compounds that can alter existing state of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s in cellular chemistry are the root causes of all the harmful effects of radi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9A98-5614-4C83-8131-685E61934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246240" y="1580760"/>
            <a:ext cx="8681760" cy="49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Direct Effect of Radiation on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Ionization and excitation of intracellular water molecules produces free radic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Indirect Effect of Radiation on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ubsequent interference of free radicals with cells not direct affected by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57C9-6503-4084-8B45-FC34AD198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tural Sources of Ra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ural background radiation comes from three sourc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smic Radi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restrial Radi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l Radi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5210-6D85-4315-8C85-BEDF47C68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4A5B-4069-4439-AB15-9207838E2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4252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adiolysis: production of free radicals in wa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adiolysis by Ionization: Hydrogen Radical (H</a:t>
            </a:r>
            <a:r>
              <a:rPr b="0" lang="en-US" sz="3300" spc="-1" strike="noStrike" baseline="75000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lectron absorb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ydrogen radical and hydroxyl ion form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56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= radic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0" y="398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3"/>
              <p:cNvSpPr txBox="1"/>
              <p:nvPr/>
            </p:nvSpPr>
            <p:spPr>
              <a:xfrm>
                <a:off x="1160640" y="4595760"/>
                <a:ext cx="684504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t xml:space="preserve">H</m:t>
                        </m:r>
                      </m:e>
                      <m:sup/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1" name="Rectangle 10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5DD2-018B-48CF-A9B4-AD1186457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1814400"/>
            <a:ext cx="914400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diolysis by Ionizat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ydroxyl Radical (OH</a:t>
            </a:r>
            <a:r>
              <a:rPr b="0" lang="en-US" sz="2300" spc="-1" strike="noStrike" baseline="75000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lectron removed from water molec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sitively ionized water removes hydrogen from neutral water to form hydroxyl radic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2"/>
          <p:cNvSpPr/>
          <p:nvPr/>
        </p:nvSpPr>
        <p:spPr>
          <a:xfrm>
            <a:off x="0" y="398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1"/>
              <p:cNvSpPr txBox="1"/>
              <p:nvPr/>
            </p:nvSpPr>
            <p:spPr>
              <a:xfrm>
                <a:off x="1374840" y="4827600"/>
                <a:ext cx="6013440" cy="15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8" name="Rectangle 6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0D10-3552-4F8F-A9C0-FB639499B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0" y="1442520"/>
            <a:ext cx="9020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lysis by Excit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drogen and Hydroxyl Radic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ident electron excites water molecule, but is not absorb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ited water molecule splits into hydrogen and hydroxyl radic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0" y="398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3"/>
              <p:cNvSpPr txBox="1"/>
              <p:nvPr/>
            </p:nvSpPr>
            <p:spPr>
              <a:xfrm>
                <a:off x="1633680" y="4665600"/>
                <a:ext cx="5441760" cy="18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/>
                        </m:sSup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/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5" name="Rectangle 6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7120080" y="627228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= exc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9B5F-B239-4C69-94F1-126215207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1420560"/>
            <a:ext cx="88470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se radicals immediately react with each other to produce harmless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ever, they might react with other molecules in the cell, causing dam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3"/>
              <p:cNvSpPr txBox="1"/>
              <p:nvPr/>
            </p:nvSpPr>
            <p:spPr>
              <a:xfrm>
                <a:off x="1382760" y="2577960"/>
                <a:ext cx="4554360" cy="257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/>
                        </m:sSup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/>
                        </m:sSup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/>
                        </m:sSup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Rectangle 10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5958000" y="2654280"/>
            <a:ext cx="304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ydrogen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ydrogen Per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may d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may reproduce but new cells may d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may reproduce producing abnormal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may repair itself and function norm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484F-5DC8-48B0-812A-9002C430F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8"/>
          <p:cNvSpPr/>
          <p:nvPr/>
        </p:nvSpPr>
        <p:spPr>
          <a:xfrm>
            <a:off x="457200" y="93600"/>
            <a:ext cx="82296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ellular Effect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256E-48B7-422B-844E-FE16EFF04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979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radiation dam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1835280" y="4106880"/>
            <a:ext cx="1143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457200" y="93600"/>
            <a:ext cx="82296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ellular Effect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0" descr=""/>
          <p:cNvPicPr/>
          <p:nvPr/>
        </p:nvPicPr>
        <p:blipFill>
          <a:blip r:embed="rId1"/>
          <a:srcRect l="0" t="51499" r="0" b="2798"/>
          <a:stretch/>
        </p:blipFill>
        <p:spPr>
          <a:xfrm>
            <a:off x="2725560" y="2157480"/>
            <a:ext cx="3079800" cy="416700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11"/>
          <p:cNvSpPr/>
          <p:nvPr/>
        </p:nvSpPr>
        <p:spPr>
          <a:xfrm>
            <a:off x="6865920" y="548496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EB09-D525-42F2-9BEA-CB972ADCD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lecul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mage to enzymes, DNA etc. and interference with biological path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cellu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mage to cell membranes, nucleus, chromosomes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ular Inhibition of cell division, cell death, transformation to a malignant 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457200" y="93600"/>
            <a:ext cx="828828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Effects of Radiation by Biological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13A8-02E6-445B-8CF4-C2EF8C5F6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issue, Org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sruption to central nervous system, bone marrow, intestinal tr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duction of canc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le Anim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at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ife shorte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pul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anges in the genetic characteristics of individual memb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457200" y="93600"/>
            <a:ext cx="828828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Effects of Radiation by Biological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232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osensitiv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t cells within the body have different structures and fun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y in their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radiosensi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sceptibility to radiation-induced dam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70E4-F28E-48BC-B098-5885781C6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466560" y="107964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ular division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pidly dividing cells are more sensitivity to radiation dam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ular metabolism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lls with high metabolism rate are more susceptible to radiation dam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mental s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lls in division stage are more susceptible to radiation dam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od / nourishment to c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rmally undernourished cells reproduce l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ster reproduction = more mut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0FFB-BFF6-413F-B19A-B4CCB1016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457200" y="112680"/>
            <a:ext cx="82296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4 Factors Affecting Radiosensi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mic Radi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n and stars send constant stream of cosmic radiation to Ear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ke steady drizzle of r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ces in certain variables can change the amount (or dose) of cosmic radiation that we rece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v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mospheric condi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rth's magnetic fie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E7F9-0AFD-4DA6-A98F-AA4494136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Natural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rgan / Tissue Radiation Effec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1147680"/>
            <a:ext cx="9144000" cy="57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 / tissue radiosensitivity influenced by 2 fac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osensitivity of the tissue/organ cell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ortance to overall organ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ost radiosensitive organs and t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lood (tissu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lood-forming org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Gonads (reproductive orga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Lens of the ey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k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Least radiosensitive org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Brain (cells do not reproduc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8053-F3E0-4B4C-91E4-3127A65E9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rgan / Tissue Radiation Effec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0" y="1147680"/>
            <a:ext cx="9144000" cy="57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of the most radiosensitive tissues in the human bo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rmal blood cells have an already short lifespan and high metabolic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ke in toxins quick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nads (reproductive orga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tations occurring in egg or sperm cells could result in a mutation in the offsp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0 rads: temporary depletion of sperm 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00 to 400 rad: function of ovaries impa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0963-BC72-40DC-AE52-E9B1B8D9F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B343-765B-4BFE-A7AA-1FC681DF4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0" y="460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Organ / Tissue Radiation Effects: Bl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225360" y="700200"/>
          <a:ext cx="8575920" cy="5945040"/>
        </p:xfrm>
        <a:graphic>
          <a:graphicData uri="http://schemas.openxmlformats.org/drawingml/2006/table">
            <a:tbl>
              <a:tblPr/>
              <a:tblGrid>
                <a:gridCol w="1602000"/>
                <a:gridCol w="1611000"/>
                <a:gridCol w="1638360"/>
                <a:gridCol w="1478160"/>
                <a:gridCol w="2246400"/>
              </a:tblGrid>
              <a:tr h="1006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LOOD CELL TYP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UNC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ION SI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FETIME OF CEL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FFECT OF SINGLE RADIATION EXPOSURE OF &gt; 100 RAD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777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d (Erythrocyte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ry oxygen and nutrients to bod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ne marro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day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light decrease in numb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0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ymphocyte (type of white blood cell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ght infec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ymph nodes and splee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d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ly radiosensitive; decrease in number increases with dose; decrease within 2 days after exposure; large decrease in number can result in infec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uthrophils (type of white blood cell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ght infec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ne marro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 day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ly radiosensitive; decrease in number proportional to dose; depletion results in infection and fev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tele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lood clott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ne marro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 – 10 day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ly radiosensitive; decrease in number increases with dose; decrease in number can result in hemorrhag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180720" y="772920"/>
            <a:ext cx="8962920" cy="25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st tissue to exhibit noticeable radiation inju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radiosensitivity due to the high rate of cell division and degree of expo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00 to 500 rad: Erythema (redden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er dose: blistering and ulceration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ng term complications: scarring and skin canc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1E78-C69B-49A8-93E3-7C5B23ACB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0" y="58680"/>
            <a:ext cx="91440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Organ / Tissue Radiation Effects: Sk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9" descr=""/>
          <p:cNvPicPr/>
          <p:nvPr/>
        </p:nvPicPr>
        <p:blipFill>
          <a:blip r:embed="rId1"/>
          <a:stretch/>
        </p:blipFill>
        <p:spPr>
          <a:xfrm>
            <a:off x="2801880" y="3276720"/>
            <a:ext cx="3178080" cy="326700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10"/>
          <p:cNvSpPr/>
          <p:nvPr/>
        </p:nvSpPr>
        <p:spPr>
          <a:xfrm>
            <a:off x="6865920" y="548496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FA88-0256-492E-A93B-2338D62FF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1600200"/>
            <a:ext cx="8799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result in cataract formation (cloudine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gle dose of 200-500 r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mulative (spread over several months) dose of 1000 ra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466560" y="182520"/>
            <a:ext cx="826776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Organ / Tissue Radiation Effects:</a:t>
            </a:r>
            <a:br>
              <a:rPr sz="4000"/>
            </a:b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Lens of the E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9" descr=""/>
          <p:cNvPicPr/>
          <p:nvPr/>
        </p:nvPicPr>
        <p:blipFill>
          <a:blip r:embed="rId1"/>
          <a:srcRect l="16669" t="20483" r="24977" b="12186"/>
          <a:stretch/>
        </p:blipFill>
        <p:spPr>
          <a:xfrm>
            <a:off x="3960720" y="3413160"/>
            <a:ext cx="4419720" cy="318600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10"/>
          <p:cNvSpPr/>
          <p:nvPr/>
        </p:nvSpPr>
        <p:spPr>
          <a:xfrm>
            <a:off x="2397240" y="560088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9324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ation Effects on Huma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 facto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ation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a exp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d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se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075D-1211-4397-A343-989C63166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139680" y="1599840"/>
            <a:ext cx="900432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radiation of same type, range in tissue increases with increasing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th of penetration is function of type of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ged particles and neutrons will not penetrate as far as electromagnetic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ear Energy Transfer (LE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 depends on charge, mass, and 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igher LET = higher QF = more biological dam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9BFD-8F23-4EF3-AF38-24850E279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457200" y="274680"/>
            <a:ext cx="82296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Radiation Effects on Humans: Radiation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ole Body Expo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rradiation of all cells, organs, and t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mptoms depends on which organ is sensitive at the given dos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al Body Expo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mage limited to tissues and organs within exposed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y high localized doses of radiation are used to treat certain cancers without significant damage to the rest of the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D604-2198-42BA-95B2-6A385C38C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457200" y="227160"/>
            <a:ext cx="833760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Radiation Effects on Humans: Portion of Body Expo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59984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logical damage decreases with decreasing dose r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cute Expo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igh d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hort exposure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Chronic Expo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Low d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Long exposure ti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ccupational radiation expo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osure from natural background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9A9C-5252-4DF9-8D9B-62937AED3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457200" y="93600"/>
            <a:ext cx="840564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Radiation Effects on Humans: Rate of Expo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8933040" cy="128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le Body Expos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10600" y="1599840"/>
            <a:ext cx="8750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clinical Range (0 to 100 r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sickness occurs which requires medical atten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changes occur in the blood for doses near 100 r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apeutic Range (100 to 200 r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usea, vomiting, loss of appetite, and fatig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lood damage more sev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dness of the sk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thal Range (&gt;200 r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usea and vomiting become more sev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nal hemorrhaging may occ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ir loss at 300 r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0 - 600 rem: small percentage of people will die within 30 da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00 - 1000 rem: higher chance of dea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gt;1000 rem: Certain dea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2587-51F2-4DFF-AC5B-65DC6BDD7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restrial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arth itself is a source of terrestrial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oactive materials exist naturally in soil and r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ran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o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d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contains small amounts of dissolved uranium and thori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organic matter (both plant and animal) contains radioactive carbon and potassiu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8BB4-62C7-44C8-A985-239AE52A1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Natural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888D-FC6E-431F-BC52-EF142C185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442800" y="1074600"/>
          <a:ext cx="8229600" cy="5346720"/>
        </p:xfrm>
        <a:graphic>
          <a:graphicData uri="http://schemas.openxmlformats.org/drawingml/2006/table">
            <a:tbl>
              <a:tblPr/>
              <a:tblGrid>
                <a:gridCol w="2359080"/>
                <a:gridCol w="587052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ose (Rads*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Effec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5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First sign of physical effec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drop in white blood cell coun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Threshold for vomi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within a few hours of exposur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20 - 3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~ 50% die within 30 da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with minimal supportive car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80 - 5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~50 % die within 30 da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with supportive medical car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~ 100% die within 30 da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3" name="Rectangle 28"/>
          <p:cNvSpPr/>
          <p:nvPr/>
        </p:nvSpPr>
        <p:spPr>
          <a:xfrm>
            <a:off x="0" y="71280"/>
            <a:ext cx="9144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Arial"/>
              </a:rPr>
              <a:t>Acute Radiation Effects: Whole Body 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2C6F-AC78-4EDE-896C-658EA2465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0" y="0"/>
          <a:ext cx="9144000" cy="6561000"/>
        </p:xfrm>
        <a:graphic>
          <a:graphicData uri="http://schemas.openxmlformats.org/drawingml/2006/table">
            <a:tbl>
              <a:tblPr/>
              <a:tblGrid>
                <a:gridCol w="1488960"/>
                <a:gridCol w="1263600"/>
                <a:gridCol w="1378080"/>
                <a:gridCol w="1252440"/>
                <a:gridCol w="1257480"/>
                <a:gridCol w="1254240"/>
                <a:gridCol w="212400"/>
                <a:gridCol w="1036800"/>
              </a:tblGrid>
              <a:tr h="43056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TO 1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CLINICAL 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TO 1,0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APEUTIC 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 1,0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THAL 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TO 2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 TO 6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 TO 1,0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00 TO 5,0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 5,0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59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INICAL SURVEILL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APY EFFE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APY PROMIS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APY PALLIA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idence of vomi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rems: 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 rems: 5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 rems = 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lay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hou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hou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ho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</a:tr>
              <a:tr h="599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ading org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matopoietic tiss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strointestinal tra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ntral nervous syst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9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racteristic sig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rate Leukope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vere leucopenia; purpose; hemorrhage; infection.  Hair loss above 300 rem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arrhea; fever, disturbance of electrolyte bal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vulsions; tremor; ataxia; letharg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</a:tr>
              <a:tr h="430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ical period post expos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to 6 week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to 14 day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to 48 hou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ap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ssur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ssurance; hematological surveill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lood transfusion; antibioti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ider bone marrow transplant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intenance of electrolyte bal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dativ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nos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cell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cell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o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uard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pele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</a:tr>
              <a:tr h="259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valescent peri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veral week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to 12 month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 to 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idence of dea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to 100% (variabl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 to 100% (variabl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ath occurs with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month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week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day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7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use of dea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morrhage; inf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rculatory collap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piratory fail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cute Radiation Effect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ocalized Expos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48AF-D9FD-4A79-B4D0-79E6E89DE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Content Placeholder 4" descr="capture4.jpg"/>
          <p:cNvPicPr/>
          <p:nvPr/>
        </p:nvPicPr>
        <p:blipFill>
          <a:blip r:embed="rId1"/>
          <a:srcRect l="22911" t="0" r="21263" b="13409"/>
          <a:stretch/>
        </p:blipFill>
        <p:spPr>
          <a:xfrm>
            <a:off x="0" y="2152800"/>
            <a:ext cx="2490840" cy="3903480"/>
          </a:xfrm>
          <a:prstGeom prst="rect">
            <a:avLst/>
          </a:prstGeom>
          <a:ln w="0">
            <a:noFill/>
          </a:ln>
        </p:spPr>
      </p:pic>
      <p:pic>
        <p:nvPicPr>
          <p:cNvPr id="403" name="Content Placeholder 3" descr="capture12.jpg"/>
          <p:cNvPicPr/>
          <p:nvPr/>
        </p:nvPicPr>
        <p:blipFill>
          <a:blip r:embed="rId2"/>
          <a:srcRect l="31803" t="0" r="0" b="0"/>
          <a:stretch/>
        </p:blipFill>
        <p:spPr>
          <a:xfrm>
            <a:off x="2778120" y="2317680"/>
            <a:ext cx="2968560" cy="3359160"/>
          </a:xfrm>
          <a:prstGeom prst="rect">
            <a:avLst/>
          </a:prstGeom>
          <a:ln w="0">
            <a:noFill/>
          </a:ln>
        </p:spPr>
      </p:pic>
      <p:pic>
        <p:nvPicPr>
          <p:cNvPr id="404" name="Content Placeholder 3" descr="capture6.jpg"/>
          <p:cNvPicPr/>
          <p:nvPr/>
        </p:nvPicPr>
        <p:blipFill>
          <a:blip r:embed="rId3"/>
          <a:srcRect l="15212" t="0" r="12209" b="0"/>
          <a:stretch/>
        </p:blipFill>
        <p:spPr>
          <a:xfrm>
            <a:off x="5959440" y="2522520"/>
            <a:ext cx="303228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1E9C-6BF6-4053-967D-F37E8F855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Content Placeholder 3" descr="capture8.jpg"/>
          <p:cNvPicPr/>
          <p:nvPr/>
        </p:nvPicPr>
        <p:blipFill>
          <a:blip r:embed="rId1"/>
          <a:stretch/>
        </p:blipFill>
        <p:spPr>
          <a:xfrm>
            <a:off x="0" y="2298600"/>
            <a:ext cx="5429160" cy="3660840"/>
          </a:xfrm>
          <a:prstGeom prst="rect">
            <a:avLst/>
          </a:prstGeom>
          <a:ln w="0">
            <a:noFill/>
          </a:ln>
        </p:spPr>
      </p:pic>
      <p:pic>
        <p:nvPicPr>
          <p:cNvPr id="409" name="Content Placeholder 3" descr="capture10.jpg"/>
          <p:cNvPicPr/>
          <p:nvPr/>
        </p:nvPicPr>
        <p:blipFill>
          <a:blip r:embed="rId2"/>
          <a:stretch/>
        </p:blipFill>
        <p:spPr>
          <a:xfrm>
            <a:off x="5624640" y="1373040"/>
            <a:ext cx="3352680" cy="527076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6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4C67-A209-4655-B25D-2F9A9333E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Content Placeholder 3" descr="capture15.jpg"/>
          <p:cNvPicPr/>
          <p:nvPr/>
        </p:nvPicPr>
        <p:blipFill>
          <a:blip r:embed="rId1"/>
          <a:stretch/>
        </p:blipFill>
        <p:spPr>
          <a:xfrm>
            <a:off x="0" y="1405080"/>
            <a:ext cx="3618000" cy="521964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5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6840" y="1599840"/>
            <a:ext cx="8504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langiectas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lation (expansion) of the blood vessels in the sk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areas receive excessive blood flow, diverting blood away from other ar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ells that LOSE blood flow suffer from oxygen depriv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ythe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rly Transient: Slight inflammation of skin due to inflamed blood vess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in: more severe inflam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te: Severe inflammation of skin due to damaged blood vess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EC00-A085-407A-8C58-716FE8699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5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160020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ythe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ly Transient: Slight inflammation of skin due to inflamed blood vess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: more severe inflam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te: Severe inflammation of skin due to damaged blood vess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74AD-ABBA-43C4-95E6-4DC659587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2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171000" y="1600200"/>
            <a:ext cx="879156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ute Ulc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arly loss of outer skin cells (peel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rmal Atrop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nning of the skin tiss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pilation (hair lo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y Desqua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ratinization (hardening) of the sk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ist Desqua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kin loss due to inability of damaged skin cells to reprodu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ary Ulc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kin damage due to dehydration and infection resulting from severe moist desqua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1C98-E8EB-4A1B-A4FE-0627E1331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429C-FDB6-44E2-AA10-9002D8309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rmal Necr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/tissue death due to insufficient blood f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ute Epidermal Necr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re tissue lo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-dose, low-energy beta ir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47840" y="-36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hronic Radiation Effect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ole Body Expos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95280"/>
            <a:ext cx="825984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 body tolerates small doses of radiation exposure better over a long period of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 body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airs radiation dam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iminates radiation-induced byprodu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As long as the repair or elimination rate is larger than the production ra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500 rem acute d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evere radiation sick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500 rem delivered at 10 rem per we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Little noticeable eff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6582-1DE0-4FB2-842C-BABA16FCC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animals (including people) have internal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es from radioactive potassium-40 and carbon-14 inside their bo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ent from bir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y minor sources of exposure to o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A5D8-E153-4018-8AB5-E7D98E225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Natural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728640" y="2027160"/>
            <a:ext cx="77961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permanent biological damage occurs unless total dose exceeds some value (threshol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mit long term chronic exposures to less than threshold values to protect against permanent dam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5073-C30C-4CD0-91A0-38E17FF4B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496800" y="325440"/>
            <a:ext cx="822960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hronic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Threshold Eff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0" y="149508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dy continuously attempts to repair damage as it occ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damage too sev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air mechanisms become stra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ing effects are increa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ued exposure shortens average life sp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result in canc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tic mutation of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ukemia: Inability to produce white blood cells norm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412B-DC0B-4E6B-AFEA-0684723D5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2"/>
          <p:cNvSpPr/>
          <p:nvPr/>
        </p:nvSpPr>
        <p:spPr>
          <a:xfrm>
            <a:off x="447840" y="0"/>
            <a:ext cx="822960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hronic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Tissue Damage and Repa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93600"/>
            <a:ext cx="8229600" cy="7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enetic Effects of Rad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38120" y="1030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seen in offspring of exposed wor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s to genetic information in reproductive cells due to damaged DNA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be spontaneous changes due to background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3BCE-6F67-4DEF-9A08-0250BA166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72D0-B4EA-4539-987E-ADB66B635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cur in the exposed per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od ch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in reddening (erythem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ends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D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se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n Exp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dy % Exp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457200" y="93600"/>
            <a:ext cx="82296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Somatic Effects of Rad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ernal Radiation Expos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ways radionuclides can enter the bod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ha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allow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sor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ough Cu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C121-8019-4D13-BB69-E28E31162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157320"/>
            <a:ext cx="91440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tical or Target Organ Concep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wallowing and Inhalation of Radionucl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7200" y="1599840"/>
            <a:ext cx="8229600" cy="49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swallowed, radionuclides pass through normal digestion proces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inhaled, radionuclides enter the lu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soluble, transmitted through blood str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blood stream, it travels through out the bod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organs have an affinity to specific elements – radioactive or no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B6F7-3746-40E1-BEB0-EE7205E1C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-360" y="727200"/>
            <a:ext cx="8986680" cy="35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l painters contract bone cancer after years of “pointing” the radium dipped brush with their tongu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um falls in same periodic table grouping as Calci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laces Calcium in b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arget organ for Radium is bo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4268-ED59-4088-9453-275861707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1f497d"/>
                </a:solidFill>
                <a:latin typeface="Arial"/>
              </a:rPr>
              <a:t>Critical or Target Organ Concep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9" descr=""/>
          <p:cNvPicPr/>
          <p:nvPr/>
        </p:nvPicPr>
        <p:blipFill>
          <a:blip r:embed="rId1"/>
          <a:srcRect l="24505" t="19688" r="28569" b="19066"/>
          <a:stretch/>
        </p:blipFill>
        <p:spPr>
          <a:xfrm>
            <a:off x="0" y="4203720"/>
            <a:ext cx="2459160" cy="2406600"/>
          </a:xfrm>
          <a:prstGeom prst="rect">
            <a:avLst/>
          </a:prstGeom>
          <a:ln w="0">
            <a:noFill/>
          </a:ln>
        </p:spPr>
      </p:pic>
      <p:sp>
        <p:nvSpPr>
          <p:cNvPr id="477" name="Text Box 10"/>
          <p:cNvSpPr/>
          <p:nvPr/>
        </p:nvSpPr>
        <p:spPr>
          <a:xfrm>
            <a:off x="2527200" y="573264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11" descr=""/>
          <p:cNvPicPr/>
          <p:nvPr/>
        </p:nvPicPr>
        <p:blipFill>
          <a:blip r:embed="rId2"/>
          <a:stretch/>
        </p:blipFill>
        <p:spPr>
          <a:xfrm>
            <a:off x="6626160" y="4137120"/>
            <a:ext cx="2517840" cy="251784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12"/>
          <p:cNvSpPr/>
          <p:nvPr/>
        </p:nvSpPr>
        <p:spPr>
          <a:xfrm>
            <a:off x="5176800" y="576900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687D-83B5-457D-87DF-200A3ACFF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um – B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tium – B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balt – whole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sium – large intest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odine - Thyro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157320"/>
            <a:ext cx="914400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1f497d"/>
                </a:solidFill>
                <a:latin typeface="Arial"/>
              </a:rPr>
              <a:t>Critical or Target Organ Concep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dy Bur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ount  of internally-deposited radioactivity causing maximum permissible dose to any org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C1BD-8510-4371-AB12-BA2900DCB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4120" y="71280"/>
            <a:ext cx="890244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tection from External Radioactiv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 – minimize time expo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ance – Increase distance from sou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ielding – Increase shield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877F-A928-450D-82F9-CF4011D13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-Made Sources of Ra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living things are exposed to natural background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osure to man-made radiation sources differs by group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bers of the Public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ccupationally Exposed Individuals (Worker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20C0-8616-4A54-9945-4BE7B1A87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C164-D96E-499F-9E8B-AFFC6EC0A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ministratively controlled: PREVEN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i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eating / drinking in contaminated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open wou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6"/>
          <p:cNvSpPr/>
          <p:nvPr/>
        </p:nvSpPr>
        <p:spPr>
          <a:xfrm>
            <a:off x="114480" y="71280"/>
            <a:ext cx="890244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Protection from Internal Radio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C855-B3DA-489C-9938-CE8BE0FA5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mbers of the Publi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dical Sources (by far, the most significant man-made source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agnostic x-ray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clear medicine procedures (iodine-131, cesium-137, and other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Man-Made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9289-DC8A-43AD-BE83-310C60EF1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umer Produ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ilding and road construction materia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bustible fuels, including gas and co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-ray security syste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levis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uorescent lamp starte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oke detectors (americium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Man-Made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argaret Hines</dc:creator>
  <dc:description/>
  <dc:language>en-US</dc:language>
  <cp:lastModifiedBy>Peggy Hines IRSC</cp:lastModifiedBy>
  <dcterms:modified xsi:type="dcterms:W3CDTF">2013-02-07T19:55:15Z</dcterms:modified>
  <cp:revision>1166</cp:revision>
  <dc:subject/>
  <dc:title>Biological Effects of Radiation</dc:title>
</cp:coreProperties>
</file>