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1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4.png" ContentType="image/png"/>
  <Override PartName="/ppt/media/image10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44.jpeg" ContentType="image/jpeg"/>
  <Override PartName="/ppt/media/image38.jpeg" ContentType="image/jpeg"/>
  <Override PartName="/ppt/media/image28.png" ContentType="image/png"/>
  <Override PartName="/ppt/media/image29.jpeg" ContentType="image/jpeg"/>
  <Override PartName="/ppt/media/image33.jpeg" ContentType="image/jpeg"/>
  <Override PartName="/ppt/media/image37.jpeg" ContentType="image/jpeg"/>
  <Override PartName="/ppt/media/image41.jpeg" ContentType="image/jpeg"/>
  <Override PartName="/ppt/media/image45.jpeg" ContentType="image/jpeg"/>
  <Override PartName="/ppt/media/image5.png" ContentType="image/png"/>
  <Override PartName="/ppt/media/image43.jpeg" ContentType="image/jpeg"/>
  <Override PartName="/ppt/media/image35.png" ContentType="image/png"/>
  <Override PartName="/ppt/media/image46.jpeg" ContentType="image/jpeg"/>
  <Override PartName="/ppt/media/image30.jpeg" ContentType="image/jpeg"/>
  <Override PartName="/ppt/media/image31.png" ContentType="image/png"/>
  <Override PartName="/ppt/media/image6.png" ContentType="image/png"/>
  <Override PartName="/ppt/media/image47.jpeg" ContentType="image/jpeg"/>
  <Override PartName="/ppt/media/image4.png" ContentType="image/png"/>
  <Override PartName="/ppt/media/image11.jpeg" ContentType="image/jpeg"/>
  <Override PartName="/ppt/media/image9.jpeg" ContentType="image/jpeg"/>
  <Override PartName="/ppt/media/image39.jpeg" ContentType="image/jpeg"/>
  <Override PartName="/ppt/media/image8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  <p:sldId id="304" r:id="rId65"/>
    <p:sldId id="305" r:id="rId66"/>
    <p:sldId id="306" r:id="rId67"/>
    <p:sldId id="307" r:id="rId68"/>
    <p:sldId id="308" r:id="rId69"/>
    <p:sldId id="309" r:id="rId70"/>
    <p:sldId id="310" r:id="rId71"/>
    <p:sldId id="311" r:id="rId72"/>
    <p:sldId id="312" r:id="rId73"/>
    <p:sldId id="313" r:id="rId74"/>
    <p:sldId id="314" r:id="rId75"/>
    <p:sldId id="315" r:id="rId76"/>
    <p:sldId id="316" r:id="rId77"/>
    <p:sldId id="317" r:id="rId78"/>
    <p:sldId id="318" r:id="rId79"/>
    <p:sldId id="319" r:id="rId80"/>
    <p:sldId id="320" r:id="rId81"/>
    <p:sldId id="321" r:id="rId82"/>
    <p:sldId id="322" r:id="rId83"/>
    <p:sldId id="323" r:id="rId84"/>
    <p:sldId id="324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slide" Target="slides/slide49.xml"/><Relationship Id="rId66" Type="http://schemas.openxmlformats.org/officeDocument/2006/relationships/slide" Target="slides/slide50.xml"/><Relationship Id="rId67" Type="http://schemas.openxmlformats.org/officeDocument/2006/relationships/slide" Target="slides/slide51.xml"/><Relationship Id="rId68" Type="http://schemas.openxmlformats.org/officeDocument/2006/relationships/slide" Target="slides/slide52.xml"/><Relationship Id="rId69" Type="http://schemas.openxmlformats.org/officeDocument/2006/relationships/slide" Target="slides/slide53.xml"/><Relationship Id="rId70" Type="http://schemas.openxmlformats.org/officeDocument/2006/relationships/slide" Target="slides/slide54.xml"/><Relationship Id="rId71" Type="http://schemas.openxmlformats.org/officeDocument/2006/relationships/slide" Target="slides/slide55.xml"/><Relationship Id="rId72" Type="http://schemas.openxmlformats.org/officeDocument/2006/relationships/slide" Target="slides/slide56.xml"/><Relationship Id="rId73" Type="http://schemas.openxmlformats.org/officeDocument/2006/relationships/slide" Target="slides/slide57.xml"/><Relationship Id="rId74" Type="http://schemas.openxmlformats.org/officeDocument/2006/relationships/slide" Target="slides/slide58.xml"/><Relationship Id="rId75" Type="http://schemas.openxmlformats.org/officeDocument/2006/relationships/slide" Target="slides/slide59.xml"/><Relationship Id="rId76" Type="http://schemas.openxmlformats.org/officeDocument/2006/relationships/slide" Target="slides/slide60.xml"/><Relationship Id="rId77" Type="http://schemas.openxmlformats.org/officeDocument/2006/relationships/slide" Target="slides/slide61.xml"/><Relationship Id="rId78" Type="http://schemas.openxmlformats.org/officeDocument/2006/relationships/slide" Target="slides/slide62.xml"/><Relationship Id="rId79" Type="http://schemas.openxmlformats.org/officeDocument/2006/relationships/slide" Target="slides/slide63.xml"/><Relationship Id="rId80" Type="http://schemas.openxmlformats.org/officeDocument/2006/relationships/slide" Target="slides/slide64.xml"/><Relationship Id="rId81" Type="http://schemas.openxmlformats.org/officeDocument/2006/relationships/slide" Target="slides/slide65.xml"/><Relationship Id="rId82" Type="http://schemas.openxmlformats.org/officeDocument/2006/relationships/slide" Target="slides/slide66.xml"/><Relationship Id="rId83" Type="http://schemas.openxmlformats.org/officeDocument/2006/relationships/slide" Target="slides/slide67.xml"/><Relationship Id="rId84" Type="http://schemas.openxmlformats.org/officeDocument/2006/relationships/slide" Target="slides/slide68.xml"/><Relationship Id="rId85" Type="http://schemas.openxmlformats.org/officeDocument/2006/relationships/slide" Target="slides/slide69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4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ftr" idx="4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 type="sldNum" idx="4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84FC-3BD9-4022-9A2E-902A0B7F1AF1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5EBD-254B-4701-B9EF-BD41783B2D18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666D-A968-41EB-B60A-3ABD006FD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FE4C-777F-433C-A7A5-40C67A40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90AFE4-50BA-4BD9-8F95-6204D887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105EB9-0F4B-4400-B744-8210FC9F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F6CC8B-43CF-4961-86C6-62D1F59C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932ECA-6930-4894-A35D-3F3E72CD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EC2F1-9974-42C3-A9A3-50BF435A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8855EB-4FC1-4D84-8382-5FB0738F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7F6E0C-3133-40E1-9354-2AEE6644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54C604-BFD4-44D4-B856-F8FFA6549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F02F82-7F82-45AE-BB7A-C624D9465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5DA5E2-5C29-4351-8166-7596F3F25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F2BE-2709-46EA-91D8-0BB75B580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216D8A-E62A-4EFC-8CD6-6B2AE27D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CD8517-7561-4A09-99EA-832480E6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3BE8E8-1BA2-4412-A79C-22150210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6B2175-AA07-4A1F-A86C-96A4E54F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8D0BA4-D4EB-4EFD-A39A-2A6E26EC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1A9775-CC2F-4699-B0F9-135F0AE7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F83A1A-AD6D-4C67-91D1-D8C37F52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AD3C3D-551C-4811-8616-9E3C0D8E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E9153C-6597-437D-8254-ED3F3A5A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649C72-512B-49F3-B264-AB1A89318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6E9A-EFB2-48D1-BAA8-9C9B19F3F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C955E4-EF21-4C87-AF5B-AB3ED04A9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DD6BFD-A469-427E-B066-C9755C294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8D4F84-B465-4EFD-80E4-4064FAEC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8AF59D-FE94-42A6-980B-DD09B443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2C34F5-A404-4F4C-BCA8-F48633B5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A0F243-4C9F-42C4-9A7D-123D0F62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B468F0-A0CA-4FB8-B0E8-0F8E0A5FD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82A59-D0F0-499E-87CC-B0AC753D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12370F-478D-47F5-A730-90DC8F6B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E9739-ADB4-4721-805D-D9AA87E2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5C0AC-5D25-4AA2-8DDD-B4C158057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BE1E88-BB98-4BCE-BA9F-729CB74E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5882B9-770F-4948-9A7D-33F6D8DD4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F379B1-FC4A-4113-9AEB-E4B09D430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F2657B-3F68-4809-9AA9-37D019ED2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7BA704-7134-4B8C-9112-93FAF368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E5AD1D-8DEF-49BA-9372-973D5700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B2A9C8-AC38-4F1E-8FF2-A4B8AD8F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BFC9C0-F91F-4114-BF73-9FB4AA32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5BCDB0-8DD4-42FE-B1E2-287A212B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491887-290B-4521-86E9-24848049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31AAF-53AA-4DCF-B9F3-5663FC32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96F5DA-7D22-4D28-AB52-1B62AD26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2DD8A6-0CB8-42EB-9AA9-C69EEA9B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58E7A4-C872-4C9E-B83A-FC463C6F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9BB6BB-AE94-45CD-81F9-48189AB30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1F9260-CFC7-4273-B9F1-6868BE61C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5F140E-304E-4205-BA3B-9B6A624FA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44BA30-94DB-42C8-989B-30BDDAC8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0F9B0E-9844-427C-B429-212D52C0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ADEDFA-09F6-41E0-8F9F-ADF0286D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5FC18A-896C-4196-A99B-F8DAABC5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BBB29-F13D-43DD-8743-793038F8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5E4A71-5221-42E3-BEC5-4D2ACB33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025E60-0938-4C44-8B2C-94A5F9CD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E5E083-B4B4-4EC2-92BF-943A547D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47B276-7CC0-4C58-83B8-75F4B701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5CA361-0473-45B7-8FE0-57F252C6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22A865-3A20-4EDE-92BB-3EA3D1A28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A993F1-2045-40FE-A69D-22BED41D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7A233B-8D2C-40B1-B7AA-D96578BE0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5042DA-C7AD-4816-AADC-E58860CA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1E5CF3-5120-47DE-A1B7-9DA2FC31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C9122-FFC5-4B0C-92ED-C3FFC2ED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AF1173-ECDA-4914-800F-6ED713FC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147FB4-C5EB-4188-9CBB-C4CA57B0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F90B8D-47A8-47CA-BC75-B9EBBB0E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52D6E3-2CD9-4A01-9B54-3A96B87E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B651D0-8FFD-422D-957F-CAF6576B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52E4BB-61FF-41E0-95FF-DD4873AA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18DEFF-E53C-478E-81C0-7401ACD8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CB1908-3316-4DA2-808D-B7A228DDA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AF23DE-975A-4E8A-9B33-E0FBB7608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0F36-D084-4386-9051-5E18E08D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B51C-87DD-43CE-ABE6-F0BB16DB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2ECFB-700A-4DB4-B269-6036B1B1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7919-8EB3-478B-A87D-631062F6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74EEC-8086-46FB-B93F-2116AC7D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4EF5F-D877-4331-9AF9-8264E481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CC11-C925-4D23-9C31-EA984CB2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BFAD-E664-4EDA-B936-F921881A0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F1C4F-F14A-47BE-97E0-C6814DCD3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B99B7-59F6-4A12-B834-512AF0D93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214D6-1C3A-4978-82EB-89427EDC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C286C-EF91-41E7-9D80-33A57CA2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5FCAA-30E2-4E29-9E1D-613619D3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A3F8E-CAEB-4904-938E-A6E834F9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D7B9-816A-41C1-8304-C2AF4C59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A4260-1CCE-4F34-B155-FD9D3C2D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A1C64-0B2E-4B7C-8573-6E892443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9896D-0DD5-4956-A60C-FE46F593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9585B-E022-4E05-8269-F414B99F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5A1D9-3B72-4811-90AA-FE44B034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BC99C-2D33-4A81-A8E7-6AC49D3AF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0B5AC-4C70-4C58-B48B-08FB116A8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968A7-6002-4678-A83A-E185FEBBC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F38F0-A1C6-407A-853A-4966C754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CD5D8-EC73-4870-89D5-7074D344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E6DF-3E8A-4B45-9E5D-51D4A432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CB6BE-D32F-42F8-9C7A-20342A4B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DA78D-94BA-4BC7-B3EA-42B5A8F7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89221-2109-46AE-9A70-55BB74E1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CA7AE-7CFE-4525-A939-9729588C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B8D33-FFF5-4C0F-8B4D-1E96341D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A711D-2DC2-42E5-90BB-3D075C6A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43699-2440-4AC6-921C-E7FD9FD9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3F6EE-6ECB-4160-9F20-27862B31B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96487-8C9F-48B2-B732-5EEAA5297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B19EE-7336-4E2C-8958-EBD67F974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148C-74E3-4229-A6D8-C6028DE2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87D9D-1C88-4232-8C4F-EBD5E752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28B56-2D54-4234-BCE4-5C021CE1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6EC51-59F6-4EE7-A5E5-FDEBEAE7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1F1A4-8A7D-4966-9063-B0698095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9B91D-BE66-4B8E-BE3D-A8C52990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D39A7-85AF-4E89-A470-14B82175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EDFB5-9DB2-493F-A8CB-F8F7D003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8C98E-2F5D-4E91-B362-ED9E6BBC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3944D-0EBC-4C3D-9FA2-302EB53A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1025E-9B50-4FE9-937F-1A82155E2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B0FE-0F64-4600-A9E2-F5B85967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DB916-5E05-41EC-AFC1-4EB9EAC25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D727F-787F-41F6-81D0-87094FDE1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E8612-A5E4-4C8C-BA86-945A77AB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525E5-AAD5-4E64-8E4A-CB6C7685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A8A4F-4A21-4CD8-BDA3-2FA7116D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3528E-7142-4EB8-9BEB-53CA1130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F0F06-DDB7-4202-BC18-F2A94413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103E2-331F-4C5B-B87E-C5DFCE67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45D42-89C9-494D-8A6F-B122F201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32682-8A7E-44FB-BD45-7617A7CB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344F-DFF3-4DD3-B074-A7233323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8B62B-BC81-4B70-BD72-26A7CD2C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CB92A-D4B1-47EE-9730-4F4BDF4C1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7D2FB-6FAF-42F5-AD51-7430090F6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E458B-BBE2-4049-B886-76460C707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600FC-537F-498D-B545-5CC19AC4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E37EF-1D02-4FC9-9CA8-4D107358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2F49A-365E-4144-9F57-F7C00C16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7FEFD-CA93-4267-82CE-928E8E21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4C494-BC77-4430-A522-8D6D6C5A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1C311-91E3-4B03-9BBB-93333752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43B3-7B41-4F7B-902C-8F4AA4B9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723F4-621E-4605-854D-91E9C694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B46A4-AF30-4BF6-B7C0-963A078B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21F9B-EF93-43FB-931B-491FF725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F95A7-F140-4453-A30D-EE2647A68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669FC-9E51-4AA4-9920-0BD393285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CE6A3-1657-4F5B-AEB9-CADC242BE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1D309-DABC-40E7-96EA-B6B4F0C3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3EC98-BF51-4FF7-AC28-69849283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4B4FC-FA21-4D73-97F8-D8589A72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8458A-5068-4D06-B1E2-6D0F7E84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AD89-EADA-41B8-BB65-E8EDA247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3703C-C695-4556-85B1-5077BCDA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4148D-A635-4E0E-8A78-99DCA4E2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8521F-D39D-4BD0-AE44-B3004120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1AC2E-3538-4FED-8C5A-4CEC0729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6D2BA-DF2B-4BD5-96B8-A7CE2F8F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39FEF-77DC-4F45-9E7F-0F42EA97F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81440-673F-4ABD-9A77-BB8B45E6B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CD635B-C63E-43EE-9CDF-E35A29FE1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F026E-7BF6-4A89-A086-C61EE91A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4ED124-EEA4-49AD-9325-D4A8EAD1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odule 6: Portable Radiation Survey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F50D-4B02-46FC-ACFC-B3BD512013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D76F-11F2-474D-94E1-58CAFA0FC1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FF3C-2B22-4EA2-A895-643BF16CA2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D454-2DAC-4CDB-BF8F-6E88806732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90B0-C69D-48B9-9FD3-74D9690175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CF31-D36A-491B-91FD-533E9C1878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2F1C-9AEE-43EC-A251-9386C07400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odule 6: Portable Radiation Survey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9761-4058-45BA-9C6B-EB9C65FB85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3988-7F7B-4463-9985-DCB7D289C4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F8D6-A017-41C8-9CC0-89EA4E76B1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B8BF-2F70-40F0-8F73-60B2693E1C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44A7-A41A-4D79-9DAA-05FF573B62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2447-AC04-4AE2-B0B8-571F67C2EA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F152-8E09-4E44-A941-E5D9A3BB89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Box 1"/>
          <p:cNvSpPr/>
          <p:nvPr/>
        </p:nvSpPr>
        <p:spPr>
          <a:xfrm>
            <a:off x="152280" y="102384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rvey instruments, ionization, gas filled, scintillation, thermoluminesence, geiger-mueller detectors, beta, gamma, neutron, alpha, ion chamber, eberline instruments, frisking device, air sampler, radiation levels, proportional counter, loose surf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7" name=""/>
          <p:cNvGraphicFramePr/>
          <p:nvPr/>
        </p:nvGraphicFramePr>
        <p:xfrm>
          <a:off x="237960" y="1523880"/>
          <a:ext cx="8668080" cy="1463760"/>
        </p:xfrm>
        <a:graphic>
          <a:graphicData uri="http://schemas.openxmlformats.org/drawingml/2006/table">
            <a:tbl>
              <a:tblPr/>
              <a:tblGrid>
                <a:gridCol w="1195560"/>
                <a:gridCol w="971640"/>
                <a:gridCol w="1082520"/>
                <a:gridCol w="1084320"/>
                <a:gridCol w="1084320"/>
                <a:gridCol w="1082520"/>
                <a:gridCol w="1084320"/>
                <a:gridCol w="1082880"/>
              </a:tblGrid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3.28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s Amplifi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228600" y="837720"/>
            <a:ext cx="87631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lse magnitude determined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ed vol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umber of initial (primary) ionizing ev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tant number based on specific ionization and detector siz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as amplification factor for the particular gas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tio of total # of collected electrons to # of primary electr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s ampl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ter initial (primary) ion pair is formed and moves toward electrodes, secondary ionization occu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itional ion pairs form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applied voltage increases, gas amplification factor chan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variable that primarily determines the pulse magnitude is the applied volt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063A-8CB9-445D-983F-395716D25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iger-Mueller Dete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228600" y="990720"/>
            <a:ext cx="5943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s-filled chambers that operate in Region V of the gas amplification cur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to detect both beta and gamma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lar-covered "window" serves as inlet fil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ows passage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articles of ~0.05 Me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have movable cover that can be adjusted to allow bo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enter,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n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7E44-4970-49F2-A04C-1E854115E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Picture 4" descr=""/>
          <p:cNvPicPr/>
          <p:nvPr/>
        </p:nvPicPr>
        <p:blipFill>
          <a:blip r:embed="rId1"/>
          <a:srcRect l="0" t="7869" r="0" b="2949"/>
          <a:stretch/>
        </p:blipFill>
        <p:spPr>
          <a:xfrm>
            <a:off x="5562720" y="2286000"/>
            <a:ext cx="358128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portional Counter for Neutron Dete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228240" y="9903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s-filled proportional counter dete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lse height discrimin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tinguish between larger pulses due to neutron radiation (thus secondar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and smaller pulses due to other incident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s used is boron trifluoride (B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) enriched with Boron-10 (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y high cross-section for absorbing thermal neutr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ident neutrons absorbed by boron 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ults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mi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icles cause measureable ionization in the g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9E0D-0AF8-4338-B7FA-11B6A4E27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5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4" name="Object 8"/>
              <p:cNvSpPr txBox="1"/>
              <p:nvPr/>
            </p:nvSpPr>
            <p:spPr>
              <a:xfrm>
                <a:off x="2362320" y="5602320"/>
                <a:ext cx="434340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5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B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η</m:t>
                    </m:r>
                    <m:r>
                      <m:t xml:space="preserve">→</m:t>
                    </m:r>
                    <m:sPr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457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cintillation Dete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152280" y="838080"/>
            <a:ext cx="883944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onizing radiation producing flashes of light when interacting with certain materials containing phosph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remely sensitive to most forms of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ful for detecting alpha radi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pha particles can be detected since they aren’t stopped by the metal walls of a gas chamb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sures both amount and energy level of radiation pres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1DDF-D198-4826-8800-907620626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Picture 6" descr=""/>
          <p:cNvPicPr/>
          <p:nvPr/>
        </p:nvPicPr>
        <p:blipFill>
          <a:blip r:embed="rId1"/>
          <a:stretch/>
        </p:blipFill>
        <p:spPr>
          <a:xfrm>
            <a:off x="0" y="3632040"/>
            <a:ext cx="2220840" cy="256716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11" descr=""/>
          <p:cNvPicPr/>
          <p:nvPr/>
        </p:nvPicPr>
        <p:blipFill>
          <a:blip r:embed="rId2"/>
          <a:srcRect l="3381" t="25555" r="4652" b="18610"/>
          <a:stretch/>
        </p:blipFill>
        <p:spPr>
          <a:xfrm>
            <a:off x="2287440" y="3792600"/>
            <a:ext cx="68565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se of Survey Instru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228600" y="7617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table radiation survey instruments are to be used for the detection and determination of radiation exposure lev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able and able to withstand normal use, but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destruction proo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be handled with care and used proper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ject to damage from rough handling the same as any electronic equip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following a few rules and recommendations, the instruments should last many years and provide the user with a measure of knowled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1D6D-004D-44D9-9269-4D1904E14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se of Survey Instru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-360" y="762120"/>
            <a:ext cx="89917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ecting the right instrument for the right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rument must be capable of measuring the type and intensity of the radiation which is present or suspec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Beta and gamma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Ion chamber instruments (Ionization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alibri"/>
              </a:rPr>
              <a:t>Alpha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Scintillation det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Gas proportional counter (Proportional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Neutron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BF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Calibri"/>
              </a:rPr>
              <a:t>3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 gas proportional counter (Proportional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f1e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1e84"/>
                </a:solidFill>
                <a:latin typeface="Calibri"/>
              </a:rPr>
              <a:t>Gamma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f1e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1e84"/>
                </a:solidFill>
                <a:latin typeface="Calibri"/>
              </a:rPr>
              <a:t>G-M detector (G-M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f1e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1e84"/>
                </a:solidFill>
                <a:latin typeface="Calibri"/>
              </a:rPr>
              <a:t>Ion chamber (Ionization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AD12-C56F-4B53-A184-3C48B9E6E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lpha Survey Instrument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-360" y="914400"/>
            <a:ext cx="6248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E-6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vey instrument commonly paired with scintillator dete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to check smears and/or air sample filters f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ntami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normally used on daily ba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ce smear or air sample filter i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lanche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specimen cu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ce planchet i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unting ji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ce scintillator on counting ji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gin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ACF9-59DC-4661-BFDC-94ED5578D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Picture 1" descr="100_0951.JPG"/>
          <p:cNvPicPr/>
          <p:nvPr/>
        </p:nvPicPr>
        <p:blipFill>
          <a:blip r:embed="rId1">
            <a:lum bright="-14000"/>
          </a:blip>
          <a:srcRect l="31098" t="0" r="38653" b="9413"/>
          <a:stretch/>
        </p:blipFill>
        <p:spPr>
          <a:xfrm>
            <a:off x="6400800" y="730080"/>
            <a:ext cx="2558880" cy="57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lpha Survey: Eberline E-600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993D-59D1-41F0-BFF0-66FABF1F1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Picture 1" descr="100_0951.JPG"/>
          <p:cNvPicPr/>
          <p:nvPr/>
        </p:nvPicPr>
        <p:blipFill>
          <a:blip r:embed="rId1">
            <a:lum bright="-14000"/>
          </a:blip>
          <a:srcRect l="31098" t="0" r="0" b="11960"/>
          <a:stretch/>
        </p:blipFill>
        <p:spPr>
          <a:xfrm>
            <a:off x="152280" y="838080"/>
            <a:ext cx="5715000" cy="547704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1" descr="100_1136.JPG"/>
          <p:cNvPicPr/>
          <p:nvPr/>
        </p:nvPicPr>
        <p:blipFill>
          <a:blip r:embed="rId2"/>
          <a:stretch/>
        </p:blipFill>
        <p:spPr>
          <a:xfrm>
            <a:off x="6172200" y="838080"/>
            <a:ext cx="2693880" cy="5486400"/>
          </a:xfrm>
          <a:prstGeom prst="rect">
            <a:avLst/>
          </a:prstGeom>
          <a:ln w="0">
            <a:noFill/>
          </a:ln>
        </p:spPr>
      </p:pic>
      <p:sp>
        <p:nvSpPr>
          <p:cNvPr id="704" name="Text Box 8"/>
          <p:cNvSpPr/>
          <p:nvPr/>
        </p:nvSpPr>
        <p:spPr>
          <a:xfrm>
            <a:off x="2514600" y="76212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wn with Eberline SHP 380 AB frisker/survey scintillator pr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lpha Survey Instru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0" y="837720"/>
            <a:ext cx="6477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ESP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cro-computer-based survey instru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be set up with different detectors to monitor several types of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alpha, digital display reads in d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only used with AC-3 scintillator probe for alpha det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0AFA-669B-4528-8758-41B997915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Picture 1" descr="100_1148.JPG"/>
          <p:cNvPicPr/>
          <p:nvPr/>
        </p:nvPicPr>
        <p:blipFill>
          <a:blip r:embed="rId1"/>
          <a:stretch/>
        </p:blipFill>
        <p:spPr>
          <a:xfrm>
            <a:off x="6442200" y="1143000"/>
            <a:ext cx="2701800" cy="457200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8" descr=""/>
          <p:cNvPicPr/>
          <p:nvPr/>
        </p:nvPicPr>
        <p:blipFill>
          <a:blip r:embed="rId2"/>
          <a:stretch/>
        </p:blipFill>
        <p:spPr>
          <a:xfrm>
            <a:off x="609480" y="4724280"/>
            <a:ext cx="5334120" cy="173376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10"/>
          <p:cNvSpPr/>
          <p:nvPr/>
        </p:nvSpPr>
        <p:spPr>
          <a:xfrm>
            <a:off x="304920" y="5562720"/>
            <a:ext cx="251460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rtable Neutron Survey Instru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0" y="1066320"/>
            <a:ext cx="6477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ASP-2/2E Portable Neutron Rate Met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ion and measurement of dose rate (mrem/hr) from both fast and thermal neutron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sures from 1 to 60000 mrem / h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or: 9” diameter, cadmium-loaded polyethylene sphere with BF3 tube in cen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ows excellent gamma rej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only used: </a:t>
            </a: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NRD-4 RemB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50E6-CD89-499E-842C-EB9616D9C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1" descr="100_1157.JPG"/>
          <p:cNvPicPr/>
          <p:nvPr/>
        </p:nvPicPr>
        <p:blipFill>
          <a:blip r:embed="rId1"/>
          <a:srcRect l="1665" t="0" r="53335" b="18892"/>
          <a:stretch/>
        </p:blipFill>
        <p:spPr>
          <a:xfrm>
            <a:off x="6551640" y="838080"/>
            <a:ext cx="2592360" cy="3505320"/>
          </a:xfrm>
          <a:prstGeom prst="rect">
            <a:avLst/>
          </a:prstGeom>
          <a:ln w="0">
            <a:noFill/>
          </a:ln>
        </p:spPr>
      </p:pic>
      <p:sp>
        <p:nvSpPr>
          <p:cNvPr id="719" name="Rectangle 5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6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7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8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9" descr=""/>
          <p:cNvPicPr/>
          <p:nvPr/>
        </p:nvPicPr>
        <p:blipFill>
          <a:blip r:embed="rId2"/>
          <a:srcRect l="50558" t="26891" r="26111" b="20668"/>
          <a:stretch/>
        </p:blipFill>
        <p:spPr>
          <a:xfrm>
            <a:off x="7037280" y="4495680"/>
            <a:ext cx="15732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FFE7-6C82-4846-86EF-9EE125EF7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39720" y="2054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T 130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ological Prot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73040" y="41148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ule 6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rtable Radiation Survey Instru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P-2/2E with NRD-4 RemB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A1C7-9652-46D9-B64D-239D1A96C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Picture 1" descr="100_1157.JPG"/>
          <p:cNvPicPr/>
          <p:nvPr/>
        </p:nvPicPr>
        <p:blipFill>
          <a:blip r:embed="rId1"/>
          <a:srcRect l="1665" t="0" r="53335" b="18892"/>
          <a:stretch/>
        </p:blipFill>
        <p:spPr>
          <a:xfrm>
            <a:off x="109440" y="1219320"/>
            <a:ext cx="3776760" cy="5105160"/>
          </a:xfrm>
          <a:prstGeom prst="rect">
            <a:avLst/>
          </a:prstGeom>
          <a:ln w="0">
            <a:noFill/>
          </a:ln>
        </p:spPr>
      </p:pic>
      <p:sp>
        <p:nvSpPr>
          <p:cNvPr id="729" name="Rectangle 5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6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7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8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Picture 9" descr=""/>
          <p:cNvPicPr/>
          <p:nvPr/>
        </p:nvPicPr>
        <p:blipFill>
          <a:blip r:embed="rId2"/>
          <a:srcRect l="50558" t="26891" r="26111" b="20668"/>
          <a:stretch/>
        </p:blipFill>
        <p:spPr>
          <a:xfrm>
            <a:off x="4024440" y="1752480"/>
            <a:ext cx="2549520" cy="358164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11" descr=""/>
          <p:cNvPicPr/>
          <p:nvPr/>
        </p:nvPicPr>
        <p:blipFill>
          <a:blip r:embed="rId3"/>
          <a:stretch/>
        </p:blipFill>
        <p:spPr>
          <a:xfrm>
            <a:off x="6678720" y="1143000"/>
            <a:ext cx="2313000" cy="3886200"/>
          </a:xfrm>
          <a:prstGeom prst="rect">
            <a:avLst/>
          </a:prstGeom>
          <a:ln w="0">
            <a:noFill/>
          </a:ln>
        </p:spPr>
      </p:pic>
      <p:sp>
        <p:nvSpPr>
          <p:cNvPr id="735" name="Text Box 12"/>
          <p:cNvSpPr/>
          <p:nvPr/>
        </p:nvSpPr>
        <p:spPr>
          <a:xfrm>
            <a:off x="6705720" y="52578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ifferent meter shown with b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rtable Neutron Survey Instru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0" y="99036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Eberline ASP-1 with NRD-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y similar to ASP-2/2E with NRD-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s 0 to 100000 mrem / h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9934-D0FB-472D-90BD-BA705D14F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1" descr="100_1157.JPG"/>
          <p:cNvPicPr/>
          <p:nvPr/>
        </p:nvPicPr>
        <p:blipFill>
          <a:blip r:embed="rId1"/>
          <a:srcRect l="48335" t="10000" r="3335" b="14446"/>
          <a:stretch/>
        </p:blipFill>
        <p:spPr>
          <a:xfrm>
            <a:off x="4648320" y="1143000"/>
            <a:ext cx="44193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151920" y="1066320"/>
            <a:ext cx="89917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jor portion of radiation encountered in nuclear plant working areas is beta and gam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us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tecting instruments are most comm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DE03-564C-4EBB-A286-50EE55B71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Picture 4" descr=""/>
          <p:cNvPicPr/>
          <p:nvPr/>
        </p:nvPicPr>
        <p:blipFill>
          <a:blip r:embed="rId1"/>
          <a:stretch/>
        </p:blipFill>
        <p:spPr>
          <a:xfrm>
            <a:off x="4952880" y="2819520"/>
            <a:ext cx="4191120" cy="3504960"/>
          </a:xfrm>
          <a:prstGeom prst="rect">
            <a:avLst/>
          </a:prstGeom>
          <a:ln w="0">
            <a:noFill/>
          </a:ln>
        </p:spPr>
      </p:pic>
      <p:sp>
        <p:nvSpPr>
          <p:cNvPr id="748" name="Rectangle 6"/>
          <p:cNvSpPr/>
          <p:nvPr/>
        </p:nvSpPr>
        <p:spPr>
          <a:xfrm>
            <a:off x="0" y="2819520"/>
            <a:ext cx="5257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eletector Model 6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weight, portable, battery-operated, beta-gamma survey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scoping probe that extends 13 ft to allow dose rate measurements far from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dose rate due to gamma over wide range of intens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tect beta, remove rubber tip from end of pr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215640" y="1396800"/>
            <a:ext cx="78613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2000W Exten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ilar to Telet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nds to 12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dible speaker and illuminated sc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4018-0FBD-4461-BD31-16AB5DEA7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7" descr=""/>
          <p:cNvPicPr/>
          <p:nvPr/>
        </p:nvPicPr>
        <p:blipFill>
          <a:blip r:embed="rId1"/>
          <a:srcRect l="0" t="0" r="2066" b="0"/>
          <a:stretch/>
        </p:blipFill>
        <p:spPr>
          <a:xfrm>
            <a:off x="104760" y="4102200"/>
            <a:ext cx="896292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000W Exte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6C3F-34C8-412C-87BF-2163B630F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240840" y="1003320"/>
            <a:ext cx="4496040" cy="157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Rotem Telepo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 to Telete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to 11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F3AA-2588-4F45-85FA-B82193947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2" descr="\\SCANA\shares\GroupDirs\0539\539HP\Pictures\FHB Filter Job\FHB Filter Job 011.jpg"/>
          <p:cNvPicPr/>
          <p:nvPr/>
        </p:nvPicPr>
        <p:blipFill>
          <a:blip r:embed="rId1"/>
          <a:stretch/>
        </p:blipFill>
        <p:spPr>
          <a:xfrm>
            <a:off x="0" y="2786040"/>
            <a:ext cx="4892760" cy="373212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7" descr=""/>
          <p:cNvPicPr/>
          <p:nvPr/>
        </p:nvPicPr>
        <p:blipFill>
          <a:blip r:embed="rId2"/>
          <a:srcRect l="0" t="0" r="8904" b="0"/>
          <a:stretch/>
        </p:blipFill>
        <p:spPr>
          <a:xfrm>
            <a:off x="7132680" y="752400"/>
            <a:ext cx="1985760" cy="58262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1" descr="telepolemr.jpg"/>
          <p:cNvPicPr/>
          <p:nvPr/>
        </p:nvPicPr>
        <p:blipFill>
          <a:blip r:embed="rId3"/>
          <a:srcRect l="20369" t="20735" r="15530" b="2373"/>
          <a:stretch/>
        </p:blipFill>
        <p:spPr>
          <a:xfrm>
            <a:off x="5011560" y="3962520"/>
            <a:ext cx="29275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5EE9-2A92-46D7-91E1-85BBD19C8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Picture 9" descr=""/>
          <p:cNvPicPr/>
          <p:nvPr/>
        </p:nvPicPr>
        <p:blipFill>
          <a:blip r:embed="rId1"/>
          <a:stretch/>
        </p:blipFill>
        <p:spPr>
          <a:xfrm>
            <a:off x="0" y="898560"/>
            <a:ext cx="914400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0" y="914040"/>
            <a:ext cx="6324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Rotem AMP-100 (Area Monitor Prob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M detector with microprocessor-based instru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y stable and accu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ghtweight and comp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able of measuring both dose and dose rate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nge: 0 to 1000 Rem/h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 used in 3 way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lly as a hand-held moni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ed to an area monitor for general area dose r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d remotely by means of a wireless remote monitoring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 used for underwater applications, but not typica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6A7C-0F56-4697-BD70-E4A3C0E11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Picture 5" descr=""/>
          <p:cNvPicPr/>
          <p:nvPr/>
        </p:nvPicPr>
        <p:blipFill>
          <a:blip r:embed="rId1"/>
          <a:srcRect l="0" t="0" r="7196" b="0"/>
          <a:stretch/>
        </p:blipFill>
        <p:spPr>
          <a:xfrm>
            <a:off x="6342120" y="1143000"/>
            <a:ext cx="268596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RM-14 Rad. Moni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most for personnel monito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, versatile count rate 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hargeable battery or 110 V A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justable audible al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ee multiplier r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0, 5K, and 50K CPM full-sc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d by 3-position switc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l, X10 or X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se sett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st (~2 sec) or Slow (~20 se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B7C5-9494-4AAA-9BD9-ECA76F616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Picture 1" descr="100_1147.JPG"/>
          <p:cNvPicPr/>
          <p:nvPr/>
        </p:nvPicPr>
        <p:blipFill>
          <a:blip r:embed="rId1"/>
          <a:srcRect l="0" t="12346" r="3705" b="13580"/>
          <a:stretch/>
        </p:blipFill>
        <p:spPr>
          <a:xfrm>
            <a:off x="5562720" y="3581280"/>
            <a:ext cx="358128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M-14 Radiation Moni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8E37-8EAD-4903-A0A3-6B33A2E99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Picture 1" descr="100_1147.JPG"/>
          <p:cNvPicPr/>
          <p:nvPr/>
        </p:nvPicPr>
        <p:blipFill>
          <a:blip r:embed="rId1"/>
          <a:srcRect l="0" t="12409" r="5280" b="12037"/>
          <a:stretch/>
        </p:blipFill>
        <p:spPr>
          <a:xfrm>
            <a:off x="228600" y="1079640"/>
            <a:ext cx="86612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56840" y="91404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ing and measuring radiation levels around the pl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or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dor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st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: How can we measure radiation to determine if the levels are saf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B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o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ation measurement based almost solely on either direct or indirect ion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690A-9FC3-4C86-907F-67CC7AE72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51920" y="91440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HP-210 G-M tube pro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ly used with RM-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 mica window to allow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nsitivity down to ~40Ke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ielded to permi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ing in 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sonnel fris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itoring of table, floor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ipment surface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67DC-596B-4E4F-B036-485D9A4DF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Picture 4" descr=""/>
          <p:cNvPicPr/>
          <p:nvPr/>
        </p:nvPicPr>
        <p:blipFill>
          <a:blip r:embed="rId1"/>
          <a:stretch/>
        </p:blipFill>
        <p:spPr>
          <a:xfrm>
            <a:off x="5486400" y="2895480"/>
            <a:ext cx="365760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457200" y="10666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RM-14S and  RM-14S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er versions of RM-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ral scales that earlier model lacked: 50, 500, 5000, 50000, 500000, and 5000000 c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RM-14’s are operated with conservative assumption of 10% ef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FF09-264A-4A78-ABD4-A1E0F1CC6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Content Placeholder 3" descr="100_0938.JPG"/>
          <p:cNvPicPr/>
          <p:nvPr/>
        </p:nvPicPr>
        <p:blipFill>
          <a:blip r:embed="rId1"/>
          <a:stretch/>
        </p:blipFill>
        <p:spPr>
          <a:xfrm>
            <a:off x="0" y="3618000"/>
            <a:ext cx="4495680" cy="290664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1" descr="100_1146.JPG"/>
          <p:cNvPicPr/>
          <p:nvPr/>
        </p:nvPicPr>
        <p:blipFill>
          <a:blip r:embed="rId2"/>
          <a:stretch/>
        </p:blipFill>
        <p:spPr>
          <a:xfrm>
            <a:off x="4572000" y="3621240"/>
            <a:ext cx="457200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228240" y="1066680"/>
            <a:ext cx="7010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Rotem RAM SURF frisking de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rtable, self-conta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ctor and monitor in 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gital readout wi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tomatic range adju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dible indic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assume 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C2E6-905E-43AA-BADE-3A56E70FB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Picture 5" descr=""/>
          <p:cNvPicPr/>
          <p:nvPr/>
        </p:nvPicPr>
        <p:blipFill>
          <a:blip r:embed="rId1"/>
          <a:srcRect l="0" t="0" r="0" b="4102"/>
          <a:stretch/>
        </p:blipFill>
        <p:spPr>
          <a:xfrm>
            <a:off x="5133960" y="1523880"/>
            <a:ext cx="40100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rtable Ion Chamber Instru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-360" y="837720"/>
            <a:ext cx="7467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RO-2 / RO-2A / RO-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table air ion-chamber instr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mber vented to atmospheric pres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sitive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X but calibrated f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se time: ~5 se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switch turns on instrument, checks batteries, checks zero setting, selects r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-2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, 50, 500, and 5000 mr/h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-2A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 mr/hr, 500 mr/hr, 5 R/hr, and 50 R/h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-20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of the abo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open shield to expose mylar wind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7212-5EE5-439B-A19B-9D7B8076D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Picture 1" descr="100_0950.JPG"/>
          <p:cNvPicPr/>
          <p:nvPr/>
        </p:nvPicPr>
        <p:blipFill>
          <a:blip r:embed="rId1"/>
          <a:srcRect l="38342" t="18883" r="33333" b="5565"/>
          <a:stretch/>
        </p:blipFill>
        <p:spPr>
          <a:xfrm>
            <a:off x="7429680" y="1066680"/>
            <a:ext cx="1714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-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-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BCDE-5708-4FBE-ACDC-6D38CCEF6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Picture 1" descr="IMG_0990.JPG"/>
          <p:cNvPicPr/>
          <p:nvPr/>
        </p:nvPicPr>
        <p:blipFill>
          <a:blip r:embed="rId1"/>
          <a:stretch/>
        </p:blipFill>
        <p:spPr>
          <a:xfrm>
            <a:off x="5029200" y="762120"/>
            <a:ext cx="3962520" cy="579096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1" descr="100_0950.JPG"/>
          <p:cNvPicPr/>
          <p:nvPr/>
        </p:nvPicPr>
        <p:blipFill>
          <a:blip r:embed="rId2"/>
          <a:srcRect l="38342" t="18883" r="33333" b="5565"/>
          <a:stretch/>
        </p:blipFill>
        <p:spPr>
          <a:xfrm>
            <a:off x="228600" y="762120"/>
            <a:ext cx="2857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Ion Chamber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609120" y="9907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Calibri"/>
              </a:rPr>
              <a:t>Bicron RSO-5 / RSO-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ilar to RO-2 and RO-2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SO-5: Same scales as RO-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SO-50: Same scales as RO-2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su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se rates (includ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ndow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14E6-2C66-4222-811B-053177357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Picture 5" descr=""/>
          <p:cNvPicPr/>
          <p:nvPr/>
        </p:nvPicPr>
        <p:blipFill>
          <a:blip r:embed="rId1"/>
          <a:stretch/>
        </p:blipFill>
        <p:spPr>
          <a:xfrm>
            <a:off x="152280" y="2743200"/>
            <a:ext cx="3009960" cy="380988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6" descr=""/>
          <p:cNvPicPr/>
          <p:nvPr/>
        </p:nvPicPr>
        <p:blipFill>
          <a:blip r:embed="rId2"/>
          <a:stretch/>
        </p:blipFill>
        <p:spPr>
          <a:xfrm>
            <a:off x="3438360" y="2743200"/>
            <a:ext cx="3038760" cy="380988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1" descr="100_1144.JPG"/>
          <p:cNvPicPr/>
          <p:nvPr/>
        </p:nvPicPr>
        <p:blipFill>
          <a:blip r:embed="rId3"/>
          <a:stretch/>
        </p:blipFill>
        <p:spPr>
          <a:xfrm>
            <a:off x="6705720" y="2743200"/>
            <a:ext cx="2325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Ion Chamber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76320" y="1066680"/>
            <a:ext cx="633888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Rotem RAM 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 in function to RO-2 or RSO-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se similar to RAM SUR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table, self-conta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or and monitor in one un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gital readout with automatic range adju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nge 0.1 mRem/hr to 50 Rem/h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a wind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B698-4666-498E-8E21-50E5418E4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Picture 1" descr="100_1152.JPG"/>
          <p:cNvPicPr/>
          <p:nvPr/>
        </p:nvPicPr>
        <p:blipFill>
          <a:blip r:embed="rId1"/>
          <a:stretch/>
        </p:blipFill>
        <p:spPr>
          <a:xfrm>
            <a:off x="6365880" y="990720"/>
            <a:ext cx="262584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Ion Chamber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134640" y="888840"/>
            <a:ext cx="609588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Rotem RAM 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D026-B366-4EB8-BE73-6FE835153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Picture 6" descr=""/>
          <p:cNvPicPr/>
          <p:nvPr/>
        </p:nvPicPr>
        <p:blipFill>
          <a:blip r:embed="rId1"/>
          <a:srcRect l="44074" t="11610" r="10833" b="2368"/>
          <a:stretch/>
        </p:blipFill>
        <p:spPr>
          <a:xfrm>
            <a:off x="0" y="1347840"/>
            <a:ext cx="4429080" cy="528012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1" descr="telepolemr.jpg"/>
          <p:cNvPicPr/>
          <p:nvPr/>
        </p:nvPicPr>
        <p:blipFill>
          <a:blip r:embed="rId2"/>
          <a:srcRect l="19855" t="20120" r="15226" b="11813"/>
          <a:stretch/>
        </p:blipFill>
        <p:spPr>
          <a:xfrm>
            <a:off x="4613400" y="1708200"/>
            <a:ext cx="43783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De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444600" y="7488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alibri"/>
              </a:rPr>
              <a:t>RADēCO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 H809V Air Samp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C08B-88A5-430C-B9F7-3DFF5145B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Picture 1" descr="100_1149.JPG"/>
          <p:cNvPicPr/>
          <p:nvPr/>
        </p:nvPicPr>
        <p:blipFill>
          <a:blip r:embed="rId1"/>
          <a:stretch/>
        </p:blipFill>
        <p:spPr>
          <a:xfrm>
            <a:off x="1994040" y="1282680"/>
            <a:ext cx="510516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De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1E7C-A4A9-45D8-BA0B-7874C8370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Picture 1" descr="100_1139.JPG"/>
          <p:cNvPicPr/>
          <p:nvPr/>
        </p:nvPicPr>
        <p:blipFill>
          <a:blip r:embed="rId1"/>
          <a:stretch/>
        </p:blipFill>
        <p:spPr>
          <a:xfrm>
            <a:off x="730080" y="873000"/>
            <a:ext cx="786132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25D9-DA60-4511-865E-17A49F45F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1371600" y="9140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ew of Io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ssage of nuclear radiation through a substance will result in the removal of electrons from neutral ato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on pair formed (free electron and residual positively-charged ato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Io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on pairs produced by the direct action of charged particles, such as alphas and bet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rged particles may collide with electrons and remove th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energy transfer insufficient to remove the electron, atom may be left in a state of exci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rect Io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duction of ion pairs by photons, gammas, and X-ra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Portable Instruments for Monitoring For Loose-Surface Contaminatio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152280" y="121896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beta and gamma: RM-14, RM-14s, and RAM SURF are used for determination of quant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alpha: E-600 and ESP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-600 probe must be held within 1/4 inch of the area being monitored to ensure proper respon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M-14 with HP-210 pro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d for monitoring personel contam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be must be within 1/2 inch of the surface being monitored to pick up possible contamin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-600 and RM-14 with HP-210 require slow probe movement to cover the area being monitored, about 1 to 2 in / se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804F-47C9-49D5-A857-D40487264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FFEF-B64E-4B7D-BDBA-4706212BC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eter Reading Challen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D392-470E-4D0E-9404-B10607FFB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PM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6" name=""/>
          <p:cNvGraphicFramePr/>
          <p:nvPr/>
        </p:nvGraphicFramePr>
        <p:xfrm>
          <a:off x="1523880" y="3336840"/>
          <a:ext cx="6096240" cy="2127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67" name="Group 10"/>
          <p:cNvGrpSpPr/>
          <p:nvPr/>
        </p:nvGrpSpPr>
        <p:grpSpPr>
          <a:xfrm>
            <a:off x="1778040" y="708120"/>
            <a:ext cx="6289560" cy="5819400"/>
            <a:chOff x="1778040" y="708120"/>
            <a:chExt cx="6289560" cy="5819400"/>
          </a:xfrm>
        </p:grpSpPr>
        <p:pic>
          <p:nvPicPr>
            <p:cNvPr id="868" name="Picture 2" descr=""/>
            <p:cNvPicPr/>
            <p:nvPr/>
          </p:nvPicPr>
          <p:blipFill>
            <a:blip r:embed="rId1"/>
            <a:stretch/>
          </p:blipFill>
          <p:spPr>
            <a:xfrm>
              <a:off x="1778040" y="708120"/>
              <a:ext cx="6289560" cy="390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9" name="Picture 1" descr=""/>
            <p:cNvPicPr/>
            <p:nvPr/>
          </p:nvPicPr>
          <p:blipFill>
            <a:blip r:embed="rId2"/>
            <a:stretch/>
          </p:blipFill>
          <p:spPr>
            <a:xfrm>
              <a:off x="1778040" y="4569480"/>
              <a:ext cx="6289560" cy="195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07C2-91A8-4F41-98EA-5B25AF3AD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Picture 2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6791040" cy="621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CCC6-362A-44B5-B302-D89977B9D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PM and DP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9" name="Picture 2" descr=""/>
          <p:cNvPicPr/>
          <p:nvPr/>
        </p:nvPicPr>
        <p:blipFill>
          <a:blip r:embed="rId1"/>
          <a:srcRect l="0" t="0" r="0" b="7349"/>
          <a:stretch/>
        </p:blipFill>
        <p:spPr>
          <a:xfrm>
            <a:off x="0" y="993600"/>
            <a:ext cx="9144000" cy="544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1838-C0F6-496D-90A7-45753DC9F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Picture 2" descr=""/>
          <p:cNvPicPr/>
          <p:nvPr/>
        </p:nvPicPr>
        <p:blipFill>
          <a:blip r:embed="rId1"/>
          <a:srcRect l="25835" t="4814" r="0" b="15559"/>
          <a:stretch/>
        </p:blipFill>
        <p:spPr>
          <a:xfrm>
            <a:off x="914400" y="330120"/>
            <a:ext cx="6781680" cy="546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C547-6B0F-4906-81EF-370A9D2F3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Picture 2" descr=""/>
          <p:cNvPicPr/>
          <p:nvPr/>
        </p:nvPicPr>
        <p:blipFill>
          <a:blip r:embed="rId1"/>
          <a:srcRect l="38333" t="0" r="0" b="0"/>
          <a:stretch/>
        </p:blipFill>
        <p:spPr>
          <a:xfrm>
            <a:off x="1841400" y="571680"/>
            <a:ext cx="563904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0A5D-D838-4C0F-A624-6DCF0D45F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1" name="Picture 2" descr=""/>
          <p:cNvPicPr/>
          <p:nvPr/>
        </p:nvPicPr>
        <p:blipFill>
          <a:blip r:embed="rId1"/>
          <a:srcRect l="47362" t="0" r="0" b="0"/>
          <a:stretch/>
        </p:blipFill>
        <p:spPr>
          <a:xfrm>
            <a:off x="2362320" y="177840"/>
            <a:ext cx="4813200" cy="641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B922-0A75-4557-B09D-7D278F9F1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Picture 2" descr=""/>
          <p:cNvPicPr/>
          <p:nvPr/>
        </p:nvPicPr>
        <p:blipFill>
          <a:blip r:embed="rId1"/>
          <a:srcRect l="32500" t="11113" r="0" b="19816"/>
          <a:stretch/>
        </p:blipFill>
        <p:spPr>
          <a:xfrm>
            <a:off x="863640" y="685800"/>
            <a:ext cx="7074000" cy="54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2839-014B-4673-BCFC-D942E13DF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9" name="Picture 2" descr=""/>
          <p:cNvPicPr/>
          <p:nvPr/>
        </p:nvPicPr>
        <p:blipFill>
          <a:blip r:embed="rId1"/>
          <a:srcRect l="34169" t="6296" r="0" b="5556"/>
          <a:stretch/>
        </p:blipFill>
        <p:spPr>
          <a:xfrm>
            <a:off x="1600200" y="431640"/>
            <a:ext cx="6019920" cy="604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0BD9-EBAB-40CD-95AF-AC70B49C6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609120" y="16002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e basic principles of radiation dete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s-Filled Cha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intil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molumines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will focus primarily on the first tw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68E8-1521-4769-A711-634086B9A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PM and DPM and uC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fficiency=18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4" name="Picture 2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1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1EDC-930C-4ADD-B237-09E579E09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42720" y="10666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eter Reading Challen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0" y="3327120"/>
            <a:ext cx="4952880" cy="18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’s compare notes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DFC15-4779-42EF-B12F-4AD94ED93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PM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4" name=""/>
          <p:cNvGraphicFramePr/>
          <p:nvPr/>
        </p:nvGraphicFramePr>
        <p:xfrm>
          <a:off x="1523880" y="3336840"/>
          <a:ext cx="6096240" cy="2127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6" name="Group 10"/>
          <p:cNvGrpSpPr/>
          <p:nvPr/>
        </p:nvGrpSpPr>
        <p:grpSpPr>
          <a:xfrm>
            <a:off x="1981080" y="619200"/>
            <a:ext cx="6073920" cy="5920920"/>
            <a:chOff x="1981080" y="619200"/>
            <a:chExt cx="6073920" cy="5920920"/>
          </a:xfrm>
        </p:grpSpPr>
        <p:pic>
          <p:nvPicPr>
            <p:cNvPr id="917" name="Picture 2" descr=""/>
            <p:cNvPicPr/>
            <p:nvPr/>
          </p:nvPicPr>
          <p:blipFill>
            <a:blip r:embed="rId1"/>
            <a:stretch/>
          </p:blipFill>
          <p:spPr>
            <a:xfrm>
              <a:off x="1981080" y="619200"/>
              <a:ext cx="6073920" cy="39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8" name="Picture 1" descr=""/>
            <p:cNvPicPr/>
            <p:nvPr/>
          </p:nvPicPr>
          <p:blipFill>
            <a:blip r:embed="rId2"/>
            <a:stretch/>
          </p:blipFill>
          <p:spPr>
            <a:xfrm>
              <a:off x="1981080" y="4547880"/>
              <a:ext cx="6073920" cy="1992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08C1-E05A-4C96-8CA6-291B5E4E1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# 1=   3200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8936-FBCF-4D05-A56F-975253DF0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6" name="Picture 2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679104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DBB0-4A67-45B0-8CE2-3C3AF9318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10,000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AD32-6B18-41DB-9E21-7C8A3BCC4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PM and DP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5" name="Picture 2" descr=""/>
          <p:cNvPicPr/>
          <p:nvPr/>
        </p:nvPicPr>
        <p:blipFill>
          <a:blip r:embed="rId1"/>
          <a:srcRect l="0" t="0" r="0" b="7135"/>
          <a:stretch/>
        </p:blipFill>
        <p:spPr>
          <a:xfrm>
            <a:off x="0" y="981000"/>
            <a:ext cx="883908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58595-5FBC-4E86-9B14-503C7AEC8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5379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2,000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0" y="3327120"/>
            <a:ext cx="4952880" cy="18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PM=cpm/ef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2,000 cpm/.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20,000 d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4CD7-A254-44A7-AB37-2D4F1E2D4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4" name="Picture 2" descr=""/>
          <p:cNvPicPr/>
          <p:nvPr/>
        </p:nvPicPr>
        <p:blipFill>
          <a:blip r:embed="rId1"/>
          <a:srcRect l="25835" t="11076" r="0" b="17386"/>
          <a:stretch/>
        </p:blipFill>
        <p:spPr>
          <a:xfrm>
            <a:off x="457200" y="444600"/>
            <a:ext cx="82296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7D19-0D6E-408E-AD96-AA6CAB75A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300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s-Filled Ion Chamb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52280" y="761760"/>
            <a:ext cx="8801280" cy="38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ldest and most widely used device for detecting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al cylindrical gas-filled cha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ltage (V) applied across two electro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ode (positive): central electrod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thode (negative): chamber wall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ation passing through the chamber ionizes some of the gas ato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sitive ions drawn to chamber wa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ster-moving electrons (negative) drawn to the central ano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A438-45C1-4124-8D19-C17FA91DB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11" descr=""/>
          <p:cNvPicPr/>
          <p:nvPr/>
        </p:nvPicPr>
        <p:blipFill>
          <a:blip r:embed="rId1"/>
          <a:srcRect l="845" t="23187" r="1066" b="17947"/>
          <a:stretch/>
        </p:blipFill>
        <p:spPr>
          <a:xfrm>
            <a:off x="2023920" y="4464000"/>
            <a:ext cx="495648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A067-8A9E-4EE1-8858-E01266388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2" name="Picture 2" descr=""/>
          <p:cNvPicPr/>
          <p:nvPr/>
        </p:nvPicPr>
        <p:blipFill>
          <a:blip r:embed="rId1"/>
          <a:srcRect l="47112" t="2222" r="3156" b="0"/>
          <a:stretch/>
        </p:blipFill>
        <p:spPr>
          <a:xfrm>
            <a:off x="2308320" y="60480"/>
            <a:ext cx="5006880" cy="6480000"/>
          </a:xfrm>
          <a:prstGeom prst="rect">
            <a:avLst/>
          </a:prstGeom>
          <a:ln w="0">
            <a:noFill/>
          </a:ln>
        </p:spPr>
      </p:pic>
      <p:sp>
        <p:nvSpPr>
          <p:cNvPr id="953" name="Text Box 4"/>
          <p:cNvSpPr/>
          <p:nvPr/>
        </p:nvSpPr>
        <p:spPr>
          <a:xfrm>
            <a:off x="4905360" y="4751280"/>
            <a:ext cx="873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R/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Oval 5"/>
          <p:cNvSpPr/>
          <p:nvPr/>
        </p:nvSpPr>
        <p:spPr>
          <a:xfrm>
            <a:off x="4508640" y="5010120"/>
            <a:ext cx="431640" cy="2858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52F6-8DF2-413B-92B6-B6C77A7EC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400 mR/h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745F-3ABE-4C0D-BB33-619C79954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2" descr=""/>
          <p:cNvPicPr/>
          <p:nvPr/>
        </p:nvPicPr>
        <p:blipFill>
          <a:blip r:embed="rId1"/>
          <a:srcRect l="49169" t="14446" r="0" b="0"/>
          <a:stretch/>
        </p:blipFill>
        <p:spPr>
          <a:xfrm>
            <a:off x="1954080" y="0"/>
            <a:ext cx="4980240" cy="65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CB56-CC11-43E4-AB5D-593AE68C4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3.6 mR/h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7CA3-1363-46B1-8D84-245B1B0AE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Picture 2" descr=""/>
          <p:cNvPicPr/>
          <p:nvPr/>
        </p:nvPicPr>
        <p:blipFill>
          <a:blip r:embed="rId1"/>
          <a:srcRect l="50004" t="14446" r="8335" b="22672"/>
          <a:stretch/>
        </p:blipFill>
        <p:spPr>
          <a:xfrm>
            <a:off x="1676520" y="0"/>
            <a:ext cx="511812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A4B3-E5C0-4DE5-8BE4-F3F38AEA5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.5 R/h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D7A1-29F6-4D9A-931A-F7966CF6F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8" name="Picture 2" descr=""/>
          <p:cNvPicPr/>
          <p:nvPr/>
        </p:nvPicPr>
        <p:blipFill>
          <a:blip r:embed="rId1"/>
          <a:srcRect l="39169" t="6669" r="0" b="4444"/>
          <a:stretch/>
        </p:blipFill>
        <p:spPr>
          <a:xfrm>
            <a:off x="1295280" y="0"/>
            <a:ext cx="6257880" cy="65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A7F2-B5BB-46A8-ACF3-0122A4326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8.5 R/h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3D28-2692-400E-B058-ACB98D0B0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PM and DPM and uC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fficiency=18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7" name="Picture 2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35AD-B763-4923-B540-9BCA3834D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440" y="17794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5.1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ubTitle"/>
          </p:nvPr>
        </p:nvSpPr>
        <p:spPr>
          <a:xfrm>
            <a:off x="0" y="3327120"/>
            <a:ext cx="4952880" cy="18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PM=CPM/Ef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25.1/0.18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139 D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s-Filled Ion Chamb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609480" y="76176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ctrical charge collects on an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ge buildup causes voltage change, aka 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pul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lse causes current to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meter used to measure curr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rent level correlated to radiation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C11D-DA50-4389-AD93-703868130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10" descr=""/>
          <p:cNvPicPr/>
          <p:nvPr/>
        </p:nvPicPr>
        <p:blipFill>
          <a:blip r:embed="rId1"/>
          <a:srcRect l="845" t="23187" r="1066" b="17947"/>
          <a:stretch/>
        </p:blipFill>
        <p:spPr>
          <a:xfrm>
            <a:off x="2036880" y="4172040"/>
            <a:ext cx="495612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s-Filled Ion Chamb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228600" y="838080"/>
            <a:ext cx="87631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lse magnitude determined 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ied vol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mber of initial (primary) ionizing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tant number based on specific ionization and detector si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gas-ionizing types of radiation detectors are technically ion cha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alibri"/>
              </a:rPr>
              <a:t>However, the term “ion chamber” is typically used to refer to such devices for which the input voltage is low enough to prevent secondary ionization (gas amplific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EBD47-7543-4DDB-B001-34CF4E85D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4EA8-432A-4689-9639-2FDEF6998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3"/>
          <p:cNvSpPr/>
          <p:nvPr/>
        </p:nvSpPr>
        <p:spPr>
          <a:xfrm>
            <a:off x="228600" y="76320"/>
            <a:ext cx="853452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Six-Region Gas Amplification Cu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Group 14"/>
          <p:cNvGrpSpPr/>
          <p:nvPr/>
        </p:nvGrpSpPr>
        <p:grpSpPr>
          <a:xfrm>
            <a:off x="378000" y="714240"/>
            <a:ext cx="8766000" cy="5881680"/>
            <a:chOff x="378000" y="714240"/>
            <a:chExt cx="8766000" cy="5881680"/>
          </a:xfrm>
        </p:grpSpPr>
        <p:sp>
          <p:nvSpPr>
            <p:cNvPr id="630" name="Rectangle 5"/>
            <p:cNvSpPr/>
            <p:nvPr/>
          </p:nvSpPr>
          <p:spPr>
            <a:xfrm>
              <a:off x="3819600" y="714240"/>
              <a:ext cx="2971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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, </a:t>
              </a: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, </a:t>
              </a: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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  each produce the same detector response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6"/>
            <p:cNvSpPr/>
            <p:nvPr/>
          </p:nvSpPr>
          <p:spPr>
            <a:xfrm>
              <a:off x="1409760" y="973080"/>
              <a:ext cx="7440480" cy="5275440"/>
            </a:xfrm>
            <a:custGeom>
              <a:avLst/>
              <a:gdLst/>
              <a:ahLst/>
              <a:rect l="l" t="t" r="r" b="b"/>
              <a:pathLst>
                <a:path w="4687" h="3323">
                  <a:moveTo>
                    <a:pt x="0" y="3323"/>
                  </a:moveTo>
                  <a:cubicBezTo>
                    <a:pt x="73" y="3252"/>
                    <a:pt x="147" y="3182"/>
                    <a:pt x="352" y="3147"/>
                  </a:cubicBezTo>
                  <a:cubicBezTo>
                    <a:pt x="557" y="3112"/>
                    <a:pt x="1004" y="3143"/>
                    <a:pt x="1232" y="3115"/>
                  </a:cubicBezTo>
                  <a:cubicBezTo>
                    <a:pt x="1460" y="3087"/>
                    <a:pt x="1572" y="3048"/>
                    <a:pt x="1720" y="2979"/>
                  </a:cubicBezTo>
                  <a:cubicBezTo>
                    <a:pt x="1868" y="2910"/>
                    <a:pt x="2004" y="2804"/>
                    <a:pt x="2120" y="2699"/>
                  </a:cubicBezTo>
                  <a:cubicBezTo>
                    <a:pt x="2236" y="2594"/>
                    <a:pt x="2316" y="2476"/>
                    <a:pt x="2416" y="2347"/>
                  </a:cubicBezTo>
                  <a:cubicBezTo>
                    <a:pt x="2516" y="2218"/>
                    <a:pt x="2620" y="2091"/>
                    <a:pt x="2720" y="1923"/>
                  </a:cubicBezTo>
                  <a:cubicBezTo>
                    <a:pt x="2820" y="1755"/>
                    <a:pt x="2935" y="1503"/>
                    <a:pt x="3016" y="1339"/>
                  </a:cubicBezTo>
                  <a:cubicBezTo>
                    <a:pt x="3097" y="1175"/>
                    <a:pt x="3147" y="1051"/>
                    <a:pt x="3208" y="939"/>
                  </a:cubicBezTo>
                  <a:cubicBezTo>
                    <a:pt x="3269" y="827"/>
                    <a:pt x="3337" y="719"/>
                    <a:pt x="3384" y="667"/>
                  </a:cubicBezTo>
                  <a:cubicBezTo>
                    <a:pt x="3431" y="615"/>
                    <a:pt x="3435" y="644"/>
                    <a:pt x="3488" y="627"/>
                  </a:cubicBezTo>
                  <a:cubicBezTo>
                    <a:pt x="3541" y="610"/>
                    <a:pt x="3628" y="580"/>
                    <a:pt x="3704" y="563"/>
                  </a:cubicBezTo>
                  <a:cubicBezTo>
                    <a:pt x="3780" y="546"/>
                    <a:pt x="3863" y="544"/>
                    <a:pt x="3944" y="523"/>
                  </a:cubicBezTo>
                  <a:cubicBezTo>
                    <a:pt x="4025" y="502"/>
                    <a:pt x="4121" y="474"/>
                    <a:pt x="4192" y="435"/>
                  </a:cubicBezTo>
                  <a:cubicBezTo>
                    <a:pt x="4263" y="396"/>
                    <a:pt x="4321" y="331"/>
                    <a:pt x="4368" y="291"/>
                  </a:cubicBezTo>
                  <a:cubicBezTo>
                    <a:pt x="4415" y="251"/>
                    <a:pt x="4439" y="240"/>
                    <a:pt x="4472" y="195"/>
                  </a:cubicBezTo>
                  <a:cubicBezTo>
                    <a:pt x="4505" y="150"/>
                    <a:pt x="4687" y="0"/>
                    <a:pt x="4568" y="19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7"/>
            <p:cNvSpPr/>
            <p:nvPr/>
          </p:nvSpPr>
          <p:spPr>
            <a:xfrm>
              <a:off x="1422360" y="1015920"/>
              <a:ext cx="7396200" cy="5232600"/>
            </a:xfrm>
            <a:custGeom>
              <a:avLst/>
              <a:gdLst/>
              <a:ahLst/>
              <a:rect l="l" t="t" r="r" b="b"/>
              <a:pathLst>
                <a:path w="4659" h="3296">
                  <a:moveTo>
                    <a:pt x="0" y="3296"/>
                  </a:moveTo>
                  <a:cubicBezTo>
                    <a:pt x="18" y="3232"/>
                    <a:pt x="36" y="3169"/>
                    <a:pt x="80" y="3120"/>
                  </a:cubicBezTo>
                  <a:cubicBezTo>
                    <a:pt x="124" y="3071"/>
                    <a:pt x="205" y="3028"/>
                    <a:pt x="264" y="3000"/>
                  </a:cubicBezTo>
                  <a:cubicBezTo>
                    <a:pt x="323" y="2972"/>
                    <a:pt x="347" y="2961"/>
                    <a:pt x="432" y="2952"/>
                  </a:cubicBezTo>
                  <a:cubicBezTo>
                    <a:pt x="517" y="2943"/>
                    <a:pt x="673" y="2948"/>
                    <a:pt x="776" y="2944"/>
                  </a:cubicBezTo>
                  <a:cubicBezTo>
                    <a:pt x="879" y="2940"/>
                    <a:pt x="968" y="2935"/>
                    <a:pt x="1048" y="2928"/>
                  </a:cubicBezTo>
                  <a:cubicBezTo>
                    <a:pt x="1128" y="2921"/>
                    <a:pt x="1181" y="2917"/>
                    <a:pt x="1256" y="2904"/>
                  </a:cubicBezTo>
                  <a:cubicBezTo>
                    <a:pt x="1331" y="2891"/>
                    <a:pt x="1416" y="2880"/>
                    <a:pt x="1496" y="2848"/>
                  </a:cubicBezTo>
                  <a:cubicBezTo>
                    <a:pt x="1576" y="2816"/>
                    <a:pt x="1657" y="2763"/>
                    <a:pt x="1736" y="2712"/>
                  </a:cubicBezTo>
                  <a:cubicBezTo>
                    <a:pt x="1815" y="2661"/>
                    <a:pt x="1893" y="2612"/>
                    <a:pt x="1968" y="2544"/>
                  </a:cubicBezTo>
                  <a:cubicBezTo>
                    <a:pt x="2043" y="2476"/>
                    <a:pt x="2091" y="2415"/>
                    <a:pt x="2184" y="2304"/>
                  </a:cubicBezTo>
                  <a:cubicBezTo>
                    <a:pt x="2277" y="2193"/>
                    <a:pt x="2432" y="2015"/>
                    <a:pt x="2528" y="1880"/>
                  </a:cubicBezTo>
                  <a:cubicBezTo>
                    <a:pt x="2624" y="1745"/>
                    <a:pt x="2683" y="1624"/>
                    <a:pt x="2760" y="1496"/>
                  </a:cubicBezTo>
                  <a:cubicBezTo>
                    <a:pt x="2837" y="1368"/>
                    <a:pt x="2929" y="1212"/>
                    <a:pt x="2992" y="1112"/>
                  </a:cubicBezTo>
                  <a:cubicBezTo>
                    <a:pt x="3055" y="1012"/>
                    <a:pt x="3092" y="957"/>
                    <a:pt x="3136" y="896"/>
                  </a:cubicBezTo>
                  <a:cubicBezTo>
                    <a:pt x="3180" y="835"/>
                    <a:pt x="3217" y="781"/>
                    <a:pt x="3256" y="744"/>
                  </a:cubicBezTo>
                  <a:cubicBezTo>
                    <a:pt x="3295" y="707"/>
                    <a:pt x="3324" y="697"/>
                    <a:pt x="3368" y="672"/>
                  </a:cubicBezTo>
                  <a:cubicBezTo>
                    <a:pt x="3412" y="647"/>
                    <a:pt x="3451" y="617"/>
                    <a:pt x="3520" y="592"/>
                  </a:cubicBezTo>
                  <a:cubicBezTo>
                    <a:pt x="3589" y="567"/>
                    <a:pt x="3708" y="537"/>
                    <a:pt x="3784" y="520"/>
                  </a:cubicBezTo>
                  <a:cubicBezTo>
                    <a:pt x="3860" y="503"/>
                    <a:pt x="3909" y="505"/>
                    <a:pt x="3976" y="488"/>
                  </a:cubicBezTo>
                  <a:cubicBezTo>
                    <a:pt x="4043" y="471"/>
                    <a:pt x="4127" y="447"/>
                    <a:pt x="4184" y="416"/>
                  </a:cubicBezTo>
                  <a:cubicBezTo>
                    <a:pt x="4241" y="385"/>
                    <a:pt x="4279" y="340"/>
                    <a:pt x="4320" y="304"/>
                  </a:cubicBezTo>
                  <a:cubicBezTo>
                    <a:pt x="4361" y="268"/>
                    <a:pt x="4399" y="236"/>
                    <a:pt x="4432" y="200"/>
                  </a:cubicBezTo>
                  <a:cubicBezTo>
                    <a:pt x="4465" y="164"/>
                    <a:pt x="4497" y="121"/>
                    <a:pt x="4520" y="88"/>
                  </a:cubicBezTo>
                  <a:cubicBezTo>
                    <a:pt x="4543" y="55"/>
                    <a:pt x="4659" y="20"/>
                    <a:pt x="4568" y="0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18"/>
            <p:cNvSpPr/>
            <p:nvPr/>
          </p:nvSpPr>
          <p:spPr>
            <a:xfrm>
              <a:off x="1409760" y="984240"/>
              <a:ext cx="7238880" cy="5264280"/>
            </a:xfrm>
            <a:custGeom>
              <a:avLst/>
              <a:gdLst/>
              <a:ahLst/>
              <a:rect l="l" t="t" r="r" b="b"/>
              <a:pathLst>
                <a:path w="4560" h="3316">
                  <a:moveTo>
                    <a:pt x="0" y="3316"/>
                  </a:moveTo>
                  <a:cubicBezTo>
                    <a:pt x="18" y="3227"/>
                    <a:pt x="36" y="3139"/>
                    <a:pt x="56" y="3092"/>
                  </a:cubicBezTo>
                  <a:cubicBezTo>
                    <a:pt x="76" y="3045"/>
                    <a:pt x="85" y="3069"/>
                    <a:pt x="120" y="3036"/>
                  </a:cubicBezTo>
                  <a:cubicBezTo>
                    <a:pt x="155" y="3003"/>
                    <a:pt x="219" y="2927"/>
                    <a:pt x="264" y="2892"/>
                  </a:cubicBezTo>
                  <a:cubicBezTo>
                    <a:pt x="309" y="2857"/>
                    <a:pt x="344" y="2845"/>
                    <a:pt x="392" y="2828"/>
                  </a:cubicBezTo>
                  <a:cubicBezTo>
                    <a:pt x="440" y="2811"/>
                    <a:pt x="481" y="2800"/>
                    <a:pt x="552" y="2788"/>
                  </a:cubicBezTo>
                  <a:cubicBezTo>
                    <a:pt x="623" y="2776"/>
                    <a:pt x="732" y="2763"/>
                    <a:pt x="816" y="2756"/>
                  </a:cubicBezTo>
                  <a:cubicBezTo>
                    <a:pt x="900" y="2749"/>
                    <a:pt x="975" y="2755"/>
                    <a:pt x="1056" y="2748"/>
                  </a:cubicBezTo>
                  <a:cubicBezTo>
                    <a:pt x="1137" y="2741"/>
                    <a:pt x="1225" y="2733"/>
                    <a:pt x="1304" y="2716"/>
                  </a:cubicBezTo>
                  <a:cubicBezTo>
                    <a:pt x="1383" y="2699"/>
                    <a:pt x="1448" y="2685"/>
                    <a:pt x="1528" y="2644"/>
                  </a:cubicBezTo>
                  <a:cubicBezTo>
                    <a:pt x="1608" y="2603"/>
                    <a:pt x="1713" y="2520"/>
                    <a:pt x="1784" y="2468"/>
                  </a:cubicBezTo>
                  <a:cubicBezTo>
                    <a:pt x="1855" y="2416"/>
                    <a:pt x="1888" y="2393"/>
                    <a:pt x="1952" y="2332"/>
                  </a:cubicBezTo>
                  <a:cubicBezTo>
                    <a:pt x="2016" y="2271"/>
                    <a:pt x="2103" y="2176"/>
                    <a:pt x="2168" y="2100"/>
                  </a:cubicBezTo>
                  <a:cubicBezTo>
                    <a:pt x="2233" y="2024"/>
                    <a:pt x="2287" y="1952"/>
                    <a:pt x="2344" y="1876"/>
                  </a:cubicBezTo>
                  <a:cubicBezTo>
                    <a:pt x="2401" y="1800"/>
                    <a:pt x="2453" y="1732"/>
                    <a:pt x="2512" y="1644"/>
                  </a:cubicBezTo>
                  <a:cubicBezTo>
                    <a:pt x="2571" y="1556"/>
                    <a:pt x="2636" y="1433"/>
                    <a:pt x="2696" y="1348"/>
                  </a:cubicBezTo>
                  <a:cubicBezTo>
                    <a:pt x="2756" y="1263"/>
                    <a:pt x="2820" y="1191"/>
                    <a:pt x="2872" y="1132"/>
                  </a:cubicBezTo>
                  <a:cubicBezTo>
                    <a:pt x="2924" y="1073"/>
                    <a:pt x="2967" y="1041"/>
                    <a:pt x="3008" y="996"/>
                  </a:cubicBezTo>
                  <a:cubicBezTo>
                    <a:pt x="3049" y="951"/>
                    <a:pt x="3071" y="901"/>
                    <a:pt x="3120" y="860"/>
                  </a:cubicBezTo>
                  <a:cubicBezTo>
                    <a:pt x="3169" y="819"/>
                    <a:pt x="3251" y="781"/>
                    <a:pt x="3304" y="748"/>
                  </a:cubicBezTo>
                  <a:cubicBezTo>
                    <a:pt x="3357" y="715"/>
                    <a:pt x="3400" y="683"/>
                    <a:pt x="3440" y="660"/>
                  </a:cubicBezTo>
                  <a:cubicBezTo>
                    <a:pt x="3480" y="637"/>
                    <a:pt x="3503" y="625"/>
                    <a:pt x="3544" y="612"/>
                  </a:cubicBezTo>
                  <a:cubicBezTo>
                    <a:pt x="3585" y="599"/>
                    <a:pt x="3624" y="595"/>
                    <a:pt x="3688" y="580"/>
                  </a:cubicBezTo>
                  <a:cubicBezTo>
                    <a:pt x="3752" y="565"/>
                    <a:pt x="3859" y="544"/>
                    <a:pt x="3928" y="524"/>
                  </a:cubicBezTo>
                  <a:cubicBezTo>
                    <a:pt x="3997" y="504"/>
                    <a:pt x="4057" y="477"/>
                    <a:pt x="4104" y="460"/>
                  </a:cubicBezTo>
                  <a:cubicBezTo>
                    <a:pt x="4151" y="443"/>
                    <a:pt x="4167" y="444"/>
                    <a:pt x="4208" y="420"/>
                  </a:cubicBezTo>
                  <a:cubicBezTo>
                    <a:pt x="4249" y="396"/>
                    <a:pt x="4313" y="352"/>
                    <a:pt x="4352" y="316"/>
                  </a:cubicBezTo>
                  <a:cubicBezTo>
                    <a:pt x="4391" y="280"/>
                    <a:pt x="4413" y="240"/>
                    <a:pt x="4440" y="204"/>
                  </a:cubicBezTo>
                  <a:cubicBezTo>
                    <a:pt x="4467" y="168"/>
                    <a:pt x="4492" y="133"/>
                    <a:pt x="4512" y="100"/>
                  </a:cubicBezTo>
                  <a:cubicBezTo>
                    <a:pt x="4532" y="67"/>
                    <a:pt x="4512" y="0"/>
                    <a:pt x="4560" y="4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19"/>
            <p:cNvSpPr/>
            <p:nvPr/>
          </p:nvSpPr>
          <p:spPr>
            <a:xfrm flipV="1">
              <a:off x="888840" y="6244920"/>
              <a:ext cx="825516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20"/>
            <p:cNvSpPr/>
            <p:nvPr/>
          </p:nvSpPr>
          <p:spPr>
            <a:xfrm flipV="1">
              <a:off x="1422360" y="1244520"/>
              <a:ext cx="12600" cy="4991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21"/>
            <p:cNvSpPr/>
            <p:nvPr/>
          </p:nvSpPr>
          <p:spPr>
            <a:xfrm>
              <a:off x="965160" y="1270080"/>
              <a:ext cx="469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22"/>
            <p:cNvSpPr/>
            <p:nvPr/>
          </p:nvSpPr>
          <p:spPr>
            <a:xfrm flipV="1">
              <a:off x="1949400" y="146952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23"/>
            <p:cNvSpPr/>
            <p:nvPr/>
          </p:nvSpPr>
          <p:spPr>
            <a:xfrm flipV="1">
              <a:off x="3344760" y="147744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24"/>
            <p:cNvSpPr/>
            <p:nvPr/>
          </p:nvSpPr>
          <p:spPr>
            <a:xfrm flipV="1">
              <a:off x="6000840" y="148068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25"/>
            <p:cNvSpPr/>
            <p:nvPr/>
          </p:nvSpPr>
          <p:spPr>
            <a:xfrm flipV="1">
              <a:off x="6721560" y="147744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26"/>
            <p:cNvSpPr/>
            <p:nvPr/>
          </p:nvSpPr>
          <p:spPr>
            <a:xfrm flipV="1">
              <a:off x="8191440" y="146952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27"/>
            <p:cNvSpPr/>
            <p:nvPr/>
          </p:nvSpPr>
          <p:spPr>
            <a:xfrm flipV="1">
              <a:off x="8951760" y="147924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5"/>
            <p:cNvSpPr/>
            <p:nvPr/>
          </p:nvSpPr>
          <p:spPr>
            <a:xfrm>
              <a:off x="3816360" y="1657440"/>
              <a:ext cx="1638360" cy="118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>
                  <a:solidFill>
                    <a:srgbClr val="006600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_____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</a:t>
              </a:r>
              <a:r>
                <a:rPr b="1" lang="en-US" sz="2400" spc="-1" strike="noStrike" baseline="30000">
                  <a:solidFill>
                    <a:srgbClr val="0000ff"/>
                  </a:solidFill>
                  <a:latin typeface="Times New Roman"/>
                </a:rPr>
                <a:t>-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_____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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_____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29"/>
            <p:cNvSpPr/>
            <p:nvPr/>
          </p:nvSpPr>
          <p:spPr>
            <a:xfrm>
              <a:off x="8210520" y="800280"/>
              <a:ext cx="66672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30"/>
            <p:cNvSpPr/>
            <p:nvPr/>
          </p:nvSpPr>
          <p:spPr>
            <a:xfrm>
              <a:off x="4194000" y="6227640"/>
              <a:ext cx="201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olt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31"/>
            <p:cNvSpPr/>
            <p:nvPr/>
          </p:nvSpPr>
          <p:spPr>
            <a:xfrm rot="16200000">
              <a:off x="167400" y="3534120"/>
              <a:ext cx="201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ulse He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 Box 32"/>
            <p:cNvSpPr/>
            <p:nvPr/>
          </p:nvSpPr>
          <p:spPr>
            <a:xfrm>
              <a:off x="382680" y="6073920"/>
              <a:ext cx="65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 Box 33"/>
            <p:cNvSpPr/>
            <p:nvPr/>
          </p:nvSpPr>
          <p:spPr>
            <a:xfrm>
              <a:off x="378000" y="1103400"/>
              <a:ext cx="63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 Box 34"/>
            <p:cNvSpPr/>
            <p:nvPr/>
          </p:nvSpPr>
          <p:spPr>
            <a:xfrm rot="16200000">
              <a:off x="267480" y="3186720"/>
              <a:ext cx="278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combination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35"/>
            <p:cNvSpPr/>
            <p:nvPr/>
          </p:nvSpPr>
          <p:spPr>
            <a:xfrm rot="16200000">
              <a:off x="1148400" y="3196080"/>
              <a:ext cx="278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onization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36"/>
            <p:cNvSpPr/>
            <p:nvPr/>
          </p:nvSpPr>
          <p:spPr>
            <a:xfrm rot="16200000">
              <a:off x="3082680" y="3624120"/>
              <a:ext cx="177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portional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37"/>
            <p:cNvSpPr/>
            <p:nvPr/>
          </p:nvSpPr>
          <p:spPr>
            <a:xfrm rot="16200000">
              <a:off x="4717080" y="4407480"/>
              <a:ext cx="33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mited Proportional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 Box 38"/>
            <p:cNvSpPr/>
            <p:nvPr/>
          </p:nvSpPr>
          <p:spPr>
            <a:xfrm rot="16200000">
              <a:off x="5753520" y="3921840"/>
              <a:ext cx="33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iger-Mueller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 Box 39"/>
            <p:cNvSpPr/>
            <p:nvPr/>
          </p:nvSpPr>
          <p:spPr>
            <a:xfrm rot="16200000">
              <a:off x="6678360" y="3724200"/>
              <a:ext cx="375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tinuous Discharge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40"/>
            <p:cNvSpPr/>
            <p:nvPr/>
          </p:nvSpPr>
          <p:spPr>
            <a:xfrm>
              <a:off x="1527120" y="1427040"/>
              <a:ext cx="738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             2                           3                          4                5                  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6"/>
            <p:cNvSpPr/>
            <p:nvPr/>
          </p:nvSpPr>
          <p:spPr>
            <a:xfrm flipH="1">
              <a:off x="6810120" y="1171440"/>
              <a:ext cx="104760" cy="87660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14:16:58Z</dcterms:created>
  <dc:creator>SCANA USER</dc:creator>
  <dc:description/>
  <dc:language>en-US</dc:language>
  <cp:lastModifiedBy>Peggy Hines IRSC</cp:lastModifiedBy>
  <dcterms:modified xsi:type="dcterms:W3CDTF">2013-03-06T20:20:37Z</dcterms:modified>
  <cp:revision>181</cp:revision>
  <dc:subject/>
  <dc:title>Protection Against Radi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061033</vt:lpwstr>
  </property>
</Properties>
</file>