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0.wmf" ContentType="image/x-wmf"/>
  <Override PartName="/ppt/media/image2.png" ContentType="image/png"/>
  <Override PartName="/ppt/media/image13.wmf" ContentType="image/x-wmf"/>
  <Override PartName="/ppt/media/image8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11.wmf" ContentType="image/x-wmf"/>
  <Override PartName="/ppt/media/image3.png" ContentType="image/png"/>
  <Override PartName="/ppt/media/image17.jpeg" ContentType="image/jpeg"/>
  <Override PartName="/ppt/media/image23.wmf" ContentType="image/x-wmf"/>
  <Override PartName="/ppt/media/image6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16.wmf" ContentType="image/x-wmf"/>
  <Override PartName="/ppt/media/image14.wmf" ContentType="image/x-wmf"/>
  <Override PartName="/ppt/media/image9.wmf" ContentType="image/x-wmf"/>
  <Override PartName="/ppt/media/image1.jpeg" ContentType="image/jpeg"/>
  <Override PartName="/ppt/media/image15.wmf" ContentType="image/x-wmf"/>
  <Override PartName="/ppt/media/image5.jpeg" ContentType="image/jpeg"/>
  <Override PartName="/ppt/media/image20.wmf" ContentType="image/x-wmf"/>
  <Override PartName="/ppt/media/image18.wmf" ContentType="image/x-wmf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notesMasterIdLst>
    <p:notesMasterId r:id="rId20"/>
  </p:notesMasterIdLst>
  <p:sldIdLst>
    <p:sldId id="256" r:id="rId21"/>
    <p:sldId id="257" r:id="rId22"/>
    <p:sldId id="258" r:id="rId23"/>
    <p:sldId id="259" r:id="rId24"/>
    <p:sldId id="260" r:id="rId25"/>
    <p:sldId id="261" r:id="rId26"/>
    <p:sldId id="262" r:id="rId27"/>
    <p:sldId id="263" r:id="rId28"/>
    <p:sldId id="264" r:id="rId29"/>
    <p:sldId id="265" r:id="rId30"/>
    <p:sldId id="266" r:id="rId31"/>
    <p:sldId id="267" r:id="rId32"/>
    <p:sldId id="268" r:id="rId33"/>
    <p:sldId id="269" r:id="rId34"/>
    <p:sldId id="270" r:id="rId35"/>
    <p:sldId id="271" r:id="rId36"/>
    <p:sldId id="272" r:id="rId37"/>
    <p:sldId id="273" r:id="rId38"/>
    <p:sldId id="274" r:id="rId39"/>
    <p:sldId id="275" r:id="rId40"/>
    <p:sldId id="276" r:id="rId41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notesMaster" Target="notesMasters/notesMaster1.xml"/><Relationship Id="rId21" Type="http://schemas.openxmlformats.org/officeDocument/2006/relationships/slide" Target="slides/slide1.xml"/><Relationship Id="rId22" Type="http://schemas.openxmlformats.org/officeDocument/2006/relationships/slide" Target="slides/slide2.xml"/><Relationship Id="rId23" Type="http://schemas.openxmlformats.org/officeDocument/2006/relationships/slide" Target="slides/slide3.xml"/><Relationship Id="rId24" Type="http://schemas.openxmlformats.org/officeDocument/2006/relationships/slide" Target="slides/slide4.xml"/><Relationship Id="rId25" Type="http://schemas.openxmlformats.org/officeDocument/2006/relationships/slide" Target="slides/slide5.xml"/><Relationship Id="rId26" Type="http://schemas.openxmlformats.org/officeDocument/2006/relationships/slide" Target="slides/slide6.xml"/><Relationship Id="rId27" Type="http://schemas.openxmlformats.org/officeDocument/2006/relationships/slide" Target="slides/slide7.xml"/><Relationship Id="rId28" Type="http://schemas.openxmlformats.org/officeDocument/2006/relationships/slide" Target="slides/slide8.xml"/><Relationship Id="rId29" Type="http://schemas.openxmlformats.org/officeDocument/2006/relationships/slide" Target="slides/slide9.xml"/><Relationship Id="rId30" Type="http://schemas.openxmlformats.org/officeDocument/2006/relationships/slide" Target="slides/slide10.xml"/><Relationship Id="rId31" Type="http://schemas.openxmlformats.org/officeDocument/2006/relationships/slide" Target="slides/slide11.xml"/><Relationship Id="rId32" Type="http://schemas.openxmlformats.org/officeDocument/2006/relationships/slide" Target="slides/slide12.xml"/><Relationship Id="rId33" Type="http://schemas.openxmlformats.org/officeDocument/2006/relationships/slide" Target="slides/slide13.xml"/><Relationship Id="rId34" Type="http://schemas.openxmlformats.org/officeDocument/2006/relationships/slide" Target="slides/slide14.xml"/><Relationship Id="rId35" Type="http://schemas.openxmlformats.org/officeDocument/2006/relationships/slide" Target="slides/slide15.xml"/><Relationship Id="rId36" Type="http://schemas.openxmlformats.org/officeDocument/2006/relationships/slide" Target="slides/slide16.xml"/><Relationship Id="rId37" Type="http://schemas.openxmlformats.org/officeDocument/2006/relationships/slide" Target="slides/slide17.xml"/><Relationship Id="rId38" Type="http://schemas.openxmlformats.org/officeDocument/2006/relationships/slide" Target="slides/slide18.xml"/><Relationship Id="rId39" Type="http://schemas.openxmlformats.org/officeDocument/2006/relationships/slide" Target="slides/slide19.xml"/><Relationship Id="rId40" Type="http://schemas.openxmlformats.org/officeDocument/2006/relationships/slide" Target="slides/slide20.xml"/><Relationship Id="rId41" Type="http://schemas.openxmlformats.org/officeDocument/2006/relationships/slide" Target="slides/slide21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"/>
          <p:cNvSpPr/>
          <p:nvPr/>
        </p:nvSpPr>
        <p:spPr>
          <a:xfrm>
            <a:off x="0" y="0"/>
            <a:ext cx="6858000" cy="919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f81bd"/>
              </a:solidFill>
              <a:latin typeface="Times New Roman"/>
            </a:endParaRPr>
          </a:p>
        </p:txBody>
      </p:sp>
      <p:sp>
        <p:nvSpPr>
          <p:cNvPr id="76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 type="dt" idx="55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 type="sldImg"/>
          </p:nvPr>
        </p:nvSpPr>
        <p:spPr>
          <a:xfrm>
            <a:off x="1136520" y="696600"/>
            <a:ext cx="4584960" cy="343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 type="body"/>
          </p:nvPr>
        </p:nvSpPr>
        <p:spPr>
          <a:xfrm>
            <a:off x="914400" y="4368960"/>
            <a:ext cx="5029200" cy="414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5"/>
          <p:cNvSpPr>
            <a:spLocks noGrp="1"/>
          </p:cNvSpPr>
          <p:nvPr>
            <p:ph type="ftr" idx="56"/>
          </p:nvPr>
        </p:nvSpPr>
        <p:spPr>
          <a:xfrm>
            <a:off x="-360" y="8739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PlaceHolder 6"/>
          <p:cNvSpPr>
            <a:spLocks noGrp="1"/>
          </p:cNvSpPr>
          <p:nvPr>
            <p:ph type="sldNum" idx="57"/>
          </p:nvPr>
        </p:nvSpPr>
        <p:spPr>
          <a:xfrm>
            <a:off x="3885840" y="8739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95D80-58C6-403A-BC18-8A1334F72A0D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ldImg"/>
          </p:nvPr>
        </p:nvSpPr>
        <p:spPr>
          <a:xfrm>
            <a:off x="1138320" y="696960"/>
            <a:ext cx="4581360" cy="3435480"/>
          </a:xfrm>
          <a:prstGeom prst="rect">
            <a:avLst/>
          </a:prstGeom>
          <a:ln w="0">
            <a:noFill/>
          </a:ln>
        </p:spPr>
      </p:sp>
      <p:sp>
        <p:nvSpPr>
          <p:cNvPr id="952" name="PlaceHolder 2"/>
          <p:cNvSpPr>
            <a:spLocks noGrp="1"/>
          </p:cNvSpPr>
          <p:nvPr>
            <p:ph type="body"/>
          </p:nvPr>
        </p:nvSpPr>
        <p:spPr>
          <a:xfrm>
            <a:off x="914400" y="4368960"/>
            <a:ext cx="5029200" cy="41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Slide Number Placeholder 3"/>
          <p:cNvSpPr/>
          <p:nvPr/>
        </p:nvSpPr>
        <p:spPr>
          <a:xfrm>
            <a:off x="3886200" y="8739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5FB77-DD55-4E6C-81B3-6FDA77B0E47B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4f81bd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Rectangle 7"/>
          <p:cNvSpPr/>
          <p:nvPr/>
        </p:nvSpPr>
        <p:spPr>
          <a:xfrm>
            <a:off x="3886200" y="8739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38E72-F125-4ED2-BA14-2F7DF18223C7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4f81bd"/>
              </a:solidFill>
              <a:latin typeface="Times New Roman"/>
            </a:endParaRPr>
          </a:p>
        </p:txBody>
      </p:sp>
      <p:sp>
        <p:nvSpPr>
          <p:cNvPr id="979" name="PlaceHolder 1"/>
          <p:cNvSpPr>
            <a:spLocks noGrp="1"/>
          </p:cNvSpPr>
          <p:nvPr>
            <p:ph type="sldImg"/>
          </p:nvPr>
        </p:nvSpPr>
        <p:spPr>
          <a:xfrm>
            <a:off x="1138320" y="696960"/>
            <a:ext cx="4581360" cy="3435480"/>
          </a:xfrm>
          <a:prstGeom prst="rect">
            <a:avLst/>
          </a:prstGeom>
          <a:ln w="0">
            <a:noFill/>
          </a:ln>
        </p:spPr>
      </p:sp>
      <p:sp>
        <p:nvSpPr>
          <p:cNvPr id="980" name="PlaceHolder 2"/>
          <p:cNvSpPr>
            <a:spLocks noGrp="1"/>
          </p:cNvSpPr>
          <p:nvPr>
            <p:ph type="body"/>
          </p:nvPr>
        </p:nvSpPr>
        <p:spPr>
          <a:xfrm>
            <a:off x="914400" y="4368960"/>
            <a:ext cx="5029200" cy="41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Rectangle 7"/>
          <p:cNvSpPr/>
          <p:nvPr/>
        </p:nvSpPr>
        <p:spPr>
          <a:xfrm>
            <a:off x="3886200" y="8739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2FAF1-90B8-486C-949D-D8DB1DCC106F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4f81bd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sldImg"/>
          </p:nvPr>
        </p:nvSpPr>
        <p:spPr>
          <a:xfrm>
            <a:off x="1138320" y="696960"/>
            <a:ext cx="4581360" cy="3435480"/>
          </a:xfrm>
          <a:prstGeom prst="rect">
            <a:avLst/>
          </a:prstGeom>
          <a:ln w="0">
            <a:noFill/>
          </a:ln>
        </p:spPr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914400" y="4368960"/>
            <a:ext cx="5029200" cy="41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Rectangle 7"/>
          <p:cNvSpPr/>
          <p:nvPr/>
        </p:nvSpPr>
        <p:spPr>
          <a:xfrm>
            <a:off x="3886200" y="8739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88885-E2B6-43EF-A329-4A2FD8EC7D00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4f81bd"/>
              </a:solidFill>
              <a:latin typeface="Times New Roman"/>
            </a:endParaRPr>
          </a:p>
        </p:txBody>
      </p:sp>
      <p:sp>
        <p:nvSpPr>
          <p:cNvPr id="985" name="PlaceHolder 1"/>
          <p:cNvSpPr>
            <a:spLocks noGrp="1"/>
          </p:cNvSpPr>
          <p:nvPr>
            <p:ph type="sldImg"/>
          </p:nvPr>
        </p:nvSpPr>
        <p:spPr>
          <a:xfrm>
            <a:off x="1138320" y="696960"/>
            <a:ext cx="4581360" cy="3435480"/>
          </a:xfrm>
          <a:prstGeom prst="rect">
            <a:avLst/>
          </a:prstGeom>
          <a:ln w="0">
            <a:noFill/>
          </a:ln>
        </p:spPr>
      </p:sp>
      <p:sp>
        <p:nvSpPr>
          <p:cNvPr id="986" name="PlaceHolder 2"/>
          <p:cNvSpPr>
            <a:spLocks noGrp="1"/>
          </p:cNvSpPr>
          <p:nvPr>
            <p:ph type="body"/>
          </p:nvPr>
        </p:nvSpPr>
        <p:spPr>
          <a:xfrm>
            <a:off x="914400" y="4368960"/>
            <a:ext cx="5029200" cy="41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Rectangle 7"/>
          <p:cNvSpPr/>
          <p:nvPr/>
        </p:nvSpPr>
        <p:spPr>
          <a:xfrm>
            <a:off x="3886200" y="8739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E50DF-12D0-4975-B1DB-8D6A085C6513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4f81bd"/>
              </a:solidFill>
              <a:latin typeface="Times New Roman"/>
            </a:endParaRPr>
          </a:p>
        </p:txBody>
      </p:sp>
      <p:sp>
        <p:nvSpPr>
          <p:cNvPr id="988" name="PlaceHolder 1"/>
          <p:cNvSpPr>
            <a:spLocks noGrp="1"/>
          </p:cNvSpPr>
          <p:nvPr>
            <p:ph type="sldImg"/>
          </p:nvPr>
        </p:nvSpPr>
        <p:spPr>
          <a:xfrm>
            <a:off x="1138320" y="696960"/>
            <a:ext cx="4581360" cy="3435480"/>
          </a:xfrm>
          <a:prstGeom prst="rect">
            <a:avLst/>
          </a:prstGeom>
          <a:ln w="0">
            <a:noFill/>
          </a:ln>
        </p:spPr>
      </p:sp>
      <p:sp>
        <p:nvSpPr>
          <p:cNvPr id="989" name="PlaceHolder 2"/>
          <p:cNvSpPr>
            <a:spLocks noGrp="1"/>
          </p:cNvSpPr>
          <p:nvPr>
            <p:ph type="body"/>
          </p:nvPr>
        </p:nvSpPr>
        <p:spPr>
          <a:xfrm>
            <a:off x="914400" y="4368960"/>
            <a:ext cx="5029200" cy="41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Rectangle 7"/>
          <p:cNvSpPr/>
          <p:nvPr/>
        </p:nvSpPr>
        <p:spPr>
          <a:xfrm>
            <a:off x="3886200" y="8739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0E8EA-FFF9-4A4D-91EE-02C6375187B2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4f81bd"/>
              </a:solidFill>
              <a:latin typeface="Times New Roman"/>
            </a:endParaRPr>
          </a:p>
        </p:txBody>
      </p:sp>
      <p:sp>
        <p:nvSpPr>
          <p:cNvPr id="991" name="PlaceHolder 1"/>
          <p:cNvSpPr>
            <a:spLocks noGrp="1"/>
          </p:cNvSpPr>
          <p:nvPr>
            <p:ph type="sldImg"/>
          </p:nvPr>
        </p:nvSpPr>
        <p:spPr>
          <a:xfrm>
            <a:off x="1138320" y="696960"/>
            <a:ext cx="4581360" cy="3435480"/>
          </a:xfrm>
          <a:prstGeom prst="rect">
            <a:avLst/>
          </a:prstGeom>
          <a:ln w="0">
            <a:noFill/>
          </a:ln>
        </p:spPr>
      </p:sp>
      <p:sp>
        <p:nvSpPr>
          <p:cNvPr id="992" name="PlaceHolder 2"/>
          <p:cNvSpPr>
            <a:spLocks noGrp="1"/>
          </p:cNvSpPr>
          <p:nvPr>
            <p:ph type="body"/>
          </p:nvPr>
        </p:nvSpPr>
        <p:spPr>
          <a:xfrm>
            <a:off x="914400" y="4368960"/>
            <a:ext cx="5029200" cy="41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Rectangle 7"/>
          <p:cNvSpPr/>
          <p:nvPr/>
        </p:nvSpPr>
        <p:spPr>
          <a:xfrm>
            <a:off x="3886200" y="8739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444A5-0988-4D14-8EC4-1BCC736ED6BD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4f81bd"/>
              </a:solidFill>
              <a:latin typeface="Times New Roman"/>
            </a:endParaRPr>
          </a:p>
        </p:txBody>
      </p:sp>
      <p:sp>
        <p:nvSpPr>
          <p:cNvPr id="994" name="PlaceHolder 1"/>
          <p:cNvSpPr>
            <a:spLocks noGrp="1"/>
          </p:cNvSpPr>
          <p:nvPr>
            <p:ph type="sldImg"/>
          </p:nvPr>
        </p:nvSpPr>
        <p:spPr>
          <a:xfrm>
            <a:off x="1138320" y="696960"/>
            <a:ext cx="4581360" cy="3435480"/>
          </a:xfrm>
          <a:prstGeom prst="rect">
            <a:avLst/>
          </a:prstGeom>
          <a:ln w="0">
            <a:noFill/>
          </a:ln>
        </p:spPr>
      </p:sp>
      <p:sp>
        <p:nvSpPr>
          <p:cNvPr id="995" name="PlaceHolder 2"/>
          <p:cNvSpPr>
            <a:spLocks noGrp="1"/>
          </p:cNvSpPr>
          <p:nvPr>
            <p:ph type="body"/>
          </p:nvPr>
        </p:nvSpPr>
        <p:spPr>
          <a:xfrm>
            <a:off x="914400" y="4368960"/>
            <a:ext cx="5029200" cy="41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Rectangle 7"/>
          <p:cNvSpPr/>
          <p:nvPr/>
        </p:nvSpPr>
        <p:spPr>
          <a:xfrm>
            <a:off x="3886200" y="8739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CAA4E-B745-4245-84AF-C00500DB6FAB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4f81bd"/>
              </a:solidFill>
              <a:latin typeface="Times New Roman"/>
            </a:endParaRPr>
          </a:p>
        </p:txBody>
      </p:sp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138320" y="696960"/>
            <a:ext cx="4581360" cy="343548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14400" y="4368960"/>
            <a:ext cx="5029200" cy="41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3886200" y="8739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89FF9-BFB3-426C-8B5D-030C471BFE6C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4f81bd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sldImg"/>
          </p:nvPr>
        </p:nvSpPr>
        <p:spPr>
          <a:xfrm>
            <a:off x="1138320" y="696960"/>
            <a:ext cx="4581360" cy="3435480"/>
          </a:xfrm>
          <a:prstGeom prst="rect">
            <a:avLst/>
          </a:prstGeom>
          <a:ln w="0">
            <a:noFill/>
          </a:ln>
        </p:spPr>
      </p:sp>
      <p:sp>
        <p:nvSpPr>
          <p:cNvPr id="1001" name="PlaceHolder 2"/>
          <p:cNvSpPr>
            <a:spLocks noGrp="1"/>
          </p:cNvSpPr>
          <p:nvPr>
            <p:ph type="body"/>
          </p:nvPr>
        </p:nvSpPr>
        <p:spPr>
          <a:xfrm>
            <a:off x="914400" y="4368960"/>
            <a:ext cx="5029200" cy="41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Rectangle 7"/>
          <p:cNvSpPr/>
          <p:nvPr/>
        </p:nvSpPr>
        <p:spPr>
          <a:xfrm>
            <a:off x="3886200" y="8739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80EF1-E1A6-4E5C-BEA5-3CB82EB90CEF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4f81bd"/>
              </a:solidFill>
              <a:latin typeface="Times New Roman"/>
            </a:endParaRPr>
          </a:p>
        </p:txBody>
      </p:sp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138320" y="696960"/>
            <a:ext cx="4581360" cy="343548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14400" y="4368960"/>
            <a:ext cx="5029200" cy="41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Rectangle 7"/>
          <p:cNvSpPr/>
          <p:nvPr/>
        </p:nvSpPr>
        <p:spPr>
          <a:xfrm>
            <a:off x="3886200" y="8739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AC22F-E3EA-44F1-8F8A-D48EC02D51A7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4f81bd"/>
              </a:solidFill>
              <a:latin typeface="Times New Roman"/>
            </a:endParaRPr>
          </a:p>
        </p:txBody>
      </p:sp>
      <p:sp>
        <p:nvSpPr>
          <p:cNvPr id="955" name="PlaceHolder 1"/>
          <p:cNvSpPr>
            <a:spLocks noGrp="1"/>
          </p:cNvSpPr>
          <p:nvPr>
            <p:ph type="sldImg"/>
          </p:nvPr>
        </p:nvSpPr>
        <p:spPr>
          <a:xfrm>
            <a:off x="1138320" y="696960"/>
            <a:ext cx="4581360" cy="3435480"/>
          </a:xfrm>
          <a:prstGeom prst="rect">
            <a:avLst/>
          </a:prstGeom>
          <a:ln w="0">
            <a:noFill/>
          </a:ln>
        </p:spPr>
      </p:sp>
      <p:sp>
        <p:nvSpPr>
          <p:cNvPr id="956" name="PlaceHolder 2"/>
          <p:cNvSpPr>
            <a:spLocks noGrp="1"/>
          </p:cNvSpPr>
          <p:nvPr>
            <p:ph type="body"/>
          </p:nvPr>
        </p:nvSpPr>
        <p:spPr>
          <a:xfrm>
            <a:off x="914400" y="4368960"/>
            <a:ext cx="5029200" cy="414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 how the chamber is filled with gas (sometimes air) with a central electrode well insulated from the chamber wa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ode - center electrode (positive charg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hode - chamber wall (negative charg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otential difference is applied between the wall and the central electrode to produce an electric field in the chamb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xt sl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7"/>
          <p:cNvSpPr/>
          <p:nvPr/>
        </p:nvSpPr>
        <p:spPr>
          <a:xfrm>
            <a:off x="3886200" y="8739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BFC03-CD9E-4BB1-9220-3C7D13D24DED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4f81bd"/>
              </a:solidFill>
              <a:latin typeface="Times New Roman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138320" y="696960"/>
            <a:ext cx="4581360" cy="343548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14400" y="4368960"/>
            <a:ext cx="5029200" cy="41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3886200" y="8739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BDD59-AE01-44A6-A131-7A7FFF2C2DAD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4f81bd"/>
              </a:solidFill>
              <a:latin typeface="Times New Roman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sldImg"/>
          </p:nvPr>
        </p:nvSpPr>
        <p:spPr>
          <a:xfrm>
            <a:off x="1138320" y="696960"/>
            <a:ext cx="4581360" cy="3435480"/>
          </a:xfrm>
          <a:prstGeom prst="rect">
            <a:avLst/>
          </a:prstGeom>
          <a:ln w="0">
            <a:noFill/>
          </a:ln>
        </p:spPr>
      </p:sp>
      <p:sp>
        <p:nvSpPr>
          <p:cNvPr id="1010" name="PlaceHolder 2"/>
          <p:cNvSpPr>
            <a:spLocks noGrp="1"/>
          </p:cNvSpPr>
          <p:nvPr>
            <p:ph type="body"/>
          </p:nvPr>
        </p:nvSpPr>
        <p:spPr>
          <a:xfrm>
            <a:off x="914400" y="4368960"/>
            <a:ext cx="5029200" cy="41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Rectangle 7"/>
          <p:cNvSpPr/>
          <p:nvPr/>
        </p:nvSpPr>
        <p:spPr>
          <a:xfrm>
            <a:off x="3886200" y="8739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AA85C-AAA4-48E6-B875-766C5A3A3D2F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4f81bd"/>
              </a:solidFill>
              <a:latin typeface="Times New Roman"/>
            </a:endParaRPr>
          </a:p>
        </p:txBody>
      </p:sp>
      <p:sp>
        <p:nvSpPr>
          <p:cNvPr id="958" name="PlaceHolder 1"/>
          <p:cNvSpPr>
            <a:spLocks noGrp="1"/>
          </p:cNvSpPr>
          <p:nvPr>
            <p:ph type="sldImg"/>
          </p:nvPr>
        </p:nvSpPr>
        <p:spPr>
          <a:xfrm>
            <a:off x="1138320" y="696960"/>
            <a:ext cx="4581360" cy="3435480"/>
          </a:xfrm>
          <a:prstGeom prst="rect">
            <a:avLst/>
          </a:prstGeom>
          <a:ln w="0">
            <a:noFill/>
          </a:ln>
        </p:spPr>
      </p:sp>
      <p:sp>
        <p:nvSpPr>
          <p:cNvPr id="959" name="PlaceHolder 2"/>
          <p:cNvSpPr>
            <a:spLocks noGrp="1"/>
          </p:cNvSpPr>
          <p:nvPr>
            <p:ph type="body"/>
          </p:nvPr>
        </p:nvSpPr>
        <p:spPr>
          <a:xfrm>
            <a:off x="914400" y="4368960"/>
            <a:ext cx="5029200" cy="414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 how ionization is the process by which a neutral atom or molecule acq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res a negative or positive char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diation causes ion pairs to be produced in the gas within the chamber (this is shown on the slid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lectric field between the cathode and anode draws the ions toward the electrod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xt sl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Rectangle 7"/>
          <p:cNvSpPr/>
          <p:nvPr/>
        </p:nvSpPr>
        <p:spPr>
          <a:xfrm>
            <a:off x="3886200" y="8739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CE45A-4A79-46D2-96B0-7CB40C42EB48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4f81bd"/>
              </a:solidFill>
              <a:latin typeface="Times New Roman"/>
            </a:endParaRPr>
          </a:p>
        </p:txBody>
      </p:sp>
      <p:sp>
        <p:nvSpPr>
          <p:cNvPr id="961" name="PlaceHolder 1"/>
          <p:cNvSpPr>
            <a:spLocks noGrp="1"/>
          </p:cNvSpPr>
          <p:nvPr>
            <p:ph type="sldImg"/>
          </p:nvPr>
        </p:nvSpPr>
        <p:spPr>
          <a:xfrm>
            <a:off x="1138320" y="696960"/>
            <a:ext cx="4581360" cy="3435480"/>
          </a:xfrm>
          <a:prstGeom prst="rect">
            <a:avLst/>
          </a:prstGeom>
          <a:ln w="0">
            <a:noFill/>
          </a:ln>
        </p:spPr>
      </p:sp>
      <p:sp>
        <p:nvSpPr>
          <p:cNvPr id="962" name="PlaceHolder 2"/>
          <p:cNvSpPr>
            <a:spLocks noGrp="1"/>
          </p:cNvSpPr>
          <p:nvPr>
            <p:ph type="body"/>
          </p:nvPr>
        </p:nvSpPr>
        <p:spPr>
          <a:xfrm>
            <a:off x="914400" y="4368960"/>
            <a:ext cx="5029200" cy="414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ositive ions are drawn to the cath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egative ions are drawn to the an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peed at which the ions move toward the electrodes is a function of the field strength and the nature of the g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harge collects on the anode causing a voltage change in the circuit (pulse).  This pulse causes a current to flow in the internal meter circu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 simple radiation detec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xt sl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Rectangle 7"/>
          <p:cNvSpPr/>
          <p:nvPr/>
        </p:nvSpPr>
        <p:spPr>
          <a:xfrm>
            <a:off x="3886200" y="8739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B1AF4-D256-4588-B5E3-3F374767ED32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4f81bd"/>
              </a:solidFill>
              <a:latin typeface="Times New Roman"/>
            </a:endParaRPr>
          </a:p>
        </p:txBody>
      </p:sp>
      <p:sp>
        <p:nvSpPr>
          <p:cNvPr id="964" name="PlaceHolder 1"/>
          <p:cNvSpPr>
            <a:spLocks noGrp="1"/>
          </p:cNvSpPr>
          <p:nvPr>
            <p:ph type="sldImg"/>
          </p:nvPr>
        </p:nvSpPr>
        <p:spPr>
          <a:xfrm>
            <a:off x="1138320" y="696960"/>
            <a:ext cx="4581360" cy="3435480"/>
          </a:xfrm>
          <a:prstGeom prst="rect">
            <a:avLst/>
          </a:prstGeom>
          <a:ln w="0">
            <a:noFill/>
          </a:ln>
        </p:spPr>
      </p:sp>
      <p:sp>
        <p:nvSpPr>
          <p:cNvPr id="965" name="PlaceHolder 2"/>
          <p:cNvSpPr>
            <a:spLocks noGrp="1"/>
          </p:cNvSpPr>
          <p:nvPr>
            <p:ph type="body"/>
          </p:nvPr>
        </p:nvSpPr>
        <p:spPr>
          <a:xfrm>
            <a:off x="914400" y="4368960"/>
            <a:ext cx="5029200" cy="414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’t bring in the build which actually shows the gas amplification cur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y the draft game where there are four teams and each team has to draft players to make up the perfect team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fore the teams are made up, ask the class recall the names of the six regions of the gas amplification cur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of the points in the lesson plan will be covered by the various laminated pages for each of the reg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ter the game is played bring in the build (which shows the regions) and give them each a handout on which to capture the main points for each of the reg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k each team to review their pages and allow participants to fill in their handout for each of the reg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xt sl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Rectangle 7"/>
          <p:cNvSpPr/>
          <p:nvPr/>
        </p:nvSpPr>
        <p:spPr>
          <a:xfrm>
            <a:off x="3886200" y="8739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5EB6F-5259-4E62-A002-7A4A5F0BF62F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4f81bd"/>
              </a:solidFill>
              <a:latin typeface="Times New Roman"/>
            </a:endParaRPr>
          </a:p>
        </p:txBody>
      </p:sp>
      <p:sp>
        <p:nvSpPr>
          <p:cNvPr id="967" name="PlaceHolder 1"/>
          <p:cNvSpPr>
            <a:spLocks noGrp="1"/>
          </p:cNvSpPr>
          <p:nvPr>
            <p:ph type="sldImg"/>
          </p:nvPr>
        </p:nvSpPr>
        <p:spPr>
          <a:xfrm>
            <a:off x="1138320" y="696960"/>
            <a:ext cx="4581360" cy="3435480"/>
          </a:xfrm>
          <a:prstGeom prst="rect">
            <a:avLst/>
          </a:prstGeom>
          <a:ln w="0">
            <a:noFill/>
          </a:ln>
        </p:spPr>
      </p:sp>
      <p:sp>
        <p:nvSpPr>
          <p:cNvPr id="968" name="PlaceHolder 2"/>
          <p:cNvSpPr>
            <a:spLocks noGrp="1"/>
          </p:cNvSpPr>
          <p:nvPr>
            <p:ph type="body"/>
          </p:nvPr>
        </p:nvSpPr>
        <p:spPr>
          <a:xfrm>
            <a:off x="914400" y="4368960"/>
            <a:ext cx="5029200" cy="41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Rectangle 7"/>
          <p:cNvSpPr/>
          <p:nvPr/>
        </p:nvSpPr>
        <p:spPr>
          <a:xfrm>
            <a:off x="3886200" y="8739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E0096-D1BF-469E-9021-0B594F07EF8E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4f81bd"/>
              </a:solidFill>
              <a:latin typeface="Times New Roman"/>
            </a:endParaRPr>
          </a:p>
        </p:txBody>
      </p:sp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1138320" y="696960"/>
            <a:ext cx="4581360" cy="343548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914400" y="4368960"/>
            <a:ext cx="5029200" cy="41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Rectangle 7"/>
          <p:cNvSpPr/>
          <p:nvPr/>
        </p:nvSpPr>
        <p:spPr>
          <a:xfrm>
            <a:off x="3886200" y="8739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A198E-D86C-45CB-9034-F317859935E3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4f81bd"/>
              </a:solidFill>
              <a:latin typeface="Times New Roman"/>
            </a:endParaRPr>
          </a:p>
        </p:txBody>
      </p:sp>
      <p:sp>
        <p:nvSpPr>
          <p:cNvPr id="973" name="PlaceHolder 1"/>
          <p:cNvSpPr>
            <a:spLocks noGrp="1"/>
          </p:cNvSpPr>
          <p:nvPr>
            <p:ph type="sldImg"/>
          </p:nvPr>
        </p:nvSpPr>
        <p:spPr>
          <a:xfrm>
            <a:off x="1138320" y="696960"/>
            <a:ext cx="4581360" cy="3435480"/>
          </a:xfrm>
          <a:prstGeom prst="rect">
            <a:avLst/>
          </a:prstGeom>
          <a:ln w="0">
            <a:noFill/>
          </a:ln>
        </p:spPr>
      </p:sp>
      <p:sp>
        <p:nvSpPr>
          <p:cNvPr id="974" name="PlaceHolder 2"/>
          <p:cNvSpPr>
            <a:spLocks noGrp="1"/>
          </p:cNvSpPr>
          <p:nvPr>
            <p:ph type="body"/>
          </p:nvPr>
        </p:nvSpPr>
        <p:spPr>
          <a:xfrm>
            <a:off x="914400" y="4368960"/>
            <a:ext cx="5029200" cy="41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Rectangle 7"/>
          <p:cNvSpPr/>
          <p:nvPr/>
        </p:nvSpPr>
        <p:spPr>
          <a:xfrm>
            <a:off x="3886200" y="8739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1D04D-2EEC-46EC-89B3-F61E35EAD7C1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4f81bd"/>
              </a:solidFill>
              <a:latin typeface="Times New Roman"/>
            </a:endParaRPr>
          </a:p>
        </p:txBody>
      </p:sp>
      <p:sp>
        <p:nvSpPr>
          <p:cNvPr id="976" name="PlaceHolder 1"/>
          <p:cNvSpPr>
            <a:spLocks noGrp="1"/>
          </p:cNvSpPr>
          <p:nvPr>
            <p:ph type="sldImg"/>
          </p:nvPr>
        </p:nvSpPr>
        <p:spPr>
          <a:xfrm>
            <a:off x="1138320" y="696960"/>
            <a:ext cx="4581360" cy="3435480"/>
          </a:xfrm>
          <a:prstGeom prst="rect">
            <a:avLst/>
          </a:prstGeom>
          <a:ln w="0">
            <a:noFill/>
          </a:ln>
        </p:spPr>
      </p:sp>
      <p:sp>
        <p:nvSpPr>
          <p:cNvPr id="977" name="PlaceHolder 2"/>
          <p:cNvSpPr>
            <a:spLocks noGrp="1"/>
          </p:cNvSpPr>
          <p:nvPr>
            <p:ph type="body"/>
          </p:nvPr>
        </p:nvSpPr>
        <p:spPr>
          <a:xfrm>
            <a:off x="914400" y="4368960"/>
            <a:ext cx="5029200" cy="41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59FFD-DCEE-439A-BE9F-D2456E94B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914FA-6866-44A7-B591-3224399E0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3581DA-3356-4FC3-A022-1F6CB78D9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8EEA24-7375-4654-B398-0F3280910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737B02-4F3F-4222-9374-E437591B2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0BA8B0-B0AF-40D5-BD13-768FD6790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BA38BD-316B-463F-9FE9-022FC06E6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4CB99E-4A9D-4DAC-AF05-CDE58B867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DDC0F1-627D-4FA2-A8BA-1C170BA4A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3680B5-1536-4D3A-A636-979526794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68B8A9-3F0C-47D4-A4B1-DE18F96EE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328AEB-7310-48E3-B485-247C9A157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693A2-0EAE-40FC-83DE-67C8D02BE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307DFA-03C2-4D83-9139-6520BF9A9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F081EA-D694-43ED-AD23-744B81B5D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EC0BCE-0F6C-4880-B3D8-EA1985CD1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880031-C67F-4F32-BBEA-B051934DE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FAEE3F-3FC3-4463-A92A-9A6ADFB07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BD6368-DDC5-4112-B7FA-F5D782B51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21638F-7F2D-47B5-86BB-86BEDBCBC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EA8E1E-63A4-42B8-B2B3-177C3E36C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A34A50-0F06-4595-8BAB-50CBE26B3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B9636B-48E0-4A18-AA50-9DBCAA3F1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396B7-308B-4F4C-8957-6D2AE7DD8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0A281D-9AC0-4F93-93D5-E11B2F5DE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4085C0-90ED-40E8-B781-B4B7DB85B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319951-A133-4325-8B3B-F5749F59B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3E4382-5AD7-425D-AC93-0DACB3A34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A764A7-3A0F-4DCF-B19C-8C8D12F26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4E3851-CC4A-47A7-93AB-BBBEE817D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D08F3F-C24E-47C4-93DA-B3B117AA2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11603D-3CCA-4DA5-A7FC-E38613C90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7144A9-DEE4-47DD-BC9B-696F73720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A003DF-A68E-4198-A6AB-AD39A5BE3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0AE10-EBC2-46C5-9E75-03E0FD836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DABC9E-3A06-4FE6-98DB-556CE53D8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750932-1412-4465-965B-CE93AD6DB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7DCA84-F931-497E-B8B6-D990EC40A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CDE380-8B0B-492A-B35E-DE162FD14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94865D-3D0F-44F6-BD48-B2CCDA2AC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96FD37-2B27-4C13-9655-74E6A7B38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B62E40-BB1E-4BFC-9FCA-E7CFA8D6C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3CB926-C365-4E97-B607-4506BAE8F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3A6F7E-D6DA-40BF-B6BB-1A5C39597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6162B4-840A-4337-B276-0D32F0B88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E0426-51CA-42BD-8338-B17B85619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68BECB-FAEF-425C-92F8-97AC75A6D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524EF3-2792-4D72-8EBE-EB40574B0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C3C462-58DC-474B-A65C-33D297AD3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5781B0-2EE3-4028-A509-601F0D1E2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311781-6F13-43A0-874C-3356F4F86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D645C16-DA89-4F14-BE74-588D5F885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1E14C90-3991-41D7-BED1-8AFE0891F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BDBE929-C4FB-438C-99C1-AEFCECD71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E843074-2705-4783-B519-E9303B4E3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EDD59B4-C83F-4EF3-9CF7-D7B4E193C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38409-2EFF-4911-975E-B2B882579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012E9FF-C965-4AC0-8E96-C79525EA3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38634BD-103F-4187-8C61-D4236AC9A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404897B-E624-4A54-BC68-184FFE835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09AC51C-FD4B-41E5-8351-DAFB7ACD9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871BC8E-A511-41CA-8184-F917A8CE4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41FBD35-81AE-4B0B-8EA6-D96050B6F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816A506-2B68-41F9-8CF2-4D98683D4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6DAD1CE-2B91-4FAD-A37D-3A93B2DE7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0C0F06B-67A0-4633-AC09-BE0A922E5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A4019A3-7918-42B8-BA3A-092406531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58280-2658-45B8-AFCC-9C7CCFB3C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E30A476-8501-464C-8A6B-F32307058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19DB051-D255-443A-8FFB-88F4B63B0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81F3CAB-A95B-424B-9089-FDEE39621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735A38D-9093-49AE-BAD8-EC4B82A53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78FF606-503B-4E6C-B7A9-7F5AA69DB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F98633D-6657-4C9E-88EF-DB9DE8FC4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193702C-F08A-4440-8E88-363748A29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36F5B61-11BE-4244-991B-8ABB82FFE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6B58F55-C4DC-46C5-BF59-72CF65D5C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C262886-C9D9-4E88-B485-BBE714E2A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EC7A5-B8D1-4CFF-B968-BDB2C41B2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22F696D-767C-4119-84C5-DA769DDF3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73C3BED-87BF-4C54-AB77-F861EFF88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169B967-CDB6-459B-805A-F406E0F94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EEA2C0E-6706-4357-A57F-1BD153914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CE1BFA2-A4A5-4E1E-BD2E-803391ABF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4071D9A-E131-4EB6-8F49-58307680C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E6261C2-4886-4F77-9A72-FEE933339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29A6F4F-B955-4897-9E12-5D40BA1F0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FFA9585-A45C-4B9D-B8E2-10E6FFE3B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28088A8-88AF-4F49-9936-A9D638052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21AFA-49D9-4566-B188-B660939AA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2EAF9AE-35E6-4C19-842E-A48FFCB9E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36E7877-AA17-474B-9440-2B0A08EBD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C927E5A-84A8-4F43-8DA5-0FA7A3E6D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99CA291-840C-43F5-B9AD-09832DD3C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FD7D85F-A60D-49F0-8C03-62A181B69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47F6109-138B-4917-A47E-BF167A05B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6878E4A-5FDF-4604-95C9-9972AF270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952FFF9-1E20-4304-9CB4-9ACF8A23E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3DD81F0-C97B-407F-AF7E-CFF20E961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5F49D9E-16AC-4CC9-9157-15BFAF6E1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BE1B9-7237-48CF-A6D3-848666101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0DBDD41-4221-4DCE-9EB8-BA5ED177B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FBE8023-0EB9-4125-9874-3FE6C771C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DACBE49-E3B0-462D-A870-E8634D1A4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D5D7CA9-0614-4329-854C-A04EC3681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FF6CE88-9AC7-42B2-93E1-80F4D98B4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D339C32-CA71-45A5-90F5-9D32FEA26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37DCBEB-0DE5-4751-A74C-BE46605E2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E3C3026-818C-40FB-B6BF-A36FC8EC9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1422510-8140-4974-B1F9-CB75F0EE5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E09E4AE-4E6D-4DC2-B8C8-49F1A9545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BDED6-5BFD-4B99-8F09-AA2143806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E3360-2FB4-4F9A-B658-51C8D779B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E83EDBA-0BF4-4A8D-9B8D-38B9D98FC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14C67FA-50E3-4459-B37E-61A961C89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711914E-D87B-4962-9EE6-1DFD3440F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896FDF4-8831-48A2-8591-5B15B0E11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B23FC9F-0B5F-4C27-B548-E8EA1D1F2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624B32F-8E89-40ED-ABBB-480C66AF0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2F89737-B325-4EAE-9B28-8F05C92CA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35B0B44-A518-4CCC-94A4-A6F341BD4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92BD99E-AA15-4266-973E-8DC5F60BA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6EE4D07-F57F-4F79-BC3D-A98A9BF59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7D0FB-7EB3-40B9-A3E0-58C231F76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4B40B67-69A5-48A3-9569-467D9F838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F008FEA-DC52-4E6B-91C3-CBDD15FFF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FD1259A-D5B0-40CA-89AE-2B1B8A89C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DE5906B-9CBA-4585-B3B9-29BB6C50A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EBACF92-2790-4FF2-80A3-E40DE17A2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9816548-A0A1-4E10-A99F-042D4053E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629F766-231E-463E-864F-854E37816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C4B1A-545C-4610-8872-25A0D9F4F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FAF73-1923-4C2D-835C-300D5E317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D6C90-D067-4C7F-A953-6D94B48DE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A77BCC-CA38-4BBB-9D5C-9C27E7489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2832F6-00FA-4306-A274-4297E3830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5B3A9A-3BE8-4363-BA4F-C5E7ADAD1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EF542C-7BAA-439D-9FF9-E6B173D55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56CB20-92E4-4DDB-9B34-371EA773F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454C2-8EA6-48F8-AA65-31A532848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0579B2-E168-4369-AEB9-4F9AF628C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F5DDED-ADEA-4F1C-B22D-6F0B62C4A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B581B7-0B10-4D64-86F5-28C362900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5DFDE2-0566-4529-ABB5-98080F43D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659B27-F861-4155-8B58-6ABD4FDC4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97FFDB-F271-4FBF-9ADB-4363C3DFC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3C2B29-F584-41C8-B199-BDCC52A2F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5844BC-140E-4670-9E68-F9D274585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6D9528-7292-426B-B395-68E749450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A85D4F-D7A8-4DA6-8A93-65460F9A1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ED838-73A3-4DE5-AE56-6FA96B6EE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3AB9F0-EFD9-42E3-9CE1-D2BBFC24F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E6B66F-C3E7-4C9E-B570-4F0C83387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18ECDE-B81C-4AEF-8A42-C0967040F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77F485-D803-4BB5-BD5C-E860C0D05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1C8DB4-6750-4875-AFCB-07B04B9CF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E2CA0B-54E7-423C-AD52-88A248A31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39849F-9547-45F3-86D6-1CF3D9D72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6CDF5B-98F4-46AC-912A-AF58EB53F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5C347A-5A4B-42BC-8894-9EBB5D338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77903B-4ED0-47A3-8A01-4ED9B2468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AE760-F81A-47FD-B180-725158537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A7F796-EB75-4D4F-8DBD-421F54DD9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70B691-8DAA-4804-BC45-B6EDD864A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AE7D02-C2E4-4F92-8EC5-8988D14FC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ADC7EA-044F-4361-BC80-B450A9949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3A7D2B-9017-4131-AD1E-27545F856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F43E54-4FF4-4B43-9AE4-33CCEEEB6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B42621-F06A-4DBC-BB2F-EBF3941E7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31EC57-3BAC-4E2B-97CC-C8C0CFD8C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0FEC1C-7C39-4EC3-B731-5A3EFB280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EA7208-C2A5-4E5A-9B54-8EFF4538D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A5D29-BAAF-4246-BA75-3576F18AD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89F85A-2696-4EAE-A15D-F4B37347D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49E13E-8978-4695-BE82-5E22BA93C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A5F0CD-47EE-44EA-96A1-54A8DEE1A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391437-6A34-4B01-908D-430C12360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25794A-26B1-41AA-8D67-2ECB72393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A9B295-67BF-4619-A61B-F871FDD50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E50CE6-2FA6-4FC8-96F5-E79BEBFFB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67141D-BCD1-4F13-B1EC-77F9A5ABA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92C889-A15E-4C8F-8FE3-6209D3CBE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01D14F-D88B-4C5E-9553-BE82F6045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A7AB1-B822-4E88-986E-8FE290FFE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F21CE8-E198-4AC5-A2DE-52AD301A5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1FEC11-5C4F-4E0D-8FD6-E8FAF5AC2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7E5289-5579-49D1-90BB-4649C67D5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16669C-1287-4756-8BBF-24B46CE88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319145-4011-4097-8531-A9C5C1F2C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4DEDDE-9030-4A0E-8371-0F7C102DB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666535-C303-44D6-A6ED-7DCF2539D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37A3FE-C01C-42AE-BB06-44C588C96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318CB3-B0BD-4698-9E62-0D88177CB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1618AF-A39A-4DDC-9381-AD4784AED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2F207-13EF-456A-A1AC-8B9040FC8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3E9B42-6F81-4B32-B79E-1962E6A3A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3A0167-F935-4974-94FA-D0FB263D5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F08D7A-27D2-4D36-8CBC-E7FE93923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611D40-A9ED-4774-A480-19333B9B4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6BF453-4E3C-486B-9511-ADB42D3BF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CCA7E1-60DC-4AC4-975D-E987AC77D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5CC6C6-CD94-42C1-A41F-C9583B836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6DEB15-28E4-4149-94A2-378E47A47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E3CFBC-BC72-4DAD-9429-0F99460EF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18B93F-8DCA-4286-8809-117D395D8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79464-62A6-417E-B8FC-DB626452D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AB26F1-006E-4A90-8699-3F2DBACF5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8D0FF2-AB45-4F11-8566-054D80035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3F3520-2DD0-46EB-B415-0140D208E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89866D-7009-4228-9224-59C8CB68F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F9AA10-5272-42C2-B391-ACE3ED79B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BA74C8-4002-42F7-AD4D-7B972641C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E4A23A-6FD5-4FD5-9655-AFB49E369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B50F4C-5918-48A5-9EB0-0C3D3F8AC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0BA651-B65D-4CAA-B38C-DA9E6766A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6BAAD4-F131-47AF-B006-15810367D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2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73.xml"/><Relationship Id="rId8" Type="http://schemas.openxmlformats.org/officeDocument/2006/relationships/slideLayout" Target="../slideLayouts/slideLayout74.xml"/><Relationship Id="rId9" Type="http://schemas.openxmlformats.org/officeDocument/2006/relationships/slideLayout" Target="../slideLayouts/slideLayout75.xml"/><Relationship Id="rId10" Type="http://schemas.openxmlformats.org/officeDocument/2006/relationships/slideLayout" Target="../slideLayouts/slideLayout76.xml"/><Relationship Id="rId11" Type="http://schemas.openxmlformats.org/officeDocument/2006/relationships/slideLayout" Target="../slideLayouts/slideLayout77.xml"/><Relationship Id="rId12" Type="http://schemas.openxmlformats.org/officeDocument/2006/relationships/slideLayout" Target="../slideLayouts/slideLayout78.xml"/><Relationship Id="rId13" Type="http://schemas.openxmlformats.org/officeDocument/2006/relationships/slideLayout" Target="../slideLayouts/slideLayout79.xml"/><Relationship Id="rId14" Type="http://schemas.openxmlformats.org/officeDocument/2006/relationships/slideLayout" Target="../slideLayouts/slideLayout80.xml"/><Relationship Id="rId15" Type="http://schemas.openxmlformats.org/officeDocument/2006/relationships/slideLayout" Target="../slideLayouts/slideLayout81.xml"/><Relationship Id="rId16" Type="http://schemas.openxmlformats.org/officeDocument/2006/relationships/slideLayout" Target="../slideLayouts/slideLayout82.xml"/><Relationship Id="rId17" Type="http://schemas.openxmlformats.org/officeDocument/2006/relationships/slideLayout" Target="../slideLayouts/slideLayout83.xml"/><Relationship Id="rId18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f81bd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f81bd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2E11F-03A0-4AD6-8525-C3035E1F1FF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6" descr="RCNET.jpg"/>
          <p:cNvPicPr/>
          <p:nvPr/>
        </p:nvPicPr>
        <p:blipFill>
          <a:blip r:embed="rId3"/>
          <a:stretch/>
        </p:blipFill>
        <p:spPr>
          <a:xfrm>
            <a:off x="8121600" y="5961240"/>
            <a:ext cx="1044720" cy="966600"/>
          </a:xfrm>
          <a:prstGeom prst="rect">
            <a:avLst/>
          </a:prstGeom>
          <a:ln w="0">
            <a:noFill/>
          </a:ln>
        </p:spPr>
      </p:pic>
      <p:pic>
        <p:nvPicPr>
          <p:cNvPr id="6" name="Picture 7" descr="IRSC_NSFPoster.jpg"/>
          <p:cNvPicPr/>
          <p:nvPr/>
        </p:nvPicPr>
        <p:blipFill>
          <a:blip r:embed="rId4"/>
          <a:stretch/>
        </p:blipFill>
        <p:spPr>
          <a:xfrm>
            <a:off x="0" y="6443640"/>
            <a:ext cx="457200" cy="35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f81bd"/>
              </a:solidFill>
              <a:latin typeface="Times New Roman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4582A-4BA8-4679-A84F-F49D3070B7D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f81bd"/>
              </a:solidFill>
              <a:latin typeface="Times New Roman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98B8A-79F2-49DF-B061-70C071E7AD3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f81bd"/>
              </a:solidFill>
              <a:latin typeface="Times New Roman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77134-B42A-48F9-854B-57508B96ACB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f81bd"/>
              </a:solidFill>
              <a:latin typeface="Times New Roman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E7B21-0403-4C20-B1BC-C3396A7B432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7" name="Picture 6" descr="RCNET.jpg"/>
          <p:cNvPicPr/>
          <p:nvPr/>
        </p:nvPicPr>
        <p:blipFill>
          <a:blip r:embed="rId3"/>
          <a:stretch/>
        </p:blipFill>
        <p:spPr>
          <a:xfrm>
            <a:off x="8121600" y="5961240"/>
            <a:ext cx="1044720" cy="966600"/>
          </a:xfrm>
          <a:prstGeom prst="rect">
            <a:avLst/>
          </a:prstGeom>
          <a:ln w="0">
            <a:noFill/>
          </a:ln>
        </p:spPr>
      </p:pic>
      <p:pic>
        <p:nvPicPr>
          <p:cNvPr id="558" name="Picture 7" descr="IRSC_NSFPoster.jpg"/>
          <p:cNvPicPr/>
          <p:nvPr/>
        </p:nvPicPr>
        <p:blipFill>
          <a:blip r:embed="rId4"/>
          <a:stretch/>
        </p:blipFill>
        <p:spPr>
          <a:xfrm>
            <a:off x="0" y="6443640"/>
            <a:ext cx="457200" cy="358920"/>
          </a:xfrm>
          <a:prstGeom prst="rect">
            <a:avLst/>
          </a:prstGeom>
          <a:ln w="0">
            <a:noFill/>
          </a:ln>
        </p:spPr>
      </p:pic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f81bd"/>
              </a:solidFill>
              <a:latin typeface="Times New Roman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A328C-E4D9-488F-8252-1D123A85A98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 type="dt" idx="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 type="ftr" idx="4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f81bd"/>
              </a:solidFill>
              <a:latin typeface="Times New Roman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 type="sldNum" idx="4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6C103-ABD1-45CE-82B6-552FE0AA166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 type="dt" idx="4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 type="ftr" idx="4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f81bd"/>
              </a:solidFill>
              <a:latin typeface="Times New Roman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 type="sldNum" idx="4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D9799-ABB6-457C-BCFD-9BAC7FA85E1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 type="dt" idx="4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 type="ftr" idx="5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f81bd"/>
              </a:solidFill>
              <a:latin typeface="Times New Roman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 type="sldNum" idx="5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BFE58-282F-4C98-BFD2-B6012BAE59E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 type="dt" idx="5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 type="ftr" idx="5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f81bd"/>
              </a:solidFill>
              <a:latin typeface="Times New Roman"/>
            </a:endParaRPr>
          </a:p>
        </p:txBody>
      </p:sp>
      <p:sp>
        <p:nvSpPr>
          <p:cNvPr id="727" name="PlaceHolder 5"/>
          <p:cNvSpPr>
            <a:spLocks noGrp="1"/>
          </p:cNvSpPr>
          <p:nvPr>
            <p:ph type="sldNum" idx="5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3560F-ADF3-4A58-AAA2-C1DE7664369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f81bd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DD2BA-5323-4415-98DF-B936E9D22A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6" descr="RCNET.jpg"/>
          <p:cNvPicPr/>
          <p:nvPr/>
        </p:nvPicPr>
        <p:blipFill>
          <a:blip r:embed="rId3"/>
          <a:stretch/>
        </p:blipFill>
        <p:spPr>
          <a:xfrm>
            <a:off x="8121600" y="5961240"/>
            <a:ext cx="1044720" cy="9666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7" descr="IRSC_NSFPoster.jpg"/>
          <p:cNvPicPr/>
          <p:nvPr/>
        </p:nvPicPr>
        <p:blipFill>
          <a:blip r:embed="rId4"/>
          <a:stretch/>
        </p:blipFill>
        <p:spPr>
          <a:xfrm>
            <a:off x="0" y="6443640"/>
            <a:ext cx="457200" cy="3589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8" descr="RCNET.jpg"/>
          <p:cNvPicPr/>
          <p:nvPr/>
        </p:nvPicPr>
        <p:blipFill>
          <a:blip r:embed="rId5"/>
          <a:stretch/>
        </p:blipFill>
        <p:spPr>
          <a:xfrm>
            <a:off x="8121600" y="5961240"/>
            <a:ext cx="1044720" cy="9666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9" descr="IRSC_NSFPoster.jpg"/>
          <p:cNvPicPr/>
          <p:nvPr/>
        </p:nvPicPr>
        <p:blipFill>
          <a:blip r:embed="rId6"/>
          <a:stretch/>
        </p:blipFill>
        <p:spPr>
          <a:xfrm>
            <a:off x="0" y="6443640"/>
            <a:ext cx="457200" cy="3589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0" descr="RCNET.jpg"/>
          <p:cNvPicPr/>
          <p:nvPr/>
        </p:nvPicPr>
        <p:blipFill>
          <a:blip r:embed="rId7"/>
          <a:stretch/>
        </p:blipFill>
        <p:spPr>
          <a:xfrm>
            <a:off x="8121600" y="5961240"/>
            <a:ext cx="1044720" cy="9666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1" descr="IRSC_NSFPoster.jpg"/>
          <p:cNvPicPr/>
          <p:nvPr/>
        </p:nvPicPr>
        <p:blipFill>
          <a:blip r:embed="rId8"/>
          <a:stretch/>
        </p:blipFill>
        <p:spPr>
          <a:xfrm>
            <a:off x="0" y="6443640"/>
            <a:ext cx="457200" cy="35892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f81bd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f81bd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2513E-2648-445A-B0FD-BA7362FF383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6" descr="RCNET.jpg"/>
          <p:cNvPicPr/>
          <p:nvPr/>
        </p:nvPicPr>
        <p:blipFill>
          <a:blip r:embed="rId3"/>
          <a:stretch/>
        </p:blipFill>
        <p:spPr>
          <a:xfrm>
            <a:off x="8121600" y="5961240"/>
            <a:ext cx="1044720" cy="9666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7" descr="IRSC_NSFPoster.jpg"/>
          <p:cNvPicPr/>
          <p:nvPr/>
        </p:nvPicPr>
        <p:blipFill>
          <a:blip r:embed="rId4"/>
          <a:stretch/>
        </p:blipFill>
        <p:spPr>
          <a:xfrm>
            <a:off x="0" y="6443640"/>
            <a:ext cx="457200" cy="3589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8" descr="RCNET.jpg"/>
          <p:cNvPicPr/>
          <p:nvPr/>
        </p:nvPicPr>
        <p:blipFill>
          <a:blip r:embed="rId5"/>
          <a:stretch/>
        </p:blipFill>
        <p:spPr>
          <a:xfrm>
            <a:off x="8121600" y="5961240"/>
            <a:ext cx="1044720" cy="9666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9" descr="IRSC_NSFPoster.jpg"/>
          <p:cNvPicPr/>
          <p:nvPr/>
        </p:nvPicPr>
        <p:blipFill>
          <a:blip r:embed="rId6"/>
          <a:stretch/>
        </p:blipFill>
        <p:spPr>
          <a:xfrm>
            <a:off x="0" y="6443640"/>
            <a:ext cx="457200" cy="35892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f81bd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f81bd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835C0-8D18-411F-BC90-DE5DD4FA0C1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6" descr="RCNET.jpg"/>
          <p:cNvPicPr/>
          <p:nvPr/>
        </p:nvPicPr>
        <p:blipFill>
          <a:blip r:embed="rId3"/>
          <a:stretch/>
        </p:blipFill>
        <p:spPr>
          <a:xfrm>
            <a:off x="8121600" y="5961240"/>
            <a:ext cx="1044720" cy="96660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7" descr="IRSC_NSFPoster.jpg"/>
          <p:cNvPicPr/>
          <p:nvPr/>
        </p:nvPicPr>
        <p:blipFill>
          <a:blip r:embed="rId4"/>
          <a:stretch/>
        </p:blipFill>
        <p:spPr>
          <a:xfrm>
            <a:off x="0" y="6443640"/>
            <a:ext cx="457200" cy="35892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8" descr="RCNET.jpg"/>
          <p:cNvPicPr/>
          <p:nvPr/>
        </p:nvPicPr>
        <p:blipFill>
          <a:blip r:embed="rId5"/>
          <a:stretch/>
        </p:blipFill>
        <p:spPr>
          <a:xfrm>
            <a:off x="8121600" y="5961240"/>
            <a:ext cx="1044720" cy="9666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9" descr="IRSC_NSFPoster.jpg"/>
          <p:cNvPicPr/>
          <p:nvPr/>
        </p:nvPicPr>
        <p:blipFill>
          <a:blip r:embed="rId6"/>
          <a:stretch/>
        </p:blipFill>
        <p:spPr>
          <a:xfrm>
            <a:off x="0" y="6443640"/>
            <a:ext cx="457200" cy="35892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f81bd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f81bd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B9807-CBD2-4CD3-8ACC-D480CCEEE28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6" descr="RCNET.jpg"/>
          <p:cNvPicPr/>
          <p:nvPr/>
        </p:nvPicPr>
        <p:blipFill>
          <a:blip r:embed="rId3"/>
          <a:stretch/>
        </p:blipFill>
        <p:spPr>
          <a:xfrm>
            <a:off x="8121600" y="5961240"/>
            <a:ext cx="1044720" cy="96660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7" descr="IRSC_NSFPoster.jpg"/>
          <p:cNvPicPr/>
          <p:nvPr/>
        </p:nvPicPr>
        <p:blipFill>
          <a:blip r:embed="rId4"/>
          <a:stretch/>
        </p:blipFill>
        <p:spPr>
          <a:xfrm>
            <a:off x="0" y="6443640"/>
            <a:ext cx="457200" cy="35892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8" descr="RCNET.jpg"/>
          <p:cNvPicPr/>
          <p:nvPr/>
        </p:nvPicPr>
        <p:blipFill>
          <a:blip r:embed="rId5"/>
          <a:stretch/>
        </p:blipFill>
        <p:spPr>
          <a:xfrm>
            <a:off x="8121600" y="5961240"/>
            <a:ext cx="1044720" cy="96660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9" descr="IRSC_NSFPoster.jpg"/>
          <p:cNvPicPr/>
          <p:nvPr/>
        </p:nvPicPr>
        <p:blipFill>
          <a:blip r:embed="rId6"/>
          <a:stretch/>
        </p:blipFill>
        <p:spPr>
          <a:xfrm>
            <a:off x="0" y="6443640"/>
            <a:ext cx="457200" cy="358920"/>
          </a:xfrm>
          <a:prstGeom prst="rect">
            <a:avLst/>
          </a:prstGeom>
          <a:ln w="0">
            <a:noFill/>
          </a:ln>
        </p:spPr>
      </p:pic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f81bd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f81bd"/>
              </a:solidFill>
              <a:latin typeface="Times New Roman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1DC6B-5AB1-4678-B18A-67FBB3F98C7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6" descr="RCNET.jpg"/>
          <p:cNvPicPr/>
          <p:nvPr/>
        </p:nvPicPr>
        <p:blipFill>
          <a:blip r:embed="rId3"/>
          <a:stretch/>
        </p:blipFill>
        <p:spPr>
          <a:xfrm>
            <a:off x="8121600" y="5961240"/>
            <a:ext cx="1044720" cy="96660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7" descr="IRSC_NSFPoster.jpg"/>
          <p:cNvPicPr/>
          <p:nvPr/>
        </p:nvPicPr>
        <p:blipFill>
          <a:blip r:embed="rId4"/>
          <a:stretch/>
        </p:blipFill>
        <p:spPr>
          <a:xfrm>
            <a:off x="0" y="6443640"/>
            <a:ext cx="457200" cy="35892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8" descr="RCNET.jpg"/>
          <p:cNvPicPr/>
          <p:nvPr/>
        </p:nvPicPr>
        <p:blipFill>
          <a:blip r:embed="rId5"/>
          <a:stretch/>
        </p:blipFill>
        <p:spPr>
          <a:xfrm>
            <a:off x="8121600" y="5961240"/>
            <a:ext cx="1044720" cy="96660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9" descr="IRSC_NSFPoster.jpg"/>
          <p:cNvPicPr/>
          <p:nvPr/>
        </p:nvPicPr>
        <p:blipFill>
          <a:blip r:embed="rId6"/>
          <a:stretch/>
        </p:blipFill>
        <p:spPr>
          <a:xfrm>
            <a:off x="0" y="6443640"/>
            <a:ext cx="457200" cy="358920"/>
          </a:xfrm>
          <a:prstGeom prst="rect">
            <a:avLst/>
          </a:prstGeom>
          <a:ln w="0">
            <a:noFill/>
          </a:ln>
        </p:spPr>
      </p:pic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f81bd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f81bd"/>
              </a:solidFill>
              <a:latin typeface="Times New Roman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522D4-9D52-44BB-822D-93D499539D8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7"/>
    <p:sldLayoutId id="2147483728" r:id="rId8"/>
    <p:sldLayoutId id="2147483729" r:id="rId9"/>
    <p:sldLayoutId id="2147483730" r:id="rId10"/>
    <p:sldLayoutId id="2147483731" r:id="rId11"/>
    <p:sldLayoutId id="2147483732" r:id="rId12"/>
    <p:sldLayoutId id="2147483733" r:id="rId13"/>
    <p:sldLayoutId id="2147483734" r:id="rId14"/>
    <p:sldLayoutId id="2147483735" r:id="rId15"/>
    <p:sldLayoutId id="2147483736" r:id="rId16"/>
    <p:sldLayoutId id="2147483737" r:id="rId17"/>
    <p:sldLayoutId id="2147483738" r:id="rId18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f81bd"/>
              </a:solidFill>
              <a:latin typeface="Times New Roman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42671-93B2-4D51-9B3C-6DC82E90CEE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f81bd"/>
              </a:solidFill>
              <a:latin typeface="Times New Roman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F70A2-7535-431D-8602-A19EA7235B2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Rad%20Measurements%20Instrument%20Instructor%20Notes.docx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57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TextBox 1"/>
          <p:cNvSpPr/>
          <p:nvPr/>
        </p:nvSpPr>
        <p:spPr>
          <a:xfrm>
            <a:off x="152280" y="1219320"/>
            <a:ext cx="883944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ACADs (08-006)  Covered</a:t>
            </a:r>
            <a:endParaRPr b="0" lang="en-US" sz="1800" spc="-1" strike="noStrike">
              <a:solidFill>
                <a:srgbClr val="4f81b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f81b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f81b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f81b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f81b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f81b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f81b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f81b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Keywords</a:t>
            </a:r>
            <a:endParaRPr b="0" lang="en-US" sz="1800" spc="-1" strike="noStrike">
              <a:solidFill>
                <a:srgbClr val="4f81b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Gas-filled detector, ionization chamber, proportional detector, Geiger-Mueller detector scintillation detector, semiconductor, thermoluminescent detector, characteristics, operating principles, advantages, disadvantages.</a:t>
            </a:r>
            <a:endParaRPr b="0" lang="en-US" sz="1600" spc="-1" strike="noStrike">
              <a:solidFill>
                <a:srgbClr val="4f81b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Description</a:t>
            </a:r>
            <a:endParaRPr b="0" lang="en-US" sz="1800" spc="-1" strike="noStrike">
              <a:solidFill>
                <a:srgbClr val="4f81b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f81b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f81b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Supporting Material</a:t>
            </a:r>
            <a:endParaRPr b="0" lang="en-US" sz="1800" spc="-1" strike="noStrike">
              <a:solidFill>
                <a:srgbClr val="4f81b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f81b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Rad Measurements Instrument Instructor Notes</a:t>
            </a:r>
            <a:endParaRPr b="0" lang="en-US" sz="1800" spc="-1" strike="noStrike">
              <a:solidFill>
                <a:srgbClr val="4f81b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f81bd"/>
              </a:solidFill>
              <a:latin typeface="Times New Roman"/>
            </a:endParaRPr>
          </a:p>
        </p:txBody>
      </p:sp>
      <p:pic>
        <p:nvPicPr>
          <p:cNvPr id="772" name="Title 1" descr=""/>
          <p:cNvPicPr/>
          <p:nvPr/>
        </p:nvPicPr>
        <p:blipFill>
          <a:blip r:embed="rId2"/>
          <a:stretch/>
        </p:blipFill>
        <p:spPr>
          <a:xfrm>
            <a:off x="-195120" y="-66600"/>
            <a:ext cx="9339120" cy="1554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73" name=""/>
          <p:cNvGraphicFramePr/>
          <p:nvPr/>
        </p:nvGraphicFramePr>
        <p:xfrm>
          <a:off x="154080" y="2133720"/>
          <a:ext cx="8448480" cy="1249200"/>
        </p:xfrm>
        <a:graphic>
          <a:graphicData uri="http://schemas.openxmlformats.org/drawingml/2006/table">
            <a:tbl>
              <a:tblPr/>
              <a:tblGrid>
                <a:gridCol w="1133280"/>
                <a:gridCol w="1135080"/>
                <a:gridCol w="1455840"/>
                <a:gridCol w="1219320"/>
                <a:gridCol w="1143000"/>
                <a:gridCol w="1295280"/>
                <a:gridCol w="1066680"/>
              </a:tblGrid>
              <a:tr h="33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.1.8.1.1</a:t>
                      </a:r>
                      <a:endParaRPr b="0" lang="en-US" sz="1600" spc="-1" strike="noStrike">
                        <a:solidFill>
                          <a:srgbClr val="4f81b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.1.8.1.2</a:t>
                      </a:r>
                      <a:endParaRPr b="0" lang="en-US" sz="1600" spc="-1" strike="noStrike">
                        <a:solidFill>
                          <a:srgbClr val="4f81b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.1.8.1.3</a:t>
                      </a:r>
                      <a:endParaRPr b="0" lang="en-US" sz="1600" spc="-1" strike="noStrike">
                        <a:solidFill>
                          <a:srgbClr val="4f81b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.1.8.1.4</a:t>
                      </a:r>
                      <a:endParaRPr b="0" lang="en-US" sz="1600" spc="-1" strike="noStrike">
                        <a:solidFill>
                          <a:srgbClr val="4f81b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.1.8.4.5</a:t>
                      </a:r>
                      <a:endParaRPr b="0" lang="en-US" sz="1600" spc="-1" strike="noStrike">
                        <a:solidFill>
                          <a:srgbClr val="4f81b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.1.8.1.6</a:t>
                      </a:r>
                      <a:endParaRPr b="0" lang="en-US" sz="1600" spc="-1" strike="noStrike">
                        <a:solidFill>
                          <a:srgbClr val="4f81b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.1.8.1.7</a:t>
                      </a:r>
                      <a:endParaRPr b="0" lang="en-US" sz="1600" spc="-1" strike="noStrike">
                        <a:solidFill>
                          <a:srgbClr val="4f81b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.2.2.1.1</a:t>
                      </a:r>
                      <a:endParaRPr b="0" lang="en-US" sz="1600" spc="-1" strike="noStrike">
                        <a:solidFill>
                          <a:srgbClr val="4f81b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.2.2.2</a:t>
                      </a:r>
                      <a:endParaRPr b="0" lang="en-US" sz="1600" spc="-1" strike="noStrike">
                        <a:solidFill>
                          <a:srgbClr val="4f81b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.2.2.33.2.3.2</a:t>
                      </a:r>
                      <a:endParaRPr b="0" lang="en-US" sz="1600" spc="-1" strike="noStrike">
                        <a:solidFill>
                          <a:srgbClr val="4f81b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.2.3.17</a:t>
                      </a:r>
                      <a:endParaRPr b="0" lang="en-US" sz="1600" spc="-1" strike="noStrike">
                        <a:solidFill>
                          <a:srgbClr val="4f81b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.2.3.18</a:t>
                      </a:r>
                      <a:endParaRPr b="0" lang="en-US" sz="1600" spc="-1" strike="noStrike">
                        <a:solidFill>
                          <a:srgbClr val="4f81b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.3.3.1</a:t>
                      </a:r>
                      <a:endParaRPr b="0" lang="en-US" sz="1600" spc="-1" strike="noStrike">
                        <a:solidFill>
                          <a:srgbClr val="4f81b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4.4.3</a:t>
                      </a:r>
                      <a:endParaRPr b="0" lang="en-US" sz="1600" spc="-1" strike="noStrike">
                        <a:solidFill>
                          <a:srgbClr val="4f81b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4.5.3</a:t>
                      </a:r>
                      <a:endParaRPr b="0" lang="en-US" sz="1600" spc="-1" strike="noStrike">
                        <a:solidFill>
                          <a:srgbClr val="4f81b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4.5.6</a:t>
                      </a:r>
                      <a:endParaRPr b="0" lang="en-US" sz="1600" spc="-1" strike="noStrike">
                        <a:solidFill>
                          <a:srgbClr val="4f81bd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4f81b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5.4.1.5a</a:t>
                      </a:r>
                      <a:endParaRPr b="0" lang="en-US" sz="1600" spc="-1" strike="noStrike">
                        <a:solidFill>
                          <a:srgbClr val="4f81b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5.4.1.5b</a:t>
                      </a:r>
                      <a:endParaRPr b="0" lang="en-US" sz="1600" spc="-1" strike="noStrike">
                        <a:solidFill>
                          <a:srgbClr val="4f81b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5.4.1.5c</a:t>
                      </a:r>
                      <a:endParaRPr b="0" lang="en-US" sz="1600" spc="-1" strike="noStrike">
                        <a:solidFill>
                          <a:srgbClr val="4f81b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5.4.1.5d</a:t>
                      </a:r>
                      <a:endParaRPr b="0" lang="en-US" sz="1600" spc="-1" strike="noStrike">
                        <a:solidFill>
                          <a:srgbClr val="4f81b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5.4.1.5e</a:t>
                      </a:r>
                      <a:endParaRPr b="0" lang="en-US" sz="1600" spc="-1" strike="noStrike">
                        <a:solidFill>
                          <a:srgbClr val="4f81b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Rectangle 2"/>
          <p:cNvSpPr/>
          <p:nvPr/>
        </p:nvSpPr>
        <p:spPr>
          <a:xfrm>
            <a:off x="914400" y="304920"/>
            <a:ext cx="746748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4f81bd"/>
                </a:solidFill>
                <a:latin typeface="Times New Roman"/>
              </a:rPr>
              <a:t>PCM-2</a:t>
            </a:r>
            <a:endParaRPr b="0" lang="en-US" sz="6000" spc="-1" strike="noStrike">
              <a:solidFill>
                <a:srgbClr val="4f81bd"/>
              </a:solidFill>
              <a:latin typeface="Times New Roman"/>
            </a:endParaRPr>
          </a:p>
        </p:txBody>
      </p:sp>
      <p:sp>
        <p:nvSpPr>
          <p:cNvPr id="914" name="Rectangle 3"/>
          <p:cNvSpPr/>
          <p:nvPr/>
        </p:nvSpPr>
        <p:spPr>
          <a:xfrm>
            <a:off x="380880" y="5869080"/>
            <a:ext cx="853452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4f81bd"/>
                </a:solidFill>
                <a:latin typeface="Times New Roman"/>
              </a:rPr>
              <a:t>Gas Proportional</a:t>
            </a:r>
            <a:endParaRPr b="0" lang="en-US" sz="5400" spc="-1" strike="noStrike">
              <a:solidFill>
                <a:srgbClr val="4f81bd"/>
              </a:solidFill>
              <a:latin typeface="Times New Roman"/>
            </a:endParaRPr>
          </a:p>
        </p:txBody>
      </p:sp>
      <p:pic>
        <p:nvPicPr>
          <p:cNvPr id="915" name="Picture 4" descr=""/>
          <p:cNvPicPr/>
          <p:nvPr/>
        </p:nvPicPr>
        <p:blipFill>
          <a:blip r:embed="rId1"/>
          <a:stretch/>
        </p:blipFill>
        <p:spPr>
          <a:xfrm>
            <a:off x="3352680" y="1219320"/>
            <a:ext cx="2614680" cy="47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Rectangle 2"/>
          <p:cNvSpPr/>
          <p:nvPr/>
        </p:nvSpPr>
        <p:spPr>
          <a:xfrm>
            <a:off x="1447920" y="304920"/>
            <a:ext cx="746748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4f81bd"/>
                </a:solidFill>
                <a:latin typeface="Times New Roman"/>
              </a:rPr>
              <a:t>PNR-4 &amp; Ludlum 12-4</a:t>
            </a:r>
            <a:endParaRPr b="0" lang="en-US" sz="6000" spc="-1" strike="noStrike">
              <a:solidFill>
                <a:srgbClr val="4f81bd"/>
              </a:solidFill>
              <a:latin typeface="Times New Roman"/>
            </a:endParaRPr>
          </a:p>
        </p:txBody>
      </p:sp>
      <p:sp>
        <p:nvSpPr>
          <p:cNvPr id="917" name="Rectangle 3"/>
          <p:cNvSpPr/>
          <p:nvPr/>
        </p:nvSpPr>
        <p:spPr>
          <a:xfrm>
            <a:off x="1523880" y="5869080"/>
            <a:ext cx="586764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4f81bd"/>
                </a:solidFill>
                <a:latin typeface="Times New Roman"/>
              </a:rPr>
              <a:t>Gas Proportional</a:t>
            </a:r>
            <a:endParaRPr b="0" lang="en-US" sz="5400" spc="-1" strike="noStrike">
              <a:solidFill>
                <a:srgbClr val="4f81bd"/>
              </a:solidFill>
              <a:latin typeface="Times New Roman"/>
            </a:endParaRPr>
          </a:p>
        </p:txBody>
      </p:sp>
      <p:pic>
        <p:nvPicPr>
          <p:cNvPr id="918" name="Picture 4" descr=""/>
          <p:cNvPicPr/>
          <p:nvPr/>
        </p:nvPicPr>
        <p:blipFill>
          <a:blip r:embed="rId1"/>
          <a:stretch/>
        </p:blipFill>
        <p:spPr>
          <a:xfrm>
            <a:off x="2498760" y="1295280"/>
            <a:ext cx="4067280" cy="462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Rectangle 2"/>
          <p:cNvSpPr/>
          <p:nvPr/>
        </p:nvSpPr>
        <p:spPr>
          <a:xfrm>
            <a:off x="990720" y="304920"/>
            <a:ext cx="693396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4f81bd"/>
                </a:solidFill>
                <a:latin typeface="Times New Roman"/>
              </a:rPr>
              <a:t>Ludlum 14C</a:t>
            </a:r>
            <a:endParaRPr b="0" lang="en-US" sz="6000" spc="-1" strike="noStrike">
              <a:solidFill>
                <a:srgbClr val="4f81bd"/>
              </a:solidFill>
              <a:latin typeface="Times New Roman"/>
            </a:endParaRPr>
          </a:p>
        </p:txBody>
      </p:sp>
      <p:sp>
        <p:nvSpPr>
          <p:cNvPr id="920" name="Rectangle 3"/>
          <p:cNvSpPr/>
          <p:nvPr/>
        </p:nvSpPr>
        <p:spPr>
          <a:xfrm>
            <a:off x="2133720" y="5869080"/>
            <a:ext cx="50292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4f81bd"/>
                </a:solidFill>
                <a:latin typeface="Times New Roman"/>
              </a:rPr>
              <a:t>GM</a:t>
            </a:r>
            <a:endParaRPr b="0" lang="en-US" sz="5400" spc="-1" strike="noStrike">
              <a:solidFill>
                <a:srgbClr val="4f81bd"/>
              </a:solidFill>
              <a:latin typeface="Times New Roman"/>
            </a:endParaRPr>
          </a:p>
        </p:txBody>
      </p:sp>
      <p:pic>
        <p:nvPicPr>
          <p:cNvPr id="921" name="Picture 4" descr=""/>
          <p:cNvPicPr/>
          <p:nvPr/>
        </p:nvPicPr>
        <p:blipFill>
          <a:blip r:embed="rId1"/>
          <a:stretch/>
        </p:blipFill>
        <p:spPr>
          <a:xfrm>
            <a:off x="2840040" y="1219320"/>
            <a:ext cx="3714840" cy="47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Rectangle 2"/>
          <p:cNvSpPr/>
          <p:nvPr/>
        </p:nvSpPr>
        <p:spPr>
          <a:xfrm>
            <a:off x="1447920" y="304920"/>
            <a:ext cx="746748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4f81bd"/>
                </a:solidFill>
                <a:latin typeface="Times New Roman"/>
              </a:rPr>
              <a:t>Ludlum 177 with pancake probe</a:t>
            </a:r>
            <a:endParaRPr b="0" lang="en-US" sz="6000" spc="-1" strike="noStrike">
              <a:solidFill>
                <a:srgbClr val="4f81bd"/>
              </a:solidFill>
              <a:latin typeface="Times New Roman"/>
            </a:endParaRPr>
          </a:p>
        </p:txBody>
      </p:sp>
      <p:sp>
        <p:nvSpPr>
          <p:cNvPr id="923" name="Rectangle 3"/>
          <p:cNvSpPr/>
          <p:nvPr/>
        </p:nvSpPr>
        <p:spPr>
          <a:xfrm>
            <a:off x="1523880" y="5942160"/>
            <a:ext cx="586764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4f81bd"/>
                </a:solidFill>
                <a:latin typeface="Times New Roman"/>
              </a:rPr>
              <a:t>GM</a:t>
            </a:r>
            <a:endParaRPr b="0" lang="en-US" sz="5400" spc="-1" strike="noStrike">
              <a:solidFill>
                <a:srgbClr val="4f81bd"/>
              </a:solidFill>
              <a:latin typeface="Times New Roman"/>
            </a:endParaRPr>
          </a:p>
        </p:txBody>
      </p:sp>
      <p:pic>
        <p:nvPicPr>
          <p:cNvPr id="924" name="Picture 4" descr=""/>
          <p:cNvPicPr/>
          <p:nvPr/>
        </p:nvPicPr>
        <p:blipFill>
          <a:blip r:embed="rId1"/>
          <a:stretch/>
        </p:blipFill>
        <p:spPr>
          <a:xfrm>
            <a:off x="3276720" y="2071800"/>
            <a:ext cx="2746080" cy="104112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5" descr=""/>
          <p:cNvPicPr/>
          <p:nvPr/>
        </p:nvPicPr>
        <p:blipFill>
          <a:blip r:embed="rId2"/>
          <a:stretch/>
        </p:blipFill>
        <p:spPr>
          <a:xfrm>
            <a:off x="2819520" y="2994120"/>
            <a:ext cx="427968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Rectangle 2"/>
          <p:cNvSpPr/>
          <p:nvPr/>
        </p:nvSpPr>
        <p:spPr>
          <a:xfrm>
            <a:off x="1447920" y="304920"/>
            <a:ext cx="746748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4f81bd"/>
                </a:solidFill>
                <a:latin typeface="Times New Roman"/>
              </a:rPr>
              <a:t>Ludlum 375</a:t>
            </a:r>
            <a:endParaRPr b="0" lang="en-US" sz="6000" spc="-1" strike="noStrike">
              <a:solidFill>
                <a:srgbClr val="4f81bd"/>
              </a:solidFill>
              <a:latin typeface="Times New Roman"/>
            </a:endParaRPr>
          </a:p>
        </p:txBody>
      </p:sp>
      <p:sp>
        <p:nvSpPr>
          <p:cNvPr id="927" name="Rectangle 3"/>
          <p:cNvSpPr/>
          <p:nvPr/>
        </p:nvSpPr>
        <p:spPr>
          <a:xfrm>
            <a:off x="228600" y="5869080"/>
            <a:ext cx="876312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f81bd"/>
                </a:solidFill>
                <a:latin typeface="Times New Roman"/>
              </a:rPr>
              <a:t>GM</a:t>
            </a:r>
            <a:endParaRPr b="0" lang="en-US" sz="4800" spc="-1" strike="noStrike">
              <a:solidFill>
                <a:srgbClr val="4f81bd"/>
              </a:solidFill>
              <a:latin typeface="Times New Roman"/>
            </a:endParaRPr>
          </a:p>
        </p:txBody>
      </p:sp>
      <p:pic>
        <p:nvPicPr>
          <p:cNvPr id="928" name="Picture 4" descr=""/>
          <p:cNvPicPr/>
          <p:nvPr/>
        </p:nvPicPr>
        <p:blipFill>
          <a:blip r:embed="rId1"/>
          <a:stretch/>
        </p:blipFill>
        <p:spPr>
          <a:xfrm>
            <a:off x="1839960" y="1371600"/>
            <a:ext cx="5792760" cy="436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Rectangle 2"/>
          <p:cNvSpPr/>
          <p:nvPr/>
        </p:nvSpPr>
        <p:spPr>
          <a:xfrm>
            <a:off x="1447920" y="304920"/>
            <a:ext cx="746748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4f81bd"/>
                </a:solidFill>
                <a:latin typeface="Times New Roman"/>
              </a:rPr>
              <a:t>Surveyor-50</a:t>
            </a:r>
            <a:endParaRPr b="0" lang="en-US" sz="6000" spc="-1" strike="noStrike">
              <a:solidFill>
                <a:srgbClr val="4f81bd"/>
              </a:solidFill>
              <a:latin typeface="Times New Roman"/>
            </a:endParaRPr>
          </a:p>
        </p:txBody>
      </p:sp>
      <p:sp>
        <p:nvSpPr>
          <p:cNvPr id="930" name="Rectangle 3"/>
          <p:cNvSpPr/>
          <p:nvPr/>
        </p:nvSpPr>
        <p:spPr>
          <a:xfrm>
            <a:off x="1523880" y="5869080"/>
            <a:ext cx="68580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4f81bd"/>
                </a:solidFill>
                <a:latin typeface="Times New Roman"/>
              </a:rPr>
              <a:t>GM</a:t>
            </a:r>
            <a:endParaRPr b="0" lang="en-US" sz="5400" spc="-1" strike="noStrike">
              <a:solidFill>
                <a:srgbClr val="4f81bd"/>
              </a:solidFill>
              <a:latin typeface="Times New Roman"/>
            </a:endParaRPr>
          </a:p>
        </p:txBody>
      </p:sp>
      <p:pic>
        <p:nvPicPr>
          <p:cNvPr id="931" name="Picture 4" descr=""/>
          <p:cNvPicPr/>
          <p:nvPr/>
        </p:nvPicPr>
        <p:blipFill>
          <a:blip r:embed="rId1"/>
          <a:stretch/>
        </p:blipFill>
        <p:spPr>
          <a:xfrm>
            <a:off x="2362320" y="1430280"/>
            <a:ext cx="50036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7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4f81bd"/>
                </a:solidFill>
                <a:latin typeface="Calibri"/>
              </a:rPr>
              <a:t>Teletector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3" name="Picture 4" descr="http://www.volk-gmbh.de/IMAGES/949110-949114.jpg"/>
          <p:cNvPicPr/>
          <p:nvPr/>
        </p:nvPicPr>
        <p:blipFill>
          <a:blip r:embed="rId1"/>
          <a:stretch/>
        </p:blipFill>
        <p:spPr>
          <a:xfrm rot="17541600">
            <a:off x="2493720" y="247320"/>
            <a:ext cx="4500360" cy="6561000"/>
          </a:xfrm>
          <a:prstGeom prst="rect">
            <a:avLst/>
          </a:prstGeom>
          <a:ln w="0">
            <a:noFill/>
          </a:ln>
        </p:spPr>
      </p:pic>
      <p:sp>
        <p:nvSpPr>
          <p:cNvPr id="934" name="Text Box 7"/>
          <p:cNvSpPr/>
          <p:nvPr/>
        </p:nvSpPr>
        <p:spPr>
          <a:xfrm>
            <a:off x="0" y="594360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4f81bd"/>
                </a:solidFill>
                <a:latin typeface="Times New Roman"/>
              </a:rPr>
              <a:t>GM</a:t>
            </a:r>
            <a:endParaRPr b="0" lang="en-US" sz="5400" spc="-1" strike="noStrike">
              <a:solidFill>
                <a:srgbClr val="4f81b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Rectangle 2"/>
          <p:cNvSpPr/>
          <p:nvPr/>
        </p:nvSpPr>
        <p:spPr>
          <a:xfrm>
            <a:off x="1676520" y="304920"/>
            <a:ext cx="640080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4f81bd"/>
                </a:solidFill>
                <a:latin typeface="Times New Roman"/>
              </a:rPr>
              <a:t>Surveyor M</a:t>
            </a:r>
            <a:endParaRPr b="0" lang="en-US" sz="6000" spc="-1" strike="noStrike">
              <a:solidFill>
                <a:srgbClr val="4f81bd"/>
              </a:solidFill>
              <a:latin typeface="Times New Roman"/>
            </a:endParaRPr>
          </a:p>
        </p:txBody>
      </p:sp>
      <p:sp>
        <p:nvSpPr>
          <p:cNvPr id="936" name="Rectangle 3"/>
          <p:cNvSpPr/>
          <p:nvPr/>
        </p:nvSpPr>
        <p:spPr>
          <a:xfrm>
            <a:off x="2133720" y="5792760"/>
            <a:ext cx="50292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4f81bd"/>
                </a:solidFill>
                <a:latin typeface="Times New Roman"/>
              </a:rPr>
              <a:t>Scintillation</a:t>
            </a:r>
            <a:endParaRPr b="0" lang="en-US" sz="5400" spc="-1" strike="noStrike">
              <a:solidFill>
                <a:srgbClr val="4f81bd"/>
              </a:solidFill>
              <a:latin typeface="Times New Roman"/>
            </a:endParaRPr>
          </a:p>
        </p:txBody>
      </p:sp>
      <p:pic>
        <p:nvPicPr>
          <p:cNvPr id="937" name="Picture 4" descr=""/>
          <p:cNvPicPr/>
          <p:nvPr/>
        </p:nvPicPr>
        <p:blipFill>
          <a:blip r:embed="rId1"/>
          <a:stretch/>
        </p:blipFill>
        <p:spPr>
          <a:xfrm>
            <a:off x="304920" y="1371600"/>
            <a:ext cx="6027480" cy="4486320"/>
          </a:xfrm>
          <a:prstGeom prst="rect">
            <a:avLst/>
          </a:prstGeom>
          <a:ln w="0">
            <a:noFill/>
          </a:ln>
        </p:spPr>
      </p:pic>
      <p:pic>
        <p:nvPicPr>
          <p:cNvPr id="938" name="Picture 5" descr=""/>
          <p:cNvPicPr/>
          <p:nvPr/>
        </p:nvPicPr>
        <p:blipFill>
          <a:blip r:embed="rId2"/>
          <a:stretch/>
        </p:blipFill>
        <p:spPr>
          <a:xfrm>
            <a:off x="6400800" y="685800"/>
            <a:ext cx="2494080" cy="18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Rectangle 2"/>
          <p:cNvSpPr/>
          <p:nvPr/>
        </p:nvSpPr>
        <p:spPr>
          <a:xfrm>
            <a:off x="1676520" y="304920"/>
            <a:ext cx="640080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4f81bd"/>
                </a:solidFill>
                <a:latin typeface="Times New Roman"/>
              </a:rPr>
              <a:t>Microanalyst</a:t>
            </a:r>
            <a:endParaRPr b="0" lang="en-US" sz="6000" spc="-1" strike="noStrike">
              <a:solidFill>
                <a:srgbClr val="4f81bd"/>
              </a:solidFill>
              <a:latin typeface="Times New Roman"/>
            </a:endParaRPr>
          </a:p>
        </p:txBody>
      </p:sp>
      <p:sp>
        <p:nvSpPr>
          <p:cNvPr id="940" name="Rectangle 3"/>
          <p:cNvSpPr/>
          <p:nvPr/>
        </p:nvSpPr>
        <p:spPr>
          <a:xfrm>
            <a:off x="2133720" y="5792760"/>
            <a:ext cx="50292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4f81bd"/>
                </a:solidFill>
                <a:latin typeface="Times New Roman"/>
              </a:rPr>
              <a:t>Scintillation</a:t>
            </a:r>
            <a:endParaRPr b="0" lang="en-US" sz="5400" spc="-1" strike="noStrike">
              <a:solidFill>
                <a:srgbClr val="4f81bd"/>
              </a:solidFill>
              <a:latin typeface="Times New Roman"/>
            </a:endParaRPr>
          </a:p>
        </p:txBody>
      </p:sp>
      <p:pic>
        <p:nvPicPr>
          <p:cNvPr id="941" name="Picture 4" descr=""/>
          <p:cNvPicPr/>
          <p:nvPr/>
        </p:nvPicPr>
        <p:blipFill>
          <a:blip r:embed="rId1"/>
          <a:stretch/>
        </p:blipFill>
        <p:spPr>
          <a:xfrm>
            <a:off x="2725560" y="1676520"/>
            <a:ext cx="4069080" cy="38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Rectangle 2"/>
          <p:cNvSpPr/>
          <p:nvPr/>
        </p:nvSpPr>
        <p:spPr>
          <a:xfrm>
            <a:off x="1447920" y="304920"/>
            <a:ext cx="746748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4f81bd"/>
                </a:solidFill>
                <a:latin typeface="Times New Roman"/>
              </a:rPr>
              <a:t>PM-7 (Portal Monitor)</a:t>
            </a:r>
            <a:endParaRPr b="0" lang="en-US" sz="6000" spc="-1" strike="noStrike">
              <a:solidFill>
                <a:srgbClr val="4f81bd"/>
              </a:solidFill>
              <a:latin typeface="Times New Roman"/>
            </a:endParaRPr>
          </a:p>
        </p:txBody>
      </p:sp>
      <p:sp>
        <p:nvSpPr>
          <p:cNvPr id="943" name="Rectangle 3"/>
          <p:cNvSpPr/>
          <p:nvPr/>
        </p:nvSpPr>
        <p:spPr>
          <a:xfrm>
            <a:off x="2133720" y="5869080"/>
            <a:ext cx="50292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4f81bd"/>
                </a:solidFill>
                <a:latin typeface="Times New Roman"/>
              </a:rPr>
              <a:t>Scintillation</a:t>
            </a:r>
            <a:endParaRPr b="0" lang="en-US" sz="5400" spc="-1" strike="noStrike">
              <a:solidFill>
                <a:srgbClr val="4f81bd"/>
              </a:solidFill>
              <a:latin typeface="Times New Roman"/>
            </a:endParaRPr>
          </a:p>
        </p:txBody>
      </p:sp>
      <p:pic>
        <p:nvPicPr>
          <p:cNvPr id="944" name="Picture 4" descr=""/>
          <p:cNvPicPr/>
          <p:nvPr/>
        </p:nvPicPr>
        <p:blipFill>
          <a:blip r:embed="rId1"/>
          <a:stretch/>
        </p:blipFill>
        <p:spPr>
          <a:xfrm>
            <a:off x="3279600" y="1143000"/>
            <a:ext cx="2814840" cy="481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Rectangle 2"/>
          <p:cNvSpPr/>
          <p:nvPr/>
        </p:nvSpPr>
        <p:spPr>
          <a:xfrm>
            <a:off x="1523880" y="324000"/>
            <a:ext cx="7086600" cy="12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1f497d"/>
                </a:solidFill>
                <a:latin typeface="Times New Roman"/>
              </a:rPr>
              <a:t>Simple Gas Filled Detector</a:t>
            </a:r>
            <a:endParaRPr b="0" lang="en-US" sz="4400" spc="-1" strike="noStrike">
              <a:solidFill>
                <a:srgbClr val="4f81bd"/>
              </a:solidFill>
              <a:latin typeface="Times New Roman"/>
            </a:endParaRPr>
          </a:p>
        </p:txBody>
      </p:sp>
      <p:grpSp>
        <p:nvGrpSpPr>
          <p:cNvPr id="775" name="Group 21"/>
          <p:cNvGrpSpPr/>
          <p:nvPr/>
        </p:nvGrpSpPr>
        <p:grpSpPr>
          <a:xfrm>
            <a:off x="1454040" y="2206800"/>
            <a:ext cx="6851880" cy="3889080"/>
            <a:chOff x="1454040" y="2206800"/>
            <a:chExt cx="6851880" cy="3889080"/>
          </a:xfrm>
        </p:grpSpPr>
        <p:grpSp>
          <p:nvGrpSpPr>
            <p:cNvPr id="776" name="Group 6"/>
            <p:cNvGrpSpPr/>
            <p:nvPr/>
          </p:nvGrpSpPr>
          <p:grpSpPr>
            <a:xfrm>
              <a:off x="2247840" y="2965320"/>
              <a:ext cx="4989600" cy="3130560"/>
              <a:chOff x="2247840" y="2965320"/>
              <a:chExt cx="4989600" cy="3130560"/>
            </a:xfrm>
          </p:grpSpPr>
          <p:sp>
            <p:nvSpPr>
              <p:cNvPr id="777" name="Line 3"/>
              <p:cNvSpPr/>
              <p:nvPr/>
            </p:nvSpPr>
            <p:spPr>
              <a:xfrm>
                <a:off x="2247840" y="3828960"/>
                <a:ext cx="0" cy="1295640"/>
              </a:xfrm>
              <a:prstGeom prst="line">
                <a:avLst/>
              </a:prstGeom>
              <a:ln w="25560">
                <a:solidFill>
                  <a:srgbClr val="66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f81bd"/>
                  </a:solidFill>
                  <a:latin typeface="Times New Roman"/>
                </a:endParaRPr>
              </a:p>
            </p:txBody>
          </p:sp>
          <p:sp>
            <p:nvSpPr>
              <p:cNvPr id="778" name="Line 4"/>
              <p:cNvSpPr/>
              <p:nvPr/>
            </p:nvSpPr>
            <p:spPr>
              <a:xfrm>
                <a:off x="2247840" y="6095880"/>
                <a:ext cx="4989600" cy="0"/>
              </a:xfrm>
              <a:prstGeom prst="line">
                <a:avLst/>
              </a:prstGeom>
              <a:ln w="25560">
                <a:solidFill>
                  <a:srgbClr val="66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f81bd"/>
                  </a:solidFill>
                  <a:latin typeface="Times New Roman"/>
                </a:endParaRPr>
              </a:p>
            </p:txBody>
          </p:sp>
          <p:sp>
            <p:nvSpPr>
              <p:cNvPr id="779" name="Line 5"/>
              <p:cNvSpPr/>
              <p:nvPr/>
            </p:nvSpPr>
            <p:spPr>
              <a:xfrm flipV="1">
                <a:off x="7237440" y="2965320"/>
                <a:ext cx="0" cy="1835280"/>
              </a:xfrm>
              <a:prstGeom prst="line">
                <a:avLst/>
              </a:prstGeom>
              <a:ln w="25560">
                <a:solidFill>
                  <a:srgbClr val="66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f81bd"/>
                  </a:solidFill>
                  <a:latin typeface="Times New Roman"/>
                </a:endParaRPr>
              </a:p>
            </p:txBody>
          </p:sp>
        </p:grpSp>
        <p:sp>
          <p:nvSpPr>
            <p:cNvPr id="780" name="Line 7"/>
            <p:cNvSpPr/>
            <p:nvPr/>
          </p:nvSpPr>
          <p:spPr>
            <a:xfrm>
              <a:off x="2160720" y="5232240"/>
              <a:ext cx="177840" cy="0"/>
            </a:xfrm>
            <a:prstGeom prst="line">
              <a:avLst/>
            </a:prstGeom>
            <a:ln w="255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781" name="Line 8"/>
            <p:cNvSpPr/>
            <p:nvPr/>
          </p:nvSpPr>
          <p:spPr>
            <a:xfrm>
              <a:off x="2071800" y="5340240"/>
              <a:ext cx="355320" cy="0"/>
            </a:xfrm>
            <a:prstGeom prst="line">
              <a:avLst/>
            </a:prstGeom>
            <a:ln w="255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782" name="Line 9"/>
            <p:cNvSpPr/>
            <p:nvPr/>
          </p:nvSpPr>
          <p:spPr>
            <a:xfrm>
              <a:off x="2160720" y="5556240"/>
              <a:ext cx="177840" cy="0"/>
            </a:xfrm>
            <a:prstGeom prst="line">
              <a:avLst/>
            </a:prstGeom>
            <a:ln w="255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783" name="Line 10"/>
            <p:cNvSpPr/>
            <p:nvPr/>
          </p:nvSpPr>
          <p:spPr>
            <a:xfrm>
              <a:off x="2160720" y="5448240"/>
              <a:ext cx="177840" cy="0"/>
            </a:xfrm>
            <a:prstGeom prst="line">
              <a:avLst/>
            </a:prstGeom>
            <a:ln w="255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784" name="Line 11"/>
            <p:cNvSpPr/>
            <p:nvPr/>
          </p:nvSpPr>
          <p:spPr>
            <a:xfrm flipV="1">
              <a:off x="2247840" y="5663880"/>
              <a:ext cx="0" cy="431640"/>
            </a:xfrm>
            <a:prstGeom prst="line">
              <a:avLst/>
            </a:prstGeom>
            <a:ln w="255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785" name="Freeform 12"/>
            <p:cNvSpPr/>
            <p:nvPr/>
          </p:nvSpPr>
          <p:spPr>
            <a:xfrm>
              <a:off x="7149960" y="4800600"/>
              <a:ext cx="182880" cy="649440"/>
            </a:xfrm>
            <a:custGeom>
              <a:avLst/>
              <a:gdLst>
                <a:gd name="textAreaLeft" fmla="*/ 0 w 182880"/>
                <a:gd name="textAreaRight" fmla="*/ 183240 w 182880"/>
                <a:gd name="textAreaTop" fmla="*/ 0 h 649440"/>
                <a:gd name="textAreaBottom" fmla="*/ 649800 h 649440"/>
              </a:gdLst>
              <a:ahLst/>
              <a:rect l="textAreaLeft" t="textAreaTop" r="textAreaRight" b="textAreaBottom"/>
              <a:pathLst>
                <a:path w="115" h="409">
                  <a:moveTo>
                    <a:pt x="55" y="0"/>
                  </a:moveTo>
                  <a:lnTo>
                    <a:pt x="88" y="60"/>
                  </a:lnTo>
                  <a:lnTo>
                    <a:pt x="114" y="76"/>
                  </a:lnTo>
                  <a:lnTo>
                    <a:pt x="88" y="121"/>
                  </a:lnTo>
                  <a:lnTo>
                    <a:pt x="50" y="136"/>
                  </a:lnTo>
                  <a:lnTo>
                    <a:pt x="25" y="167"/>
                  </a:lnTo>
                  <a:lnTo>
                    <a:pt x="0" y="196"/>
                  </a:lnTo>
                  <a:lnTo>
                    <a:pt x="25" y="228"/>
                  </a:lnTo>
                  <a:lnTo>
                    <a:pt x="63" y="242"/>
                  </a:lnTo>
                  <a:lnTo>
                    <a:pt x="88" y="273"/>
                  </a:lnTo>
                  <a:lnTo>
                    <a:pt x="50" y="303"/>
                  </a:lnTo>
                  <a:lnTo>
                    <a:pt x="37" y="334"/>
                  </a:lnTo>
                  <a:lnTo>
                    <a:pt x="0" y="364"/>
                  </a:lnTo>
                  <a:lnTo>
                    <a:pt x="25" y="379"/>
                  </a:lnTo>
                  <a:lnTo>
                    <a:pt x="63" y="393"/>
                  </a:lnTo>
                  <a:lnTo>
                    <a:pt x="55" y="408"/>
                  </a:lnTo>
                </a:path>
              </a:pathLst>
            </a:custGeom>
            <a:noFill/>
            <a:ln cap="rnd" w="25560">
              <a:solidFill>
                <a:srgbClr val="66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786" name="Line 13"/>
            <p:cNvSpPr/>
            <p:nvPr/>
          </p:nvSpPr>
          <p:spPr>
            <a:xfrm>
              <a:off x="7237440" y="5448240"/>
              <a:ext cx="0" cy="647640"/>
            </a:xfrm>
            <a:prstGeom prst="line">
              <a:avLst/>
            </a:prstGeom>
            <a:ln w="255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787" name="AutoShape 14"/>
            <p:cNvSpPr/>
            <p:nvPr/>
          </p:nvSpPr>
          <p:spPr>
            <a:xfrm>
              <a:off x="1454040" y="2324160"/>
              <a:ext cx="4886280" cy="1498680"/>
            </a:xfrm>
            <a:prstGeom prst="roundRect">
              <a:avLst>
                <a:gd name="adj" fmla="val 12486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788" name="Oval 15"/>
            <p:cNvSpPr/>
            <p:nvPr/>
          </p:nvSpPr>
          <p:spPr>
            <a:xfrm>
              <a:off x="5997600" y="2324160"/>
              <a:ext cx="520560" cy="1498680"/>
            </a:xfrm>
            <a:prstGeom prst="ellipse">
              <a:avLst/>
            </a:prstGeom>
            <a:solidFill>
              <a:srgbClr val="eeece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789" name="Line 16"/>
            <p:cNvSpPr/>
            <p:nvPr/>
          </p:nvSpPr>
          <p:spPr>
            <a:xfrm>
              <a:off x="2873520" y="2965320"/>
              <a:ext cx="5165640" cy="0"/>
            </a:xfrm>
            <a:prstGeom prst="line">
              <a:avLst/>
            </a:prstGeom>
            <a:ln w="507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790" name="Rectangle 17"/>
            <p:cNvSpPr/>
            <p:nvPr/>
          </p:nvSpPr>
          <p:spPr>
            <a:xfrm>
              <a:off x="3265200" y="2430360"/>
              <a:ext cx="11023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3300"/>
                  </a:solidFill>
                  <a:latin typeface="Times New Roman"/>
                </a:rPr>
                <a:t>Anode +</a:t>
              </a:r>
              <a:endParaRPr b="0" lang="en-US" sz="20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791" name="Rectangle 18"/>
            <p:cNvSpPr/>
            <p:nvPr/>
          </p:nvSpPr>
          <p:spPr>
            <a:xfrm>
              <a:off x="3265200" y="3338640"/>
              <a:ext cx="12121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0504d"/>
                  </a:solidFill>
                  <a:latin typeface="Times New Roman"/>
                </a:rPr>
                <a:t>Cathode</a:t>
              </a:r>
              <a:r>
                <a:rPr b="0" lang="en-US" sz="2400" spc="-1" strike="noStrike">
                  <a:solidFill>
                    <a:srgbClr val="c0504d"/>
                  </a:solidFill>
                  <a:latin typeface="Times New Roman"/>
                </a:rPr>
                <a:t> -</a:t>
              </a: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792" name="Rectangle 19"/>
            <p:cNvSpPr/>
            <p:nvPr/>
          </p:nvSpPr>
          <p:spPr>
            <a:xfrm>
              <a:off x="7133760" y="2206800"/>
              <a:ext cx="10216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To  meter </a:t>
              </a:r>
              <a:endParaRPr b="0" lang="en-US" sz="16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793" name="Line 20"/>
            <p:cNvSpPr/>
            <p:nvPr/>
          </p:nvSpPr>
          <p:spPr>
            <a:xfrm>
              <a:off x="7148520" y="2747880"/>
              <a:ext cx="1157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Rectangle 2"/>
          <p:cNvSpPr/>
          <p:nvPr/>
        </p:nvSpPr>
        <p:spPr>
          <a:xfrm>
            <a:off x="1447920" y="304920"/>
            <a:ext cx="746748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4f81bd"/>
                </a:solidFill>
                <a:latin typeface="Times New Roman"/>
              </a:rPr>
              <a:t>SAM 11</a:t>
            </a:r>
            <a:endParaRPr b="0" lang="en-US" sz="6000" spc="-1" strike="noStrike">
              <a:solidFill>
                <a:srgbClr val="4f81bd"/>
              </a:solidFill>
              <a:latin typeface="Times New Roman"/>
            </a:endParaRPr>
          </a:p>
        </p:txBody>
      </p:sp>
      <p:sp>
        <p:nvSpPr>
          <p:cNvPr id="946" name="Rectangle 3"/>
          <p:cNvSpPr/>
          <p:nvPr/>
        </p:nvSpPr>
        <p:spPr>
          <a:xfrm>
            <a:off x="1523880" y="5869080"/>
            <a:ext cx="68580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4f81bd"/>
                </a:solidFill>
                <a:latin typeface="Times New Roman"/>
              </a:rPr>
              <a:t>Scintillation</a:t>
            </a:r>
            <a:endParaRPr b="0" lang="en-US" sz="5400" spc="-1" strike="noStrike">
              <a:solidFill>
                <a:srgbClr val="4f81bd"/>
              </a:solidFill>
              <a:latin typeface="Times New Roman"/>
            </a:endParaRPr>
          </a:p>
        </p:txBody>
      </p:sp>
      <p:pic>
        <p:nvPicPr>
          <p:cNvPr id="947" name="Picture 4" descr=""/>
          <p:cNvPicPr/>
          <p:nvPr/>
        </p:nvPicPr>
        <p:blipFill>
          <a:blip r:embed="rId1"/>
          <a:stretch/>
        </p:blipFill>
        <p:spPr>
          <a:xfrm>
            <a:off x="2590920" y="1343160"/>
            <a:ext cx="4454280" cy="46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Rectangle 2"/>
          <p:cNvSpPr/>
          <p:nvPr/>
        </p:nvSpPr>
        <p:spPr>
          <a:xfrm>
            <a:off x="1447920" y="304920"/>
            <a:ext cx="746748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4f81bd"/>
                </a:solidFill>
                <a:latin typeface="Times New Roman"/>
              </a:rPr>
              <a:t>ED (DMC 2000)</a:t>
            </a:r>
            <a:endParaRPr b="0" lang="en-US" sz="6000" spc="-1" strike="noStrike">
              <a:solidFill>
                <a:srgbClr val="4f81bd"/>
              </a:solidFill>
              <a:latin typeface="Times New Roman"/>
            </a:endParaRPr>
          </a:p>
        </p:txBody>
      </p:sp>
      <p:sp>
        <p:nvSpPr>
          <p:cNvPr id="949" name="Rectangle 3"/>
          <p:cNvSpPr/>
          <p:nvPr/>
        </p:nvSpPr>
        <p:spPr>
          <a:xfrm>
            <a:off x="1523880" y="5869080"/>
            <a:ext cx="68580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4f81bd"/>
                </a:solidFill>
                <a:latin typeface="Times New Roman"/>
              </a:rPr>
              <a:t>Solid State Detector</a:t>
            </a:r>
            <a:endParaRPr b="0" lang="en-US" sz="5400" spc="-1" strike="noStrike">
              <a:solidFill>
                <a:srgbClr val="4f81bd"/>
              </a:solidFill>
              <a:latin typeface="Times New Roman"/>
            </a:endParaRPr>
          </a:p>
        </p:txBody>
      </p:sp>
      <p:pic>
        <p:nvPicPr>
          <p:cNvPr id="950" name="Picture 4" descr=""/>
          <p:cNvPicPr/>
          <p:nvPr/>
        </p:nvPicPr>
        <p:blipFill>
          <a:blip r:embed="rId1"/>
          <a:stretch/>
        </p:blipFill>
        <p:spPr>
          <a:xfrm>
            <a:off x="2895480" y="1173240"/>
            <a:ext cx="3670560" cy="47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76320" y="299880"/>
            <a:ext cx="9145440" cy="10764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ctr">
            <a:noAutofit/>
          </a:bodyPr>
          <a:p>
            <a:pPr indent="0" algn="ctr">
              <a:buNone/>
              <a:tabLst>
                <a:tab algn="l" pos="0"/>
                <a:tab algn="l" pos="1266840"/>
                <a:tab algn="l" pos="2533680"/>
                <a:tab algn="l" pos="3800520"/>
                <a:tab algn="l" pos="5067360"/>
                <a:tab algn="l" pos="6334200"/>
                <a:tab algn="l" pos="7601040"/>
                <a:tab algn="l" pos="8867880"/>
                <a:tab algn="l" pos="1013472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Calibri"/>
              </a:rPr>
              <a:t>Simple Gas Filled Detector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95" name="Group 21"/>
          <p:cNvGrpSpPr/>
          <p:nvPr/>
        </p:nvGrpSpPr>
        <p:grpSpPr>
          <a:xfrm>
            <a:off x="1165320" y="2344680"/>
            <a:ext cx="6896160" cy="3230640"/>
            <a:chOff x="1165320" y="2344680"/>
            <a:chExt cx="6896160" cy="3230640"/>
          </a:xfrm>
        </p:grpSpPr>
        <p:grpSp>
          <p:nvGrpSpPr>
            <p:cNvPr id="796" name="Group 6"/>
            <p:cNvGrpSpPr/>
            <p:nvPr/>
          </p:nvGrpSpPr>
          <p:grpSpPr>
            <a:xfrm>
              <a:off x="1965240" y="2974680"/>
              <a:ext cx="5019840" cy="2600640"/>
              <a:chOff x="1965240" y="2974680"/>
              <a:chExt cx="5019840" cy="2600640"/>
            </a:xfrm>
          </p:grpSpPr>
          <p:sp>
            <p:nvSpPr>
              <p:cNvPr id="797" name="Line 3"/>
              <p:cNvSpPr/>
              <p:nvPr/>
            </p:nvSpPr>
            <p:spPr>
              <a:xfrm>
                <a:off x="1965240" y="3692520"/>
                <a:ext cx="0" cy="1076400"/>
              </a:xfrm>
              <a:prstGeom prst="line">
                <a:avLst/>
              </a:prstGeom>
              <a:ln w="25560">
                <a:solidFill>
                  <a:srgbClr val="66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f81bd"/>
                  </a:solidFill>
                  <a:latin typeface="Times New Roman"/>
                </a:endParaRPr>
              </a:p>
            </p:txBody>
          </p:sp>
          <p:sp>
            <p:nvSpPr>
              <p:cNvPr id="798" name="Line 4"/>
              <p:cNvSpPr/>
              <p:nvPr/>
            </p:nvSpPr>
            <p:spPr>
              <a:xfrm>
                <a:off x="1965240" y="5575320"/>
                <a:ext cx="5019840" cy="0"/>
              </a:xfrm>
              <a:prstGeom prst="line">
                <a:avLst/>
              </a:prstGeom>
              <a:ln w="25560">
                <a:solidFill>
                  <a:srgbClr val="66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f81bd"/>
                  </a:solidFill>
                  <a:latin typeface="Times New Roman"/>
                </a:endParaRPr>
              </a:p>
            </p:txBody>
          </p:sp>
          <p:sp>
            <p:nvSpPr>
              <p:cNvPr id="799" name="Line 5"/>
              <p:cNvSpPr/>
              <p:nvPr/>
            </p:nvSpPr>
            <p:spPr>
              <a:xfrm flipV="1">
                <a:off x="6985080" y="2974680"/>
                <a:ext cx="0" cy="1523880"/>
              </a:xfrm>
              <a:prstGeom prst="line">
                <a:avLst/>
              </a:prstGeom>
              <a:ln w="25560">
                <a:solidFill>
                  <a:srgbClr val="66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f81bd"/>
                  </a:solidFill>
                  <a:latin typeface="Times New Roman"/>
                </a:endParaRPr>
              </a:p>
            </p:txBody>
          </p:sp>
        </p:grpSp>
        <p:sp>
          <p:nvSpPr>
            <p:cNvPr id="800" name="Line 7"/>
            <p:cNvSpPr/>
            <p:nvPr/>
          </p:nvSpPr>
          <p:spPr>
            <a:xfrm>
              <a:off x="1874880" y="4857840"/>
              <a:ext cx="179280" cy="0"/>
            </a:xfrm>
            <a:prstGeom prst="line">
              <a:avLst/>
            </a:prstGeom>
            <a:ln w="255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801" name="Line 8"/>
            <p:cNvSpPr/>
            <p:nvPr/>
          </p:nvSpPr>
          <p:spPr>
            <a:xfrm>
              <a:off x="1785960" y="4948200"/>
              <a:ext cx="358920" cy="0"/>
            </a:xfrm>
            <a:prstGeom prst="line">
              <a:avLst/>
            </a:prstGeom>
            <a:ln w="255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802" name="Line 9"/>
            <p:cNvSpPr/>
            <p:nvPr/>
          </p:nvSpPr>
          <p:spPr>
            <a:xfrm>
              <a:off x="1874880" y="5127480"/>
              <a:ext cx="179280" cy="0"/>
            </a:xfrm>
            <a:prstGeom prst="line">
              <a:avLst/>
            </a:prstGeom>
            <a:ln w="255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803" name="Line 10"/>
            <p:cNvSpPr/>
            <p:nvPr/>
          </p:nvSpPr>
          <p:spPr>
            <a:xfrm>
              <a:off x="1874880" y="5037120"/>
              <a:ext cx="179280" cy="0"/>
            </a:xfrm>
            <a:prstGeom prst="line">
              <a:avLst/>
            </a:prstGeom>
            <a:ln w="255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804" name="Line 11"/>
            <p:cNvSpPr/>
            <p:nvPr/>
          </p:nvSpPr>
          <p:spPr>
            <a:xfrm flipV="1">
              <a:off x="1965240" y="5216040"/>
              <a:ext cx="0" cy="358920"/>
            </a:xfrm>
            <a:prstGeom prst="line">
              <a:avLst/>
            </a:prstGeom>
            <a:ln w="255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805" name="Freeform 12"/>
            <p:cNvSpPr/>
            <p:nvPr/>
          </p:nvSpPr>
          <p:spPr>
            <a:xfrm>
              <a:off x="6897600" y="4498920"/>
              <a:ext cx="184320" cy="539640"/>
            </a:xfrm>
            <a:custGeom>
              <a:avLst/>
              <a:gdLst>
                <a:gd name="textAreaLeft" fmla="*/ 0 w 184320"/>
                <a:gd name="textAreaRight" fmla="*/ 184680 w 184320"/>
                <a:gd name="textAreaTop" fmla="*/ 0 h 539640"/>
                <a:gd name="textAreaBottom" fmla="*/ 540000 h 539640"/>
              </a:gdLst>
              <a:ahLst/>
              <a:rect l="textAreaLeft" t="textAreaTop" r="textAreaRight" b="textAreaBottom"/>
              <a:pathLst>
                <a:path w="116" h="340">
                  <a:moveTo>
                    <a:pt x="55" y="0"/>
                  </a:moveTo>
                  <a:lnTo>
                    <a:pt x="88" y="50"/>
                  </a:lnTo>
                  <a:lnTo>
                    <a:pt x="115" y="63"/>
                  </a:lnTo>
                  <a:lnTo>
                    <a:pt x="88" y="101"/>
                  </a:lnTo>
                  <a:lnTo>
                    <a:pt x="50" y="113"/>
                  </a:lnTo>
                  <a:lnTo>
                    <a:pt x="26" y="138"/>
                  </a:lnTo>
                  <a:lnTo>
                    <a:pt x="0" y="163"/>
                  </a:lnTo>
                  <a:lnTo>
                    <a:pt x="26" y="189"/>
                  </a:lnTo>
                  <a:lnTo>
                    <a:pt x="64" y="201"/>
                  </a:lnTo>
                  <a:lnTo>
                    <a:pt x="88" y="227"/>
                  </a:lnTo>
                  <a:lnTo>
                    <a:pt x="50" y="251"/>
                  </a:lnTo>
                  <a:lnTo>
                    <a:pt x="37" y="277"/>
                  </a:lnTo>
                  <a:lnTo>
                    <a:pt x="0" y="302"/>
                  </a:lnTo>
                  <a:lnTo>
                    <a:pt x="26" y="315"/>
                  </a:lnTo>
                  <a:lnTo>
                    <a:pt x="64" y="327"/>
                  </a:lnTo>
                  <a:lnTo>
                    <a:pt x="55" y="339"/>
                  </a:lnTo>
                </a:path>
              </a:pathLst>
            </a:custGeom>
            <a:noFill/>
            <a:ln cap="rnd" w="25560">
              <a:solidFill>
                <a:srgbClr val="66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806" name="Line 13"/>
            <p:cNvSpPr/>
            <p:nvPr/>
          </p:nvSpPr>
          <p:spPr>
            <a:xfrm>
              <a:off x="6985080" y="5035680"/>
              <a:ext cx="0" cy="539640"/>
            </a:xfrm>
            <a:prstGeom prst="line">
              <a:avLst/>
            </a:prstGeom>
            <a:ln w="255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807" name="AutoShape 14"/>
            <p:cNvSpPr/>
            <p:nvPr/>
          </p:nvSpPr>
          <p:spPr>
            <a:xfrm>
              <a:off x="1165320" y="2443320"/>
              <a:ext cx="4917960" cy="1242720"/>
            </a:xfrm>
            <a:prstGeom prst="roundRect">
              <a:avLst>
                <a:gd name="adj" fmla="val 12486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808" name="Oval 15"/>
            <p:cNvSpPr/>
            <p:nvPr/>
          </p:nvSpPr>
          <p:spPr>
            <a:xfrm>
              <a:off x="5737320" y="2443320"/>
              <a:ext cx="525240" cy="1242720"/>
            </a:xfrm>
            <a:prstGeom prst="ellipse">
              <a:avLst/>
            </a:prstGeom>
            <a:solidFill>
              <a:srgbClr val="eeece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809" name="Line 16"/>
            <p:cNvSpPr/>
            <p:nvPr/>
          </p:nvSpPr>
          <p:spPr>
            <a:xfrm>
              <a:off x="2592360" y="2975040"/>
              <a:ext cx="5200560" cy="0"/>
            </a:xfrm>
            <a:prstGeom prst="line">
              <a:avLst/>
            </a:prstGeom>
            <a:ln w="507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810" name="Rectangle 17"/>
            <p:cNvSpPr/>
            <p:nvPr/>
          </p:nvSpPr>
          <p:spPr>
            <a:xfrm>
              <a:off x="2990520" y="2532240"/>
              <a:ext cx="1062720" cy="47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00" rIns="108000" tIns="54000" bIns="54000" anchor="t">
              <a:spAutoFit/>
            </a:bodyPr>
            <a:p>
              <a:pPr>
                <a:tabLst>
                  <a:tab algn="l" pos="0"/>
                  <a:tab algn="l" pos="1266840"/>
                  <a:tab algn="l" pos="2533680"/>
                  <a:tab algn="l" pos="3800520"/>
                  <a:tab algn="l" pos="5067360"/>
                  <a:tab algn="l" pos="6334200"/>
                  <a:tab algn="l" pos="7601040"/>
                  <a:tab algn="l" pos="8867880"/>
                  <a:tab algn="l" pos="1013472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Times New Roman"/>
                </a:rPr>
                <a:t>Anode</a:t>
              </a: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811" name="Rectangle 18"/>
            <p:cNvSpPr/>
            <p:nvPr/>
          </p:nvSpPr>
          <p:spPr>
            <a:xfrm>
              <a:off x="2990880" y="3284640"/>
              <a:ext cx="160812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00" rIns="108000" tIns="54000" bIns="54000" anchor="t">
              <a:spAutoFit/>
            </a:bodyPr>
            <a:p>
              <a:pPr>
                <a:tabLst>
                  <a:tab algn="l" pos="0"/>
                  <a:tab algn="l" pos="1266840"/>
                  <a:tab algn="l" pos="2533680"/>
                  <a:tab algn="l" pos="3800520"/>
                  <a:tab algn="l" pos="5067360"/>
                  <a:tab algn="l" pos="6334200"/>
                  <a:tab algn="l" pos="7601040"/>
                  <a:tab algn="l" pos="8867880"/>
                  <a:tab algn="l" pos="10134720"/>
                </a:tabLst>
              </a:pPr>
              <a:r>
                <a:rPr b="0" lang="en-US" sz="2800" spc="-1" strike="noStrike">
                  <a:solidFill>
                    <a:srgbClr val="c0504d"/>
                  </a:solidFill>
                  <a:latin typeface="Times New Roman"/>
                </a:rPr>
                <a:t>Cathode -</a:t>
              </a:r>
              <a:endParaRPr b="0" lang="en-US" sz="28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812" name="Rectangle 19"/>
            <p:cNvSpPr/>
            <p:nvPr/>
          </p:nvSpPr>
          <p:spPr>
            <a:xfrm>
              <a:off x="6877800" y="2344680"/>
              <a:ext cx="1155600" cy="39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00" rIns="108000" tIns="54000" bIns="54000" anchor="t">
              <a:spAutoFit/>
            </a:bodyPr>
            <a:p>
              <a:pPr>
                <a:tabLst>
                  <a:tab algn="l" pos="0"/>
                  <a:tab algn="l" pos="1266840"/>
                  <a:tab algn="l" pos="2533680"/>
                  <a:tab algn="l" pos="3800520"/>
                  <a:tab algn="l" pos="5067360"/>
                  <a:tab algn="l" pos="6334200"/>
                  <a:tab algn="l" pos="7601040"/>
                  <a:tab algn="l" pos="8867880"/>
                  <a:tab algn="l" pos="1013472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To meter </a:t>
              </a:r>
              <a:endParaRPr b="0" lang="en-US" sz="19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813" name="Line 20"/>
            <p:cNvSpPr/>
            <p:nvPr/>
          </p:nvSpPr>
          <p:spPr>
            <a:xfrm>
              <a:off x="6896160" y="2795760"/>
              <a:ext cx="1165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</p:grpSp>
      <p:sp>
        <p:nvSpPr>
          <p:cNvPr id="814" name="Rectangle 22"/>
          <p:cNvSpPr/>
          <p:nvPr/>
        </p:nvSpPr>
        <p:spPr>
          <a:xfrm>
            <a:off x="6384960" y="6208560"/>
            <a:ext cx="22413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f81bd"/>
              </a:solidFill>
              <a:latin typeface="Times New Roman"/>
            </a:endParaRPr>
          </a:p>
        </p:txBody>
      </p:sp>
      <p:grpSp>
        <p:nvGrpSpPr>
          <p:cNvPr id="815" name="Group 25"/>
          <p:cNvGrpSpPr/>
          <p:nvPr/>
        </p:nvGrpSpPr>
        <p:grpSpPr>
          <a:xfrm>
            <a:off x="2543760" y="2940120"/>
            <a:ext cx="474840" cy="839880"/>
            <a:chOff x="2543760" y="2940120"/>
            <a:chExt cx="474840" cy="839880"/>
          </a:xfrm>
        </p:grpSpPr>
        <p:sp>
          <p:nvSpPr>
            <p:cNvPr id="816" name="Rectangle 23"/>
            <p:cNvSpPr/>
            <p:nvPr/>
          </p:nvSpPr>
          <p:spPr>
            <a:xfrm>
              <a:off x="2543760" y="3029040"/>
              <a:ext cx="411840" cy="47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00" rIns="108000" tIns="54000" bIns="54000" anchor="t">
              <a:spAutoFit/>
            </a:bodyPr>
            <a:p>
              <a:pPr>
                <a:tabLst>
                  <a:tab algn="l" pos="0"/>
                  <a:tab algn="l" pos="1266840"/>
                  <a:tab algn="l" pos="2533680"/>
                  <a:tab algn="l" pos="3800520"/>
                  <a:tab algn="l" pos="5067360"/>
                  <a:tab algn="l" pos="6334200"/>
                  <a:tab algn="l" pos="7601040"/>
                  <a:tab algn="l" pos="8867880"/>
                  <a:tab algn="l" pos="1013472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817" name="Rectangle 24"/>
            <p:cNvSpPr/>
            <p:nvPr/>
          </p:nvSpPr>
          <p:spPr>
            <a:xfrm>
              <a:off x="2629800" y="2940120"/>
              <a:ext cx="388800" cy="8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00" rIns="108000" tIns="54000" bIns="54000" anchor="t">
              <a:spAutoFit/>
            </a:bodyPr>
            <a:p>
              <a:pPr>
                <a:tabLst>
                  <a:tab algn="l" pos="0"/>
                  <a:tab algn="l" pos="1266840"/>
                  <a:tab algn="l" pos="2533680"/>
                  <a:tab algn="l" pos="3800520"/>
                  <a:tab algn="l" pos="5067360"/>
                  <a:tab algn="l" pos="6334200"/>
                  <a:tab algn="l" pos="7601040"/>
                  <a:tab algn="l" pos="8867880"/>
                  <a:tab algn="l" pos="10134720"/>
                </a:tabLst>
              </a:pP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1266840"/>
                  <a:tab algn="l" pos="2533680"/>
                  <a:tab algn="l" pos="3800520"/>
                  <a:tab algn="l" pos="5067360"/>
                  <a:tab algn="l" pos="6334200"/>
                  <a:tab algn="l" pos="7601040"/>
                  <a:tab algn="l" pos="8867880"/>
                  <a:tab algn="l" pos="1013472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</p:grpSp>
      <p:grpSp>
        <p:nvGrpSpPr>
          <p:cNvPr id="818" name="Group 28"/>
          <p:cNvGrpSpPr/>
          <p:nvPr/>
        </p:nvGrpSpPr>
        <p:grpSpPr>
          <a:xfrm>
            <a:off x="4893120" y="2940120"/>
            <a:ext cx="652680" cy="839880"/>
            <a:chOff x="4893120" y="2940120"/>
            <a:chExt cx="652680" cy="839880"/>
          </a:xfrm>
        </p:grpSpPr>
        <p:sp>
          <p:nvSpPr>
            <p:cNvPr id="819" name="Rectangle 26"/>
            <p:cNvSpPr/>
            <p:nvPr/>
          </p:nvSpPr>
          <p:spPr>
            <a:xfrm>
              <a:off x="4893120" y="3298680"/>
              <a:ext cx="411840" cy="47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00" rIns="108000" tIns="54000" bIns="54000" anchor="t">
              <a:spAutoFit/>
            </a:bodyPr>
            <a:p>
              <a:pPr>
                <a:tabLst>
                  <a:tab algn="l" pos="0"/>
                  <a:tab algn="l" pos="1266840"/>
                  <a:tab algn="l" pos="2533680"/>
                  <a:tab algn="l" pos="3800520"/>
                  <a:tab algn="l" pos="5067360"/>
                  <a:tab algn="l" pos="6334200"/>
                  <a:tab algn="l" pos="7601040"/>
                  <a:tab algn="l" pos="8867880"/>
                  <a:tab algn="l" pos="1013472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820" name="Rectangle 27"/>
            <p:cNvSpPr/>
            <p:nvPr/>
          </p:nvSpPr>
          <p:spPr>
            <a:xfrm>
              <a:off x="5157000" y="2940120"/>
              <a:ext cx="388800" cy="8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00" rIns="108000" tIns="54000" bIns="54000" anchor="t">
              <a:spAutoFit/>
            </a:bodyPr>
            <a:p>
              <a:pPr>
                <a:tabLst>
                  <a:tab algn="l" pos="0"/>
                  <a:tab algn="l" pos="1266840"/>
                  <a:tab algn="l" pos="2533680"/>
                  <a:tab algn="l" pos="3800520"/>
                  <a:tab algn="l" pos="5067360"/>
                  <a:tab algn="l" pos="6334200"/>
                  <a:tab algn="l" pos="7601040"/>
                  <a:tab algn="l" pos="8867880"/>
                  <a:tab algn="l" pos="10134720"/>
                </a:tabLst>
              </a:pP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1266840"/>
                  <a:tab algn="l" pos="2533680"/>
                  <a:tab algn="l" pos="3800520"/>
                  <a:tab algn="l" pos="5067360"/>
                  <a:tab algn="l" pos="6334200"/>
                  <a:tab algn="l" pos="7601040"/>
                  <a:tab algn="l" pos="8867880"/>
                  <a:tab algn="l" pos="1013472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</p:grpSp>
      <p:grpSp>
        <p:nvGrpSpPr>
          <p:cNvPr id="821" name="Group 31"/>
          <p:cNvGrpSpPr/>
          <p:nvPr/>
        </p:nvGrpSpPr>
        <p:grpSpPr>
          <a:xfrm>
            <a:off x="2910240" y="2781360"/>
            <a:ext cx="654480" cy="921600"/>
            <a:chOff x="2910240" y="2781360"/>
            <a:chExt cx="654480" cy="921600"/>
          </a:xfrm>
        </p:grpSpPr>
        <p:sp>
          <p:nvSpPr>
            <p:cNvPr id="822" name="Rectangle 29"/>
            <p:cNvSpPr/>
            <p:nvPr/>
          </p:nvSpPr>
          <p:spPr>
            <a:xfrm>
              <a:off x="2910240" y="3228840"/>
              <a:ext cx="411840" cy="47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00" rIns="108000" tIns="54000" bIns="54000" anchor="t">
              <a:spAutoFit/>
            </a:bodyPr>
            <a:p>
              <a:pPr>
                <a:tabLst>
                  <a:tab algn="l" pos="0"/>
                  <a:tab algn="l" pos="1266840"/>
                  <a:tab algn="l" pos="2533680"/>
                  <a:tab algn="l" pos="3800520"/>
                  <a:tab algn="l" pos="5067360"/>
                  <a:tab algn="l" pos="6334200"/>
                  <a:tab algn="l" pos="7601040"/>
                  <a:tab algn="l" pos="8867880"/>
                  <a:tab algn="l" pos="1013472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823" name="Rectangle 30"/>
            <p:cNvSpPr/>
            <p:nvPr/>
          </p:nvSpPr>
          <p:spPr>
            <a:xfrm>
              <a:off x="3175920" y="2781360"/>
              <a:ext cx="388800" cy="8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00" rIns="108000" tIns="54000" bIns="54000" anchor="t">
              <a:spAutoFit/>
            </a:bodyPr>
            <a:p>
              <a:pPr>
                <a:tabLst>
                  <a:tab algn="l" pos="0"/>
                  <a:tab algn="l" pos="1266840"/>
                  <a:tab algn="l" pos="2533680"/>
                  <a:tab algn="l" pos="3800520"/>
                  <a:tab algn="l" pos="5067360"/>
                  <a:tab algn="l" pos="6334200"/>
                  <a:tab algn="l" pos="7601040"/>
                  <a:tab algn="l" pos="8867880"/>
                  <a:tab algn="l" pos="10134720"/>
                </a:tabLst>
              </a:pP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1266840"/>
                  <a:tab algn="l" pos="2533680"/>
                  <a:tab algn="l" pos="3800520"/>
                  <a:tab algn="l" pos="5067360"/>
                  <a:tab algn="l" pos="6334200"/>
                  <a:tab algn="l" pos="7601040"/>
                  <a:tab algn="l" pos="8867880"/>
                  <a:tab algn="l" pos="1013472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</p:grpSp>
      <p:grpSp>
        <p:nvGrpSpPr>
          <p:cNvPr id="824" name="Group 34"/>
          <p:cNvGrpSpPr/>
          <p:nvPr/>
        </p:nvGrpSpPr>
        <p:grpSpPr>
          <a:xfrm>
            <a:off x="1767240" y="3016080"/>
            <a:ext cx="654480" cy="839880"/>
            <a:chOff x="1767240" y="3016080"/>
            <a:chExt cx="654480" cy="839880"/>
          </a:xfrm>
        </p:grpSpPr>
        <p:sp>
          <p:nvSpPr>
            <p:cNvPr id="825" name="Rectangle 32"/>
            <p:cNvSpPr/>
            <p:nvPr/>
          </p:nvSpPr>
          <p:spPr>
            <a:xfrm>
              <a:off x="1767240" y="3195720"/>
              <a:ext cx="411840" cy="47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00" rIns="108000" tIns="54000" bIns="54000" anchor="t">
              <a:spAutoFit/>
            </a:bodyPr>
            <a:p>
              <a:pPr>
                <a:tabLst>
                  <a:tab algn="l" pos="0"/>
                  <a:tab algn="l" pos="1266840"/>
                  <a:tab algn="l" pos="2533680"/>
                  <a:tab algn="l" pos="3800520"/>
                  <a:tab algn="l" pos="5067360"/>
                  <a:tab algn="l" pos="6334200"/>
                  <a:tab algn="l" pos="7601040"/>
                  <a:tab algn="l" pos="8867880"/>
                  <a:tab algn="l" pos="1013472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826" name="Rectangle 33"/>
            <p:cNvSpPr/>
            <p:nvPr/>
          </p:nvSpPr>
          <p:spPr>
            <a:xfrm>
              <a:off x="2032920" y="3016080"/>
              <a:ext cx="388800" cy="8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00" rIns="108000" tIns="54000" bIns="54000" anchor="t">
              <a:spAutoFit/>
            </a:bodyPr>
            <a:p>
              <a:pPr>
                <a:tabLst>
                  <a:tab algn="l" pos="0"/>
                  <a:tab algn="l" pos="1266840"/>
                  <a:tab algn="l" pos="2533680"/>
                  <a:tab algn="l" pos="3800520"/>
                  <a:tab algn="l" pos="5067360"/>
                  <a:tab algn="l" pos="6334200"/>
                  <a:tab algn="l" pos="7601040"/>
                  <a:tab algn="l" pos="8867880"/>
                  <a:tab algn="l" pos="10134720"/>
                </a:tabLst>
              </a:pP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1266840"/>
                  <a:tab algn="l" pos="2533680"/>
                  <a:tab algn="l" pos="3800520"/>
                  <a:tab algn="l" pos="5067360"/>
                  <a:tab algn="l" pos="6334200"/>
                  <a:tab algn="l" pos="7601040"/>
                  <a:tab algn="l" pos="8867880"/>
                  <a:tab algn="l" pos="1013472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</p:grpSp>
      <p:grpSp>
        <p:nvGrpSpPr>
          <p:cNvPr id="827" name="Group 37"/>
          <p:cNvGrpSpPr/>
          <p:nvPr/>
        </p:nvGrpSpPr>
        <p:grpSpPr>
          <a:xfrm>
            <a:off x="2080080" y="2482920"/>
            <a:ext cx="563760" cy="839880"/>
            <a:chOff x="2080080" y="2482920"/>
            <a:chExt cx="563760" cy="839880"/>
          </a:xfrm>
        </p:grpSpPr>
        <p:sp>
          <p:nvSpPr>
            <p:cNvPr id="828" name="Rectangle 35"/>
            <p:cNvSpPr/>
            <p:nvPr/>
          </p:nvSpPr>
          <p:spPr>
            <a:xfrm>
              <a:off x="2080080" y="2662200"/>
              <a:ext cx="411840" cy="47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00" rIns="108000" tIns="54000" bIns="54000" anchor="t">
              <a:spAutoFit/>
            </a:bodyPr>
            <a:p>
              <a:pPr>
                <a:tabLst>
                  <a:tab algn="l" pos="0"/>
                  <a:tab algn="l" pos="1266840"/>
                  <a:tab algn="l" pos="2533680"/>
                  <a:tab algn="l" pos="3800520"/>
                  <a:tab algn="l" pos="5067360"/>
                  <a:tab algn="l" pos="6334200"/>
                  <a:tab algn="l" pos="7601040"/>
                  <a:tab algn="l" pos="8867880"/>
                  <a:tab algn="l" pos="1013472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829" name="Rectangle 36"/>
            <p:cNvSpPr/>
            <p:nvPr/>
          </p:nvSpPr>
          <p:spPr>
            <a:xfrm>
              <a:off x="2255040" y="2482920"/>
              <a:ext cx="388800" cy="8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00" rIns="108000" tIns="54000" bIns="54000" anchor="t">
              <a:spAutoFit/>
            </a:bodyPr>
            <a:p>
              <a:pPr>
                <a:tabLst>
                  <a:tab algn="l" pos="0"/>
                  <a:tab algn="l" pos="1266840"/>
                  <a:tab algn="l" pos="2533680"/>
                  <a:tab algn="l" pos="3800520"/>
                  <a:tab algn="l" pos="5067360"/>
                  <a:tab algn="l" pos="6334200"/>
                  <a:tab algn="l" pos="7601040"/>
                  <a:tab algn="l" pos="8867880"/>
                  <a:tab algn="l" pos="10134720"/>
                </a:tabLst>
              </a:pP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1266840"/>
                  <a:tab algn="l" pos="2533680"/>
                  <a:tab algn="l" pos="3800520"/>
                  <a:tab algn="l" pos="5067360"/>
                  <a:tab algn="l" pos="6334200"/>
                  <a:tab algn="l" pos="7601040"/>
                  <a:tab algn="l" pos="8867880"/>
                  <a:tab algn="l" pos="1013472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</p:grpSp>
      <p:grpSp>
        <p:nvGrpSpPr>
          <p:cNvPr id="830" name="Group 40"/>
          <p:cNvGrpSpPr/>
          <p:nvPr/>
        </p:nvGrpSpPr>
        <p:grpSpPr>
          <a:xfrm>
            <a:off x="3985200" y="2787480"/>
            <a:ext cx="563760" cy="839880"/>
            <a:chOff x="3985200" y="2787480"/>
            <a:chExt cx="563760" cy="839880"/>
          </a:xfrm>
        </p:grpSpPr>
        <p:sp>
          <p:nvSpPr>
            <p:cNvPr id="831" name="Rectangle 38"/>
            <p:cNvSpPr/>
            <p:nvPr/>
          </p:nvSpPr>
          <p:spPr>
            <a:xfrm>
              <a:off x="3985200" y="3146400"/>
              <a:ext cx="411840" cy="47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00" rIns="108000" tIns="54000" bIns="54000" anchor="t">
              <a:spAutoFit/>
            </a:bodyPr>
            <a:p>
              <a:pPr>
                <a:tabLst>
                  <a:tab algn="l" pos="0"/>
                  <a:tab algn="l" pos="1266840"/>
                  <a:tab algn="l" pos="2533680"/>
                  <a:tab algn="l" pos="3800520"/>
                  <a:tab algn="l" pos="5067360"/>
                  <a:tab algn="l" pos="6334200"/>
                  <a:tab algn="l" pos="7601040"/>
                  <a:tab algn="l" pos="8867880"/>
                  <a:tab algn="l" pos="1013472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832" name="Rectangle 39"/>
            <p:cNvSpPr/>
            <p:nvPr/>
          </p:nvSpPr>
          <p:spPr>
            <a:xfrm>
              <a:off x="4160160" y="2787480"/>
              <a:ext cx="388800" cy="8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00" rIns="108000" tIns="54000" bIns="54000" anchor="t">
              <a:spAutoFit/>
            </a:bodyPr>
            <a:p>
              <a:pPr>
                <a:tabLst>
                  <a:tab algn="l" pos="0"/>
                  <a:tab algn="l" pos="1266840"/>
                  <a:tab algn="l" pos="2533680"/>
                  <a:tab algn="l" pos="3800520"/>
                  <a:tab algn="l" pos="5067360"/>
                  <a:tab algn="l" pos="6334200"/>
                  <a:tab algn="l" pos="7601040"/>
                  <a:tab algn="l" pos="8867880"/>
                  <a:tab algn="l" pos="10134720"/>
                </a:tabLst>
              </a:pP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1266840"/>
                  <a:tab algn="l" pos="2533680"/>
                  <a:tab algn="l" pos="3800520"/>
                  <a:tab algn="l" pos="5067360"/>
                  <a:tab algn="l" pos="6334200"/>
                  <a:tab algn="l" pos="7601040"/>
                  <a:tab algn="l" pos="8867880"/>
                  <a:tab algn="l" pos="1013472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</p:grpSp>
      <p:grpSp>
        <p:nvGrpSpPr>
          <p:cNvPr id="833" name="Group 50"/>
          <p:cNvGrpSpPr/>
          <p:nvPr/>
        </p:nvGrpSpPr>
        <p:grpSpPr>
          <a:xfrm>
            <a:off x="940680" y="942840"/>
            <a:ext cx="6486480" cy="4089600"/>
            <a:chOff x="940680" y="942840"/>
            <a:chExt cx="6486480" cy="4089600"/>
          </a:xfrm>
        </p:grpSpPr>
        <p:grpSp>
          <p:nvGrpSpPr>
            <p:cNvPr id="834" name="Group 43"/>
            <p:cNvGrpSpPr/>
            <p:nvPr/>
          </p:nvGrpSpPr>
          <p:grpSpPr>
            <a:xfrm>
              <a:off x="940680" y="1211400"/>
              <a:ext cx="765720" cy="1936440"/>
              <a:chOff x="940680" y="1211400"/>
              <a:chExt cx="765720" cy="1936440"/>
            </a:xfrm>
          </p:grpSpPr>
          <p:sp>
            <p:nvSpPr>
              <p:cNvPr id="835" name="Freeform 41"/>
              <p:cNvSpPr/>
              <p:nvPr/>
            </p:nvSpPr>
            <p:spPr>
              <a:xfrm>
                <a:off x="1324080" y="1265400"/>
                <a:ext cx="382320" cy="1882440"/>
              </a:xfrm>
              <a:custGeom>
                <a:avLst/>
                <a:gdLst>
                  <a:gd name="textAreaLeft" fmla="*/ 0 w 382320"/>
                  <a:gd name="textAreaRight" fmla="*/ 382680 w 382320"/>
                  <a:gd name="textAreaTop" fmla="*/ 0 h 1882440"/>
                  <a:gd name="textAreaBottom" fmla="*/ 1882800 h 1882440"/>
                </a:gdLst>
                <a:ahLst/>
                <a:rect l="textAreaLeft" t="textAreaTop" r="textAreaRight" b="textAreaBottom"/>
                <a:pathLst>
                  <a:path w="241" h="1186">
                    <a:moveTo>
                      <a:pt x="0" y="0"/>
                    </a:moveTo>
                    <a:lnTo>
                      <a:pt x="0" y="56"/>
                    </a:lnTo>
                    <a:lnTo>
                      <a:pt x="0" y="98"/>
                    </a:lnTo>
                    <a:lnTo>
                      <a:pt x="0" y="155"/>
                    </a:lnTo>
                    <a:lnTo>
                      <a:pt x="42" y="211"/>
                    </a:lnTo>
                    <a:lnTo>
                      <a:pt x="42" y="253"/>
                    </a:lnTo>
                    <a:lnTo>
                      <a:pt x="42" y="296"/>
                    </a:lnTo>
                    <a:lnTo>
                      <a:pt x="42" y="338"/>
                    </a:lnTo>
                    <a:lnTo>
                      <a:pt x="127" y="395"/>
                    </a:lnTo>
                    <a:lnTo>
                      <a:pt x="211" y="423"/>
                    </a:lnTo>
                    <a:lnTo>
                      <a:pt x="211" y="465"/>
                    </a:lnTo>
                    <a:lnTo>
                      <a:pt x="197" y="507"/>
                    </a:lnTo>
                    <a:lnTo>
                      <a:pt x="197" y="550"/>
                    </a:lnTo>
                    <a:lnTo>
                      <a:pt x="197" y="592"/>
                    </a:lnTo>
                    <a:lnTo>
                      <a:pt x="197" y="648"/>
                    </a:lnTo>
                    <a:lnTo>
                      <a:pt x="197" y="747"/>
                    </a:lnTo>
                    <a:lnTo>
                      <a:pt x="197" y="804"/>
                    </a:lnTo>
                    <a:lnTo>
                      <a:pt x="183" y="860"/>
                    </a:lnTo>
                    <a:lnTo>
                      <a:pt x="225" y="916"/>
                    </a:lnTo>
                    <a:lnTo>
                      <a:pt x="225" y="959"/>
                    </a:lnTo>
                    <a:lnTo>
                      <a:pt x="225" y="1001"/>
                    </a:lnTo>
                    <a:lnTo>
                      <a:pt x="240" y="1058"/>
                    </a:lnTo>
                    <a:lnTo>
                      <a:pt x="240" y="1100"/>
                    </a:lnTo>
                    <a:lnTo>
                      <a:pt x="240" y="1142"/>
                    </a:lnTo>
                    <a:lnTo>
                      <a:pt x="240" y="1185"/>
                    </a:lnTo>
                    <a:lnTo>
                      <a:pt x="225" y="1185"/>
                    </a:lnTo>
                  </a:path>
                </a:pathLst>
              </a:custGeom>
              <a:noFill/>
              <a:ln cap="rnd" w="50760">
                <a:solidFill>
                  <a:srgbClr val="4f81bd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f81bd"/>
                  </a:solidFill>
                  <a:latin typeface="Times New Roman"/>
                </a:endParaRPr>
              </a:p>
            </p:txBody>
          </p:sp>
          <p:sp>
            <p:nvSpPr>
              <p:cNvPr id="836" name="Rectangle 42"/>
              <p:cNvSpPr/>
              <p:nvPr/>
            </p:nvSpPr>
            <p:spPr>
              <a:xfrm>
                <a:off x="940680" y="1211400"/>
                <a:ext cx="390600" cy="47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8000" rIns="108000" tIns="54000" bIns="54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266840"/>
                    <a:tab algn="l" pos="2533680"/>
                    <a:tab algn="l" pos="3800520"/>
                    <a:tab algn="l" pos="5067360"/>
                    <a:tab algn="l" pos="6334200"/>
                    <a:tab algn="l" pos="7601040"/>
                    <a:tab algn="l" pos="8867880"/>
                    <a:tab algn="l" pos="1013472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Century Gothic"/>
                  </a:rPr>
                  <a:t>y</a:t>
                </a:r>
                <a:endParaRPr b="0" lang="en-US" sz="2400" spc="-1" strike="noStrike">
                  <a:solidFill>
                    <a:srgbClr val="4f81bd"/>
                  </a:solidFill>
                  <a:latin typeface="Times New Roman"/>
                </a:endParaRPr>
              </a:p>
            </p:txBody>
          </p:sp>
        </p:grpSp>
        <p:grpSp>
          <p:nvGrpSpPr>
            <p:cNvPr id="837" name="Group 46"/>
            <p:cNvGrpSpPr/>
            <p:nvPr/>
          </p:nvGrpSpPr>
          <p:grpSpPr>
            <a:xfrm>
              <a:off x="3720960" y="1481040"/>
              <a:ext cx="763560" cy="2117880"/>
              <a:chOff x="3720960" y="1481040"/>
              <a:chExt cx="763560" cy="2117880"/>
            </a:xfrm>
          </p:grpSpPr>
          <p:sp>
            <p:nvSpPr>
              <p:cNvPr id="838" name="Freeform 44"/>
              <p:cNvSpPr/>
              <p:nvPr/>
            </p:nvSpPr>
            <p:spPr>
              <a:xfrm>
                <a:off x="3720960" y="1714680"/>
                <a:ext cx="763560" cy="188424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884240"/>
                  <a:gd name="textAreaBottom" fmla="*/ 1884600 h 1884240"/>
                </a:gdLst>
                <a:ahLst/>
                <a:rect l="textAreaLeft" t="textAreaTop" r="textAreaRight" b="textAreaBottom"/>
                <a:pathLst>
                  <a:path w="481" h="1187">
                    <a:moveTo>
                      <a:pt x="465" y="0"/>
                    </a:moveTo>
                    <a:lnTo>
                      <a:pt x="480" y="56"/>
                    </a:lnTo>
                    <a:lnTo>
                      <a:pt x="480" y="98"/>
                    </a:lnTo>
                    <a:lnTo>
                      <a:pt x="465" y="197"/>
                    </a:lnTo>
                    <a:lnTo>
                      <a:pt x="451" y="282"/>
                    </a:lnTo>
                    <a:lnTo>
                      <a:pt x="367" y="310"/>
                    </a:lnTo>
                    <a:lnTo>
                      <a:pt x="338" y="352"/>
                    </a:lnTo>
                    <a:lnTo>
                      <a:pt x="324" y="437"/>
                    </a:lnTo>
                    <a:lnTo>
                      <a:pt x="338" y="550"/>
                    </a:lnTo>
                    <a:lnTo>
                      <a:pt x="367" y="635"/>
                    </a:lnTo>
                    <a:lnTo>
                      <a:pt x="381" y="677"/>
                    </a:lnTo>
                    <a:lnTo>
                      <a:pt x="381" y="720"/>
                    </a:lnTo>
                    <a:lnTo>
                      <a:pt x="352" y="762"/>
                    </a:lnTo>
                    <a:lnTo>
                      <a:pt x="338" y="804"/>
                    </a:lnTo>
                    <a:lnTo>
                      <a:pt x="296" y="847"/>
                    </a:lnTo>
                    <a:lnTo>
                      <a:pt x="183" y="960"/>
                    </a:lnTo>
                    <a:lnTo>
                      <a:pt x="169" y="1044"/>
                    </a:lnTo>
                    <a:lnTo>
                      <a:pt x="141" y="1101"/>
                    </a:lnTo>
                    <a:lnTo>
                      <a:pt x="42" y="1143"/>
                    </a:lnTo>
                    <a:lnTo>
                      <a:pt x="0" y="1157"/>
                    </a:lnTo>
                    <a:lnTo>
                      <a:pt x="14" y="1186"/>
                    </a:lnTo>
                  </a:path>
                </a:pathLst>
              </a:custGeom>
              <a:noFill/>
              <a:ln cap="rnd" w="50760">
                <a:solidFill>
                  <a:srgbClr val="4f81bd"/>
                </a:solidFill>
                <a:round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f81bd"/>
                  </a:solidFill>
                  <a:latin typeface="Times New Roman"/>
                </a:endParaRPr>
              </a:p>
            </p:txBody>
          </p:sp>
          <p:sp>
            <p:nvSpPr>
              <p:cNvPr id="839" name="Rectangle 45"/>
              <p:cNvSpPr/>
              <p:nvPr/>
            </p:nvSpPr>
            <p:spPr>
              <a:xfrm>
                <a:off x="4079160" y="1481040"/>
                <a:ext cx="390600" cy="47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8000" rIns="108000" tIns="54000" bIns="54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266840"/>
                    <a:tab algn="l" pos="2533680"/>
                    <a:tab algn="l" pos="3800520"/>
                    <a:tab algn="l" pos="5067360"/>
                    <a:tab algn="l" pos="6334200"/>
                    <a:tab algn="l" pos="7601040"/>
                    <a:tab algn="l" pos="8867880"/>
                    <a:tab algn="l" pos="1013472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Century Gothic"/>
                  </a:rPr>
                  <a:t>y</a:t>
                </a:r>
                <a:endParaRPr b="0" lang="en-US" sz="2400" spc="-1" strike="noStrike">
                  <a:solidFill>
                    <a:srgbClr val="4f81bd"/>
                  </a:solidFill>
                  <a:latin typeface="Times New Roman"/>
                </a:endParaRPr>
              </a:p>
            </p:txBody>
          </p:sp>
        </p:grpSp>
        <p:grpSp>
          <p:nvGrpSpPr>
            <p:cNvPr id="840" name="Group 49"/>
            <p:cNvGrpSpPr/>
            <p:nvPr/>
          </p:nvGrpSpPr>
          <p:grpSpPr>
            <a:xfrm>
              <a:off x="2755800" y="942840"/>
              <a:ext cx="4671360" cy="4089600"/>
              <a:chOff x="2755800" y="942840"/>
              <a:chExt cx="4671360" cy="4089600"/>
            </a:xfrm>
          </p:grpSpPr>
          <p:sp>
            <p:nvSpPr>
              <p:cNvPr id="841" name="Freeform 47"/>
              <p:cNvSpPr/>
              <p:nvPr/>
            </p:nvSpPr>
            <p:spPr>
              <a:xfrm>
                <a:off x="2755800" y="1265400"/>
                <a:ext cx="4665600" cy="3767040"/>
              </a:xfrm>
              <a:custGeom>
                <a:avLst/>
                <a:gdLst>
                  <a:gd name="textAreaLeft" fmla="*/ 0 w 4665600"/>
                  <a:gd name="textAreaRight" fmla="*/ 4665960 w 4665600"/>
                  <a:gd name="textAreaTop" fmla="*/ 0 h 3767040"/>
                  <a:gd name="textAreaBottom" fmla="*/ 3767400 h 3767040"/>
                </a:gdLst>
                <a:ahLst/>
                <a:rect l="textAreaLeft" t="textAreaTop" r="textAreaRight" b="textAreaBottom"/>
                <a:pathLst>
                  <a:path w="2939" h="2373">
                    <a:moveTo>
                      <a:pt x="2938" y="0"/>
                    </a:moveTo>
                    <a:lnTo>
                      <a:pt x="2853" y="42"/>
                    </a:lnTo>
                    <a:lnTo>
                      <a:pt x="2768" y="56"/>
                    </a:lnTo>
                    <a:lnTo>
                      <a:pt x="2712" y="70"/>
                    </a:lnTo>
                    <a:lnTo>
                      <a:pt x="2613" y="70"/>
                    </a:lnTo>
                    <a:lnTo>
                      <a:pt x="2500" y="98"/>
                    </a:lnTo>
                    <a:lnTo>
                      <a:pt x="2457" y="141"/>
                    </a:lnTo>
                    <a:lnTo>
                      <a:pt x="2457" y="183"/>
                    </a:lnTo>
                    <a:lnTo>
                      <a:pt x="2457" y="225"/>
                    </a:lnTo>
                    <a:lnTo>
                      <a:pt x="2429" y="268"/>
                    </a:lnTo>
                    <a:lnTo>
                      <a:pt x="2387" y="381"/>
                    </a:lnTo>
                    <a:lnTo>
                      <a:pt x="2302" y="395"/>
                    </a:lnTo>
                    <a:lnTo>
                      <a:pt x="2217" y="423"/>
                    </a:lnTo>
                    <a:lnTo>
                      <a:pt x="2132" y="437"/>
                    </a:lnTo>
                    <a:lnTo>
                      <a:pt x="2048" y="465"/>
                    </a:lnTo>
                    <a:lnTo>
                      <a:pt x="1963" y="494"/>
                    </a:lnTo>
                    <a:lnTo>
                      <a:pt x="1878" y="522"/>
                    </a:lnTo>
                    <a:lnTo>
                      <a:pt x="1822" y="663"/>
                    </a:lnTo>
                    <a:lnTo>
                      <a:pt x="1808" y="776"/>
                    </a:lnTo>
                    <a:lnTo>
                      <a:pt x="1793" y="889"/>
                    </a:lnTo>
                    <a:lnTo>
                      <a:pt x="1779" y="974"/>
                    </a:lnTo>
                    <a:lnTo>
                      <a:pt x="1751" y="1058"/>
                    </a:lnTo>
                    <a:lnTo>
                      <a:pt x="1723" y="1115"/>
                    </a:lnTo>
                    <a:lnTo>
                      <a:pt x="1624" y="1143"/>
                    </a:lnTo>
                    <a:lnTo>
                      <a:pt x="1539" y="1171"/>
                    </a:lnTo>
                    <a:lnTo>
                      <a:pt x="1398" y="1186"/>
                    </a:lnTo>
                    <a:lnTo>
                      <a:pt x="1285" y="1214"/>
                    </a:lnTo>
                    <a:lnTo>
                      <a:pt x="1200" y="1242"/>
                    </a:lnTo>
                    <a:lnTo>
                      <a:pt x="1172" y="1284"/>
                    </a:lnTo>
                    <a:lnTo>
                      <a:pt x="1144" y="1327"/>
                    </a:lnTo>
                    <a:lnTo>
                      <a:pt x="1130" y="1411"/>
                    </a:lnTo>
                    <a:lnTo>
                      <a:pt x="1115" y="1496"/>
                    </a:lnTo>
                    <a:lnTo>
                      <a:pt x="1087" y="1581"/>
                    </a:lnTo>
                    <a:lnTo>
                      <a:pt x="1073" y="1666"/>
                    </a:lnTo>
                    <a:lnTo>
                      <a:pt x="1017" y="1779"/>
                    </a:lnTo>
                    <a:lnTo>
                      <a:pt x="960" y="1821"/>
                    </a:lnTo>
                    <a:lnTo>
                      <a:pt x="847" y="1835"/>
                    </a:lnTo>
                    <a:lnTo>
                      <a:pt x="734" y="1863"/>
                    </a:lnTo>
                    <a:lnTo>
                      <a:pt x="649" y="1863"/>
                    </a:lnTo>
                    <a:lnTo>
                      <a:pt x="565" y="1877"/>
                    </a:lnTo>
                    <a:lnTo>
                      <a:pt x="466" y="1920"/>
                    </a:lnTo>
                    <a:lnTo>
                      <a:pt x="409" y="1976"/>
                    </a:lnTo>
                    <a:lnTo>
                      <a:pt x="381" y="2061"/>
                    </a:lnTo>
                    <a:lnTo>
                      <a:pt x="353" y="2117"/>
                    </a:lnTo>
                    <a:lnTo>
                      <a:pt x="296" y="2146"/>
                    </a:lnTo>
                    <a:lnTo>
                      <a:pt x="240" y="2174"/>
                    </a:lnTo>
                    <a:lnTo>
                      <a:pt x="155" y="2188"/>
                    </a:lnTo>
                    <a:lnTo>
                      <a:pt x="70" y="2202"/>
                    </a:lnTo>
                    <a:lnTo>
                      <a:pt x="42" y="2244"/>
                    </a:lnTo>
                    <a:lnTo>
                      <a:pt x="14" y="2301"/>
                    </a:lnTo>
                    <a:lnTo>
                      <a:pt x="0" y="2343"/>
                    </a:lnTo>
                    <a:lnTo>
                      <a:pt x="0" y="2372"/>
                    </a:lnTo>
                  </a:path>
                </a:pathLst>
              </a:custGeom>
              <a:noFill/>
              <a:ln cap="rnd" w="50760">
                <a:solidFill>
                  <a:srgbClr val="4f81bd"/>
                </a:solidFill>
                <a:round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f81bd"/>
                  </a:solidFill>
                  <a:latin typeface="Times New Roman"/>
                </a:endParaRPr>
              </a:p>
            </p:txBody>
          </p:sp>
          <p:sp>
            <p:nvSpPr>
              <p:cNvPr id="842" name="Rectangle 48"/>
              <p:cNvSpPr/>
              <p:nvPr/>
            </p:nvSpPr>
            <p:spPr>
              <a:xfrm>
                <a:off x="7036560" y="942840"/>
                <a:ext cx="390600" cy="47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8000" rIns="108000" tIns="54000" bIns="54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266840"/>
                    <a:tab algn="l" pos="2533680"/>
                    <a:tab algn="l" pos="3800520"/>
                    <a:tab algn="l" pos="5067360"/>
                    <a:tab algn="l" pos="6334200"/>
                    <a:tab algn="l" pos="7601040"/>
                    <a:tab algn="l" pos="8867880"/>
                    <a:tab algn="l" pos="1013472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Century Gothic"/>
                  </a:rPr>
                  <a:t>y</a:t>
                </a:r>
                <a:endParaRPr b="0" lang="en-US" sz="2400" spc="-1" strike="noStrike">
                  <a:solidFill>
                    <a:srgbClr val="4f81bd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Rectangle 2"/>
          <p:cNvSpPr/>
          <p:nvPr/>
        </p:nvSpPr>
        <p:spPr>
          <a:xfrm>
            <a:off x="76320" y="299880"/>
            <a:ext cx="9145440" cy="10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54000" bIns="54000" anchor="ctr">
            <a:noAutofit/>
          </a:bodyPr>
          <a:p>
            <a:pPr algn="ctr">
              <a:tabLst>
                <a:tab algn="l" pos="0"/>
                <a:tab algn="l" pos="1266840"/>
                <a:tab algn="l" pos="2533680"/>
                <a:tab algn="l" pos="3800520"/>
                <a:tab algn="l" pos="5067360"/>
                <a:tab algn="l" pos="6334200"/>
                <a:tab algn="l" pos="7601040"/>
                <a:tab algn="l" pos="8867880"/>
                <a:tab algn="l" pos="1013472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Simple Gas Filled Detector</a:t>
            </a:r>
            <a:endParaRPr b="0" lang="en-US" sz="3800" spc="-1" strike="noStrike">
              <a:solidFill>
                <a:srgbClr val="4f81bd"/>
              </a:solidFill>
              <a:latin typeface="Times New Roman"/>
            </a:endParaRPr>
          </a:p>
        </p:txBody>
      </p:sp>
      <p:grpSp>
        <p:nvGrpSpPr>
          <p:cNvPr id="844" name="Group 30"/>
          <p:cNvGrpSpPr/>
          <p:nvPr/>
        </p:nvGrpSpPr>
        <p:grpSpPr>
          <a:xfrm>
            <a:off x="1165320" y="2344680"/>
            <a:ext cx="6896160" cy="3230640"/>
            <a:chOff x="1165320" y="2344680"/>
            <a:chExt cx="6896160" cy="3230640"/>
          </a:xfrm>
        </p:grpSpPr>
        <p:grpSp>
          <p:nvGrpSpPr>
            <p:cNvPr id="845" name="Group 6"/>
            <p:cNvGrpSpPr/>
            <p:nvPr/>
          </p:nvGrpSpPr>
          <p:grpSpPr>
            <a:xfrm>
              <a:off x="1965240" y="2974680"/>
              <a:ext cx="5019840" cy="2600640"/>
              <a:chOff x="1965240" y="2974680"/>
              <a:chExt cx="5019840" cy="2600640"/>
            </a:xfrm>
          </p:grpSpPr>
          <p:sp>
            <p:nvSpPr>
              <p:cNvPr id="846" name="Line 3"/>
              <p:cNvSpPr/>
              <p:nvPr/>
            </p:nvSpPr>
            <p:spPr>
              <a:xfrm>
                <a:off x="1965240" y="3692520"/>
                <a:ext cx="0" cy="1076400"/>
              </a:xfrm>
              <a:prstGeom prst="line">
                <a:avLst/>
              </a:prstGeom>
              <a:ln w="25560">
                <a:solidFill>
                  <a:srgbClr val="66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f81bd"/>
                  </a:solidFill>
                  <a:latin typeface="Times New Roman"/>
                </a:endParaRPr>
              </a:p>
            </p:txBody>
          </p:sp>
          <p:sp>
            <p:nvSpPr>
              <p:cNvPr id="847" name="Line 4"/>
              <p:cNvSpPr/>
              <p:nvPr/>
            </p:nvSpPr>
            <p:spPr>
              <a:xfrm>
                <a:off x="1965240" y="5575320"/>
                <a:ext cx="5019840" cy="0"/>
              </a:xfrm>
              <a:prstGeom prst="line">
                <a:avLst/>
              </a:prstGeom>
              <a:ln w="25560">
                <a:solidFill>
                  <a:srgbClr val="66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f81bd"/>
                  </a:solidFill>
                  <a:latin typeface="Times New Roman"/>
                </a:endParaRPr>
              </a:p>
            </p:txBody>
          </p:sp>
          <p:sp>
            <p:nvSpPr>
              <p:cNvPr id="848" name="Line 5"/>
              <p:cNvSpPr/>
              <p:nvPr/>
            </p:nvSpPr>
            <p:spPr>
              <a:xfrm flipV="1">
                <a:off x="6985080" y="2974680"/>
                <a:ext cx="0" cy="1523880"/>
              </a:xfrm>
              <a:prstGeom prst="line">
                <a:avLst/>
              </a:prstGeom>
              <a:ln w="25560">
                <a:solidFill>
                  <a:srgbClr val="66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f81bd"/>
                  </a:solidFill>
                  <a:latin typeface="Times New Roman"/>
                </a:endParaRPr>
              </a:p>
            </p:txBody>
          </p:sp>
        </p:grpSp>
        <p:sp>
          <p:nvSpPr>
            <p:cNvPr id="849" name="Line 7"/>
            <p:cNvSpPr/>
            <p:nvPr/>
          </p:nvSpPr>
          <p:spPr>
            <a:xfrm>
              <a:off x="1874880" y="4857840"/>
              <a:ext cx="179280" cy="0"/>
            </a:xfrm>
            <a:prstGeom prst="line">
              <a:avLst/>
            </a:prstGeom>
            <a:ln w="255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850" name="Line 8"/>
            <p:cNvSpPr/>
            <p:nvPr/>
          </p:nvSpPr>
          <p:spPr>
            <a:xfrm>
              <a:off x="1785960" y="4948200"/>
              <a:ext cx="358920" cy="0"/>
            </a:xfrm>
            <a:prstGeom prst="line">
              <a:avLst/>
            </a:prstGeom>
            <a:ln w="255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851" name="Line 9"/>
            <p:cNvSpPr/>
            <p:nvPr/>
          </p:nvSpPr>
          <p:spPr>
            <a:xfrm>
              <a:off x="1874880" y="5127480"/>
              <a:ext cx="179280" cy="0"/>
            </a:xfrm>
            <a:prstGeom prst="line">
              <a:avLst/>
            </a:prstGeom>
            <a:ln w="255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852" name="Line 10"/>
            <p:cNvSpPr/>
            <p:nvPr/>
          </p:nvSpPr>
          <p:spPr>
            <a:xfrm>
              <a:off x="1874880" y="5037120"/>
              <a:ext cx="179280" cy="0"/>
            </a:xfrm>
            <a:prstGeom prst="line">
              <a:avLst/>
            </a:prstGeom>
            <a:ln w="255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853" name="Line 11"/>
            <p:cNvSpPr/>
            <p:nvPr/>
          </p:nvSpPr>
          <p:spPr>
            <a:xfrm flipV="1">
              <a:off x="1965240" y="5216040"/>
              <a:ext cx="0" cy="358920"/>
            </a:xfrm>
            <a:prstGeom prst="line">
              <a:avLst/>
            </a:prstGeom>
            <a:ln w="255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854" name="Freeform 12"/>
            <p:cNvSpPr/>
            <p:nvPr/>
          </p:nvSpPr>
          <p:spPr>
            <a:xfrm>
              <a:off x="6897600" y="4498920"/>
              <a:ext cx="184320" cy="539640"/>
            </a:xfrm>
            <a:custGeom>
              <a:avLst/>
              <a:gdLst>
                <a:gd name="textAreaLeft" fmla="*/ 0 w 184320"/>
                <a:gd name="textAreaRight" fmla="*/ 184680 w 184320"/>
                <a:gd name="textAreaTop" fmla="*/ 0 h 539640"/>
                <a:gd name="textAreaBottom" fmla="*/ 540000 h 539640"/>
              </a:gdLst>
              <a:ahLst/>
              <a:rect l="textAreaLeft" t="textAreaTop" r="textAreaRight" b="textAreaBottom"/>
              <a:pathLst>
                <a:path w="116" h="340">
                  <a:moveTo>
                    <a:pt x="55" y="0"/>
                  </a:moveTo>
                  <a:lnTo>
                    <a:pt x="88" y="50"/>
                  </a:lnTo>
                  <a:lnTo>
                    <a:pt x="115" y="63"/>
                  </a:lnTo>
                  <a:lnTo>
                    <a:pt x="88" y="101"/>
                  </a:lnTo>
                  <a:lnTo>
                    <a:pt x="50" y="113"/>
                  </a:lnTo>
                  <a:lnTo>
                    <a:pt x="26" y="138"/>
                  </a:lnTo>
                  <a:lnTo>
                    <a:pt x="0" y="163"/>
                  </a:lnTo>
                  <a:lnTo>
                    <a:pt x="26" y="189"/>
                  </a:lnTo>
                  <a:lnTo>
                    <a:pt x="64" y="201"/>
                  </a:lnTo>
                  <a:lnTo>
                    <a:pt x="88" y="227"/>
                  </a:lnTo>
                  <a:lnTo>
                    <a:pt x="50" y="251"/>
                  </a:lnTo>
                  <a:lnTo>
                    <a:pt x="37" y="277"/>
                  </a:lnTo>
                  <a:lnTo>
                    <a:pt x="0" y="302"/>
                  </a:lnTo>
                  <a:lnTo>
                    <a:pt x="26" y="315"/>
                  </a:lnTo>
                  <a:lnTo>
                    <a:pt x="64" y="327"/>
                  </a:lnTo>
                  <a:lnTo>
                    <a:pt x="55" y="339"/>
                  </a:lnTo>
                </a:path>
              </a:pathLst>
            </a:custGeom>
            <a:noFill/>
            <a:ln cap="rnd" w="25560">
              <a:solidFill>
                <a:srgbClr val="66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855" name="Line 13"/>
            <p:cNvSpPr/>
            <p:nvPr/>
          </p:nvSpPr>
          <p:spPr>
            <a:xfrm>
              <a:off x="6985080" y="5035680"/>
              <a:ext cx="0" cy="539640"/>
            </a:xfrm>
            <a:prstGeom prst="line">
              <a:avLst/>
            </a:prstGeom>
            <a:ln w="255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856" name="AutoShape 14"/>
            <p:cNvSpPr/>
            <p:nvPr/>
          </p:nvSpPr>
          <p:spPr>
            <a:xfrm>
              <a:off x="1165320" y="2443320"/>
              <a:ext cx="4917960" cy="1242720"/>
            </a:xfrm>
            <a:prstGeom prst="roundRect">
              <a:avLst>
                <a:gd name="adj" fmla="val 12486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857" name="Oval 15"/>
            <p:cNvSpPr/>
            <p:nvPr/>
          </p:nvSpPr>
          <p:spPr>
            <a:xfrm>
              <a:off x="5737320" y="2443320"/>
              <a:ext cx="525240" cy="1242720"/>
            </a:xfrm>
            <a:prstGeom prst="ellipse">
              <a:avLst/>
            </a:prstGeom>
            <a:solidFill>
              <a:srgbClr val="eeece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858" name="Line 16"/>
            <p:cNvSpPr/>
            <p:nvPr/>
          </p:nvSpPr>
          <p:spPr>
            <a:xfrm>
              <a:off x="2592360" y="2975040"/>
              <a:ext cx="5200560" cy="0"/>
            </a:xfrm>
            <a:prstGeom prst="line">
              <a:avLst/>
            </a:prstGeom>
            <a:ln w="507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859" name="Rectangle 17"/>
            <p:cNvSpPr/>
            <p:nvPr/>
          </p:nvSpPr>
          <p:spPr>
            <a:xfrm>
              <a:off x="2990880" y="2532240"/>
              <a:ext cx="1312560" cy="47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00" rIns="108000" tIns="54000" bIns="54000" anchor="t">
              <a:spAutoFit/>
            </a:bodyPr>
            <a:p>
              <a:pPr>
                <a:tabLst>
                  <a:tab algn="l" pos="0"/>
                  <a:tab algn="l" pos="1266840"/>
                  <a:tab algn="l" pos="2533680"/>
                  <a:tab algn="l" pos="3800520"/>
                  <a:tab algn="l" pos="5067360"/>
                  <a:tab algn="l" pos="6334200"/>
                  <a:tab algn="l" pos="7601040"/>
                  <a:tab algn="l" pos="8867880"/>
                  <a:tab algn="l" pos="1013472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Times New Roman"/>
                </a:rPr>
                <a:t>Anode +</a:t>
              </a: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860" name="Rectangle 18"/>
            <p:cNvSpPr/>
            <p:nvPr/>
          </p:nvSpPr>
          <p:spPr>
            <a:xfrm>
              <a:off x="1736640" y="3284640"/>
              <a:ext cx="160812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00" rIns="108000" tIns="54000" bIns="54000" anchor="t">
              <a:spAutoFit/>
            </a:bodyPr>
            <a:p>
              <a:pPr>
                <a:tabLst>
                  <a:tab algn="l" pos="0"/>
                  <a:tab algn="l" pos="1266840"/>
                  <a:tab algn="l" pos="2533680"/>
                  <a:tab algn="l" pos="3800520"/>
                  <a:tab algn="l" pos="5067360"/>
                  <a:tab algn="l" pos="6334200"/>
                  <a:tab algn="l" pos="7601040"/>
                  <a:tab algn="l" pos="8867880"/>
                  <a:tab algn="l" pos="10134720"/>
                </a:tabLst>
              </a:pPr>
              <a:r>
                <a:rPr b="0" lang="en-US" sz="2800" spc="-1" strike="noStrike">
                  <a:solidFill>
                    <a:srgbClr val="c0504d"/>
                  </a:solidFill>
                  <a:latin typeface="Times New Roman"/>
                </a:rPr>
                <a:t>Cathode -</a:t>
              </a:r>
              <a:endParaRPr b="0" lang="en-US" sz="28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861" name="Rectangle 19"/>
            <p:cNvSpPr/>
            <p:nvPr/>
          </p:nvSpPr>
          <p:spPr>
            <a:xfrm>
              <a:off x="6877800" y="2344680"/>
              <a:ext cx="1155600" cy="39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00" rIns="108000" tIns="54000" bIns="54000" anchor="t">
              <a:spAutoFit/>
            </a:bodyPr>
            <a:p>
              <a:pPr>
                <a:tabLst>
                  <a:tab algn="l" pos="0"/>
                  <a:tab algn="l" pos="1266840"/>
                  <a:tab algn="l" pos="2533680"/>
                  <a:tab algn="l" pos="3800520"/>
                  <a:tab algn="l" pos="5067360"/>
                  <a:tab algn="l" pos="6334200"/>
                  <a:tab algn="l" pos="7601040"/>
                  <a:tab algn="l" pos="8867880"/>
                  <a:tab algn="l" pos="1013472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To meter </a:t>
              </a:r>
              <a:endParaRPr b="0" lang="en-US" sz="19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862" name="Line 20"/>
            <p:cNvSpPr/>
            <p:nvPr/>
          </p:nvSpPr>
          <p:spPr>
            <a:xfrm>
              <a:off x="6896160" y="2795760"/>
              <a:ext cx="1165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863" name="Rectangle 21"/>
            <p:cNvSpPr/>
            <p:nvPr/>
          </p:nvSpPr>
          <p:spPr>
            <a:xfrm>
              <a:off x="2757960" y="2922480"/>
              <a:ext cx="411840" cy="47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00" rIns="108000" tIns="54000" bIns="54000" anchor="t">
              <a:spAutoFit/>
            </a:bodyPr>
            <a:p>
              <a:pPr>
                <a:tabLst>
                  <a:tab algn="l" pos="0"/>
                  <a:tab algn="l" pos="1266840"/>
                  <a:tab algn="l" pos="2533680"/>
                  <a:tab algn="l" pos="3800520"/>
                  <a:tab algn="l" pos="5067360"/>
                  <a:tab algn="l" pos="6334200"/>
                  <a:tab algn="l" pos="7601040"/>
                  <a:tab algn="l" pos="8867880"/>
                  <a:tab algn="l" pos="1013472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864" name="Rectangle 22"/>
            <p:cNvSpPr/>
            <p:nvPr/>
          </p:nvSpPr>
          <p:spPr>
            <a:xfrm>
              <a:off x="3385080" y="2922480"/>
              <a:ext cx="411840" cy="47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00" rIns="108000" tIns="54000" bIns="54000" anchor="t">
              <a:spAutoFit/>
            </a:bodyPr>
            <a:p>
              <a:pPr>
                <a:tabLst>
                  <a:tab algn="l" pos="0"/>
                  <a:tab algn="l" pos="1266840"/>
                  <a:tab algn="l" pos="2533680"/>
                  <a:tab algn="l" pos="3800520"/>
                  <a:tab algn="l" pos="5067360"/>
                  <a:tab algn="l" pos="6334200"/>
                  <a:tab algn="l" pos="7601040"/>
                  <a:tab algn="l" pos="8867880"/>
                  <a:tab algn="l" pos="1013472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865" name="Rectangle 23"/>
            <p:cNvSpPr/>
            <p:nvPr/>
          </p:nvSpPr>
          <p:spPr>
            <a:xfrm>
              <a:off x="3832560" y="2922480"/>
              <a:ext cx="411840" cy="47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00" rIns="108000" tIns="54000" bIns="54000" anchor="t">
              <a:spAutoFit/>
            </a:bodyPr>
            <a:p>
              <a:pPr>
                <a:tabLst>
                  <a:tab algn="l" pos="0"/>
                  <a:tab algn="l" pos="1266840"/>
                  <a:tab algn="l" pos="2533680"/>
                  <a:tab algn="l" pos="3800520"/>
                  <a:tab algn="l" pos="5067360"/>
                  <a:tab algn="l" pos="6334200"/>
                  <a:tab algn="l" pos="7601040"/>
                  <a:tab algn="l" pos="8867880"/>
                  <a:tab algn="l" pos="1013472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866" name="Rectangle 24"/>
            <p:cNvSpPr/>
            <p:nvPr/>
          </p:nvSpPr>
          <p:spPr>
            <a:xfrm>
              <a:off x="4191480" y="2922480"/>
              <a:ext cx="411840" cy="47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00" rIns="108000" tIns="54000" bIns="54000" anchor="t">
              <a:spAutoFit/>
            </a:bodyPr>
            <a:p>
              <a:pPr>
                <a:tabLst>
                  <a:tab algn="l" pos="0"/>
                  <a:tab algn="l" pos="1266840"/>
                  <a:tab algn="l" pos="2533680"/>
                  <a:tab algn="l" pos="3800520"/>
                  <a:tab algn="l" pos="5067360"/>
                  <a:tab algn="l" pos="6334200"/>
                  <a:tab algn="l" pos="7601040"/>
                  <a:tab algn="l" pos="8867880"/>
                  <a:tab algn="l" pos="1013472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867" name="Rectangle 25"/>
            <p:cNvSpPr/>
            <p:nvPr/>
          </p:nvSpPr>
          <p:spPr>
            <a:xfrm>
              <a:off x="4638960" y="2922480"/>
              <a:ext cx="411840" cy="47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00" rIns="108000" tIns="54000" bIns="54000" anchor="t">
              <a:spAutoFit/>
            </a:bodyPr>
            <a:p>
              <a:pPr>
                <a:tabLst>
                  <a:tab algn="l" pos="0"/>
                  <a:tab algn="l" pos="1266840"/>
                  <a:tab algn="l" pos="2533680"/>
                  <a:tab algn="l" pos="3800520"/>
                  <a:tab algn="l" pos="5067360"/>
                  <a:tab algn="l" pos="6334200"/>
                  <a:tab algn="l" pos="7601040"/>
                  <a:tab algn="l" pos="8867880"/>
                  <a:tab algn="l" pos="1013472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868" name="Rectangle 26"/>
            <p:cNvSpPr/>
            <p:nvPr/>
          </p:nvSpPr>
          <p:spPr>
            <a:xfrm>
              <a:off x="4997880" y="2922480"/>
              <a:ext cx="411840" cy="47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00" rIns="108000" tIns="54000" bIns="54000" anchor="t">
              <a:spAutoFit/>
            </a:bodyPr>
            <a:p>
              <a:pPr>
                <a:tabLst>
                  <a:tab algn="l" pos="0"/>
                  <a:tab algn="l" pos="1266840"/>
                  <a:tab algn="l" pos="2533680"/>
                  <a:tab algn="l" pos="3800520"/>
                  <a:tab algn="l" pos="5067360"/>
                  <a:tab algn="l" pos="6334200"/>
                  <a:tab algn="l" pos="7601040"/>
                  <a:tab algn="l" pos="8867880"/>
                  <a:tab algn="l" pos="1013472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869" name="Rectangle 27"/>
            <p:cNvSpPr/>
            <p:nvPr/>
          </p:nvSpPr>
          <p:spPr>
            <a:xfrm>
              <a:off x="3200400" y="3370320"/>
              <a:ext cx="1422360" cy="47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00" rIns="108000" tIns="54000" bIns="54000" anchor="t">
              <a:spAutoFit/>
            </a:bodyPr>
            <a:p>
              <a:pPr>
                <a:tabLst>
                  <a:tab algn="l" pos="0"/>
                  <a:tab algn="l" pos="1266840"/>
                  <a:tab algn="l" pos="2533680"/>
                  <a:tab algn="l" pos="3800520"/>
                  <a:tab algn="l" pos="5067360"/>
                  <a:tab algn="l" pos="6334200"/>
                  <a:tab algn="l" pos="7601040"/>
                  <a:tab algn="l" pos="8867880"/>
                  <a:tab algn="l" pos="1013472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++++++</a:t>
              </a: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870" name="Rectangle 28"/>
            <p:cNvSpPr/>
            <p:nvPr/>
          </p:nvSpPr>
          <p:spPr>
            <a:xfrm>
              <a:off x="1860840" y="2563920"/>
              <a:ext cx="411840" cy="47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00" rIns="108000" tIns="54000" bIns="54000" anchor="t">
              <a:spAutoFit/>
            </a:bodyPr>
            <a:p>
              <a:pPr>
                <a:tabLst>
                  <a:tab algn="l" pos="0"/>
                  <a:tab algn="l" pos="1266840"/>
                  <a:tab algn="l" pos="2533680"/>
                  <a:tab algn="l" pos="3800520"/>
                  <a:tab algn="l" pos="5067360"/>
                  <a:tab algn="l" pos="6334200"/>
                  <a:tab algn="l" pos="7601040"/>
                  <a:tab algn="l" pos="8867880"/>
                  <a:tab algn="l" pos="1013472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871" name="Rectangle 29"/>
            <p:cNvSpPr/>
            <p:nvPr/>
          </p:nvSpPr>
          <p:spPr>
            <a:xfrm>
              <a:off x="2487960" y="2922480"/>
              <a:ext cx="411840" cy="47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00" rIns="108000" tIns="54000" bIns="54000" anchor="t">
              <a:spAutoFit/>
            </a:bodyPr>
            <a:p>
              <a:pPr>
                <a:tabLst>
                  <a:tab algn="l" pos="0"/>
                  <a:tab algn="l" pos="1266840"/>
                  <a:tab algn="l" pos="2533680"/>
                  <a:tab algn="l" pos="3800520"/>
                  <a:tab algn="l" pos="5067360"/>
                  <a:tab algn="l" pos="6334200"/>
                  <a:tab algn="l" pos="7601040"/>
                  <a:tab algn="l" pos="8867880"/>
                  <a:tab algn="l" pos="1013472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Gas Amplification Curve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73" name="Group 24"/>
          <p:cNvGrpSpPr/>
          <p:nvPr/>
        </p:nvGrpSpPr>
        <p:grpSpPr>
          <a:xfrm>
            <a:off x="528480" y="2055600"/>
            <a:ext cx="8006040" cy="4688640"/>
            <a:chOff x="528480" y="2055600"/>
            <a:chExt cx="8006040" cy="4688640"/>
          </a:xfrm>
        </p:grpSpPr>
        <p:sp>
          <p:nvSpPr>
            <p:cNvPr id="874" name="Rectangle 3"/>
            <p:cNvSpPr/>
            <p:nvPr/>
          </p:nvSpPr>
          <p:spPr>
            <a:xfrm>
              <a:off x="1228680" y="2057400"/>
              <a:ext cx="7224840" cy="409104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000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875" name="Freeform 4"/>
            <p:cNvSpPr/>
            <p:nvPr/>
          </p:nvSpPr>
          <p:spPr>
            <a:xfrm>
              <a:off x="1228680" y="3057480"/>
              <a:ext cx="6585120" cy="3092400"/>
            </a:xfrm>
            <a:custGeom>
              <a:avLst/>
              <a:gdLst>
                <a:gd name="textAreaLeft" fmla="*/ 0 w 6585120"/>
                <a:gd name="textAreaRight" fmla="*/ 6585480 w 6585120"/>
                <a:gd name="textAreaTop" fmla="*/ 0 h 3092400"/>
                <a:gd name="textAreaBottom" fmla="*/ 3092760 h 3092400"/>
              </a:gdLst>
              <a:ahLst/>
              <a:rect l="textAreaLeft" t="textAreaTop" r="textAreaRight" b="textAreaBottom"/>
              <a:pathLst>
                <a:path w="4148" h="1948">
                  <a:moveTo>
                    <a:pt x="0" y="1947"/>
                  </a:moveTo>
                  <a:lnTo>
                    <a:pt x="6" y="1892"/>
                  </a:lnTo>
                  <a:lnTo>
                    <a:pt x="16" y="1857"/>
                  </a:lnTo>
                  <a:lnTo>
                    <a:pt x="40" y="1823"/>
                  </a:lnTo>
                  <a:lnTo>
                    <a:pt x="62" y="1799"/>
                  </a:lnTo>
                  <a:lnTo>
                    <a:pt x="94" y="1776"/>
                  </a:lnTo>
                  <a:lnTo>
                    <a:pt x="128" y="1765"/>
                  </a:lnTo>
                  <a:lnTo>
                    <a:pt x="161" y="1742"/>
                  </a:lnTo>
                  <a:lnTo>
                    <a:pt x="194" y="1730"/>
                  </a:lnTo>
                  <a:lnTo>
                    <a:pt x="227" y="1707"/>
                  </a:lnTo>
                  <a:lnTo>
                    <a:pt x="305" y="1696"/>
                  </a:lnTo>
                  <a:lnTo>
                    <a:pt x="339" y="1684"/>
                  </a:lnTo>
                  <a:lnTo>
                    <a:pt x="383" y="1661"/>
                  </a:lnTo>
                  <a:lnTo>
                    <a:pt x="416" y="1650"/>
                  </a:lnTo>
                  <a:lnTo>
                    <a:pt x="449" y="1638"/>
                  </a:lnTo>
                  <a:lnTo>
                    <a:pt x="482" y="1638"/>
                  </a:lnTo>
                  <a:lnTo>
                    <a:pt x="516" y="1638"/>
                  </a:lnTo>
                  <a:lnTo>
                    <a:pt x="594" y="1627"/>
                  </a:lnTo>
                  <a:lnTo>
                    <a:pt x="660" y="1627"/>
                  </a:lnTo>
                  <a:lnTo>
                    <a:pt x="693" y="1627"/>
                  </a:lnTo>
                  <a:lnTo>
                    <a:pt x="726" y="1627"/>
                  </a:lnTo>
                  <a:lnTo>
                    <a:pt x="771" y="1627"/>
                  </a:lnTo>
                  <a:lnTo>
                    <a:pt x="804" y="1615"/>
                  </a:lnTo>
                  <a:lnTo>
                    <a:pt x="837" y="1615"/>
                  </a:lnTo>
                  <a:lnTo>
                    <a:pt x="871" y="1602"/>
                  </a:lnTo>
                  <a:lnTo>
                    <a:pt x="903" y="1602"/>
                  </a:lnTo>
                  <a:lnTo>
                    <a:pt x="981" y="1602"/>
                  </a:lnTo>
                  <a:lnTo>
                    <a:pt x="1026" y="1602"/>
                  </a:lnTo>
                  <a:lnTo>
                    <a:pt x="1059" y="1602"/>
                  </a:lnTo>
                  <a:lnTo>
                    <a:pt x="1104" y="1568"/>
                  </a:lnTo>
                  <a:lnTo>
                    <a:pt x="1136" y="1533"/>
                  </a:lnTo>
                  <a:lnTo>
                    <a:pt x="1170" y="1499"/>
                  </a:lnTo>
                  <a:lnTo>
                    <a:pt x="1204" y="1464"/>
                  </a:lnTo>
                  <a:lnTo>
                    <a:pt x="1236" y="1418"/>
                  </a:lnTo>
                  <a:lnTo>
                    <a:pt x="1259" y="1383"/>
                  </a:lnTo>
                  <a:lnTo>
                    <a:pt x="1292" y="1349"/>
                  </a:lnTo>
                  <a:lnTo>
                    <a:pt x="1337" y="1303"/>
                  </a:lnTo>
                  <a:lnTo>
                    <a:pt x="1369" y="1268"/>
                  </a:lnTo>
                  <a:lnTo>
                    <a:pt x="1391" y="1234"/>
                  </a:lnTo>
                  <a:lnTo>
                    <a:pt x="1437" y="1199"/>
                  </a:lnTo>
                  <a:lnTo>
                    <a:pt x="1469" y="1164"/>
                  </a:lnTo>
                  <a:lnTo>
                    <a:pt x="1503" y="1141"/>
                  </a:lnTo>
                  <a:lnTo>
                    <a:pt x="1536" y="1107"/>
                  </a:lnTo>
                  <a:lnTo>
                    <a:pt x="1569" y="1072"/>
                  </a:lnTo>
                  <a:lnTo>
                    <a:pt x="1602" y="1038"/>
                  </a:lnTo>
                  <a:lnTo>
                    <a:pt x="1636" y="1015"/>
                  </a:lnTo>
                  <a:lnTo>
                    <a:pt x="1669" y="980"/>
                  </a:lnTo>
                  <a:lnTo>
                    <a:pt x="1758" y="934"/>
                  </a:lnTo>
                  <a:lnTo>
                    <a:pt x="1791" y="899"/>
                  </a:lnTo>
                  <a:lnTo>
                    <a:pt x="1824" y="865"/>
                  </a:lnTo>
                  <a:lnTo>
                    <a:pt x="1857" y="842"/>
                  </a:lnTo>
                  <a:lnTo>
                    <a:pt x="1891" y="807"/>
                  </a:lnTo>
                  <a:lnTo>
                    <a:pt x="1913" y="772"/>
                  </a:lnTo>
                  <a:lnTo>
                    <a:pt x="1947" y="749"/>
                  </a:lnTo>
                  <a:lnTo>
                    <a:pt x="1979" y="715"/>
                  </a:lnTo>
                  <a:lnTo>
                    <a:pt x="2001" y="680"/>
                  </a:lnTo>
                  <a:lnTo>
                    <a:pt x="2023" y="646"/>
                  </a:lnTo>
                  <a:lnTo>
                    <a:pt x="2035" y="611"/>
                  </a:lnTo>
                  <a:lnTo>
                    <a:pt x="2079" y="519"/>
                  </a:lnTo>
                  <a:lnTo>
                    <a:pt x="2090" y="484"/>
                  </a:lnTo>
                  <a:lnTo>
                    <a:pt x="2124" y="461"/>
                  </a:lnTo>
                  <a:lnTo>
                    <a:pt x="2168" y="427"/>
                  </a:lnTo>
                  <a:lnTo>
                    <a:pt x="2202" y="392"/>
                  </a:lnTo>
                  <a:lnTo>
                    <a:pt x="2234" y="369"/>
                  </a:lnTo>
                  <a:lnTo>
                    <a:pt x="2312" y="334"/>
                  </a:lnTo>
                  <a:lnTo>
                    <a:pt x="2345" y="311"/>
                  </a:lnTo>
                  <a:lnTo>
                    <a:pt x="2368" y="300"/>
                  </a:lnTo>
                  <a:lnTo>
                    <a:pt x="2401" y="277"/>
                  </a:lnTo>
                  <a:lnTo>
                    <a:pt x="2434" y="254"/>
                  </a:lnTo>
                  <a:lnTo>
                    <a:pt x="2467" y="242"/>
                  </a:lnTo>
                  <a:lnTo>
                    <a:pt x="2501" y="231"/>
                  </a:lnTo>
                  <a:lnTo>
                    <a:pt x="2545" y="208"/>
                  </a:lnTo>
                  <a:lnTo>
                    <a:pt x="2634" y="196"/>
                  </a:lnTo>
                  <a:lnTo>
                    <a:pt x="2667" y="196"/>
                  </a:lnTo>
                  <a:lnTo>
                    <a:pt x="2756" y="185"/>
                  </a:lnTo>
                  <a:lnTo>
                    <a:pt x="2834" y="185"/>
                  </a:lnTo>
                  <a:lnTo>
                    <a:pt x="2911" y="173"/>
                  </a:lnTo>
                  <a:lnTo>
                    <a:pt x="3021" y="173"/>
                  </a:lnTo>
                  <a:lnTo>
                    <a:pt x="3089" y="173"/>
                  </a:lnTo>
                  <a:lnTo>
                    <a:pt x="3210" y="173"/>
                  </a:lnTo>
                  <a:lnTo>
                    <a:pt x="3299" y="173"/>
                  </a:lnTo>
                  <a:lnTo>
                    <a:pt x="3344" y="173"/>
                  </a:lnTo>
                  <a:lnTo>
                    <a:pt x="3410" y="173"/>
                  </a:lnTo>
                  <a:lnTo>
                    <a:pt x="3443" y="173"/>
                  </a:lnTo>
                  <a:lnTo>
                    <a:pt x="3554" y="173"/>
                  </a:lnTo>
                  <a:lnTo>
                    <a:pt x="3587" y="173"/>
                  </a:lnTo>
                  <a:lnTo>
                    <a:pt x="3676" y="173"/>
                  </a:lnTo>
                  <a:lnTo>
                    <a:pt x="3765" y="173"/>
                  </a:lnTo>
                  <a:lnTo>
                    <a:pt x="3854" y="173"/>
                  </a:lnTo>
                  <a:lnTo>
                    <a:pt x="3886" y="173"/>
                  </a:lnTo>
                  <a:lnTo>
                    <a:pt x="3920" y="150"/>
                  </a:lnTo>
                  <a:lnTo>
                    <a:pt x="3953" y="138"/>
                  </a:lnTo>
                  <a:lnTo>
                    <a:pt x="3986" y="115"/>
                  </a:lnTo>
                  <a:lnTo>
                    <a:pt x="4031" y="92"/>
                  </a:lnTo>
                  <a:lnTo>
                    <a:pt x="4075" y="58"/>
                  </a:lnTo>
                  <a:lnTo>
                    <a:pt x="4109" y="23"/>
                  </a:lnTo>
                  <a:lnTo>
                    <a:pt x="4141" y="0"/>
                  </a:lnTo>
                  <a:lnTo>
                    <a:pt x="4147" y="1"/>
                  </a:lnTo>
                </a:path>
              </a:pathLst>
            </a:custGeom>
            <a:noFill/>
            <a:ln cap="rnd" w="25560">
              <a:solidFill>
                <a:srgbClr val="4f81b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876" name="Freeform 5"/>
            <p:cNvSpPr/>
            <p:nvPr/>
          </p:nvSpPr>
          <p:spPr>
            <a:xfrm>
              <a:off x="1228680" y="2975040"/>
              <a:ext cx="6666120" cy="2506680"/>
            </a:xfrm>
            <a:custGeom>
              <a:avLst/>
              <a:gdLst>
                <a:gd name="textAreaLeft" fmla="*/ 0 w 6666120"/>
                <a:gd name="textAreaRight" fmla="*/ 6666480 w 6666120"/>
                <a:gd name="textAreaTop" fmla="*/ 0 h 2506680"/>
                <a:gd name="textAreaBottom" fmla="*/ 2507040 h 2506680"/>
              </a:gdLst>
              <a:ahLst/>
              <a:rect l="textAreaLeft" t="textAreaTop" r="textAreaRight" b="textAreaBottom"/>
              <a:pathLst>
                <a:path w="4199" h="1579">
                  <a:moveTo>
                    <a:pt x="0" y="1578"/>
                  </a:moveTo>
                  <a:lnTo>
                    <a:pt x="28" y="1528"/>
                  </a:lnTo>
                  <a:lnTo>
                    <a:pt x="50" y="1493"/>
                  </a:lnTo>
                  <a:lnTo>
                    <a:pt x="84" y="1470"/>
                  </a:lnTo>
                  <a:lnTo>
                    <a:pt x="128" y="1447"/>
                  </a:lnTo>
                  <a:lnTo>
                    <a:pt x="172" y="1435"/>
                  </a:lnTo>
                  <a:lnTo>
                    <a:pt x="205" y="1424"/>
                  </a:lnTo>
                  <a:lnTo>
                    <a:pt x="272" y="1412"/>
                  </a:lnTo>
                  <a:lnTo>
                    <a:pt x="305" y="1401"/>
                  </a:lnTo>
                  <a:lnTo>
                    <a:pt x="371" y="1401"/>
                  </a:lnTo>
                  <a:lnTo>
                    <a:pt x="405" y="1401"/>
                  </a:lnTo>
                  <a:lnTo>
                    <a:pt x="438" y="1389"/>
                  </a:lnTo>
                  <a:lnTo>
                    <a:pt x="482" y="1366"/>
                  </a:lnTo>
                  <a:lnTo>
                    <a:pt x="505" y="1366"/>
                  </a:lnTo>
                  <a:lnTo>
                    <a:pt x="538" y="1355"/>
                  </a:lnTo>
                  <a:lnTo>
                    <a:pt x="572" y="1355"/>
                  </a:lnTo>
                  <a:lnTo>
                    <a:pt x="660" y="1355"/>
                  </a:lnTo>
                  <a:lnTo>
                    <a:pt x="727" y="1343"/>
                  </a:lnTo>
                  <a:lnTo>
                    <a:pt x="837" y="1332"/>
                  </a:lnTo>
                  <a:lnTo>
                    <a:pt x="881" y="1332"/>
                  </a:lnTo>
                  <a:lnTo>
                    <a:pt x="915" y="1320"/>
                  </a:lnTo>
                  <a:lnTo>
                    <a:pt x="948" y="1309"/>
                  </a:lnTo>
                  <a:lnTo>
                    <a:pt x="971" y="1309"/>
                  </a:lnTo>
                  <a:lnTo>
                    <a:pt x="1082" y="1274"/>
                  </a:lnTo>
                  <a:lnTo>
                    <a:pt x="1170" y="1263"/>
                  </a:lnTo>
                  <a:lnTo>
                    <a:pt x="1204" y="1239"/>
                  </a:lnTo>
                  <a:lnTo>
                    <a:pt x="1248" y="1205"/>
                  </a:lnTo>
                  <a:lnTo>
                    <a:pt x="1315" y="1182"/>
                  </a:lnTo>
                  <a:lnTo>
                    <a:pt x="1347" y="1147"/>
                  </a:lnTo>
                  <a:lnTo>
                    <a:pt x="1369" y="1113"/>
                  </a:lnTo>
                  <a:lnTo>
                    <a:pt x="1437" y="1090"/>
                  </a:lnTo>
                  <a:lnTo>
                    <a:pt x="1481" y="1055"/>
                  </a:lnTo>
                  <a:lnTo>
                    <a:pt x="1558" y="1032"/>
                  </a:lnTo>
                  <a:lnTo>
                    <a:pt x="1602" y="940"/>
                  </a:lnTo>
                  <a:lnTo>
                    <a:pt x="1670" y="917"/>
                  </a:lnTo>
                  <a:lnTo>
                    <a:pt x="1702" y="882"/>
                  </a:lnTo>
                  <a:lnTo>
                    <a:pt x="1724" y="848"/>
                  </a:lnTo>
                  <a:lnTo>
                    <a:pt x="1825" y="813"/>
                  </a:lnTo>
                  <a:lnTo>
                    <a:pt x="1847" y="744"/>
                  </a:lnTo>
                  <a:lnTo>
                    <a:pt x="1891" y="709"/>
                  </a:lnTo>
                  <a:lnTo>
                    <a:pt x="1935" y="675"/>
                  </a:lnTo>
                  <a:lnTo>
                    <a:pt x="1979" y="639"/>
                  </a:lnTo>
                  <a:lnTo>
                    <a:pt x="2013" y="616"/>
                  </a:lnTo>
                  <a:lnTo>
                    <a:pt x="2046" y="581"/>
                  </a:lnTo>
                  <a:lnTo>
                    <a:pt x="2080" y="558"/>
                  </a:lnTo>
                  <a:lnTo>
                    <a:pt x="2112" y="535"/>
                  </a:lnTo>
                  <a:lnTo>
                    <a:pt x="2135" y="512"/>
                  </a:lnTo>
                  <a:lnTo>
                    <a:pt x="2168" y="489"/>
                  </a:lnTo>
                  <a:lnTo>
                    <a:pt x="2202" y="455"/>
                  </a:lnTo>
                  <a:lnTo>
                    <a:pt x="2234" y="432"/>
                  </a:lnTo>
                  <a:lnTo>
                    <a:pt x="2257" y="408"/>
                  </a:lnTo>
                  <a:lnTo>
                    <a:pt x="2290" y="385"/>
                  </a:lnTo>
                  <a:lnTo>
                    <a:pt x="2335" y="362"/>
                  </a:lnTo>
                  <a:lnTo>
                    <a:pt x="2413" y="351"/>
                  </a:lnTo>
                  <a:lnTo>
                    <a:pt x="2445" y="328"/>
                  </a:lnTo>
                  <a:lnTo>
                    <a:pt x="2489" y="316"/>
                  </a:lnTo>
                  <a:lnTo>
                    <a:pt x="2578" y="293"/>
                  </a:lnTo>
                  <a:lnTo>
                    <a:pt x="2601" y="282"/>
                  </a:lnTo>
                  <a:lnTo>
                    <a:pt x="2668" y="270"/>
                  </a:lnTo>
                  <a:lnTo>
                    <a:pt x="2712" y="259"/>
                  </a:lnTo>
                  <a:lnTo>
                    <a:pt x="2789" y="247"/>
                  </a:lnTo>
                  <a:lnTo>
                    <a:pt x="2822" y="236"/>
                  </a:lnTo>
                  <a:lnTo>
                    <a:pt x="2889" y="224"/>
                  </a:lnTo>
                  <a:lnTo>
                    <a:pt x="2955" y="224"/>
                  </a:lnTo>
                  <a:lnTo>
                    <a:pt x="2989" y="224"/>
                  </a:lnTo>
                  <a:lnTo>
                    <a:pt x="3100" y="224"/>
                  </a:lnTo>
                  <a:lnTo>
                    <a:pt x="3188" y="224"/>
                  </a:lnTo>
                  <a:lnTo>
                    <a:pt x="3222" y="224"/>
                  </a:lnTo>
                  <a:lnTo>
                    <a:pt x="3332" y="224"/>
                  </a:lnTo>
                  <a:lnTo>
                    <a:pt x="3421" y="224"/>
                  </a:lnTo>
                  <a:lnTo>
                    <a:pt x="3487" y="224"/>
                  </a:lnTo>
                  <a:lnTo>
                    <a:pt x="3565" y="224"/>
                  </a:lnTo>
                  <a:lnTo>
                    <a:pt x="3676" y="224"/>
                  </a:lnTo>
                  <a:lnTo>
                    <a:pt x="3742" y="224"/>
                  </a:lnTo>
                  <a:lnTo>
                    <a:pt x="3810" y="224"/>
                  </a:lnTo>
                  <a:lnTo>
                    <a:pt x="3887" y="212"/>
                  </a:lnTo>
                  <a:lnTo>
                    <a:pt x="3975" y="201"/>
                  </a:lnTo>
                  <a:lnTo>
                    <a:pt x="4053" y="178"/>
                  </a:lnTo>
                  <a:lnTo>
                    <a:pt x="4087" y="155"/>
                  </a:lnTo>
                  <a:lnTo>
                    <a:pt x="4109" y="120"/>
                  </a:lnTo>
                  <a:lnTo>
                    <a:pt x="4142" y="86"/>
                  </a:lnTo>
                  <a:lnTo>
                    <a:pt x="4153" y="51"/>
                  </a:lnTo>
                  <a:lnTo>
                    <a:pt x="4198" y="0"/>
                  </a:lnTo>
                </a:path>
              </a:pathLst>
            </a:custGeom>
            <a:noFill/>
            <a:ln cap="rnd" w="25560">
              <a:solidFill>
                <a:srgbClr val="c050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877" name="Freeform 6"/>
            <p:cNvSpPr/>
            <p:nvPr/>
          </p:nvSpPr>
          <p:spPr>
            <a:xfrm>
              <a:off x="1228680" y="2975040"/>
              <a:ext cx="6666120" cy="1676160"/>
            </a:xfrm>
            <a:custGeom>
              <a:avLst/>
              <a:gdLst>
                <a:gd name="textAreaLeft" fmla="*/ 0 w 6666120"/>
                <a:gd name="textAreaRight" fmla="*/ 6666480 w 6666120"/>
                <a:gd name="textAreaTop" fmla="*/ 0 h 1676160"/>
                <a:gd name="textAreaBottom" fmla="*/ 1676520 h 1676160"/>
              </a:gdLst>
              <a:ahLst/>
              <a:rect l="textAreaLeft" t="textAreaTop" r="textAreaRight" b="textAreaBottom"/>
              <a:pathLst>
                <a:path w="4199" h="1056">
                  <a:moveTo>
                    <a:pt x="0" y="1051"/>
                  </a:moveTo>
                  <a:lnTo>
                    <a:pt x="72" y="1055"/>
                  </a:lnTo>
                  <a:lnTo>
                    <a:pt x="116" y="1031"/>
                  </a:lnTo>
                  <a:lnTo>
                    <a:pt x="194" y="1008"/>
                  </a:lnTo>
                  <a:lnTo>
                    <a:pt x="239" y="985"/>
                  </a:lnTo>
                  <a:lnTo>
                    <a:pt x="283" y="973"/>
                  </a:lnTo>
                  <a:lnTo>
                    <a:pt x="317" y="962"/>
                  </a:lnTo>
                  <a:lnTo>
                    <a:pt x="349" y="950"/>
                  </a:lnTo>
                  <a:lnTo>
                    <a:pt x="383" y="950"/>
                  </a:lnTo>
                  <a:lnTo>
                    <a:pt x="416" y="950"/>
                  </a:lnTo>
                  <a:lnTo>
                    <a:pt x="449" y="950"/>
                  </a:lnTo>
                  <a:lnTo>
                    <a:pt x="527" y="950"/>
                  </a:lnTo>
                  <a:lnTo>
                    <a:pt x="560" y="939"/>
                  </a:lnTo>
                  <a:lnTo>
                    <a:pt x="594" y="927"/>
                  </a:lnTo>
                  <a:lnTo>
                    <a:pt x="626" y="927"/>
                  </a:lnTo>
                  <a:lnTo>
                    <a:pt x="660" y="927"/>
                  </a:lnTo>
                  <a:lnTo>
                    <a:pt x="704" y="904"/>
                  </a:lnTo>
                  <a:lnTo>
                    <a:pt x="738" y="904"/>
                  </a:lnTo>
                  <a:lnTo>
                    <a:pt x="815" y="893"/>
                  </a:lnTo>
                  <a:lnTo>
                    <a:pt x="849" y="881"/>
                  </a:lnTo>
                  <a:lnTo>
                    <a:pt x="881" y="870"/>
                  </a:lnTo>
                  <a:lnTo>
                    <a:pt x="948" y="870"/>
                  </a:lnTo>
                  <a:lnTo>
                    <a:pt x="1015" y="858"/>
                  </a:lnTo>
                  <a:lnTo>
                    <a:pt x="1104" y="835"/>
                  </a:lnTo>
                  <a:lnTo>
                    <a:pt x="1148" y="823"/>
                  </a:lnTo>
                  <a:lnTo>
                    <a:pt x="1214" y="812"/>
                  </a:lnTo>
                  <a:lnTo>
                    <a:pt x="1292" y="800"/>
                  </a:lnTo>
                  <a:lnTo>
                    <a:pt x="1381" y="789"/>
                  </a:lnTo>
                  <a:lnTo>
                    <a:pt x="1469" y="777"/>
                  </a:lnTo>
                  <a:lnTo>
                    <a:pt x="1503" y="777"/>
                  </a:lnTo>
                  <a:lnTo>
                    <a:pt x="1580" y="777"/>
                  </a:lnTo>
                  <a:lnTo>
                    <a:pt x="1614" y="766"/>
                  </a:lnTo>
                  <a:lnTo>
                    <a:pt x="1646" y="743"/>
                  </a:lnTo>
                  <a:lnTo>
                    <a:pt x="1670" y="731"/>
                  </a:lnTo>
                  <a:lnTo>
                    <a:pt x="1702" y="708"/>
                  </a:lnTo>
                  <a:lnTo>
                    <a:pt x="1736" y="685"/>
                  </a:lnTo>
                  <a:lnTo>
                    <a:pt x="1769" y="674"/>
                  </a:lnTo>
                  <a:lnTo>
                    <a:pt x="1802" y="662"/>
                  </a:lnTo>
                  <a:lnTo>
                    <a:pt x="1847" y="639"/>
                  </a:lnTo>
                  <a:lnTo>
                    <a:pt x="1891" y="639"/>
                  </a:lnTo>
                  <a:lnTo>
                    <a:pt x="1957" y="628"/>
                  </a:lnTo>
                  <a:lnTo>
                    <a:pt x="1991" y="616"/>
                  </a:lnTo>
                  <a:lnTo>
                    <a:pt x="2024" y="604"/>
                  </a:lnTo>
                  <a:lnTo>
                    <a:pt x="2057" y="570"/>
                  </a:lnTo>
                  <a:lnTo>
                    <a:pt x="2135" y="547"/>
                  </a:lnTo>
                  <a:lnTo>
                    <a:pt x="2168" y="524"/>
                  </a:lnTo>
                  <a:lnTo>
                    <a:pt x="2212" y="489"/>
                  </a:lnTo>
                  <a:lnTo>
                    <a:pt x="2246" y="466"/>
                  </a:lnTo>
                  <a:lnTo>
                    <a:pt x="2279" y="443"/>
                  </a:lnTo>
                  <a:lnTo>
                    <a:pt x="2312" y="420"/>
                  </a:lnTo>
                  <a:lnTo>
                    <a:pt x="2357" y="408"/>
                  </a:lnTo>
                  <a:lnTo>
                    <a:pt x="2401" y="374"/>
                  </a:lnTo>
                  <a:lnTo>
                    <a:pt x="2435" y="362"/>
                  </a:lnTo>
                  <a:lnTo>
                    <a:pt x="2467" y="339"/>
                  </a:lnTo>
                  <a:lnTo>
                    <a:pt x="2512" y="328"/>
                  </a:lnTo>
                  <a:lnTo>
                    <a:pt x="2545" y="316"/>
                  </a:lnTo>
                  <a:lnTo>
                    <a:pt x="2578" y="305"/>
                  </a:lnTo>
                  <a:lnTo>
                    <a:pt x="2601" y="293"/>
                  </a:lnTo>
                  <a:lnTo>
                    <a:pt x="2690" y="282"/>
                  </a:lnTo>
                  <a:lnTo>
                    <a:pt x="2722" y="282"/>
                  </a:lnTo>
                  <a:lnTo>
                    <a:pt x="2822" y="270"/>
                  </a:lnTo>
                  <a:lnTo>
                    <a:pt x="2889" y="270"/>
                  </a:lnTo>
                  <a:lnTo>
                    <a:pt x="2923" y="270"/>
                  </a:lnTo>
                  <a:lnTo>
                    <a:pt x="2955" y="270"/>
                  </a:lnTo>
                  <a:lnTo>
                    <a:pt x="2989" y="270"/>
                  </a:lnTo>
                  <a:lnTo>
                    <a:pt x="3089" y="259"/>
                  </a:lnTo>
                  <a:lnTo>
                    <a:pt x="3155" y="259"/>
                  </a:lnTo>
                  <a:lnTo>
                    <a:pt x="3266" y="259"/>
                  </a:lnTo>
                  <a:lnTo>
                    <a:pt x="3377" y="259"/>
                  </a:lnTo>
                  <a:lnTo>
                    <a:pt x="3465" y="259"/>
                  </a:lnTo>
                  <a:lnTo>
                    <a:pt x="3555" y="259"/>
                  </a:lnTo>
                  <a:lnTo>
                    <a:pt x="3621" y="259"/>
                  </a:lnTo>
                  <a:lnTo>
                    <a:pt x="3688" y="259"/>
                  </a:lnTo>
                  <a:lnTo>
                    <a:pt x="3720" y="247"/>
                  </a:lnTo>
                  <a:lnTo>
                    <a:pt x="3754" y="247"/>
                  </a:lnTo>
                  <a:lnTo>
                    <a:pt x="3788" y="224"/>
                  </a:lnTo>
                  <a:lnTo>
                    <a:pt x="3876" y="212"/>
                  </a:lnTo>
                  <a:lnTo>
                    <a:pt x="3909" y="201"/>
                  </a:lnTo>
                  <a:lnTo>
                    <a:pt x="3998" y="166"/>
                  </a:lnTo>
                  <a:lnTo>
                    <a:pt x="4043" y="132"/>
                  </a:lnTo>
                  <a:lnTo>
                    <a:pt x="4075" y="109"/>
                  </a:lnTo>
                  <a:lnTo>
                    <a:pt x="4109" y="86"/>
                  </a:lnTo>
                  <a:lnTo>
                    <a:pt x="4142" y="51"/>
                  </a:lnTo>
                  <a:lnTo>
                    <a:pt x="4164" y="17"/>
                  </a:lnTo>
                  <a:lnTo>
                    <a:pt x="4198" y="0"/>
                  </a:lnTo>
                </a:path>
              </a:pathLst>
            </a:custGeom>
            <a:noFill/>
            <a:ln cap="rnd" w="507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878" name="Freeform 7"/>
            <p:cNvSpPr/>
            <p:nvPr/>
          </p:nvSpPr>
          <p:spPr>
            <a:xfrm>
              <a:off x="1228680" y="3040200"/>
              <a:ext cx="6666120" cy="1282680"/>
            </a:xfrm>
            <a:custGeom>
              <a:avLst/>
              <a:gdLst>
                <a:gd name="textAreaLeft" fmla="*/ 0 w 6666120"/>
                <a:gd name="textAreaRight" fmla="*/ 6666480 w 6666120"/>
                <a:gd name="textAreaTop" fmla="*/ 0 h 1282680"/>
                <a:gd name="textAreaBottom" fmla="*/ 1283040 h 1282680"/>
              </a:gdLst>
              <a:ahLst/>
              <a:rect l="textAreaLeft" t="textAreaTop" r="textAreaRight" b="textAreaBottom"/>
              <a:pathLst>
                <a:path w="4199" h="808">
                  <a:moveTo>
                    <a:pt x="0" y="800"/>
                  </a:moveTo>
                  <a:lnTo>
                    <a:pt x="62" y="807"/>
                  </a:lnTo>
                  <a:lnTo>
                    <a:pt x="106" y="782"/>
                  </a:lnTo>
                  <a:lnTo>
                    <a:pt x="139" y="748"/>
                  </a:lnTo>
                  <a:lnTo>
                    <a:pt x="183" y="748"/>
                  </a:lnTo>
                  <a:lnTo>
                    <a:pt x="217" y="736"/>
                  </a:lnTo>
                  <a:lnTo>
                    <a:pt x="261" y="725"/>
                  </a:lnTo>
                  <a:lnTo>
                    <a:pt x="295" y="702"/>
                  </a:lnTo>
                  <a:lnTo>
                    <a:pt x="361" y="690"/>
                  </a:lnTo>
                  <a:lnTo>
                    <a:pt x="394" y="679"/>
                  </a:lnTo>
                  <a:lnTo>
                    <a:pt x="427" y="656"/>
                  </a:lnTo>
                  <a:lnTo>
                    <a:pt x="505" y="656"/>
                  </a:lnTo>
                  <a:lnTo>
                    <a:pt x="538" y="656"/>
                  </a:lnTo>
                  <a:lnTo>
                    <a:pt x="572" y="656"/>
                  </a:lnTo>
                  <a:lnTo>
                    <a:pt x="604" y="656"/>
                  </a:lnTo>
                  <a:lnTo>
                    <a:pt x="638" y="656"/>
                  </a:lnTo>
                  <a:lnTo>
                    <a:pt x="727" y="644"/>
                  </a:lnTo>
                  <a:lnTo>
                    <a:pt x="859" y="644"/>
                  </a:lnTo>
                  <a:lnTo>
                    <a:pt x="926" y="644"/>
                  </a:lnTo>
                  <a:lnTo>
                    <a:pt x="959" y="633"/>
                  </a:lnTo>
                  <a:lnTo>
                    <a:pt x="993" y="621"/>
                  </a:lnTo>
                  <a:lnTo>
                    <a:pt x="1026" y="610"/>
                  </a:lnTo>
                  <a:lnTo>
                    <a:pt x="1136" y="610"/>
                  </a:lnTo>
                  <a:lnTo>
                    <a:pt x="1248" y="610"/>
                  </a:lnTo>
                  <a:lnTo>
                    <a:pt x="1381" y="610"/>
                  </a:lnTo>
                  <a:lnTo>
                    <a:pt x="1492" y="610"/>
                  </a:lnTo>
                  <a:lnTo>
                    <a:pt x="1558" y="610"/>
                  </a:lnTo>
                  <a:lnTo>
                    <a:pt x="1636" y="610"/>
                  </a:lnTo>
                  <a:lnTo>
                    <a:pt x="1702" y="598"/>
                  </a:lnTo>
                  <a:lnTo>
                    <a:pt x="1736" y="588"/>
                  </a:lnTo>
                  <a:lnTo>
                    <a:pt x="1825" y="575"/>
                  </a:lnTo>
                  <a:lnTo>
                    <a:pt x="1857" y="563"/>
                  </a:lnTo>
                  <a:lnTo>
                    <a:pt x="1891" y="563"/>
                  </a:lnTo>
                  <a:lnTo>
                    <a:pt x="1935" y="552"/>
                  </a:lnTo>
                  <a:lnTo>
                    <a:pt x="1969" y="529"/>
                  </a:lnTo>
                  <a:lnTo>
                    <a:pt x="2002" y="517"/>
                  </a:lnTo>
                  <a:lnTo>
                    <a:pt x="2035" y="506"/>
                  </a:lnTo>
                  <a:lnTo>
                    <a:pt x="2068" y="494"/>
                  </a:lnTo>
                  <a:lnTo>
                    <a:pt x="2146" y="471"/>
                  </a:lnTo>
                  <a:lnTo>
                    <a:pt x="2212" y="471"/>
                  </a:lnTo>
                  <a:lnTo>
                    <a:pt x="2257" y="448"/>
                  </a:lnTo>
                  <a:lnTo>
                    <a:pt x="2290" y="425"/>
                  </a:lnTo>
                  <a:lnTo>
                    <a:pt x="2323" y="402"/>
                  </a:lnTo>
                  <a:lnTo>
                    <a:pt x="2390" y="392"/>
                  </a:lnTo>
                  <a:lnTo>
                    <a:pt x="2423" y="367"/>
                  </a:lnTo>
                  <a:lnTo>
                    <a:pt x="2457" y="356"/>
                  </a:lnTo>
                  <a:lnTo>
                    <a:pt x="2489" y="321"/>
                  </a:lnTo>
                  <a:lnTo>
                    <a:pt x="2556" y="310"/>
                  </a:lnTo>
                  <a:lnTo>
                    <a:pt x="2601" y="287"/>
                  </a:lnTo>
                  <a:lnTo>
                    <a:pt x="2634" y="264"/>
                  </a:lnTo>
                  <a:lnTo>
                    <a:pt x="2668" y="252"/>
                  </a:lnTo>
                  <a:lnTo>
                    <a:pt x="2756" y="241"/>
                  </a:lnTo>
                  <a:lnTo>
                    <a:pt x="2822" y="241"/>
                  </a:lnTo>
                  <a:lnTo>
                    <a:pt x="2856" y="229"/>
                  </a:lnTo>
                  <a:lnTo>
                    <a:pt x="2945" y="229"/>
                  </a:lnTo>
                  <a:lnTo>
                    <a:pt x="3033" y="229"/>
                  </a:lnTo>
                  <a:lnTo>
                    <a:pt x="3067" y="229"/>
                  </a:lnTo>
                  <a:lnTo>
                    <a:pt x="3100" y="218"/>
                  </a:lnTo>
                  <a:lnTo>
                    <a:pt x="3188" y="218"/>
                  </a:lnTo>
                  <a:lnTo>
                    <a:pt x="3277" y="218"/>
                  </a:lnTo>
                  <a:lnTo>
                    <a:pt x="3310" y="218"/>
                  </a:lnTo>
                  <a:lnTo>
                    <a:pt x="3377" y="218"/>
                  </a:lnTo>
                  <a:lnTo>
                    <a:pt x="3410" y="218"/>
                  </a:lnTo>
                  <a:lnTo>
                    <a:pt x="3521" y="218"/>
                  </a:lnTo>
                  <a:lnTo>
                    <a:pt x="3610" y="218"/>
                  </a:lnTo>
                  <a:lnTo>
                    <a:pt x="3643" y="218"/>
                  </a:lnTo>
                  <a:lnTo>
                    <a:pt x="3710" y="218"/>
                  </a:lnTo>
                  <a:lnTo>
                    <a:pt x="3776" y="218"/>
                  </a:lnTo>
                  <a:lnTo>
                    <a:pt x="3810" y="218"/>
                  </a:lnTo>
                  <a:lnTo>
                    <a:pt x="3854" y="218"/>
                  </a:lnTo>
                  <a:lnTo>
                    <a:pt x="3898" y="206"/>
                  </a:lnTo>
                  <a:lnTo>
                    <a:pt x="3965" y="196"/>
                  </a:lnTo>
                  <a:lnTo>
                    <a:pt x="4009" y="171"/>
                  </a:lnTo>
                  <a:lnTo>
                    <a:pt x="4043" y="137"/>
                  </a:lnTo>
                  <a:lnTo>
                    <a:pt x="4075" y="114"/>
                  </a:lnTo>
                  <a:lnTo>
                    <a:pt x="4109" y="91"/>
                  </a:lnTo>
                  <a:lnTo>
                    <a:pt x="4142" y="68"/>
                  </a:lnTo>
                  <a:lnTo>
                    <a:pt x="4175" y="33"/>
                  </a:lnTo>
                  <a:lnTo>
                    <a:pt x="4186" y="0"/>
                  </a:lnTo>
                  <a:lnTo>
                    <a:pt x="4198" y="12"/>
                  </a:lnTo>
                </a:path>
              </a:pathLst>
            </a:custGeom>
            <a:noFill/>
            <a:ln cap="rnd" w="5076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grpSp>
          <p:nvGrpSpPr>
            <p:cNvPr id="879" name="Group 10"/>
            <p:cNvGrpSpPr/>
            <p:nvPr/>
          </p:nvGrpSpPr>
          <p:grpSpPr>
            <a:xfrm>
              <a:off x="1228680" y="2057400"/>
              <a:ext cx="7305840" cy="4091040"/>
              <a:chOff x="1228680" y="2057400"/>
              <a:chExt cx="7305840" cy="4091040"/>
            </a:xfrm>
          </p:grpSpPr>
          <p:sp>
            <p:nvSpPr>
              <p:cNvPr id="880" name="Line 8"/>
              <p:cNvSpPr/>
              <p:nvPr/>
            </p:nvSpPr>
            <p:spPr>
              <a:xfrm>
                <a:off x="1228680" y="2057400"/>
                <a:ext cx="0" cy="40910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f81bd"/>
                  </a:solidFill>
                  <a:latin typeface="Times New Roman"/>
                </a:endParaRPr>
              </a:p>
            </p:txBody>
          </p:sp>
          <p:sp>
            <p:nvSpPr>
              <p:cNvPr id="881" name="Line 9"/>
              <p:cNvSpPr/>
              <p:nvPr/>
            </p:nvSpPr>
            <p:spPr>
              <a:xfrm>
                <a:off x="1228680" y="6148440"/>
                <a:ext cx="73058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f81bd"/>
                  </a:solidFill>
                  <a:latin typeface="Times New Roman"/>
                </a:endParaRPr>
              </a:p>
            </p:txBody>
          </p:sp>
        </p:grpSp>
        <p:sp>
          <p:nvSpPr>
            <p:cNvPr id="882" name="Rectangle 11"/>
            <p:cNvSpPr/>
            <p:nvPr/>
          </p:nvSpPr>
          <p:spPr>
            <a:xfrm rot="16200000">
              <a:off x="448200" y="4488120"/>
              <a:ext cx="21679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Recombination</a:t>
              </a: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883" name="Rectangle 12"/>
            <p:cNvSpPr/>
            <p:nvPr/>
          </p:nvSpPr>
          <p:spPr>
            <a:xfrm rot="16200000">
              <a:off x="1618200" y="4777560"/>
              <a:ext cx="15080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Ionization</a:t>
              </a: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884" name="Rectangle 13"/>
            <p:cNvSpPr/>
            <p:nvPr/>
          </p:nvSpPr>
          <p:spPr>
            <a:xfrm rot="16200000">
              <a:off x="3517200" y="4302000"/>
              <a:ext cx="29739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Limited Proportional</a:t>
              </a: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885" name="Rectangle 14"/>
            <p:cNvSpPr/>
            <p:nvPr/>
          </p:nvSpPr>
          <p:spPr>
            <a:xfrm rot="16200000">
              <a:off x="2717280" y="4620600"/>
              <a:ext cx="18630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roportional</a:t>
              </a: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886" name="Rectangle 15"/>
            <p:cNvSpPr/>
            <p:nvPr/>
          </p:nvSpPr>
          <p:spPr>
            <a:xfrm rot="16200000">
              <a:off x="5075640" y="4486320"/>
              <a:ext cx="21783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Geiger Mueller</a:t>
              </a: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887" name="Rectangle 16"/>
            <p:cNvSpPr/>
            <p:nvPr/>
          </p:nvSpPr>
          <p:spPr>
            <a:xfrm rot="16200000">
              <a:off x="-763200" y="4162320"/>
              <a:ext cx="29815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Number of Ions Collected</a:t>
              </a:r>
              <a:endParaRPr b="0" lang="en-US" sz="20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888" name="Rectangle 17"/>
            <p:cNvSpPr/>
            <p:nvPr/>
          </p:nvSpPr>
          <p:spPr>
            <a:xfrm rot="16200000">
              <a:off x="5877360" y="4217400"/>
              <a:ext cx="30729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ontinuous Discharge</a:t>
              </a: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889" name="Line 18"/>
            <p:cNvSpPr/>
            <p:nvPr/>
          </p:nvSpPr>
          <p:spPr>
            <a:xfrm flipV="1">
              <a:off x="1870200" y="2055600"/>
              <a:ext cx="0" cy="4090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890" name="Line 19"/>
            <p:cNvSpPr/>
            <p:nvPr/>
          </p:nvSpPr>
          <p:spPr>
            <a:xfrm flipV="1">
              <a:off x="2913120" y="2055600"/>
              <a:ext cx="0" cy="4090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891" name="Line 20"/>
            <p:cNvSpPr/>
            <p:nvPr/>
          </p:nvSpPr>
          <p:spPr>
            <a:xfrm flipV="1">
              <a:off x="4519440" y="2055600"/>
              <a:ext cx="0" cy="4090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892" name="Line 21"/>
            <p:cNvSpPr/>
            <p:nvPr/>
          </p:nvSpPr>
          <p:spPr>
            <a:xfrm flipV="1">
              <a:off x="5564160" y="2055600"/>
              <a:ext cx="0" cy="4090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893" name="Line 22"/>
            <p:cNvSpPr/>
            <p:nvPr/>
          </p:nvSpPr>
          <p:spPr>
            <a:xfrm flipV="1">
              <a:off x="6848640" y="2055600"/>
              <a:ext cx="0" cy="4090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894" name="Rectangle 23"/>
            <p:cNvSpPr/>
            <p:nvPr/>
          </p:nvSpPr>
          <p:spPr>
            <a:xfrm>
              <a:off x="4178520" y="6346800"/>
              <a:ext cx="10216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Voltage</a:t>
              </a:r>
              <a:endParaRPr b="0" lang="en-US" sz="20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</p:grpSp>
      <p:grpSp>
        <p:nvGrpSpPr>
          <p:cNvPr id="895" name="Group 30"/>
          <p:cNvGrpSpPr/>
          <p:nvPr/>
        </p:nvGrpSpPr>
        <p:grpSpPr>
          <a:xfrm>
            <a:off x="287280" y="1706400"/>
            <a:ext cx="8170920" cy="397440"/>
            <a:chOff x="287280" y="1706400"/>
            <a:chExt cx="8170920" cy="397440"/>
          </a:xfrm>
        </p:grpSpPr>
        <p:sp>
          <p:nvSpPr>
            <p:cNvPr id="896" name="Rectangle 25"/>
            <p:cNvSpPr/>
            <p:nvPr/>
          </p:nvSpPr>
          <p:spPr>
            <a:xfrm>
              <a:off x="287280" y="1706400"/>
              <a:ext cx="73918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Fission product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lpha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eta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amma</a:t>
              </a:r>
              <a:endParaRPr b="0" lang="en-US" sz="20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897" name="Line 26"/>
            <p:cNvSpPr/>
            <p:nvPr/>
          </p:nvSpPr>
          <p:spPr>
            <a:xfrm>
              <a:off x="2057400" y="1905120"/>
              <a:ext cx="762120" cy="0"/>
            </a:xfrm>
            <a:prstGeom prst="line">
              <a:avLst/>
            </a:prstGeom>
            <a:ln w="7632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898" name="Line 27"/>
            <p:cNvSpPr/>
            <p:nvPr/>
          </p:nvSpPr>
          <p:spPr>
            <a:xfrm>
              <a:off x="3886200" y="1905120"/>
              <a:ext cx="762120" cy="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899" name="Line 28"/>
            <p:cNvSpPr/>
            <p:nvPr/>
          </p:nvSpPr>
          <p:spPr>
            <a:xfrm>
              <a:off x="5562720" y="1905120"/>
              <a:ext cx="761760" cy="0"/>
            </a:xfrm>
            <a:prstGeom prst="line">
              <a:avLst/>
            </a:prstGeom>
            <a:ln w="1260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900" name="Line 29"/>
            <p:cNvSpPr/>
            <p:nvPr/>
          </p:nvSpPr>
          <p:spPr>
            <a:xfrm>
              <a:off x="7696080" y="1905120"/>
              <a:ext cx="762120" cy="0"/>
            </a:xfrm>
            <a:prstGeom prst="line">
              <a:avLst/>
            </a:prstGeom>
            <a:ln w="1260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Rectangle 2"/>
          <p:cNvSpPr/>
          <p:nvPr/>
        </p:nvSpPr>
        <p:spPr>
          <a:xfrm>
            <a:off x="1676520" y="304920"/>
            <a:ext cx="640080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4f81bd"/>
                </a:solidFill>
                <a:latin typeface="Times New Roman"/>
              </a:rPr>
              <a:t>RO-2, 2A</a:t>
            </a:r>
            <a:endParaRPr b="0" lang="en-US" sz="6000" spc="-1" strike="noStrike">
              <a:solidFill>
                <a:srgbClr val="4f81bd"/>
              </a:solidFill>
              <a:latin typeface="Times New Roman"/>
            </a:endParaRPr>
          </a:p>
        </p:txBody>
      </p:sp>
      <p:sp>
        <p:nvSpPr>
          <p:cNvPr id="902" name="Rectangle 3"/>
          <p:cNvSpPr/>
          <p:nvPr/>
        </p:nvSpPr>
        <p:spPr>
          <a:xfrm>
            <a:off x="2133720" y="5792760"/>
            <a:ext cx="50292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4f81bd"/>
                </a:solidFill>
                <a:latin typeface="Times New Roman"/>
              </a:rPr>
              <a:t>Ion Chamber</a:t>
            </a:r>
            <a:endParaRPr b="0" lang="en-US" sz="5400" spc="-1" strike="noStrike">
              <a:solidFill>
                <a:srgbClr val="4f81bd"/>
              </a:solidFill>
              <a:latin typeface="Times New Roman"/>
            </a:endParaRPr>
          </a:p>
        </p:txBody>
      </p:sp>
      <p:pic>
        <p:nvPicPr>
          <p:cNvPr id="903" name="Picture 4" descr=""/>
          <p:cNvPicPr/>
          <p:nvPr/>
        </p:nvPicPr>
        <p:blipFill>
          <a:blip r:embed="rId1"/>
          <a:stretch/>
        </p:blipFill>
        <p:spPr>
          <a:xfrm>
            <a:off x="2976480" y="1143000"/>
            <a:ext cx="3360960" cy="481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Rectangle 2"/>
          <p:cNvSpPr/>
          <p:nvPr/>
        </p:nvSpPr>
        <p:spPr>
          <a:xfrm>
            <a:off x="1676520" y="304920"/>
            <a:ext cx="640080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4f81bd"/>
                </a:solidFill>
                <a:latin typeface="Times New Roman"/>
              </a:rPr>
              <a:t>RO-7</a:t>
            </a:r>
            <a:endParaRPr b="0" lang="en-US" sz="6000" spc="-1" strike="noStrike">
              <a:solidFill>
                <a:srgbClr val="4f81bd"/>
              </a:solidFill>
              <a:latin typeface="Times New Roman"/>
            </a:endParaRPr>
          </a:p>
        </p:txBody>
      </p:sp>
      <p:sp>
        <p:nvSpPr>
          <p:cNvPr id="905" name="Rectangle 3"/>
          <p:cNvSpPr/>
          <p:nvPr/>
        </p:nvSpPr>
        <p:spPr>
          <a:xfrm>
            <a:off x="2133720" y="5792760"/>
            <a:ext cx="50292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4f81bd"/>
                </a:solidFill>
                <a:latin typeface="Times New Roman"/>
              </a:rPr>
              <a:t>Ion Chamber</a:t>
            </a:r>
            <a:endParaRPr b="0" lang="en-US" sz="5400" spc="-1" strike="noStrike">
              <a:solidFill>
                <a:srgbClr val="4f81bd"/>
              </a:solidFill>
              <a:latin typeface="Times New Roman"/>
            </a:endParaRPr>
          </a:p>
        </p:txBody>
      </p:sp>
      <p:pic>
        <p:nvPicPr>
          <p:cNvPr id="906" name="Picture 4" descr=""/>
          <p:cNvPicPr/>
          <p:nvPr/>
        </p:nvPicPr>
        <p:blipFill>
          <a:blip r:embed="rId1"/>
          <a:stretch/>
        </p:blipFill>
        <p:spPr>
          <a:xfrm>
            <a:off x="1905120" y="1152360"/>
            <a:ext cx="5575320" cy="462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Rectangle 2"/>
          <p:cNvSpPr/>
          <p:nvPr/>
        </p:nvSpPr>
        <p:spPr>
          <a:xfrm>
            <a:off x="1219320" y="304920"/>
            <a:ext cx="708660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4f81bd"/>
                </a:solidFill>
                <a:latin typeface="Times New Roman"/>
              </a:rPr>
              <a:t>RSO-50E, 5, 50, 500</a:t>
            </a:r>
            <a:endParaRPr b="0" lang="en-US" sz="6000" spc="-1" strike="noStrike">
              <a:solidFill>
                <a:srgbClr val="4f81bd"/>
              </a:solidFill>
              <a:latin typeface="Times New Roman"/>
            </a:endParaRPr>
          </a:p>
        </p:txBody>
      </p:sp>
      <p:sp>
        <p:nvSpPr>
          <p:cNvPr id="908" name="Rectangle 3"/>
          <p:cNvSpPr/>
          <p:nvPr/>
        </p:nvSpPr>
        <p:spPr>
          <a:xfrm>
            <a:off x="2133720" y="5792760"/>
            <a:ext cx="50292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4f81bd"/>
                </a:solidFill>
                <a:latin typeface="Times New Roman"/>
              </a:rPr>
              <a:t>Ion Chamber</a:t>
            </a:r>
            <a:endParaRPr b="0" lang="en-US" sz="5400" spc="-1" strike="noStrike">
              <a:solidFill>
                <a:srgbClr val="4f81bd"/>
              </a:solidFill>
              <a:latin typeface="Times New Roman"/>
            </a:endParaRPr>
          </a:p>
        </p:txBody>
      </p:sp>
      <p:pic>
        <p:nvPicPr>
          <p:cNvPr id="909" name="Picture 4" descr=""/>
          <p:cNvPicPr/>
          <p:nvPr/>
        </p:nvPicPr>
        <p:blipFill>
          <a:blip r:embed="rId1"/>
          <a:stretch/>
        </p:blipFill>
        <p:spPr>
          <a:xfrm>
            <a:off x="2438280" y="1135080"/>
            <a:ext cx="4413240" cy="474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Rectangle 2"/>
          <p:cNvSpPr/>
          <p:nvPr/>
        </p:nvSpPr>
        <p:spPr>
          <a:xfrm>
            <a:off x="914400" y="304920"/>
            <a:ext cx="746748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4f81bd"/>
                </a:solidFill>
                <a:latin typeface="Times New Roman"/>
              </a:rPr>
              <a:t>PCM-1B</a:t>
            </a:r>
            <a:endParaRPr b="0" lang="en-US" sz="6000" spc="-1" strike="noStrike">
              <a:solidFill>
                <a:srgbClr val="4f81bd"/>
              </a:solidFill>
              <a:latin typeface="Times New Roman"/>
            </a:endParaRPr>
          </a:p>
        </p:txBody>
      </p:sp>
      <p:sp>
        <p:nvSpPr>
          <p:cNvPr id="911" name="Rectangle 3"/>
          <p:cNvSpPr/>
          <p:nvPr/>
        </p:nvSpPr>
        <p:spPr>
          <a:xfrm>
            <a:off x="762120" y="5869080"/>
            <a:ext cx="769608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4f81bd"/>
                </a:solidFill>
                <a:latin typeface="Times New Roman"/>
              </a:rPr>
              <a:t>Gas Proportional</a:t>
            </a:r>
            <a:endParaRPr b="0" lang="en-US" sz="5400" spc="-1" strike="noStrike">
              <a:solidFill>
                <a:srgbClr val="4f81bd"/>
              </a:solidFill>
              <a:latin typeface="Times New Roman"/>
            </a:endParaRPr>
          </a:p>
        </p:txBody>
      </p:sp>
      <p:pic>
        <p:nvPicPr>
          <p:cNvPr id="912" name="Picture 4" descr=""/>
          <p:cNvPicPr/>
          <p:nvPr/>
        </p:nvPicPr>
        <p:blipFill>
          <a:blip r:embed="rId1"/>
          <a:stretch/>
        </p:blipFill>
        <p:spPr>
          <a:xfrm>
            <a:off x="3429000" y="1295280"/>
            <a:ext cx="2527200" cy="464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5-28T16:34:56Z</dcterms:created>
  <dc:creator>Kerr, Sue Ann</dc:creator>
  <dc:description/>
  <dc:language>en-US</dc:language>
  <cp:lastModifiedBy>Peggy Hines IRSC</cp:lastModifiedBy>
  <cp:lastPrinted>2003-10-28T18:50:13Z</cp:lastPrinted>
  <dcterms:modified xsi:type="dcterms:W3CDTF">2013-04-15T17:15:00Z</dcterms:modified>
  <cp:revision>31</cp:revision>
  <dc:subject/>
  <dc:title>No Slide Title</dc:title>
</cp:coreProperties>
</file>