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  <p:sldId id="320" r:id="rId84"/>
    <p:sldId id="321" r:id="rId85"/>
    <p:sldId id="322" r:id="rId86"/>
    <p:sldId id="323" r:id="rId87"/>
    <p:sldId id="324" r:id="rId88"/>
    <p:sldId id="325" r:id="rId89"/>
    <p:sldId id="326" r:id="rId90"/>
    <p:sldId id="327" r:id="rId91"/>
    <p:sldId id="328" r:id="rId92"/>
    <p:sldId id="329" r:id="rId93"/>
    <p:sldId id="330" r:id="rId94"/>
    <p:sldId id="331" r:id="rId95"/>
    <p:sldId id="332" r:id="rId96"/>
    <p:sldId id="333" r:id="rId97"/>
    <p:sldId id="334" r:id="rId98"/>
    <p:sldId id="335" r:id="rId99"/>
    <p:sldId id="336" r:id="rId100"/>
    <p:sldId id="337" r:id="rId101"/>
    <p:sldId id="338" r:id="rId102"/>
    <p:sldId id="339" r:id="rId103"/>
    <p:sldId id="340" r:id="rId104"/>
    <p:sldId id="341" r:id="rId105"/>
    <p:sldId id="342" r:id="rId106"/>
    <p:sldId id="343" r:id="rId107"/>
    <p:sldId id="344" r:id="rId108"/>
    <p:sldId id="345" r:id="rId109"/>
    <p:sldId id="346" r:id="rId110"/>
    <p:sldId id="347" r:id="rId111"/>
    <p:sldId id="348" r:id="rId112"/>
    <p:sldId id="349" r:id="rId113"/>
    <p:sldId id="350" r:id="rId114"/>
    <p:sldId id="351" r:id="rId115"/>
    <p:sldId id="352" r:id="rId116"/>
    <p:sldId id="353" r:id="rId117"/>
    <p:sldId id="354" r:id="rId118"/>
    <p:sldId id="355" r:id="rId119"/>
    <p:sldId id="356" r:id="rId120"/>
    <p:sldId id="357" r:id="rId121"/>
    <p:sldId id="358" r:id="rId122"/>
    <p:sldId id="359" r:id="rId123"/>
    <p:sldId id="360" r:id="rId124"/>
    <p:sldId id="361" r:id="rId125"/>
    <p:sldId id="362" r:id="rId126"/>
    <p:sldId id="363" r:id="rId127"/>
    <p:sldId id="364" r:id="rId128"/>
    <p:sldId id="365" r:id="rId129"/>
    <p:sldId id="366" r:id="rId130"/>
    <p:sldId id="367" r:id="rId1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slide" Target="slides/slide65.xml"/><Relationship Id="rId85" Type="http://schemas.openxmlformats.org/officeDocument/2006/relationships/slide" Target="slides/slide66.xml"/><Relationship Id="rId86" Type="http://schemas.openxmlformats.org/officeDocument/2006/relationships/slide" Target="slides/slide67.xml"/><Relationship Id="rId87" Type="http://schemas.openxmlformats.org/officeDocument/2006/relationships/slide" Target="slides/slide68.xml"/><Relationship Id="rId88" Type="http://schemas.openxmlformats.org/officeDocument/2006/relationships/slide" Target="slides/slide69.xml"/><Relationship Id="rId89" Type="http://schemas.openxmlformats.org/officeDocument/2006/relationships/slide" Target="slides/slide70.xml"/><Relationship Id="rId90" Type="http://schemas.openxmlformats.org/officeDocument/2006/relationships/slide" Target="slides/slide71.xml"/><Relationship Id="rId91" Type="http://schemas.openxmlformats.org/officeDocument/2006/relationships/slide" Target="slides/slide72.xml"/><Relationship Id="rId92" Type="http://schemas.openxmlformats.org/officeDocument/2006/relationships/slide" Target="slides/slide73.xml"/><Relationship Id="rId93" Type="http://schemas.openxmlformats.org/officeDocument/2006/relationships/slide" Target="slides/slide74.xml"/><Relationship Id="rId94" Type="http://schemas.openxmlformats.org/officeDocument/2006/relationships/slide" Target="slides/slide75.xml"/><Relationship Id="rId95" Type="http://schemas.openxmlformats.org/officeDocument/2006/relationships/slide" Target="slides/slide76.xml"/><Relationship Id="rId96" Type="http://schemas.openxmlformats.org/officeDocument/2006/relationships/slide" Target="slides/slide77.xml"/><Relationship Id="rId97" Type="http://schemas.openxmlformats.org/officeDocument/2006/relationships/slide" Target="slides/slide78.xml"/><Relationship Id="rId98" Type="http://schemas.openxmlformats.org/officeDocument/2006/relationships/slide" Target="slides/slide79.xml"/><Relationship Id="rId99" Type="http://schemas.openxmlformats.org/officeDocument/2006/relationships/slide" Target="slides/slide80.xml"/><Relationship Id="rId100" Type="http://schemas.openxmlformats.org/officeDocument/2006/relationships/slide" Target="slides/slide81.xml"/><Relationship Id="rId101" Type="http://schemas.openxmlformats.org/officeDocument/2006/relationships/slide" Target="slides/slide82.xml"/><Relationship Id="rId102" Type="http://schemas.openxmlformats.org/officeDocument/2006/relationships/slide" Target="slides/slide83.xml"/><Relationship Id="rId103" Type="http://schemas.openxmlformats.org/officeDocument/2006/relationships/slide" Target="slides/slide84.xml"/><Relationship Id="rId104" Type="http://schemas.openxmlformats.org/officeDocument/2006/relationships/slide" Target="slides/slide85.xml"/><Relationship Id="rId105" Type="http://schemas.openxmlformats.org/officeDocument/2006/relationships/slide" Target="slides/slide86.xml"/><Relationship Id="rId106" Type="http://schemas.openxmlformats.org/officeDocument/2006/relationships/slide" Target="slides/slide87.xml"/><Relationship Id="rId107" Type="http://schemas.openxmlformats.org/officeDocument/2006/relationships/slide" Target="slides/slide88.xml"/><Relationship Id="rId108" Type="http://schemas.openxmlformats.org/officeDocument/2006/relationships/slide" Target="slides/slide89.xml"/><Relationship Id="rId109" Type="http://schemas.openxmlformats.org/officeDocument/2006/relationships/slide" Target="slides/slide90.xml"/><Relationship Id="rId110" Type="http://schemas.openxmlformats.org/officeDocument/2006/relationships/slide" Target="slides/slide91.xml"/><Relationship Id="rId111" Type="http://schemas.openxmlformats.org/officeDocument/2006/relationships/slide" Target="slides/slide92.xml"/><Relationship Id="rId112" Type="http://schemas.openxmlformats.org/officeDocument/2006/relationships/slide" Target="slides/slide93.xml"/><Relationship Id="rId113" Type="http://schemas.openxmlformats.org/officeDocument/2006/relationships/slide" Target="slides/slide94.xml"/><Relationship Id="rId114" Type="http://schemas.openxmlformats.org/officeDocument/2006/relationships/slide" Target="slides/slide95.xml"/><Relationship Id="rId115" Type="http://schemas.openxmlformats.org/officeDocument/2006/relationships/slide" Target="slides/slide96.xml"/><Relationship Id="rId116" Type="http://schemas.openxmlformats.org/officeDocument/2006/relationships/slide" Target="slides/slide97.xml"/><Relationship Id="rId117" Type="http://schemas.openxmlformats.org/officeDocument/2006/relationships/slide" Target="slides/slide98.xml"/><Relationship Id="rId118" Type="http://schemas.openxmlformats.org/officeDocument/2006/relationships/slide" Target="slides/slide99.xml"/><Relationship Id="rId119" Type="http://schemas.openxmlformats.org/officeDocument/2006/relationships/slide" Target="slides/slide100.xml"/><Relationship Id="rId120" Type="http://schemas.openxmlformats.org/officeDocument/2006/relationships/slide" Target="slides/slide101.xml"/><Relationship Id="rId121" Type="http://schemas.openxmlformats.org/officeDocument/2006/relationships/slide" Target="slides/slide102.xml"/><Relationship Id="rId122" Type="http://schemas.openxmlformats.org/officeDocument/2006/relationships/slide" Target="slides/slide103.xml"/><Relationship Id="rId123" Type="http://schemas.openxmlformats.org/officeDocument/2006/relationships/slide" Target="slides/slide104.xml"/><Relationship Id="rId124" Type="http://schemas.openxmlformats.org/officeDocument/2006/relationships/slide" Target="slides/slide105.xml"/><Relationship Id="rId125" Type="http://schemas.openxmlformats.org/officeDocument/2006/relationships/slide" Target="slides/slide106.xml"/><Relationship Id="rId126" Type="http://schemas.openxmlformats.org/officeDocument/2006/relationships/slide" Target="slides/slide107.xml"/><Relationship Id="rId127" Type="http://schemas.openxmlformats.org/officeDocument/2006/relationships/slide" Target="slides/slide108.xml"/><Relationship Id="rId128" Type="http://schemas.openxmlformats.org/officeDocument/2006/relationships/slide" Target="slides/slide109.xml"/><Relationship Id="rId129" Type="http://schemas.openxmlformats.org/officeDocument/2006/relationships/slide" Target="slides/slide110.xml"/><Relationship Id="rId130" Type="http://schemas.openxmlformats.org/officeDocument/2006/relationships/slide" Target="slides/slide111.xml"/><Relationship Id="rId131" Type="http://schemas.openxmlformats.org/officeDocument/2006/relationships/slide" Target="slides/slide112.xml"/><Relationship Id="rId1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CDC7-5313-47D0-895F-2850D4168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9B47-2477-4727-AE2A-2284FA75D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A005-5BCD-4C0B-ADD1-7A3C16EC3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360-C46E-4C80-B509-1B63811E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725-53E6-4D2F-84FC-C83EDBFC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5A4C6-4212-471B-8416-63323EE1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C8302-EC54-486A-B165-60FA972D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A2DA5-4A4E-4029-AC96-F76FCFF1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D2E2C-83F0-492C-B0A5-739C8FDD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2FB3E-9A59-4535-B40D-AC0A5EF1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DCBE0-AB00-4A36-A27B-67B62FD4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6D21D-1A50-4098-805D-09F5FE7B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90399-B146-4F0E-BFC6-FF573A35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06CAC-C82F-4077-9CB5-B769BDD9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37778-04B6-4FAA-8F6B-7098B698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F715-9E68-49C0-A692-D87287C3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86A56-D7D8-4E36-A891-8EF9AD16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FD441-56C3-4C0F-8376-05235F35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4ECE4-3081-46C4-9136-F39D4AD9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AB78B-40D7-411E-AA16-1F70E129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98566-FBD9-448B-A801-36B8B394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9BE06-99C1-4AB6-90FC-E50251A7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F03D0-49BF-48BF-8642-32265EFA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CF13E-62E4-4FC5-8CD5-3E4909FE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6F565-868B-4DD1-821C-F2E6613F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FAA04-45B8-4B5B-9C0A-A73DFDD2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C3A7-FA74-4EFE-A7CE-A06C1F43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CF8A0-D58F-4C3E-A19A-6F0C1C7C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A1B43-92A5-495B-BCF5-44912099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6CC19-DEE1-40D7-82E2-69CEFE2F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97045-3002-43FA-B354-F8F09658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78520-B253-4B62-945B-6A7282E9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9DF2E-E3B1-479D-99E3-F3639E2B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E01D6-D40E-4B44-80A1-A88DADCE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5F1A4-42D4-4AB6-87E9-95883537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5565F-BEC3-4DB6-B04D-6D6D9956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67F18-03F4-4F79-8DDB-DE02CB16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70C0-9A0A-498E-BFA4-C9987496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38CC5-ED59-4BEF-B5CD-35EF9A59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FF0B6-CE8D-4110-867F-EB971278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F64A1-35C9-43D3-8A57-2E30F5B2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3417C-68B5-40F8-A459-3D511715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DE96F-CE8A-4BC1-873D-F26F4FF4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773F9-0173-441A-AA59-9903EFED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34A77-7D70-40C2-AC84-6BF02F9D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6B9E6-37D5-4002-BFEF-093D1D6C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77F12-C4CD-40B9-AF5F-6A9A0A83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B5EC0-E577-4518-BE8B-80199C39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73B6-5233-4164-A458-13069907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D50A9-0945-4561-8B5E-A1E6666C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68252-C387-412C-A2DC-609ABF31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DE3FE-0B50-45AA-8A84-295A80D2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8B89A-753E-43A2-A0B9-96E51A67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12538-1592-4801-8DC3-A6430266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24099-9C1F-4D84-9540-8FDB9ED1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58ABA-617C-41C5-B6BA-19B9E910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FC220-7832-427E-B014-B0D72182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5CC4A-9838-44B3-A4D1-7C7EF754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4CA85-3114-4790-B0B2-5D3A1129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49EC-F80F-4663-9332-FD9989D3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A3972-FD3B-478F-A4C1-B3FF7CBB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164F7-A3B2-4AD4-9CE3-CC758777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E0799-C97B-4A94-B386-67C03B31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ABC87-BC47-4FD6-A0DE-08AF935F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16F10-B227-4B2C-9A22-CE53A23A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844FEA-D6A4-416F-B30A-5EE6C0AD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9651F7-4F47-4AD6-9466-3A75C0A8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C030A0-EE7D-43CC-8407-42DD803B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766C90-2F5E-4FEC-A7B3-CDDA596F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85757-8F73-4A5D-B04F-8D63DA25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54BF-1756-4315-A816-35F29620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9CD2B-6EA8-4FE9-966F-C79C48FF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18FDA2-1B11-472C-80CA-80FB4FB0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7F51F7-C7E1-46F5-BC82-5BF5A86E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09CD92-6E40-42B6-B199-A726D507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A5BA0D-267D-40E6-A847-D849D7BE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BF2624-E030-4E84-95FF-2C6E8CB1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CFC01C-4D15-48F8-B7EA-0D609FBC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B5EBCD-DF87-4FF7-9434-17C26C38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BE1D7-B6C9-4BC8-8B07-7DE52F33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6132B2-E4AE-425E-A0B5-465B3D8C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DBB6-44DB-4C16-8D56-13FBCA5C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E018ED-CF8B-450E-8AF1-0F9819E2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E4F7B4-B98F-4A84-9309-C1FFAF96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4EBFFD-6B37-41BE-B971-1BFE033A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88945-998A-4B4F-87FA-3903CD4E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896765-6B3E-43E8-A6DF-088542C8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B72F5D-BAFE-42C1-BE4C-61608513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DE7942-9CAF-43FE-B51F-99023C56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A5F8E1-CD62-4203-BC9E-14F2368D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CEDF3B-9630-49E7-B8F6-0FD87D75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D6487E-E5ED-4AE4-990A-7A3233CB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D285-096A-4120-8A58-8242E364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A36F1E-22E3-47D6-801D-EF3B7CF1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741CF5-1F50-4B31-B042-A851C6B8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B55AB1-93DC-45CA-9199-6BC1165F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3FD771-7073-473C-A0C5-3B29771E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350A50-7071-4F6F-A5FB-CA448CCD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0972BF-87D8-4442-9EC6-DD3235F9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B883C4-D77F-4465-9454-28E77360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46A78F-EFA3-406B-A973-97EA1BAF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735E18-36F9-4966-987D-20198D67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5ED1C6-A316-463C-876A-43F41912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B877-27C1-4C04-B6AE-F6B53DD6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5F0CD9-704C-4C67-844E-9588E062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4356BD-424D-43ED-962B-1FAA7316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6E82DF-3942-42C0-B483-4A6E3E1E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4364EC-A1A3-4178-984A-19545968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7D4B4F-8D1C-4EC4-A0FC-1F1B7B0C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546533-91CA-4159-97AD-D6C46DA8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6FEDEC-2971-4A56-9194-99AAC9D7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652CFB-9DBB-42AF-B379-0F08B42A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499056-FCCA-41FA-8008-674F1723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9B02FC-FBBD-4047-8E1B-F0E12A54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7FF-2E89-47C1-A264-83B00BAE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F473-EE56-4265-A128-48758993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707CBA-6EE5-4F2D-9418-E002CD98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398806-F188-4C98-9D98-C4531FFD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67333C-D2F5-431C-A3FE-9ECA1327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DD328-9DE7-43EE-8336-3276D2A9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461C63-EF87-498D-8304-88F719C0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A701-5F83-43B7-BB61-684347AA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EB6C-25C3-4C47-97B9-E28BD095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B081-C96A-45A2-AF61-5C9EDA97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DA51-32C0-4CDA-AD5A-BE9284E3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EC0B4-940E-48C9-8D00-0433A715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7660D-DB99-4211-8CF4-DCADEC8C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9127E-2868-4EDC-83DC-9509CC42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B3469-CB60-4F30-B092-7CC9EF96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8CCE1-B3D0-48AE-A915-6BA32E4D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0FB-489D-4CA2-881F-DB863818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40CEF-1710-465C-B6BF-34137EDD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D5E22-AD51-433A-A8CA-E8018D3A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F1A4C-E708-4EA1-80FF-170A14E3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1C7D7-5F6A-43DD-A2F3-F3210E8E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80130-14BE-492C-A5D5-9521634B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45819-1443-4DC0-8A8D-5ABF6684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27DFB-73E0-4B6D-BE1B-447FA2DA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3E627-67C5-4DBD-8232-A67EC9EB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4AA26-3857-4E2A-AA7C-CE381E8E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68CAA-D697-455A-98EC-9F0EC2C0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10CB-8B20-491B-BEBE-430B893C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634EE-875D-4C0F-85C4-41E12534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7B512-535E-4401-94D1-7C271545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70395-A884-45D8-8CC9-B747B2D2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05FEA-3323-431E-8956-CB682248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66897-26FF-440E-817E-ACF3ACB9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FB6DA-A76A-4319-B971-03953D45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1BC0C-7BEB-4F91-A901-B4F9B7C3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4D6C8-1FA4-4FE4-B838-2BFF5E8B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8188B-6E8C-4D01-8430-6002A0C3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E7C30-CBF1-4141-A3DD-4EC7F591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9A70-7144-4734-840B-EF55C297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81C72-A9AA-41E6-8D42-A159636B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50692-7DB5-42CB-BF3D-A9053570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F75CA-5AC1-4129-85D1-6E2662E6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81CD0-B7C7-4798-8ECE-290019B6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93AE0-3068-4563-9E99-30904B32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E6301-524E-4949-AEC1-F400D4EA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078C8-14E2-43A8-85E6-51153EAD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59E26-BDFB-4FE5-BE37-28481ACB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638B6-A73F-46D6-9244-96C216CD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93ADB-2611-48EE-B316-CA59C783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369-61DD-4464-8F94-C7EFDD3C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5FE49-6BF6-4398-837A-839CBD13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FB1F5-9CAE-4FE3-85EC-43E9A582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ECDC7-ABF4-41F2-B76D-4B98D384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554D0-ECAF-4B39-BBAA-B0721CE6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8C558-721A-4201-BBC8-9BEA4581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E8B3A-C29C-4690-A91C-92CC2051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ABE56-6C50-4F84-98AB-0A3D1F4E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FB5C1-A53A-47D0-B7BE-F72733F8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5FB12-7618-4546-9516-C7112F1F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714DF-EEE6-4D11-8C2F-CFFE0388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4906-7046-4A88-976C-D9BC437F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781AF-E147-4DF3-A817-6ED4A5A0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DFCA2-D47A-4E9C-84CA-ECA7A52F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239FC-97E2-4C65-9875-3B7EF815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F1D3E-7AA5-4889-907C-A48C0AEA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3E087-8250-4AFF-86DE-4324127E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B2A4E-4996-42B0-B0F7-4DEE980A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342FA-8502-4883-B7B1-2B2BF5B7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20BE3-061F-4B17-8CB5-B7CADF49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22F9C-DF73-4B59-BF15-2524DBE2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6758E-9264-40E7-9DBD-F4BDBAA0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BE4-D8A0-4BE7-A4C7-10768A8A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0B5DC-19A2-4412-9056-4070C501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8524C-C656-432A-9229-5E8DA0AB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8D84A-704B-45E1-A357-FC8D4EA0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E66A8-617B-4A2E-8321-19F183ED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6FBD4-4BA4-4412-8CAA-D458456F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36B82-2DAD-4876-A04F-204AEF76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B335A-ABAF-463C-AA97-6235A749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C75DD-3B40-4CA7-AFAF-A4C993E3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2427D-163F-45AF-8E6D-D6A64684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86023-7A95-494B-8327-08B5F32E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060-9439-4C4C-94A9-63FF6017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52FC3-934E-4145-A9DA-0981C61E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45C82-9685-42D8-9840-9A79B533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13F88-5311-49FD-A3DD-0A2D5096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07EB9-5EC0-4AD6-835F-BA9B1B41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F66FC-056E-4ABA-AD9B-EF251517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ABC96-71C0-4394-8622-5840CED5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64CA2-A6B6-491D-97FE-152AE7F2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E370B-169E-4F10-85CB-E2DBE9D7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EE31B-AB82-4FCC-9045-2A0A8E36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8F5EC-5E1C-49FE-9730-B0FC021E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17184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18C7-062D-434F-96A2-64887D81F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53D0-5B91-4187-99C4-24950E8702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7B6F-AEDF-4BA1-977B-9302F0E274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470C-84EE-4E82-B7AF-4C37283E96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5B91-392C-498E-A13C-EB5305B40B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9D82-C10E-446B-A1CF-4FC4A0A30A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A06F-0C36-495F-B502-AE71BBF2EB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E452-3990-4571-8841-FFA45D522A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D144-C559-4A57-B937-685F4B0AC6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24816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252C-324B-43F9-9EC8-4C975EB71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4459EDD5-4507-484F-B47C-A0BFEDB2CE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4A47-9CE8-458F-8C29-BF8F73B6B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AE2CA0E1-E3E8-4113-80B6-6D3F4921E3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590560" y="6244920"/>
            <a:ext cx="3886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75C4F949-4B4D-4A46-9710-135F957E41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D557-9F8C-4F34-9EFD-854CB959FF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0E86-463A-4483-808E-FEFA83FB5C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5F7E-6FEE-4490-9AE0-89D8FB80B7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"/>
          <p:cNvSpPr/>
          <p:nvPr/>
        </p:nvSpPr>
        <p:spPr>
          <a:xfrm>
            <a:off x="152280" y="7952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3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146240"/>
                <a:gridCol w="1020600"/>
                <a:gridCol w="1084320"/>
                <a:gridCol w="1082520"/>
                <a:gridCol w="1084320"/>
                <a:gridCol w="10828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4.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urpos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s Comply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itude &amp; Extent of Radi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active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Radiological Haz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DD2CA6B-E26B-43B1-BBDC-3FCFDBC8AB8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o Embryo/Fetus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E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= Fetal Age at time of In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Transfer Coefficient o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milated Radioactivity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ory Guide 8.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0 = mrem/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1541ABB-5DA3-4B3D-92FB-5CF9903984F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s From Conta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(Skin) Dose Equivalent (SDE) = Dose to a depth of 0.007 cm (7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ep Dose Equivalent (DDE)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o a depth of 1 cm (1,0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s of Eye Dose Equivalent (LDE)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o a depth of 0.3 cm (3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FC5D055-2555-4A9B-877D-92776930F1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amination Do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ions Required for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00 mrem (54,000 cpm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Measured with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Area =  1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Dose Depth = 7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/= 10 mrem (170,000 cpm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Measured with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Area = 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Dose Depth = 1,0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04BEE7A-DF20-4A3D-BE87-4C18E807DF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tivity-Hour 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/(2.22 E 6)(Eff.)(Are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Activity-h Concentration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Counts per Minute-hour Total, cpm-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.22 E 6 = Conversion:  2.22E6 dpm/µC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ff = Detector Counting Efficienc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pm/dpm (0.10 for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rea = Surface Area (1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or SD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or DDE or L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1685CAC-5B92-42F1-8C7E-4E343F584DD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allow (Skin) Dos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S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= (DF)(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= Surface (Skin)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rad) for Beta or Gam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F=SDE Dose Factor (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3,7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Beta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185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Gamm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 = Activity-hour Concentr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(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ADF8F69-1C8C-4E66-8A80-21B4B43E448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ep Do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D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= (DF)(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= Deep Dose Equivalent (mrad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for Gam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F =DDE Dose Factor (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1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Gamm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 = Activity-hour Concent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CDB48DF-EEDC-419E-B3CF-E69CC9C424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s From Hot Parti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les Usuall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 100 mic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ctivity Usually At Least 0.1 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y Discrete Particle &gt;/= 20,000 cp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ose Calculation Same as D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23F35DF-C1CC-4809-8E8D-3951973E937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tal Organ Dos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TO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of DDE &amp; C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E = DDE + C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B9A2F97-B0A8-4AB0-97E9-2117B0A834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tal Effecti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Equivalent (TE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of Internal (CEDE) and External (DDE) Expo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E = CEDE + D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/&gt; Workers Age (Years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orker Limited to 1,000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58481D4-A8DF-499F-AE73-35089D4000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Track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d Repor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 % of Limit – Dos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0 % of Limit – Dose Extension 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Restricted Access to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ation of Prior Dose –NRC Form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Exposure Report – NRC For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A9B2FA3-4753-4AA6-9ADD-35354134A85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ditions Requiring External Monito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10% of 10CFR20.1201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 0.1 rem (1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DE &gt; 0.15 rem (1.5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DE/Extremity Dose &gt; 0.5 rem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 0.1 rem (1 mSv) During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ntering High or Very High Radiatio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26E4CA1-EF68-4A30-AB77-59133409C1F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ity – It’s Everywhe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pational Exposure – AL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Effects &amp;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at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t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s Low for Low Do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Limits – 10CFR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2F23739-15FA-47EA-94AC-F463955108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nel Monitoring –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ic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nel Monitoring – In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Cou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reta Samp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2B97AB5-4A7F-467E-AC90-3BC8B51965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erms and 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orbed Dose - rad, 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Equivalent - rem, S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&amp; D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/Tissue Dose –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&amp;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000C80C-3981-4CCA-B439-110C7F6119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ditions Requiring Monitoring for Internal Expos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er than 10% of Applicable 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0.1 rem (1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&gt; 0.1 rem (1 mSv) Dur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B83B60B-64AB-4FF9-8ADF-BA08A0CB561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sure Limits &amp;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5 rems (0.05 Sv)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+ CDE &lt;/=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DE &lt;/= 15 rem (0.1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DE/Extremity &lt;/=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 &lt;/= 0.5 rem (5 mSv) to Embryo/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VA Administrative Limi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EDE &lt;/= 1 rem (0.01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A4921FD-EC1B-47F6-9398-A6BCF46ADB7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lanned Special Exposures (PS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dition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uthorized in Writing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Befo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posure Occu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formed of Purp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formed of Dos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structed in Meas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Keep Doses ALA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4903563-291A-4105-9925-492AC9B5E17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mergency Dose Lim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ntary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Informed of R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Rem TEDE to Prev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ous Damage to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ous Hazard to Pers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 Rem TEDE to Save a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35FFA73-E923-49E0-AE12-AE0FCD843F4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sure to Pregnant W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0.5 rem (5 mSv) to Embryo/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py of Regulatory Guide 8.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 Airborne or Contaminated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itial Whole Body Count Perfo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43ED3F0-DE22-4B87-A922-C5210FB856A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s of Exp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 of the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EF3E2EF-0E69-4597-B69D-73246C6DA27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ernal Exposure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Partial Bod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it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Rate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126BC5F-94C7-4854-9BD4-6E93C131C87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moluminesc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mo – H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minescent -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1BAC6A8-542E-49C8-B9DB-A0FED4A8EC9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sonnel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Monitor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HTP001.0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970566C-E9C9-4049-ABFF-0216F76F602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lectron Tr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9" name="Picture 4" descr="TCD01"/>
          <p:cNvPicPr/>
          <p:nvPr/>
        </p:nvPicPr>
        <p:blipFill>
          <a:blip r:embed="rId1"/>
          <a:stretch/>
        </p:blipFill>
        <p:spPr>
          <a:xfrm>
            <a:off x="1905120" y="2228760"/>
            <a:ext cx="5333760" cy="3268800"/>
          </a:xfrm>
          <a:prstGeom prst="rect">
            <a:avLst/>
          </a:prstGeom>
          <a:ln w="0">
            <a:noFill/>
          </a:ln>
        </p:spPr>
      </p:pic>
      <p:sp>
        <p:nvSpPr>
          <p:cNvPr id="7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66A1AA4-1638-445A-886A-6187052BA0F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A181FAC-A334-40F8-B650-BE3652855E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Cu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de Range (10 mR to 100,000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Data Retention (Low F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X-Rays, and Neu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usable and Econom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t Susceptible to Radiofrequenc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239DEF3-F6B8-4075-AAC5-D5213B13A51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thium Borat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onse Cur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"/>
          <p:cNvSpPr txBox="1"/>
          <p:nvPr/>
        </p:nvSpPr>
        <p:spPr>
          <a:xfrm rot="16200000">
            <a:off x="-1334520" y="3143880"/>
            <a:ext cx="382896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adiation Respon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r Roent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5994CDD-DCDE-4377-BFC5-A1434C1B68B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"/>
          <p:cNvSpPr/>
          <p:nvPr/>
        </p:nvSpPr>
        <p:spPr>
          <a:xfrm>
            <a:off x="1428840" y="1866960"/>
            <a:ext cx="329544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5"/>
          <p:cNvSpPr/>
          <p:nvPr/>
        </p:nvSpPr>
        <p:spPr>
          <a:xfrm>
            <a:off x="1542960" y="36003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6"/>
          <p:cNvSpPr/>
          <p:nvPr/>
        </p:nvSpPr>
        <p:spPr>
          <a:xfrm>
            <a:off x="2571840" y="3562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7"/>
          <p:cNvSpPr/>
          <p:nvPr/>
        </p:nvSpPr>
        <p:spPr>
          <a:xfrm>
            <a:off x="3524400" y="3543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8"/>
          <p:cNvSpPr/>
          <p:nvPr/>
        </p:nvSpPr>
        <p:spPr>
          <a:xfrm>
            <a:off x="44956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9"/>
          <p:cNvSpPr/>
          <p:nvPr/>
        </p:nvSpPr>
        <p:spPr>
          <a:xfrm>
            <a:off x="1428840" y="2819520"/>
            <a:ext cx="325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0"/>
          <p:cNvSpPr/>
          <p:nvPr/>
        </p:nvSpPr>
        <p:spPr>
          <a:xfrm>
            <a:off x="1467000" y="4172040"/>
            <a:ext cx="329544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1"/>
          <p:cNvSpPr/>
          <p:nvPr/>
        </p:nvSpPr>
        <p:spPr>
          <a:xfrm>
            <a:off x="1486080" y="4952880"/>
            <a:ext cx="32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2"/>
          <p:cNvSpPr/>
          <p:nvPr/>
        </p:nvSpPr>
        <p:spPr>
          <a:xfrm>
            <a:off x="163836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3"/>
          <p:cNvSpPr/>
          <p:nvPr/>
        </p:nvSpPr>
        <p:spPr>
          <a:xfrm>
            <a:off x="261000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4"/>
          <p:cNvSpPr/>
          <p:nvPr/>
        </p:nvSpPr>
        <p:spPr>
          <a:xfrm>
            <a:off x="358128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"/>
          <p:cNvSpPr/>
          <p:nvPr/>
        </p:nvSpPr>
        <p:spPr>
          <a:xfrm>
            <a:off x="455292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6"/>
          <p:cNvSpPr/>
          <p:nvPr/>
        </p:nvSpPr>
        <p:spPr>
          <a:xfrm>
            <a:off x="1438200" y="6037200"/>
            <a:ext cx="18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7"/>
          <p:cNvSpPr/>
          <p:nvPr/>
        </p:nvSpPr>
        <p:spPr>
          <a:xfrm>
            <a:off x="1809720" y="59245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8"/>
          <p:cNvSpPr/>
          <p:nvPr/>
        </p:nvSpPr>
        <p:spPr>
          <a:xfrm flipV="1">
            <a:off x="1657440" y="2876040"/>
            <a:ext cx="1047600" cy="9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0"/>
          <p:cNvSpPr/>
          <p:nvPr/>
        </p:nvSpPr>
        <p:spPr>
          <a:xfrm>
            <a:off x="3238560" y="2781360"/>
            <a:ext cx="1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1"/>
          <p:cNvSpPr/>
          <p:nvPr/>
        </p:nvSpPr>
        <p:spPr>
          <a:xfrm flipV="1">
            <a:off x="2647800" y="2743200"/>
            <a:ext cx="66708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22"/>
          <p:cNvSpPr/>
          <p:nvPr/>
        </p:nvSpPr>
        <p:spPr>
          <a:xfrm flipV="1">
            <a:off x="3295800" y="2705040"/>
            <a:ext cx="1028520" cy="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3"/>
          <p:cNvSpPr/>
          <p:nvPr/>
        </p:nvSpPr>
        <p:spPr>
          <a:xfrm flipV="1">
            <a:off x="1695600" y="4991040"/>
            <a:ext cx="10857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24"/>
          <p:cNvSpPr/>
          <p:nvPr/>
        </p:nvSpPr>
        <p:spPr>
          <a:xfrm flipV="1">
            <a:off x="2800440" y="4914720"/>
            <a:ext cx="571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5"/>
          <p:cNvSpPr/>
          <p:nvPr/>
        </p:nvSpPr>
        <p:spPr>
          <a:xfrm>
            <a:off x="3352680" y="489600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6"/>
          <p:cNvSpPr/>
          <p:nvPr/>
        </p:nvSpPr>
        <p:spPr>
          <a:xfrm>
            <a:off x="1033920" y="363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7"/>
          <p:cNvSpPr/>
          <p:nvPr/>
        </p:nvSpPr>
        <p:spPr>
          <a:xfrm>
            <a:off x="1033920" y="270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8"/>
          <p:cNvSpPr/>
          <p:nvPr/>
        </p:nvSpPr>
        <p:spPr>
          <a:xfrm>
            <a:off x="1014840" y="175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29"/>
          <p:cNvSpPr/>
          <p:nvPr/>
        </p:nvSpPr>
        <p:spPr>
          <a:xfrm>
            <a:off x="1071720" y="563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30"/>
          <p:cNvSpPr/>
          <p:nvPr/>
        </p:nvSpPr>
        <p:spPr>
          <a:xfrm>
            <a:off x="1090800" y="478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1"/>
          <p:cNvSpPr/>
          <p:nvPr/>
        </p:nvSpPr>
        <p:spPr>
          <a:xfrm>
            <a:off x="1109880" y="405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2"/>
          <p:cNvSpPr/>
          <p:nvPr/>
        </p:nvSpPr>
        <p:spPr>
          <a:xfrm>
            <a:off x="4938480" y="26114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33"/>
          <p:cNvSpPr/>
          <p:nvPr/>
        </p:nvSpPr>
        <p:spPr>
          <a:xfrm>
            <a:off x="4957560" y="4745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35"/>
          <p:cNvSpPr/>
          <p:nvPr/>
        </p:nvSpPr>
        <p:spPr>
          <a:xfrm>
            <a:off x="1357920" y="5694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36"/>
          <p:cNvSpPr/>
          <p:nvPr/>
        </p:nvSpPr>
        <p:spPr>
          <a:xfrm>
            <a:off x="2386080" y="569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7"/>
          <p:cNvSpPr/>
          <p:nvPr/>
        </p:nvSpPr>
        <p:spPr>
          <a:xfrm>
            <a:off x="3453120" y="569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8"/>
          <p:cNvSpPr/>
          <p:nvPr/>
        </p:nvSpPr>
        <p:spPr>
          <a:xfrm>
            <a:off x="4367880" y="5713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S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Tm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ge:  1 mR to 1,000 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up to about 200 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and X-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ver responds to Low Energy X-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Useful for Environmental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5D92F6F-F7CD-4977-BD34-F4D41474718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ium Sulfa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onse Cur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 rot="16200000">
            <a:off x="-1524960" y="2839320"/>
            <a:ext cx="417204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diation Respon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 Roent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6AC94DB-4D8C-45B4-95C5-965726F3777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4"/>
          <p:cNvSpPr/>
          <p:nvPr/>
        </p:nvSpPr>
        <p:spPr>
          <a:xfrm>
            <a:off x="1467000" y="1847880"/>
            <a:ext cx="329544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6"/>
          <p:cNvSpPr/>
          <p:nvPr/>
        </p:nvSpPr>
        <p:spPr>
          <a:xfrm>
            <a:off x="16192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7"/>
          <p:cNvSpPr/>
          <p:nvPr/>
        </p:nvSpPr>
        <p:spPr>
          <a:xfrm>
            <a:off x="2571840" y="3562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8"/>
          <p:cNvSpPr/>
          <p:nvPr/>
        </p:nvSpPr>
        <p:spPr>
          <a:xfrm>
            <a:off x="3524400" y="3543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9"/>
          <p:cNvSpPr/>
          <p:nvPr/>
        </p:nvSpPr>
        <p:spPr>
          <a:xfrm>
            <a:off x="44956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4"/>
          <p:cNvSpPr/>
          <p:nvPr/>
        </p:nvSpPr>
        <p:spPr>
          <a:xfrm>
            <a:off x="1467000" y="4172040"/>
            <a:ext cx="329544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5"/>
          <p:cNvSpPr/>
          <p:nvPr/>
        </p:nvSpPr>
        <p:spPr>
          <a:xfrm>
            <a:off x="1486080" y="4952880"/>
            <a:ext cx="32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16"/>
          <p:cNvSpPr/>
          <p:nvPr/>
        </p:nvSpPr>
        <p:spPr>
          <a:xfrm>
            <a:off x="163836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17"/>
          <p:cNvSpPr/>
          <p:nvPr/>
        </p:nvSpPr>
        <p:spPr>
          <a:xfrm>
            <a:off x="261000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18"/>
          <p:cNvSpPr/>
          <p:nvPr/>
        </p:nvSpPr>
        <p:spPr>
          <a:xfrm>
            <a:off x="358128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9"/>
          <p:cNvSpPr/>
          <p:nvPr/>
        </p:nvSpPr>
        <p:spPr>
          <a:xfrm>
            <a:off x="455292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20"/>
          <p:cNvSpPr/>
          <p:nvPr/>
        </p:nvSpPr>
        <p:spPr>
          <a:xfrm>
            <a:off x="1438200" y="6037200"/>
            <a:ext cx="18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21"/>
          <p:cNvSpPr/>
          <p:nvPr/>
        </p:nvSpPr>
        <p:spPr>
          <a:xfrm>
            <a:off x="1733400" y="59245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2"/>
          <p:cNvSpPr/>
          <p:nvPr/>
        </p:nvSpPr>
        <p:spPr>
          <a:xfrm>
            <a:off x="1090800" y="363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3"/>
          <p:cNvSpPr/>
          <p:nvPr/>
        </p:nvSpPr>
        <p:spPr>
          <a:xfrm>
            <a:off x="1053000" y="287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4"/>
          <p:cNvSpPr/>
          <p:nvPr/>
        </p:nvSpPr>
        <p:spPr>
          <a:xfrm>
            <a:off x="957960" y="2208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5"/>
          <p:cNvSpPr/>
          <p:nvPr/>
        </p:nvSpPr>
        <p:spPr>
          <a:xfrm>
            <a:off x="1090800" y="5599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26"/>
          <p:cNvSpPr/>
          <p:nvPr/>
        </p:nvSpPr>
        <p:spPr>
          <a:xfrm>
            <a:off x="1071720" y="4818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7"/>
          <p:cNvSpPr/>
          <p:nvPr/>
        </p:nvSpPr>
        <p:spPr>
          <a:xfrm>
            <a:off x="1071720" y="4037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28"/>
          <p:cNvSpPr/>
          <p:nvPr/>
        </p:nvSpPr>
        <p:spPr>
          <a:xfrm>
            <a:off x="1486080" y="302904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32"/>
          <p:cNvSpPr/>
          <p:nvPr/>
        </p:nvSpPr>
        <p:spPr>
          <a:xfrm>
            <a:off x="1486080" y="2381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36"/>
          <p:cNvSpPr/>
          <p:nvPr/>
        </p:nvSpPr>
        <p:spPr>
          <a:xfrm>
            <a:off x="1847880" y="2209680"/>
            <a:ext cx="2514600" cy="1409760"/>
          </a:xfrm>
          <a:custGeom>
            <a:avLst/>
            <a:gdLst/>
            <a:ahLst/>
            <a:rect l="l" t="t" r="r" b="b"/>
            <a:pathLst>
              <a:path w="1584" h="888">
                <a:moveTo>
                  <a:pt x="0" y="0"/>
                </a:moveTo>
                <a:cubicBezTo>
                  <a:pt x="36" y="24"/>
                  <a:pt x="72" y="36"/>
                  <a:pt x="108" y="60"/>
                </a:cubicBezTo>
                <a:cubicBezTo>
                  <a:pt x="133" y="135"/>
                  <a:pt x="161" y="219"/>
                  <a:pt x="228" y="264"/>
                </a:cubicBezTo>
                <a:cubicBezTo>
                  <a:pt x="241" y="303"/>
                  <a:pt x="275" y="333"/>
                  <a:pt x="288" y="372"/>
                </a:cubicBezTo>
                <a:cubicBezTo>
                  <a:pt x="315" y="454"/>
                  <a:pt x="324" y="480"/>
                  <a:pt x="372" y="552"/>
                </a:cubicBezTo>
                <a:cubicBezTo>
                  <a:pt x="388" y="575"/>
                  <a:pt x="472" y="754"/>
                  <a:pt x="492" y="768"/>
                </a:cubicBezTo>
                <a:cubicBezTo>
                  <a:pt x="516" y="784"/>
                  <a:pt x="540" y="800"/>
                  <a:pt x="564" y="816"/>
                </a:cubicBezTo>
                <a:cubicBezTo>
                  <a:pt x="585" y="830"/>
                  <a:pt x="612" y="832"/>
                  <a:pt x="636" y="840"/>
                </a:cubicBezTo>
                <a:cubicBezTo>
                  <a:pt x="781" y="888"/>
                  <a:pt x="875" y="881"/>
                  <a:pt x="1044" y="888"/>
                </a:cubicBezTo>
                <a:cubicBezTo>
                  <a:pt x="1130" y="877"/>
                  <a:pt x="1203" y="855"/>
                  <a:pt x="1284" y="828"/>
                </a:cubicBezTo>
                <a:cubicBezTo>
                  <a:pt x="1326" y="814"/>
                  <a:pt x="1372" y="820"/>
                  <a:pt x="1416" y="816"/>
                </a:cubicBezTo>
                <a:cubicBezTo>
                  <a:pt x="1570" y="765"/>
                  <a:pt x="1412" y="814"/>
                  <a:pt x="1548" y="780"/>
                </a:cubicBezTo>
                <a:cubicBezTo>
                  <a:pt x="1560" y="777"/>
                  <a:pt x="1584" y="768"/>
                  <a:pt x="1584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37"/>
          <p:cNvSpPr/>
          <p:nvPr/>
        </p:nvSpPr>
        <p:spPr>
          <a:xfrm>
            <a:off x="1847880" y="4743360"/>
            <a:ext cx="743040" cy="381240"/>
          </a:xfrm>
          <a:custGeom>
            <a:avLst/>
            <a:gdLst/>
            <a:ahLst/>
            <a:rect l="l" t="t" r="r" b="b"/>
            <a:pathLst>
              <a:path w="468" h="240">
                <a:moveTo>
                  <a:pt x="0" y="240"/>
                </a:moveTo>
                <a:cubicBezTo>
                  <a:pt x="21" y="177"/>
                  <a:pt x="64" y="163"/>
                  <a:pt x="120" y="144"/>
                </a:cubicBezTo>
                <a:cubicBezTo>
                  <a:pt x="128" y="132"/>
                  <a:pt x="133" y="117"/>
                  <a:pt x="144" y="108"/>
                </a:cubicBezTo>
                <a:cubicBezTo>
                  <a:pt x="166" y="89"/>
                  <a:pt x="216" y="60"/>
                  <a:pt x="216" y="60"/>
                </a:cubicBezTo>
                <a:cubicBezTo>
                  <a:pt x="251" y="7"/>
                  <a:pt x="263" y="15"/>
                  <a:pt x="324" y="0"/>
                </a:cubicBezTo>
                <a:cubicBezTo>
                  <a:pt x="348" y="8"/>
                  <a:pt x="388" y="0"/>
                  <a:pt x="396" y="24"/>
                </a:cubicBezTo>
                <a:cubicBezTo>
                  <a:pt x="400" y="36"/>
                  <a:pt x="400" y="50"/>
                  <a:pt x="408" y="60"/>
                </a:cubicBezTo>
                <a:cubicBezTo>
                  <a:pt x="424" y="80"/>
                  <a:pt x="450" y="90"/>
                  <a:pt x="468" y="1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39"/>
          <p:cNvSpPr/>
          <p:nvPr/>
        </p:nvSpPr>
        <p:spPr>
          <a:xfrm flipV="1">
            <a:off x="2590920" y="4933440"/>
            <a:ext cx="121896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47"/>
          <p:cNvSpPr/>
          <p:nvPr/>
        </p:nvSpPr>
        <p:spPr>
          <a:xfrm>
            <a:off x="3695760" y="4759200"/>
            <a:ext cx="762120" cy="174600"/>
          </a:xfrm>
          <a:custGeom>
            <a:avLst/>
            <a:gdLst/>
            <a:ahLst/>
            <a:rect l="l" t="t" r="r" b="b"/>
            <a:pathLst>
              <a:path w="480" h="110">
                <a:moveTo>
                  <a:pt x="0" y="110"/>
                </a:moveTo>
                <a:cubicBezTo>
                  <a:pt x="67" y="104"/>
                  <a:pt x="138" y="104"/>
                  <a:pt x="204" y="86"/>
                </a:cubicBezTo>
                <a:cubicBezTo>
                  <a:pt x="280" y="65"/>
                  <a:pt x="354" y="42"/>
                  <a:pt x="432" y="26"/>
                </a:cubicBezTo>
                <a:cubicBezTo>
                  <a:pt x="471" y="0"/>
                  <a:pt x="454" y="2"/>
                  <a:pt x="48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48"/>
          <p:cNvSpPr/>
          <p:nvPr/>
        </p:nvSpPr>
        <p:spPr>
          <a:xfrm>
            <a:off x="1319760" y="5675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9"/>
          <p:cNvSpPr/>
          <p:nvPr/>
        </p:nvSpPr>
        <p:spPr>
          <a:xfrm>
            <a:off x="2348280" y="5675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0"/>
          <p:cNvSpPr/>
          <p:nvPr/>
        </p:nvSpPr>
        <p:spPr>
          <a:xfrm>
            <a:off x="3453120" y="569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51"/>
          <p:cNvSpPr/>
          <p:nvPr/>
        </p:nvSpPr>
        <p:spPr>
          <a:xfrm>
            <a:off x="4329720" y="5694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52"/>
          <p:cNvSpPr/>
          <p:nvPr/>
        </p:nvSpPr>
        <p:spPr>
          <a:xfrm>
            <a:off x="4843440" y="2459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53"/>
          <p:cNvSpPr/>
          <p:nvPr/>
        </p:nvSpPr>
        <p:spPr>
          <a:xfrm>
            <a:off x="4957560" y="468792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mitations of Both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Heat, Moisture, and Sh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Shielded by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ject to Improper Wear by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use Results in Incorrec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rors from Logistical/Record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C804C04-FEBE-4DA0-ACDC-70FE12A9B67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4" name="Picture 3" descr=""/>
          <p:cNvPicPr/>
          <p:nvPr/>
        </p:nvPicPr>
        <p:blipFill>
          <a:blip r:embed="rId1"/>
          <a:stretch/>
        </p:blipFill>
        <p:spPr>
          <a:xfrm>
            <a:off x="438120" y="15238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8179ED8-F3BC-4E5F-8CFD-CD1F46B9288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Picture 4" descr="MVC-030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8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5DD3463-0EF0-4BB7-8CE0-D959CDF4AAE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"/>
          <p:cNvSpPr/>
          <p:nvPr/>
        </p:nvSpPr>
        <p:spPr>
          <a:xfrm>
            <a:off x="762120" y="285840"/>
            <a:ext cx="65912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Thermoluminescent Dosi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1" name="Picture 7" descr="MVC-023F"/>
          <p:cNvPicPr/>
          <p:nvPr/>
        </p:nvPicPr>
        <p:blipFill>
          <a:blip r:embed="rId1"/>
          <a:stretch/>
        </p:blipFill>
        <p:spPr>
          <a:xfrm>
            <a:off x="0" y="0"/>
            <a:ext cx="7683480" cy="6126120"/>
          </a:xfrm>
          <a:prstGeom prst="rect">
            <a:avLst/>
          </a:prstGeom>
          <a:ln w="0">
            <a:noFill/>
          </a:ln>
        </p:spPr>
      </p:pic>
      <p:sp>
        <p:nvSpPr>
          <p:cNvPr id="8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318562C-7912-41AB-8E26-4104BB2FD26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0"/>
          <p:cNvSpPr/>
          <p:nvPr/>
        </p:nvSpPr>
        <p:spPr>
          <a:xfrm>
            <a:off x="4781520" y="6667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1"/>
          <p:cNvSpPr/>
          <p:nvPr/>
        </p:nvSpPr>
        <p:spPr>
          <a:xfrm>
            <a:off x="4686480" y="228600"/>
            <a:ext cx="2781000" cy="132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TLD Ba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urse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&amp; De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s, Exposure Limits 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Exposure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erms &amp; Dose 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&amp;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F500469-5D61-4A37-B60E-82FF9FCEFF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Picture 4" descr="MVC-031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8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89EAB6B-819C-4E38-920D-66211A4C29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7"/>
          <p:cNvSpPr/>
          <p:nvPr/>
        </p:nvSpPr>
        <p:spPr>
          <a:xfrm>
            <a:off x="0" y="2286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8"/>
          <p:cNvSpPr/>
          <p:nvPr/>
        </p:nvSpPr>
        <p:spPr>
          <a:xfrm>
            <a:off x="2476440" y="361800"/>
            <a:ext cx="22669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TLD Ba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802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lement #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LD Materi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il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.7 mg L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3BA2C6E-C012-4C6C-88FF-E421C96A1D3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asuring Neutrons with TL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 and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 Rather Than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 and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st Neutrons not Directly Mea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s Moderated by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wer Recoil Neutrons Mea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bedo Effec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19EA32C-37DF-4A9A-89FA-447859C7635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802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lement #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LD Materi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il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.7 mg L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6F3E365-2BEE-4FD3-9D52-F21B387BB8C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ading Panasonic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0" name="Picture 4" descr=""/>
          <p:cNvPicPr/>
          <p:nvPr/>
        </p:nvPicPr>
        <p:blipFill>
          <a:blip r:embed="rId1"/>
          <a:stretch/>
        </p:blipFill>
        <p:spPr>
          <a:xfrm>
            <a:off x="1057320" y="2592360"/>
            <a:ext cx="7029360" cy="2541600"/>
          </a:xfrm>
          <a:prstGeom prst="rect">
            <a:avLst/>
          </a:prstGeom>
          <a:ln w="0">
            <a:noFill/>
          </a:ln>
        </p:spPr>
      </p:pic>
      <p:sp>
        <p:nvSpPr>
          <p:cNvPr id="8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093E223-26F4-49DE-92D4-482A1E50C8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ystem Calib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ine Calib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 QC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bration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-Line QC TLDs Da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5DE500C-05D7-4F56-BF58-7FD97340B96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ystem QC/Q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S Accredited by NIST and NVL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comparison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&amp; Verification Che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stical Review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ed by External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Manager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ine Internal Eval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6043A4D-CB93-4D73-81DF-29A7B1A2F3A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dge Issue &amp; 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d &amp; Collected by RAD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Assigns a TLD Nu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d for a 3-Month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ed by T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LDs Mai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2D8B44A-5CAC-4A4B-A196-A98224CBE62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pecial Pu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 Dose Limits Exc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D Off Scale or Displays 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/Relocation of Employ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Control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Badge or Neutron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250D20C-0677-4949-BE58-A51F0E1804F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aring the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nt of Body, Neck to Wa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itions May Require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Inside Coveralls in Contamina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Open or Pamper With the Ba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AB7FE16-FA9D-4525-A74C-CA8C148B120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: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Dose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Regulations &amp;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iar with Radiation Monitoring De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Operation of Various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Dosimetry Administrative Contr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Multiple &amp; Extremity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imetry for Various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B99FFB0-19B0-4041-90DF-1166A12E852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8" name="Picture 8" descr="MVC-041F"/>
          <p:cNvPicPr/>
          <p:nvPr/>
        </p:nvPicPr>
        <p:blipFill>
          <a:blip r:embed="rId1"/>
          <a:stretch/>
        </p:blipFill>
        <p:spPr>
          <a:xfrm>
            <a:off x="-422280" y="0"/>
            <a:ext cx="5192640" cy="603252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p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ear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osimet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E1E498A-B1F0-48DB-8EA8-647B0665C21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tiple Bad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uniform Radiation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00 mrem/h &amp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ighest Dose Location Un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adiation Levels Unknown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radient Nonuni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F6DD89E-83DD-4B22-8DDB-E485A1BC0C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ti-Badge 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n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(Not Wor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662D772-046D-4E84-A297-BCEF05662DC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remity Bad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500 mrem to Extrem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Unshielded Beta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ole Body (Except Hands) Shiel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Small Non-Shielde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contamination of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love Box Op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I-1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D88AE03-CACB-4C24-964D-D3141672C18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remity Dosi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Picture 5" descr="MVC-036F"/>
          <p:cNvPicPr/>
          <p:nvPr/>
        </p:nvPicPr>
        <p:blipFill>
          <a:blip r:embed="rId1"/>
          <a:stretch/>
        </p:blipFill>
        <p:spPr>
          <a:xfrm>
            <a:off x="952560" y="1630440"/>
            <a:ext cx="7124760" cy="4278240"/>
          </a:xfrm>
          <a:prstGeom prst="rect">
            <a:avLst/>
          </a:prstGeom>
          <a:ln w="0">
            <a:noFill/>
          </a:ln>
        </p:spPr>
      </p:pic>
      <p:sp>
        <p:nvSpPr>
          <p:cNvPr id="9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9285D6C-9EF8-4819-A3AB-79AC24EBEEE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aring Extremity Ba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Picture 7" descr="MVC-038F"/>
          <p:cNvPicPr/>
          <p:nvPr/>
        </p:nvPicPr>
        <p:blipFill>
          <a:blip r:embed="rId1"/>
          <a:stretch/>
        </p:blipFill>
        <p:spPr>
          <a:xfrm>
            <a:off x="1500120" y="1717560"/>
            <a:ext cx="6446880" cy="4222800"/>
          </a:xfrm>
          <a:prstGeom prst="rect">
            <a:avLst/>
          </a:prstGeom>
          <a:ln w="0">
            <a:noFill/>
          </a:ln>
        </p:spPr>
      </p:pic>
      <p:sp>
        <p:nvSpPr>
          <p:cNvPr id="9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A7F7502-F746-4E57-AD11-32A1E4658E4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condary Dosi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y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D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Periodically During Job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on Front of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Inside in Contaminatio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1026DEA-24E3-42A4-9C26-F77F25E4152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1" name="Picture 4" descr="MVC-019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9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B3AC0A3-0230-43C7-8BCD-5E1FF551521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"/>
          <p:cNvSpPr/>
          <p:nvPr/>
        </p:nvSpPr>
        <p:spPr>
          <a:xfrm>
            <a:off x="1542960" y="0"/>
            <a:ext cx="44197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Electronic Dosi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5" name="Picture 4" descr="MVC-022F"/>
          <p:cNvPicPr/>
          <p:nvPr/>
        </p:nvPicPr>
        <p:blipFill>
          <a:blip r:embed="rId1"/>
          <a:stretch/>
        </p:blipFill>
        <p:spPr>
          <a:xfrm>
            <a:off x="0" y="266760"/>
            <a:ext cx="7588080" cy="5859360"/>
          </a:xfrm>
          <a:prstGeom prst="rect">
            <a:avLst/>
          </a:prstGeom>
          <a:ln w="0">
            <a:noFill/>
          </a:ln>
        </p:spPr>
      </p:pic>
      <p:sp>
        <p:nvSpPr>
          <p:cNvPr id="9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FDD20ED-12E6-4EA8-9826-858962BC8A5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"/>
          <p:cNvSpPr/>
          <p:nvPr/>
        </p:nvSpPr>
        <p:spPr>
          <a:xfrm>
            <a:off x="838080" y="4991040"/>
            <a:ext cx="62485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Electronic Dosimeter Dis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9" name="Picture 4" descr="MVC-021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93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1B9619D-C38C-44CB-BBAB-75D1E1DF0A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4400640" y="533520"/>
            <a:ext cx="2514600" cy="147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Po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Actions for Abnormal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Concepts of Internal Dosimet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Radionuclides of Conc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Biological Effects &amp;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Dose Calculation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 of Radioactivity Up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and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4699CFA-2A2D-4675-98BE-38BD312FB3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Picture 20" descr="MVC-018F"/>
          <p:cNvPicPr/>
          <p:nvPr/>
        </p:nvPicPr>
        <p:blipFill>
          <a:blip r:embed="rId1"/>
          <a:stretch/>
        </p:blipFill>
        <p:spPr>
          <a:xfrm>
            <a:off x="0" y="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9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BE41245-5158-481C-A202-188CE8681F6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imetry Requirements for Work Areas: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ricted Area –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Area –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A – TLD &amp; DAD/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uniform Radiation Field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Doses to Extremitie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it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FE3F418-6422-4384-AE41-416EAAD302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imetry Requirements for Work Areas: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 Areas –Process TLD for Neu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Radiation Area – Secondary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lemental Dosi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High Radiation Area – Second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Supplemental Dosi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ed Special Exposure –Per RAD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tors – Same as Esc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8E569F9-607F-4A36-8060-2D42850E37F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imeter Discrepa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imeter Investigative Report (DIR)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st or Damaged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st/Damaged/Malfunctioning D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uspect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econdary Dosime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100 mrem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&lt;/= 25% Difference in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Customer Complaints &amp;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2F7F9B2-F7DB-4E9B-A7CE-C8CE66E277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Path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g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 W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A9C5F63-5357-4CA4-9675-4CA99228EE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ducing Internal Expos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ating, Drinking, Smoking, Chew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Dipping in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Protective Clothing Correc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er All W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irators in Airborne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Work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DD48D90-9484-494E-9F93-CE12A903CD4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limination of Internal Radioa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logical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 of the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90497B4-134E-43C6-9CAF-E0819EFAF9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tential Health Effects and Risk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2B7416D-47E8-4D2A-99D6-EB9F52A3D0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9960" y="96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aturally Occurring Radioactive Materi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514440" y="257148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-4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8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-1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 1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-22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200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BDC17F2-A832-43D9-BF87-93288886F45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tential Health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fro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 10,000 mrem (100 m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nver, CO, Background 1,000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No Adverse Biological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ancer Associated with &gt; 50,000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Leukemia, Lung, Colon &amp;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ong Latent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distinguishable from Cancers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n-Radiation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D24CCCB-561E-4FE0-9C4F-B563158E1D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its of Radiation Dos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bsorbed D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y – The SI Unit of Absorbed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Gray = 1 Joule/Kilogra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gray = 100 ra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 – The Special Unit of Absorbed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rad = 100 ergs/gram or 0.01 Joule/k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rad = 0.01 gr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1E8CFB9-F1C1-4F70-A1AE-BC6ABD35CE8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ther Infl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&amp; Physical Hazards Contribute to the Same Dis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mo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lco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i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7A634C1-F357-4147-BFDC-B370C84599E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3812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38120" y="17330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– Activity/Volume of Ai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x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c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ke – Curies of Radioactive Materi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n into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– (10CFR20, Appendix B, Table 1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ention of Radioactive Material 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ulmonary Region of the Lung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=Days, W=Weeks, Y=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2ACB142-C06C-4252-AB1E-0FF3852DBDF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Limit on Intake (ALI) – Radioac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 Taken into the Body in 1 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000 h) Resulting in a CEDE (To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dy Dose) of 5 rem (0.05 Sv) or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(Organ Dose) of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Fraction (fALI) – Fraction of ALI from 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ntake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I = Intake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/AL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731C65F-A9D1-4BC1-BC22-E1BB849AAE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ALI(s) for Co-6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0CFR20 Appendix B, Table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for Class W = 2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 for Class Y =    30 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11D54F0-6033-4C0C-B2A6-6D54A39D2C6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8120" y="63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457200" y="188604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ived Air Concentration (DAC)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of Air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Breathed for 2000 h at 1.2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0,000 ml/min) Results in an Intak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1 AL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0CFR20, Appendix B, Table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7054079-286C-4D9C-AE6D-03DB519DDB4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3812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ationship Betwee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C and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457200" y="217188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 = ALI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/(h/y)(60 min/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Breathing Rate)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= ALI (µCi)/(2000 h/y)(60 min/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20,000 ml/min)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= ALI (µCi)/(2.4 E 9 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8530729-A915-4FE5-95B5-9D5709594EB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457200" y="17334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 Fraction (fDAC) – Fraction of DA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ing from Exposure to a Specif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Concentration of Radioac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AC = Conc.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/DA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our – The fDAC Multiplied by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of Exposure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(fDAC)(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C7478E0-FDBF-4BF7-91B4-C412F5230EB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DAC Fraction (fDAC) for 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1 E -9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 of Co-6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Oxide Fo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for Co-60 (Oxide Form)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 E -8 µCi/ml,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AC = (1 E -9 µCi/ml)/(1 E -8 µCi/ml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r, fDAC = 0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88FBFBC-3769-4FC2-A2FC-002833721F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DAC-h for Sample Problem # 3 Where the Exposure Time is 3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(0.1)(3 h), o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0.3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CEC93C1-0C3E-4DBF-9095-EF5C251DCE5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ationship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C-h and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ALI is Based on an Exposure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rem (5,000 mrem) in 2,000 hours/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,000 mrem/2000 h = 2.5 mrem/DAC-h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DAC-h = 2.5 mrem Internal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2E60412-CEF2-4FF9-BE30-FBFE6A8EA96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its of Radiation Dos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Equival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 – The Special Unit of Any Quant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as Dose Equivalent (D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= Absorbed Dose times Quality Fa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rem = 0.01 sieve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evert (Sv) – The SI Unit of Quant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as Dose Equivalent (D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Sv = 100 r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3ECCF8C-03B1-42E5-9FCF-373DC71898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1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457200" y="224748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Concept of ALI and DAC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if a Worker Should W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Respirator for a Specific Task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D5DB56D-C6A4-4DCB-BF4A-D57EB43F80B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Rate = 24 mrem/h, Plus so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b Time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Respirator = 2 h, 20 min, or 2.33 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Respirator = 2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Respirator = 2 DAC-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09F2734-86E9-483E-9F53-489D78A236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Dose Wearing a Respirat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4 mrem/h)(2.33 h) = 56 mrem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Direct Radiatio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xposure from Airbor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ity (Respirat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361D824-28E5-4874-98A0-CFC7DD2A5AA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Not Wearing a Respirat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4 mrem/h)(2 h) = 48 mrem, Dire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 DAC-h)(2.5 mrem/DAC-h) = 5 mr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Airborne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= 48 mrem + 5 mrem = 53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E1AA107-E4FE-45D0-B34B-FAAAD80659D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aring a Respirator,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er Will Recei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Dose Equivalent, Therefor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Respirator Should be Worn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Jo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17CACFF-BF0F-4DD8-930F-3D3B1FE463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asuring Interna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adioactivity (Bioassa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CFR20.1204 Requires Measur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Take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s of Radioactive Materia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ir in Work Areas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nuclides in the Bod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nuclides Excre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he Body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s of these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317CE26-6955-4C18-92FF-CC8A9E2480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li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 Means Used at TVA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e Compli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 Sampling,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ing DAC-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AC894F9-510B-4E7C-8388-E9E5406E399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Dose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ose Monitoring Required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0.1 ALI or 200 DAC-h/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Adul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&gt;/= 100 mrem or 40 DAC-h/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Pregnant Wom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BC6D6C0-8A1F-49E9-BAAE-9B6157F3E93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ioassay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Initial Entry to Contamination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mination on Face Indicates Up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sal Contamination De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estion or Suspected In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mination of Open W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ly (Evaluate Contro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09818B9-1718-43E1-87B8-0FD6E637D31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ole Body Coun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In-Vivo Bioassa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Bioassay Tech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use Bed, Chair, Booth, or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Detectors Placed Near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ccumulated by Multichannel Analy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nalyzed by Compute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ed if Exposur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20 DAC-h/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75CD262-3281-43A6-91F7-D6E8ED2A30D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ality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6292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ype of Radi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Quality Fa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s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or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pha, Fis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ragments, et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2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eutrons (Unknown Energy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1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igh-Energy Prot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6021313-1629-4DA6-82F0-93A05761DD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3" name="Picture 14" descr="MVC-001F"/>
          <p:cNvPicPr/>
          <p:nvPr/>
        </p:nvPicPr>
        <p:blipFill>
          <a:blip r:embed="rId1"/>
          <a:stretch/>
        </p:blipFill>
        <p:spPr>
          <a:xfrm>
            <a:off x="0" y="0"/>
            <a:ext cx="7943760" cy="5959440"/>
          </a:xfrm>
          <a:prstGeom prst="rect">
            <a:avLst/>
          </a:prstGeom>
          <a:ln w="0">
            <a:noFill/>
          </a:ln>
        </p:spPr>
      </p:pic>
      <p:sp>
        <p:nvSpPr>
          <p:cNvPr id="10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4935943-61B5-4453-9529-88B7F8DF114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0" y="1455840"/>
            <a:ext cx="246708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I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9"/>
          <p:cNvSpPr/>
          <p:nvPr/>
        </p:nvSpPr>
        <p:spPr>
          <a:xfrm>
            <a:off x="1676520" y="2000160"/>
            <a:ext cx="1181160" cy="13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5"/>
          <p:cNvSpPr/>
          <p:nvPr/>
        </p:nvSpPr>
        <p:spPr>
          <a:xfrm>
            <a:off x="285840" y="723960"/>
            <a:ext cx="302904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yroid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6"/>
          <p:cNvSpPr/>
          <p:nvPr/>
        </p:nvSpPr>
        <p:spPr>
          <a:xfrm>
            <a:off x="5886360" y="1657440"/>
            <a:ext cx="2171880" cy="1169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rm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19"/>
          <p:cNvSpPr/>
          <p:nvPr/>
        </p:nvSpPr>
        <p:spPr>
          <a:xfrm flipH="1">
            <a:off x="5238720" y="2781360"/>
            <a:ext cx="95256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0"/>
          <p:cNvSpPr/>
          <p:nvPr/>
        </p:nvSpPr>
        <p:spPr>
          <a:xfrm>
            <a:off x="2990880" y="1257480"/>
            <a:ext cx="762120" cy="13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1"/>
          <p:cNvSpPr/>
          <p:nvPr/>
        </p:nvSpPr>
        <p:spPr>
          <a:xfrm>
            <a:off x="2133720" y="1943280"/>
            <a:ext cx="150480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3" name="Picture 12" descr="MVC-002F"/>
          <p:cNvPicPr/>
          <p:nvPr/>
        </p:nvPicPr>
        <p:blipFill>
          <a:blip r:embed="rId1"/>
          <a:stretch/>
        </p:blipFill>
        <p:spPr>
          <a:xfrm>
            <a:off x="30240" y="0"/>
            <a:ext cx="4587840" cy="613404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781520" y="2400480"/>
            <a:ext cx="4038480" cy="33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oth Who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dy Coun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46193DA-8DC3-45B7-AD55-2D99BCDE7C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7" name="Picture 14" descr="MVC-006F"/>
          <p:cNvPicPr/>
          <p:nvPr/>
        </p:nvPicPr>
        <p:blipFill>
          <a:blip r:embed="rId1"/>
          <a:stretch/>
        </p:blipFill>
        <p:spPr>
          <a:xfrm>
            <a:off x="0" y="0"/>
            <a:ext cx="4583160" cy="613404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hannel Analyzer System Used for Whole Body Cou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F3E41A7-D374-421D-B35D-875258F0A3E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BC Measur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ality As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ment Performance Verific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QA)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Traceable to N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Expected Nuc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MQA Intercompari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ind Phan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Results with Known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350C395-28A9-470B-8140-FCA7996F702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tions Taken 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itive Results: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ntaminate and Follow-up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 Unt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Activity F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More De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tic Count if Radioactivity Contin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3F606C9-9BAB-4519-8927-AC14B2E332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tions Taken 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itive Results: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Bioass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Count (WBC)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ine Sample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al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Trend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3669745-1ED6-41EA-A493-43020B9A05E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-Vitro Bioa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ine and Fecal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es Taken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o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i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E1E3CEA-45DA-47DB-8CC1-A7DF3D6A91B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-Vitro Bioassa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zed by ERM&amp;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in Individual’s Exposure Re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y Trend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032B4FB-95D6-4284-81B3-315B039B0D2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quired A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ult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&gt;/= 0.01 ALI or 20 DAC-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Invest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Internal &amp;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Bioas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 Intake &amp; CE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on NRC Form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1ED86F9-71B1-4B55-BDF9-EA22572503A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erms &amp; Calcu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itted Effective Dose Equivalent-(CE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a Functio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ide Intake &amp; ALI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Concentration &amp; DAC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ide Intake &amp; Dose Conver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ef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2FDBFA1-6C1A-42C5-B218-B4905273381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sonnel Monitoring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quired by 10CFR20.15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7CEA974-2373-4F83-B6C6-16E1AD8BE3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DE From C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CDE), Whe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Weighting Factor (rem) for ea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Organ or T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 = Committed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59D59AE-E563-4743-B360-184D7DE1F5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uclide Intake &amp;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/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 = Annual 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or Ingestion Intak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f 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ALI for 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94E6BF7-64E5-4E9D-8AD2-90841F312C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 Airbor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entration &amp; DA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t)/(2,000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 = Annual Stochastic Limit (5 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 Airborne Concentration (µCi/m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 = Time of Exposure (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000 = Hours in a Work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DAC for Nuclide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F17F71D-08E2-4DCE-B54C-062C00863E9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 Nuclide Intak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&amp; Dose Conversion Coeffici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ology Used by HIS-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CEDE = Committed Effective Do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,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or Ingestion Intake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Dos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for Tissue t &amp;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EPA Report No. 11), rem/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49C05B8-19C5-4D2D-B3BB-BBF3D5EF708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mitted Dose Equival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rgan or Tissue Specific Committed Dose Equivalent (CDE) Must be Calculated When the C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.0 r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r an Overdose has Occur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52F3582-9F2D-429B-AB2A-41B71217AB1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ederal Guidance Report No. 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l Guidance Report No. 11 (EPA Report No. 11) Provides Conversion Factors for CDE per Unit Intake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alation (Table 2.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estion (Table 2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sion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v/Bq * 3.7 E 6 = rem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v/Bq * 3.7 E 9 = mrem/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16FA4BA-18AC-41FA-B9AD-0C79DE57174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take &amp;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0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/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 = Committed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0 = Annual Non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Intake for Nuclide i (µCi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Nonstochastic ALI for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8832D9C-284F-4AE7-A5EA-CF068368FE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 Airbor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entration &amp; DA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0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[50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/(2,000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]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=Committed Dose Equivalent (m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0 = Annual Non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Airborne Concentration of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 = Duration of Exposure (hour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000 = Hours in a Work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DAC for Nuclide i (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4BD58B3-576D-4795-B910-51E543C47D5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 Intake &amp;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Conversion Coeffici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Ii *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ommitted Dose Equivalent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 or Tissue 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Intake for Nuclide i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Nonstochastic Dos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for Tissue t and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rem/µCi) from Federal Guidanc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port No.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32F8E04-2F0B-4555-A745-26FE5E5EA43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o Embryo/Fe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[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FDC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T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1,000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E = Dose Equivalent (mrem) to 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take (µCi) for Nuclide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C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Fetal Dose Conver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(rem/µCi) for Mother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ssimilation of Radionuclide i 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etal Age t (Regulatory Guide 8.3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A312264-9706-4D91-897D-520F3667C21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6:16:16Z</dcterms:created>
  <dc:creator>Ralph G. Wallace`</dc:creator>
  <dc:description/>
  <dc:language>en-US</dc:language>
  <cp:lastModifiedBy>Peggy Hines IRSC</cp:lastModifiedBy>
  <dcterms:modified xsi:type="dcterms:W3CDTF">2013-02-18T19:25:41Z</dcterms:modified>
  <cp:revision>28</cp:revision>
  <dc:subject/>
  <dc:title>Personnel Monitoring</dc:title>
</cp:coreProperties>
</file>