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FA0F-3999-414E-81A6-428095D25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6C5B-18AD-4DDF-9B62-0C94050520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C5D7-F60B-4064-A91B-589A828E4C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FFE7-9DEC-43FC-A80C-C601CB0AA8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2217-24EF-47CE-AA9B-7FBDFFC777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B641-A70D-4DA9-9B8B-C1BBE01C49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4CC8-BE89-4216-915E-4801BB9BB1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156D-35A9-45EF-8CFC-6A29554D39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52DF-DA38-4434-BC85-51FEC283AD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7538-153B-4FB6-8A8C-310E9DDC7B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FFF7-FB2F-477E-A7E7-0DBB022AEC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89AF-7AB6-47CB-8576-FC0D79879C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BBEA-BCC9-45FF-AEEA-6B9DA01EAE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DE26-8510-4574-8206-6FB980F687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DB01-6D67-4536-8DAE-DBDB58027E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45DA-EEB6-40AC-A4DB-C63960015F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06DB-53B1-4B1B-B634-FAC1555F72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8C9D-D80A-43DA-96BE-7821ED2EF9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B3D-4153-4056-BF53-D6E9DF21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77E-6B47-4748-B805-084F9898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89DDA-32EF-4186-8B51-662AE485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83F82-C066-4090-A1FF-6D6583FC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5527B-FB54-4D71-949F-65020CAB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D1335-2BBB-4ACE-85BD-F7538F2E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8B147-A5E1-4F81-972B-F00E400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243E5-694C-40FE-A3F0-255F308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0EAB1-224B-44C1-A758-A179CBA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CCF67-3A66-47B8-8CCB-BAD2DFD6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1718E-B464-4C1D-9D16-676E28CC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C9D7F-20F4-4264-AB6D-FA44D0D2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623-6F9E-430E-8470-F33A368D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731D2-0D79-42CC-AA5E-ABBFABB7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7713A-D857-42B2-809B-627D93A5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906CA-604B-4B0D-8CB0-B1789F4D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30E45-EF1B-4EF0-AA94-CCB9D6C9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3EA58-97A0-4C47-B456-4A460101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D4F21-3EDD-473D-B6FB-23CCB96A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98EF0-69A8-4DAD-8101-63B1EFA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7528F-112E-4FF9-8946-5FB30C12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30555-CAC2-4A7A-83DF-92F59BB5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72A11-3402-4499-996C-BFE7CB24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751-7A2D-45FC-B6F0-97DEB8A6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4F9E0-7435-40D8-B2A2-A244EE68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921D0-168E-4EC4-9701-84751C64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C6655-11E5-4411-A9C4-D1E1B546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C9BEE-4F09-4E7B-9435-C88979A9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E712A-C6CA-4EB1-A77D-BD0C39E2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22EDB-9461-4832-88BC-64149766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2EF14-4337-48F8-882F-6FE72FAF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A7BBD-E8D3-4258-9D67-E5A0B669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FAEB3-E37A-4396-9335-86A2DE32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6B072-6500-491B-936B-FB9A418F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0CF4-8D53-46A0-9504-38B76FE0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EB0AC-1930-46F6-9F20-0AF0D418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60657-FB4A-4CBD-BDD4-5D649E9F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1C40F-E54A-4F23-8DE9-76025507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A3823-FA11-459E-9415-87BBA72F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28040-8A21-4BD4-A95C-C07A3E98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8FA16-152C-4096-AD22-0486F59E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66C35-7D66-4433-82AB-AC8981F0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97ED9-5F55-49BC-A9FB-D7B6B1CF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E3343-C928-4A85-9264-1C79156D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6B190-A24F-4740-8F5D-1A4D66BF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00D3-0101-41D6-BECC-7A338F44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E88D6-F7B3-43F3-A76E-2D51D22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8AACF-9D7A-46D7-B085-ACDAEED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EC269-4AD8-4CBE-AACF-15EAF815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BD54D-4102-41AD-B607-60319CB6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9E6D2-0AD6-417B-BEC9-8FFFACD7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69A3C-E136-4C40-AAB7-AD867952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2F593-9928-4A77-B35C-524FA957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DFDA3-1835-4154-8DA6-3275F968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39245-D8AF-41B1-9BAE-F1BCCCCA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F33FA-C0C6-4D35-B641-AB1A1C6B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976A-82DE-4465-9135-3A564C79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CA948-EA15-4650-809C-227B5EE9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9CC76-1C41-4C30-8D3E-1E07FA85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FBE63-F023-473A-BD0F-95AE69B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08CB7-35D2-4702-991F-E3D7145D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5F002-0286-44D5-9DB0-FC3095D5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C481B-3443-4BE4-8089-396BFCD8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E2FEA-A267-46B0-A86B-0576734F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C6964-17D8-45C4-BFE7-5C48933E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0B693-65C8-4106-8508-2DFF651B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37F45-0B85-41DF-A042-77E3083C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CA54-63FA-48EE-9D84-EEF2D818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B271A-86C3-45F8-AC50-732B346F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379CE-90B3-4F59-AA6F-DC78FB3B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89F1F-0BB2-4ECF-BA1A-CAE2BCB1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C6B84-994C-4BE0-969B-6DDA8FDB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CC34F-EE1C-44D1-B6DF-58D492E2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280A5-FA93-4BAC-9566-6BF7831C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17825-6C38-4735-B3E8-CE72447C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AF1C4-B81F-4F45-BCD8-0C98749D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A6900-88A9-4BA6-A529-1A29D0F8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4D66-2642-45D9-94EC-3A877182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C7B2-F50D-48A8-B52D-9B15859E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033C-6233-49BB-B019-FF18DAF8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E6E-33B1-4E60-853C-AD6F98B8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C119-D47A-4A5C-9495-324E88F9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79A5-8926-4DF9-8E9B-1FE9B459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B116-D71D-4DF0-801B-72110258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0832-9AC8-46B0-87E1-202B7354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AAFF-802D-487A-93E5-F109D896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66C37-1F89-47AE-89C3-4F9925A0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A7B3-30FE-4093-941C-D5CB2B48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5EB4-3771-403E-8DB8-3B74FA6F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E0DE-8207-4952-9376-ED809088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8E7D-B437-4B76-862A-A5FE6855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4FA-B98B-4A8B-BBC7-BFBC03EF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0E16-1C17-4A47-AE2F-0CD152AB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4D6C-37FB-4537-B23E-E2825EEE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2CC09-0AB8-4731-BC9A-42273D83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1B0A-DBFB-44FD-B23C-8AA28181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E27F-9CF1-4C14-AB05-022DF70F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22B3-B13B-46DC-A8B6-C4E045AB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A3F3-AB47-45F9-A2AC-EB389E31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4DB9-EBF3-409E-9406-30D53B97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FCB4-AEB4-47D3-8CD0-F5616451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50E0-CB54-474B-A14B-629AB9CF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091-587B-4726-B957-038A170E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D6B9-1B9D-43B9-B3C6-F79CAAE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29B07-B4FE-4193-AE80-86673189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46A4C-BD72-4F31-B6EF-C48C6AE6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5E01F-7D10-4922-BED5-FF405F19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ED30-718C-466A-A6B7-E373566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5710-C4B1-422A-805E-BDF35DB3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4CD4-6F33-46FF-BA5A-4264D7B1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DB53-8C9E-4ABA-94E9-BA493C72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C1021-A046-45D7-A5B6-AB860272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72908-B8AE-4863-85D9-1530451D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445-0B87-4B80-A2C6-571133F6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20E63-A8D5-4CB9-8855-F35D6324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CCECC-112A-4976-A8D0-2DD69C45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0F3C-3F47-46E6-9386-97E3B698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142DD-E2B3-4B16-8E80-9401B5FB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53F6-F02B-4B5F-8865-E312D13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509C0-797B-4DD6-9D9A-044DBA3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3CA8D-EDA3-48DA-9D24-F604F50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D6011-C279-47B9-A587-77453F97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6F441-6304-4C73-AEB9-9DDCB540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C94A2-DDBC-468C-B67B-A4AC2B44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235-C57A-41D4-A412-5A27A001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801F2-1A7F-4842-B7A1-9F1BF510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D4FC5-8CEA-4861-8FDF-27BC8D69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BD6DB-5C0B-45E9-8909-C9B0C8F3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0480-0A8A-42F2-841F-707F6905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BE431-3926-4720-9E58-50222EF4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B09A-DD8E-49C8-A76E-A32324AD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1900A-AD61-4D69-B0F3-D61BAE3A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0E17F-473D-444E-B2EB-5583B0E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6537F-3029-40F1-9164-10592333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173FD-A234-4B23-846A-22311DE4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59B-3361-4EC2-A617-FB8DE77F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4A364-4E36-4C74-875D-04C1D7D2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3DC4-15D7-4B30-884D-42255E12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492E9-017C-4176-8059-F5057F79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B9ADA-8E22-438C-9833-5FE76AAC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FF87C-9457-42EC-A2E5-897044C2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6C3AC-B3FB-441E-8A62-06E5168E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33ACF-1639-48E1-8690-60030EE3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651D-BEF3-47F2-BF58-1E41ABBD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91302-16C4-4BB7-93DE-531600F4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3EE9E-2712-4F8D-8E6E-EF090592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B3F-B062-4BBF-86EF-1BC81589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226D-F300-4A69-A694-619D4BA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C9AA9-88BA-479C-8523-7674C0D6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F5177-6D9C-4637-B160-31CC55FE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881A7-CD0F-4F7A-B8FC-EF93CE06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3D8C6-91B0-49FD-8622-3F20623F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8CC4F-E791-43B4-BF2B-6D5FD503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F1F10-1500-4EEF-BF48-48D43F81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42FC9-2029-4AD0-B78E-B6EB8FCC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64B5F-2C1B-42E0-8764-84D6C6A9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8FDD9-EC57-41F1-A496-337958EE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856-30B2-4433-B079-E35F976C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4BDA2-E027-4D93-9E46-4D364F34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5F1F7-E967-45E6-9222-67618C10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9C45E-15A4-47FF-94B9-65873B88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AC71D-9780-4370-A760-36948EFB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E38F-A555-49E9-95D2-E0DB91AA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785B5-23F9-499A-97E0-1FFB2F0A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F6AA-5128-454D-83C5-A4171E48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68D45-A5D7-4E64-8F80-044A33A7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F9C35-C0BF-421E-A277-A2EB91AB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B9468-B729-4025-A432-5EF7F971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7C27-5DD6-474A-8953-A2DBD07EDD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88EC-2467-4F74-A389-CCFB84B425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CD57-1A23-408A-A836-A5395F3BB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1C62-22CC-4B42-9358-1190460B06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2DCE-AC8E-481A-9693-1E0245CFA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EF4D-4C84-466B-8610-67C3B8B97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591A-3B04-4B07-8CA5-4932826EF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7103-80CE-4C4C-89AA-D7EB47DCC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69E8-05EA-4B0B-BE1D-A41071029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B22F-C340-495E-9373-1A9B68287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BA3-2FF9-4AA4-9EF5-CBF70FE4E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ABB2-A5BF-4CDC-90CC-567D9A23B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A2C2-C0A8-47F9-AD63-11D664CAE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B190-A869-4F18-B487-7F011B3E4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R policy, CFR violation, CFR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819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73844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oceeding to modify, suspend, or revoke a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es alleged violations or potentially hazardous conditions and specifies proposed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written response to the order under oath or af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s licensee of right to demand a hearing on all or part of the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es the issues for the he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the effective date of the order – may be immediately effective if public health or safety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Llicensee must admit or deny each alle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ssued by Commission to determine if an order should be is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Licensee must reply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663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1911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 - Rules Of Practice For Domestic Licensing Proceedings And Issuance Of Or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proceeding relating to all aspects of licensing issues, and the enforcement of licensing agre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9 - Notices, Instructions And Reports To Workers: Inspection And Investig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0 - Standards For Protection Against Rad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s the receipt, possession, use, transfer, and disposal of licens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1 - Reporting Of Defects And Noncompli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responsible officer of a nuclear faciity to immediately notify the Commission of an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ilure to comply with laws relating to substantial safety 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cts which could create a substantial safety ha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6 - Fitness For Duty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 - Domestic Licensing Of Production And Utilization Fac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s for obtaining an operating license or construction per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A - General Design Criteria For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es necessary design, fabrication, construction, testing, and performance requirements for structures, systems, and components important to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B - Quality Assurance Criteria For Nuclear Power Plants And Fuel Re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/A requirements for the design, construction, and operation of all structures, systems, and components included in a production or utilization fac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details: student reports on criterion I - XV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1 - Environmental Protection Regulations For Domestic Licensing And Related Regulatory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5 - Operators' Licen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the issuance and renewal of licenses for operators and senior operators at nuclear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73 - Physical Protection Of Plants And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ther words,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00 - Reactor Site Cri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population zones, seismic activ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isting U.S. Nuclear Reactors (1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Content Placeholder 3" descr="reactors-map.gif"/>
          <p:cNvPicPr/>
          <p:nvPr/>
        </p:nvPicPr>
        <p:blipFill>
          <a:blip r:embed="rId1"/>
          <a:stretch/>
        </p:blipFill>
        <p:spPr>
          <a:xfrm>
            <a:off x="1295280" y="1905120"/>
            <a:ext cx="6867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posed New U.S. Nuclear Reactors (2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Content Placeholder 5" descr="new-plants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ality Assurance for Nuclear Re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(QA) comprises all planned and systematic actions that are necessary to provide adequate confidence that a structure, system, or component will perform satisfactorily in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s of a QA program include procedures, recordkeeping, inspections, corrective actions, and au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106668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NE 127 – Codes, Standards, and Regul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ubtitle 2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Key Parts of 10CFR (for the Nuclear Industry)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STRUCTOR: Chattanooga State C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view of QA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 reviews and inspects QA programs and their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's objective is to determine whether licensees and their contractors are meeting the agency's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the NRC reviews the QA programs for commercial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for operating nuclear power plants, the NRC reviews any changes that reduce previous commitments to the plant’s Q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gulatory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 acceptable methods of design, fabrication, construction, operation, and quality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s are mand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and NUREGs mandatory only as committed to by the applicant (as stipulated in the construction permit or operating licen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forth requirements for submitting environmental reports, safety analysis repor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AR – Preliminary Safety Analysis Report (for construction permi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SAR – Final Safety Analysis Report  (for operating licen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ory Guide 1.70 describes the type of information to be submitted by the applicant for PSARs and FS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RE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 NURE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reports relative to the regulation of nuclear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800 - Standard Review Plan For The Review Of Safety Analysis Reports For Nuclear Power Plants: LWR Edi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s what the NRC expects to see in the SAR, including the applicable acceptance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auditors for identification of specific regulations and guideline documents that address each topic of a 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1946 - Inservice Testing of Pumps and Valves, and Inservice Examination and Testing of Dynamic Restraints (Snubbers) at Nuclear Pow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 the ASME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stitute of Nuclear Power Operations (INP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in 1979 following the Three Mile Island inci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s mission is to “promote the highest levels of safety and reliability – to promote excellence – in the operation of commercial nuclear power plants” by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ing performance objectives, criteria and guidelines for the nuclear power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regular detailed evaluations of nuclear power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ssistance to help nuclear power plants continually improve their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PO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O provi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ing and accreditation (ACA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nts analysis and information ex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to be confused wi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I (Nuclear Energy Institute) – lobbyist group for nuclear energy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CP (National Uniform Curriculum Program) – program sponsored by NEI to provide a national certificate of accreditation for QA/QC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Technical Training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hattanooga (off Marlin Road near the air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RC TTC Administration Offices are located on the second floor of a 6-story all glass exterior office bui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ors are located on the first, second, third, and fourth flo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ME Boiler and Pressure Vesse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C Enforcement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pecified in 10CFR2: Rules of Practice for Domestic Licensing Procedures and Issuance of Or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compliance with NRC regulations and licensee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s prompt correction of licensee weak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deterrent to future non-compli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ourages improvement of licensee performance – leads to enhanced degree of public health and saf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sessed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as actual release of radiation, damage to core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risk f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on the regulator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lure to report or keep accurate and timely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deliberate intent to violate or fals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rity Level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Normally categorized in terms of four levels of severity to show their relative importance or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 – mo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I and II involve actual or high potential consequences on public health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V – lea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orcemen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NRC Commission may issu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Cited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ice of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ed Administrative Action (such as a Demand for Infor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Cited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ssues of very low safety signific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ed as violations in inspection reports to establish public records of the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cited in Notices of Violation which normally require written responses from licens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ice of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rved by the Com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y require licensee submit a written statement to address all alleged violations 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violation, or, if contested, basis for disputing the vi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taken by licensee and results achie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whic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 for full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vailable for viewing on www.nrc.g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Pena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ivil penalties may be imposed for up to $140,000 per day for each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ctual fee based on severity level of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f a violation is on-going, each day of the violation constitutes a separate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dcterms:modified xsi:type="dcterms:W3CDTF">2013-02-14T14:49:00Z</dcterms:modified>
  <cp:revision>248</cp:revision>
  <dc:subject/>
  <dc:title>Statics and Strength of Materials</dc:title>
</cp:coreProperties>
</file>