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  <p:sldId id="314" r:id="rId78"/>
    <p:sldId id="315" r:id="rId79"/>
    <p:sldId id="316" r:id="rId80"/>
    <p:sldId id="317" r:id="rId81"/>
    <p:sldId id="318" r:id="rId82"/>
    <p:sldId id="319" r:id="rId83"/>
    <p:sldId id="320" r:id="rId84"/>
    <p:sldId id="321" r:id="rId85"/>
    <p:sldId id="322" r:id="rId86"/>
    <p:sldId id="323" r:id="rId87"/>
    <p:sldId id="324" r:id="rId88"/>
    <p:sldId id="325" r:id="rId89"/>
    <p:sldId id="326" r:id="rId90"/>
    <p:sldId id="327" r:id="rId91"/>
    <p:sldId id="328" r:id="rId92"/>
    <p:sldId id="329" r:id="rId93"/>
    <p:sldId id="330" r:id="rId94"/>
    <p:sldId id="331" r:id="rId95"/>
    <p:sldId id="332" r:id="rId96"/>
    <p:sldId id="333" r:id="rId97"/>
    <p:sldId id="334" r:id="rId98"/>
    <p:sldId id="335" r:id="rId99"/>
    <p:sldId id="336" r:id="rId100"/>
    <p:sldId id="337" r:id="rId101"/>
    <p:sldId id="338" r:id="rId102"/>
    <p:sldId id="339" r:id="rId103"/>
    <p:sldId id="340" r:id="rId104"/>
    <p:sldId id="341" r:id="rId105"/>
    <p:sldId id="342" r:id="rId106"/>
    <p:sldId id="343" r:id="rId107"/>
    <p:sldId id="344" r:id="rId108"/>
    <p:sldId id="345" r:id="rId109"/>
    <p:sldId id="346" r:id="rId110"/>
    <p:sldId id="347" r:id="rId111"/>
    <p:sldId id="348" r:id="rId112"/>
    <p:sldId id="349" r:id="rId113"/>
    <p:sldId id="350" r:id="rId114"/>
    <p:sldId id="351" r:id="rId115"/>
    <p:sldId id="352" r:id="rId116"/>
    <p:sldId id="353" r:id="rId117"/>
    <p:sldId id="354" r:id="rId118"/>
    <p:sldId id="355" r:id="rId119"/>
    <p:sldId id="356" r:id="rId120"/>
    <p:sldId id="357" r:id="rId121"/>
    <p:sldId id="358" r:id="rId122"/>
    <p:sldId id="359" r:id="rId123"/>
    <p:sldId id="360" r:id="rId124"/>
    <p:sldId id="361" r:id="rId125"/>
    <p:sldId id="362" r:id="rId126"/>
    <p:sldId id="363" r:id="rId127"/>
    <p:sldId id="364" r:id="rId128"/>
    <p:sldId id="365" r:id="rId129"/>
    <p:sldId id="366" r:id="rId130"/>
    <p:sldId id="367" r:id="rId1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slide" Target="slides/slide59.xml"/><Relationship Id="rId79" Type="http://schemas.openxmlformats.org/officeDocument/2006/relationships/slide" Target="slides/slide60.xml"/><Relationship Id="rId80" Type="http://schemas.openxmlformats.org/officeDocument/2006/relationships/slide" Target="slides/slide61.xml"/><Relationship Id="rId81" Type="http://schemas.openxmlformats.org/officeDocument/2006/relationships/slide" Target="slides/slide62.xml"/><Relationship Id="rId82" Type="http://schemas.openxmlformats.org/officeDocument/2006/relationships/slide" Target="slides/slide63.xml"/><Relationship Id="rId83" Type="http://schemas.openxmlformats.org/officeDocument/2006/relationships/slide" Target="slides/slide64.xml"/><Relationship Id="rId84" Type="http://schemas.openxmlformats.org/officeDocument/2006/relationships/slide" Target="slides/slide65.xml"/><Relationship Id="rId85" Type="http://schemas.openxmlformats.org/officeDocument/2006/relationships/slide" Target="slides/slide66.xml"/><Relationship Id="rId86" Type="http://schemas.openxmlformats.org/officeDocument/2006/relationships/slide" Target="slides/slide67.xml"/><Relationship Id="rId87" Type="http://schemas.openxmlformats.org/officeDocument/2006/relationships/slide" Target="slides/slide68.xml"/><Relationship Id="rId88" Type="http://schemas.openxmlformats.org/officeDocument/2006/relationships/slide" Target="slides/slide69.xml"/><Relationship Id="rId89" Type="http://schemas.openxmlformats.org/officeDocument/2006/relationships/slide" Target="slides/slide70.xml"/><Relationship Id="rId90" Type="http://schemas.openxmlformats.org/officeDocument/2006/relationships/slide" Target="slides/slide71.xml"/><Relationship Id="rId91" Type="http://schemas.openxmlformats.org/officeDocument/2006/relationships/slide" Target="slides/slide72.xml"/><Relationship Id="rId92" Type="http://schemas.openxmlformats.org/officeDocument/2006/relationships/slide" Target="slides/slide73.xml"/><Relationship Id="rId93" Type="http://schemas.openxmlformats.org/officeDocument/2006/relationships/slide" Target="slides/slide74.xml"/><Relationship Id="rId94" Type="http://schemas.openxmlformats.org/officeDocument/2006/relationships/slide" Target="slides/slide75.xml"/><Relationship Id="rId95" Type="http://schemas.openxmlformats.org/officeDocument/2006/relationships/slide" Target="slides/slide76.xml"/><Relationship Id="rId96" Type="http://schemas.openxmlformats.org/officeDocument/2006/relationships/slide" Target="slides/slide77.xml"/><Relationship Id="rId97" Type="http://schemas.openxmlformats.org/officeDocument/2006/relationships/slide" Target="slides/slide78.xml"/><Relationship Id="rId98" Type="http://schemas.openxmlformats.org/officeDocument/2006/relationships/slide" Target="slides/slide79.xml"/><Relationship Id="rId99" Type="http://schemas.openxmlformats.org/officeDocument/2006/relationships/slide" Target="slides/slide80.xml"/><Relationship Id="rId100" Type="http://schemas.openxmlformats.org/officeDocument/2006/relationships/slide" Target="slides/slide81.xml"/><Relationship Id="rId101" Type="http://schemas.openxmlformats.org/officeDocument/2006/relationships/slide" Target="slides/slide82.xml"/><Relationship Id="rId102" Type="http://schemas.openxmlformats.org/officeDocument/2006/relationships/slide" Target="slides/slide83.xml"/><Relationship Id="rId103" Type="http://schemas.openxmlformats.org/officeDocument/2006/relationships/slide" Target="slides/slide84.xml"/><Relationship Id="rId104" Type="http://schemas.openxmlformats.org/officeDocument/2006/relationships/slide" Target="slides/slide85.xml"/><Relationship Id="rId105" Type="http://schemas.openxmlformats.org/officeDocument/2006/relationships/slide" Target="slides/slide86.xml"/><Relationship Id="rId106" Type="http://schemas.openxmlformats.org/officeDocument/2006/relationships/slide" Target="slides/slide87.xml"/><Relationship Id="rId107" Type="http://schemas.openxmlformats.org/officeDocument/2006/relationships/slide" Target="slides/slide88.xml"/><Relationship Id="rId108" Type="http://schemas.openxmlformats.org/officeDocument/2006/relationships/slide" Target="slides/slide89.xml"/><Relationship Id="rId109" Type="http://schemas.openxmlformats.org/officeDocument/2006/relationships/slide" Target="slides/slide90.xml"/><Relationship Id="rId110" Type="http://schemas.openxmlformats.org/officeDocument/2006/relationships/slide" Target="slides/slide91.xml"/><Relationship Id="rId111" Type="http://schemas.openxmlformats.org/officeDocument/2006/relationships/slide" Target="slides/slide92.xml"/><Relationship Id="rId112" Type="http://schemas.openxmlformats.org/officeDocument/2006/relationships/slide" Target="slides/slide93.xml"/><Relationship Id="rId113" Type="http://schemas.openxmlformats.org/officeDocument/2006/relationships/slide" Target="slides/slide94.xml"/><Relationship Id="rId114" Type="http://schemas.openxmlformats.org/officeDocument/2006/relationships/slide" Target="slides/slide95.xml"/><Relationship Id="rId115" Type="http://schemas.openxmlformats.org/officeDocument/2006/relationships/slide" Target="slides/slide96.xml"/><Relationship Id="rId116" Type="http://schemas.openxmlformats.org/officeDocument/2006/relationships/slide" Target="slides/slide97.xml"/><Relationship Id="rId117" Type="http://schemas.openxmlformats.org/officeDocument/2006/relationships/slide" Target="slides/slide98.xml"/><Relationship Id="rId118" Type="http://schemas.openxmlformats.org/officeDocument/2006/relationships/slide" Target="slides/slide99.xml"/><Relationship Id="rId119" Type="http://schemas.openxmlformats.org/officeDocument/2006/relationships/slide" Target="slides/slide100.xml"/><Relationship Id="rId120" Type="http://schemas.openxmlformats.org/officeDocument/2006/relationships/slide" Target="slides/slide101.xml"/><Relationship Id="rId121" Type="http://schemas.openxmlformats.org/officeDocument/2006/relationships/slide" Target="slides/slide102.xml"/><Relationship Id="rId122" Type="http://schemas.openxmlformats.org/officeDocument/2006/relationships/slide" Target="slides/slide103.xml"/><Relationship Id="rId123" Type="http://schemas.openxmlformats.org/officeDocument/2006/relationships/slide" Target="slides/slide104.xml"/><Relationship Id="rId124" Type="http://schemas.openxmlformats.org/officeDocument/2006/relationships/slide" Target="slides/slide105.xml"/><Relationship Id="rId125" Type="http://schemas.openxmlformats.org/officeDocument/2006/relationships/slide" Target="slides/slide106.xml"/><Relationship Id="rId126" Type="http://schemas.openxmlformats.org/officeDocument/2006/relationships/slide" Target="slides/slide107.xml"/><Relationship Id="rId127" Type="http://schemas.openxmlformats.org/officeDocument/2006/relationships/slide" Target="slides/slide108.xml"/><Relationship Id="rId128" Type="http://schemas.openxmlformats.org/officeDocument/2006/relationships/slide" Target="slides/slide109.xml"/><Relationship Id="rId129" Type="http://schemas.openxmlformats.org/officeDocument/2006/relationships/slide" Target="slides/slide110.xml"/><Relationship Id="rId130" Type="http://schemas.openxmlformats.org/officeDocument/2006/relationships/slide" Target="slides/slide111.xml"/><Relationship Id="rId131" Type="http://schemas.openxmlformats.org/officeDocument/2006/relationships/slide" Target="slides/slide112.xml"/><Relationship Id="rId1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0853-4745-471A-BBC7-B5EA76225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6CEB-0BA5-4EAA-813D-A36913634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58D4-48FF-4F35-98C4-FE8C9B466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FCA6-E896-4408-A057-80BDECC71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3255-4B72-4038-9F3B-DE09FE66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18845-04EB-4721-8C1E-5D4B9972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D8FB8-F2EB-4BDD-8C9C-C1CB1014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34680-372B-4C98-90A2-14D0D7E2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1E9B0-70DE-481C-8093-D4FC59C3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F7E7C-2210-4A1D-BAA9-50D49F82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BD4A2-DFCF-4EB1-B3B8-58D8DA06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1F47A-A88B-413F-BF85-195B2929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708C0-8AAA-4B0E-B4F1-3B9567D1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0085A-BC6A-4EE8-9ABE-80812AFEA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29CF6-1F77-4B08-A4C3-69A0D13E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14F9-153E-498D-B0E1-A31380C55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19420C-645C-4DB3-BD59-D3839D72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53ED2-C902-421A-8E55-0DB1A9B7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7019F-372A-496E-8324-ACABAC92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11956-CA7A-4423-A28F-7983B6A7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A675E-CBBC-4B37-80BE-1FFEC2C8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BE3A1-F204-46D1-883B-7E98AD55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7D24E-3279-4DC7-9D5F-BBFF586A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5766D-BB3E-47BF-BFE2-77E2B83A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CA744-36D5-4759-8839-D29CFC72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F2F90-FDBA-4D2B-B425-1F37693D2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D5E5-5DEA-4618-B5A8-1EA81F09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346669-66A5-47F1-8AA1-5A415E735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02CF0-D4BC-4CF1-9607-CB79F7BB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59411-703B-47AF-864C-B41CB7F9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3ACDA-60D6-4B2D-A26B-0015FCBB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A3AAB-8961-4643-87C1-0AE62CDF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C77CC-9D59-4488-B829-92730FBE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52FBE-DB61-4EA9-8FA5-7317DBD4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4DBFF-CF1C-44E2-A90A-07D274BA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91BC3-83B4-4C2D-A256-F09F08D1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8EC8F-93F3-48AA-A845-523F82A7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456D-075E-4EA2-82AB-5235F2FBB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F9750-2029-4AD5-BE7B-28488846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9A851-0D10-40B1-85F6-1198FF43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90057-9456-46F1-AA94-314F6CB77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A2534-FD62-49A8-8D78-46BBB4766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FABF41-895A-4364-AFB5-EA79AB88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0AD01-971B-4A5A-AFCF-CC79B3E0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54811A-984F-40AB-9A0D-5D6341B5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410161-C46C-42E1-AC5B-00D8C0DF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F6DE60-773A-4F33-A4D6-0BA0CDB8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5AEDA-1BA5-4D6C-96CC-3BF8B1C4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1CC6-0657-47B0-B815-6F5C890E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C946D2-6486-43A5-8E5B-6A186FE0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670410-5390-4C90-BF0A-CC325B7B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82429C-F9DC-4C22-B778-6ECCFDEB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892F79-E9EB-415A-97C9-DC336905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129421-8ECB-418D-8343-DD07A70A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82E8C1-AB47-41B8-9432-DC7215FD1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B3AD74-3370-4120-B0B2-1593C4B2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32B1B8-A97F-43E0-A27F-75AD0771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090FEE-939B-4E9A-BF2D-D5445A61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96F1CD-36C9-4265-9C4F-BBFF0574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2002-4E98-4B0B-A6D4-02637DC7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AB08D4-91E2-4947-AD97-043118EE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9ABC78-B7D6-42D5-809D-631B0C5C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BAF009-464A-4B84-AF6E-2FCD7670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CF9BAA-1CF5-4117-A223-6FA9D878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29B2C3-E588-4495-865A-D5BBAC3D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774806-9BF0-4166-A429-CA7BD2D9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4BCB51-97B6-43D7-9462-70159E444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F9EB52-6B94-4C4D-9026-22EACF706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EAD436-C9BA-45DC-90AC-1CFD84D4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218B25-B152-4ECB-9898-46F2EE3A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D5FD-9502-470C-AE2E-A1F2670D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74829E-5C9F-4112-A101-D8CB201B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41DA7F-7BF9-4DFD-97B3-D2A1DC63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918FDD-9A43-46C2-88EC-4EA155EE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A716E8-D867-4EA6-BFAC-291D7E63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74F989-C0C0-4794-9B25-AD48682A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06219E-EABF-499F-800E-79F4A739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65CB28-33D9-427A-9BBE-68D4F592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F6FB13-BFF8-4E58-8ABF-10D0BBA9B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33E66A-88E1-41C1-A395-FAAE726CC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DEA030-79B8-4902-B611-335AB19C0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B4EF-3BB6-4DF6-915A-CA937213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13200D-5B38-42A7-A259-67185372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43A2A9-9FEF-4C04-A8A9-2CFF0325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FD4C67-7930-4AFC-9AE4-32BE09F5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D92ACC-6833-495C-B530-551EF772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EF08DD-C191-4958-A3C7-7A45B8B7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B06020-689E-4F6C-B06C-0C3F576C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595097-F8D1-4D35-ADC2-BFE3623F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BDA9AE-7169-4F6B-A7ED-EDD8B251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91C38F-92D7-4515-BA3A-78BD0ACD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9DF316-9104-4CF1-BC2B-206998133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EC2F-7B2F-498B-8DF2-A5C034D5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A357D3-A4E0-4D08-8148-B1AAE3459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E396A1-DA1F-42D4-874A-3352DFEF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2F337F-D352-4636-AA75-4B04FA0D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B74C70-D90D-4FE2-A9E7-C61725A5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2DBE43-112E-46F8-B91C-78624E55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4EE9CA-EE54-40E2-A2C8-8E0ACB5E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2DFBCD-DFAD-46BE-9070-A924DA97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3B4FCC-70FB-4BF1-865C-6C88528E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61B19B-7E2F-4FFF-B309-18F528E3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BFA895-307D-47A4-AD84-E5214CE9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96F6-46A0-4BBF-8115-C51BF2AF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73CBA1-A9A7-48A0-B23D-D54FDCE6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E2C6EF-72AC-48E6-8E9E-DD9618523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EA3B48-0FAA-4830-816C-F7B53D18F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50EB9D-3F56-4CF1-AFC5-A48791F6C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BCFD0C-264C-45D0-952E-E333D357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E121FF-9D2B-427B-A842-80AC37A0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3F517E-FFEF-4769-B800-2FFC7CDB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55D145-1840-44B4-A72D-FE297221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2B23E8-10AF-457F-80C1-E65C6F4C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F3C9A8-A6D3-4EAD-B43E-2FBDC531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1371-F2E2-442D-8109-57D8697D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2854-F6CC-44DD-BCB5-09A93B05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F6E0DF-9E1B-4ECB-9761-5F08EC28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63AE9E-89B3-4378-97BC-B35C5B15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5C723D-41A5-4266-8B71-195A19AF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436EA9-B2D5-4AC3-AB3D-7C5F25F56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610A7F-B7E8-411E-B7D7-B552057D4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6792-A874-4F87-9A74-97E0EA1F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FC28-848A-4B51-848C-71B84EAC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4F39-A754-4778-A64C-CD975F44D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7B46-9FD8-4EC0-B150-ADC12F301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DD735-994B-4936-8356-B18AF8082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334C0-C1A8-4E7A-ADC2-762603E2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E4635-8622-476D-8159-19B93B0A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B8900-DC0F-4AA6-A1ED-D1FEF25C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8D711-0CF1-461C-9A68-0098CC04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CE61-7D9E-45BB-9AC0-A5284BEA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C41E8-C41C-46F4-8B14-709FB23E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BE5C0-0755-4F37-BA83-1CD1541B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8C561-0C7D-417A-890B-91BEBE7C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677DA-463F-4326-8C02-866FE8C1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956B5-4556-44DB-BEE2-105C5F82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F4D63-C704-4F9E-9351-522DE8B02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ED5B3-B987-4853-A3B6-9CB77BAE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BC456-24F1-4665-A8A7-D85D64226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0B38E-917C-4954-A7CB-09D7E3E4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E53FE-B771-4C4C-9F5D-52562B80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06C1-1990-4454-8407-9E8732A1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50D89-DF09-4908-842A-7BC1A888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8AEE2-B498-4B06-86DC-9A74A267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36A11-DA27-4C6F-B607-F29922A3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28DD1-7C2F-4AC5-AD13-5686B43E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DC164-84EE-432D-A527-EF5ACA01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C5D68-B7B3-400D-B515-87E17B36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6B773-C85E-43E9-98B3-A098C773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7E63E-8B0B-4F44-8964-7FF6F1874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28FA4-C4F4-41C1-AAA9-F1976A70C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68170-2C6C-4BBB-9662-53425B2D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B121-364E-4FE4-892D-964F3259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8CF58-F867-4F30-BE70-F85D782C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C2B08-C580-4116-AA7E-6D06A12A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FCCF1-76BE-4C56-B1A2-7F4F8BBC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2BD95-A1D5-46CA-887A-0010B674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78437-6BA3-4A67-914B-CD03B440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38311-B73E-4EE9-81BF-B290C8B2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AF154-B313-45EF-BA02-FDD09F77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D9ED9-B2EB-454C-811D-4CBEC32E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0D6FB-8428-41C3-9AB1-038A69EA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36165-7D1E-42D4-BB1E-A7EFC1F10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EA43-6379-4A4A-93F3-A9740710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E1A53-3BE5-44EE-B990-29C362181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46ACD-7387-40BD-BBA9-254E9FDA7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52C9C-4ADB-4C45-9AE2-0809EEA9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DB1DD-5CA5-451A-9693-531CB387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84C84-3C03-4534-8142-923DFACA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6BF9F-4B3E-400F-9083-D141C287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7D3BF-C7AF-4598-872E-F56B1672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97676-D40F-407F-962B-BDE94267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DED46-04A4-408B-9382-8212F665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84C48-F615-43C3-A4E3-69A76D07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7E2A-4E4D-4C16-835E-073A1830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F5AEC-4FC2-484D-A523-DD8ED63E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4EC02-9779-4EF2-955C-57E5A3084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D93CA-A198-4502-8F33-6958DCDD7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2BFF7-5831-4A4B-AB1C-A8663B17B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0D829-804D-4625-BAA0-B507B90F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0D6A8-ECBC-4007-A088-7F470B1F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105C1-B322-46FF-9A2D-FA6925AD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E98F6-5792-46AC-B996-107C74E4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92D86-9EA1-4444-812E-9E0B3C34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FEF48-4A00-4154-B00D-FF2080C8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7D77-EFE7-4C44-B6BB-2B28AA2A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26C3A-17C8-4FB0-84C6-10D15219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45BF3-5DC4-4B1B-8483-14FF6C01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EED1A-F783-4020-98B3-1FAC01CA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EEB47-2978-4747-B3B9-D9F835014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082F5-F826-4E64-91F7-4BB4DBF5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FE211-2CE4-47B2-9332-3AC847503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F38F7-59D5-4115-8E35-DC9B8DF5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59F35-12A6-4DB2-BFFC-1DAB90D2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C34A7-A937-4722-A03A-EC9ADEC7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3C9C2-0910-49CF-AED7-CFBDDF22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5504-4390-49D5-AAF5-391B72F5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BFCA6-435F-499B-BE69-5AC0A715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B6E8B-E11E-48D1-AA7B-7C2600B8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1BB50-337E-4A7B-9579-E6C6D19D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66BCC-04B4-4A55-83E2-D4E63969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1DD7C-43AC-48D4-A42F-3BBAE9A4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385E1-8E2E-4542-B1A2-BA9C9F652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325E4-5AAA-40DE-A8F6-EA4D03E52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9D062-2435-4994-82D6-A2B24CF6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E35A3-2F73-4434-82DF-B7757CFE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E8BDE-3F4D-4A49-8522-E8CC6F72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17184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27ED-A4EF-4C72-BA8F-78D4B0CD6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E4B0-8FCC-43FD-94AE-5DE888FD9E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CA26-A89F-4905-83DB-A1C32BE2ED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6712-F837-43EB-ABF1-23307ECE1C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D16A-2EBB-4D10-B9DC-DE8162C788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5EBD-FB45-415C-BC60-EE021B78A4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C3D2-9D4D-4935-A4BC-35D21869B5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E48D-780D-40FD-BBAF-6C2C8E0693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8F6A-57A6-4E1D-8B70-3D44FF5FB2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666880" y="6248160"/>
            <a:ext cx="3657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A0D4-E81E-492C-BA83-F42CDDD77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P-</a:t>
            </a:r>
            <a:fld id="{E801E80F-BAB8-431B-B0D7-55FB6449EE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9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77320" y="6248520"/>
            <a:ext cx="342720" cy="34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6148-E15E-42B8-9AFF-612296054B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9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77320" y="624852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P-</a:t>
            </a:r>
            <a:fld id="{7348017D-9570-4246-8B0B-2D09F4531E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9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77320" y="6248520"/>
            <a:ext cx="342720" cy="3427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2590560" y="6244920"/>
            <a:ext cx="3886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P-</a:t>
            </a:r>
            <a:fld id="{13D88B49-A82E-4ED5-A802-D5CFAD994C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F383-1E4E-44BF-8B08-42DEA25838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51A3-AF3B-4CB3-8221-B02D409617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0150-B1C3-42B2-A735-9534281C42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1"/>
          <p:cNvSpPr/>
          <p:nvPr/>
        </p:nvSpPr>
        <p:spPr>
          <a:xfrm>
            <a:off x="152280" y="7952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04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3" name=""/>
          <p:cNvGraphicFramePr/>
          <p:nvPr/>
        </p:nvGraphicFramePr>
        <p:xfrm>
          <a:off x="237960" y="1523880"/>
          <a:ext cx="8668080" cy="1463760"/>
        </p:xfrm>
        <a:graphic>
          <a:graphicData uri="http://schemas.openxmlformats.org/drawingml/2006/table">
            <a:tbl>
              <a:tblPr/>
              <a:tblGrid>
                <a:gridCol w="1084320"/>
                <a:gridCol w="1082880"/>
                <a:gridCol w="1146240"/>
                <a:gridCol w="1020600"/>
                <a:gridCol w="1084320"/>
                <a:gridCol w="1082520"/>
                <a:gridCol w="1084320"/>
                <a:gridCol w="108288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1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14.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urpose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 Monito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tions Comply w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457200"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gnitude &amp; Extent of Radia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457200"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ntities of Radioactive Mate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457200"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ential Radiological Haz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DC52DBB-2E6C-44D3-97C6-01E7B1B7F4F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 to Embryo/Fetus: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DE (Continu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 = Fetal Age at time of In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Transfer Coefficient o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milated Radioactivity fro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tory Guide 8.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0 = mrem/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66A8ACE-984E-4B61-9EE1-A95ABD37F5B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s From Contam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(Skin) Dose Equivalent (SDE) = Dose to a depth of 0.007 cm (7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ep Dose Equivalent (DDE) =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o a depth of 1 cm (1,000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s of Eye Dose Equivalent (LDE) =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o a depth of 0.3 cm (300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9356522-B555-4D01-9F5A-BDB490E0BBA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amination Dos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lculations Required for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/= 100 mrem (54,000 cpm-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Measured with 15.5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risk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Area =  10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Dose Depth = 7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DE &gt;/= 10 mrem (170,000 cpm-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Measured with 15.5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risk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Area = 1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Dose Depth = 1,000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B1C4D6B-C4DC-4C4D-95B9-F2C29E694BD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ctivity-Hour Concen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= (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/(2.22 E 6)(Eff.)(Area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= Activity-h Concentration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=Counts per Minute-hour Total, cpm-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2.22 E 6 = Conversion:  2.22E6 dpm/µC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ff = Detector Counting Efficiency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pm/dpm (0.10 for 15.5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risker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rea = Surface Area (10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or SDE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or DDE or L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252B9A3-2717-4726-AE61-641296F66E9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hallow (Skin) Dos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quivalent (SD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DE = (DF)(A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DE = Surface (Skin) Dose Equival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rad) for Beta or Gam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F=SDE Dose Factor (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3,70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 for Beta,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185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 for Gamma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 = Activity-hour Concentr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 (µCi-h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25D3DD4-70A8-4716-9E13-DB75B6D3A50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ep Dos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quivalent (DD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DE = (DF)(A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DE = Deep Dose Equivalent (mrad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for Gam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F =DDE Dose Factor (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11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 for Gamma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 = Activity-hour Concentr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(µCi-h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32DB55A-0CB9-4F97-9454-DC28539CD8C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s From Hot Parti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cles Usuall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 100 mic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ctivity Usually At Least 0.1 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ny Discrete Particle &gt;/= 20,000 cp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ose Calculation Same as D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DCCEF03-D6B4-4C3B-B4CC-DA8A5FE3F1F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otal Organ Dos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quivalent (TOD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 of DDE &amp; C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DE = DDE + C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28ED304-C722-45A7-9BAB-F52DAC6BD9F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otal Effectiv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e Equivalent (TED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 of Internal (CEDE) and External (DDE) Expos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DE = CEDE + D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E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=/&gt; Workers Age (Years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orker Limited to 1,000 mrem/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095793B-CA95-4DF4-9D36-717C85458F5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e Track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nd Repor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0 % of Limit – Dos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0 % of Limit – Dose Extension 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Restricted Access to R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ation of Prior Dose –NRC Form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ual Exposure Report – NRC Form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7488564-65F8-46AA-9F64-06FB7F585D3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ditions Requiring External Monitor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 10% of 10CFR20.1201 Li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DE &gt; 0.1 rem (1 mSv) for Min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DE &gt; 0.15 rem (1.5 mSv) for Min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DE/Extremity Dose &gt; 0.5 rem for Min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DE &gt; 0.1 rem (1 mSv) During Pregna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ntering High or Very High Radiation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D44EC0D-6F7A-4627-B75F-E5B81746492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mmary -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activity – It’s Everywher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pational Exposure – ALA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Effects &amp; Ri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atic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tic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ks Low for Low Do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Limits – 10CFR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A233E9C-BDFC-42D2-90A7-BB2B257BB49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mmary -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nel Monitoring – Exter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onic Dosi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nel Monitoring – Inter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Cou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reta Samp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9A9EFC9-9F5D-421C-99C6-982C0E01796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mmary -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erms and Calc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sorbed Dose - rad, 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Equivalent - rem, S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I &amp; D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D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/Tissue Dose –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racking &amp; Repor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06B8FC9-B891-4570-B01A-727CB9E229D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ditions Requiring Monitoring for Internal Exposu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er than 10% of Applicable 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 0.1 rem (1 mSv) for Min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&gt; 0.1 rem (1 mSv) Durin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regna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35C9D21-D860-446F-9DEF-BFED05B92A5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posure Limits &amp;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/= 5 rems (0.05 Sv),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DE + CDE &lt;/= 50 rem (0.5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DE &lt;/= 15 rem (0.15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DE/Extremity &lt;/= 50 rem (0.5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 &lt;/= 0.5 rem (5 mSv) to Embryo/Fe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VA Administrative Limi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EDE &lt;/= 1 rem (0.01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7E79C48-DCD5-47FB-B08F-E9BED025E0F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lanned Special Exposures (PS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dition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uthorized in Writing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Befor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posure Occu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dividuals Informed of Purpo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dividuals Informed of Dos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dividuals Instructed in Measur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 Keep Doses ALA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CF97B01-4588-4C6D-B35E-09DB4000B3E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mergency Dose Lim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ntary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s Informed of R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 Rem TEDE to Prev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ious Damage to the 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ious Hazard to Perso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5 Rem TEDE to Save a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238737B-8DFA-4815-9DF6-B05FE6C8318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posure to Pregnant Wo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/= 0.5 rem (5 mSv) to Embryo/Fe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py of Regulatory Guide 8.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o Airborne or Contaminated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nitial Whole Body Count Perform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4A7BA77-E939-4894-A237-E0EA404C597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s of Expo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nation of the Tw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5BF9BD4-587A-4FCA-AB47-B836292D8CA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ternal Exposure Monito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e Partial Body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remity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D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Rate Measu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BDB73D3-3068-47A4-84F2-E6DE429512D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rmoluminesc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mo – H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minescent - 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71A87E5-217A-410F-9DC9-728FB1077C9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sonnel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Monitor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8989"/>
                </a:solidFill>
                <a:latin typeface="Calibri"/>
              </a:rPr>
              <a:t>HTP001.01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F0EBA21-1061-42CB-943E-0ADA47AA677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lectron Tr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9" name="Picture 4" descr="TCD01"/>
          <p:cNvPicPr/>
          <p:nvPr/>
        </p:nvPicPr>
        <p:blipFill>
          <a:blip r:embed="rId1"/>
          <a:stretch/>
        </p:blipFill>
        <p:spPr>
          <a:xfrm>
            <a:off x="1905120" y="2228760"/>
            <a:ext cx="5333760" cy="3268800"/>
          </a:xfrm>
          <a:prstGeom prst="rect">
            <a:avLst/>
          </a:prstGeom>
          <a:ln w="0">
            <a:noFill/>
          </a:ln>
        </p:spPr>
      </p:pic>
      <p:sp>
        <p:nvSpPr>
          <p:cNvPr id="7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1A59B56-716E-43FB-9357-7961F3D4A3E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54E0034-412D-4119-9584-B409D044D79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:Cu T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de Range (10 mR to 100,000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 Data Retention (Low Fad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ear Respo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itive to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X-Rays, and Neu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usable and Econom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ot Susceptible to Radiofrequenc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nter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0ABC4EA-2445-4234-881A-566CA3DCC1B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ithium Borat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onse Cur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"/>
          <p:cNvSpPr txBox="1"/>
          <p:nvPr/>
        </p:nvSpPr>
        <p:spPr>
          <a:xfrm rot="16200000">
            <a:off x="-1334520" y="3143880"/>
            <a:ext cx="3828960" cy="8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adiation Respon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er Roentg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1152778-E148-4935-B117-CD77AAA2F3E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4"/>
          <p:cNvSpPr/>
          <p:nvPr/>
        </p:nvSpPr>
        <p:spPr>
          <a:xfrm>
            <a:off x="1428840" y="1866960"/>
            <a:ext cx="3295440" cy="19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5"/>
          <p:cNvSpPr/>
          <p:nvPr/>
        </p:nvSpPr>
        <p:spPr>
          <a:xfrm>
            <a:off x="1542960" y="36003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6"/>
          <p:cNvSpPr/>
          <p:nvPr/>
        </p:nvSpPr>
        <p:spPr>
          <a:xfrm>
            <a:off x="2571840" y="3562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7"/>
          <p:cNvSpPr/>
          <p:nvPr/>
        </p:nvSpPr>
        <p:spPr>
          <a:xfrm>
            <a:off x="3524400" y="3543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8"/>
          <p:cNvSpPr/>
          <p:nvPr/>
        </p:nvSpPr>
        <p:spPr>
          <a:xfrm>
            <a:off x="4495680" y="3581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9"/>
          <p:cNvSpPr/>
          <p:nvPr/>
        </p:nvSpPr>
        <p:spPr>
          <a:xfrm>
            <a:off x="1428840" y="2819520"/>
            <a:ext cx="325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0"/>
          <p:cNvSpPr/>
          <p:nvPr/>
        </p:nvSpPr>
        <p:spPr>
          <a:xfrm>
            <a:off x="1467000" y="4172040"/>
            <a:ext cx="3295440" cy="156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1"/>
          <p:cNvSpPr/>
          <p:nvPr/>
        </p:nvSpPr>
        <p:spPr>
          <a:xfrm>
            <a:off x="1486080" y="4952880"/>
            <a:ext cx="325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2"/>
          <p:cNvSpPr/>
          <p:nvPr/>
        </p:nvSpPr>
        <p:spPr>
          <a:xfrm>
            <a:off x="1638360" y="550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3"/>
          <p:cNvSpPr/>
          <p:nvPr/>
        </p:nvSpPr>
        <p:spPr>
          <a:xfrm>
            <a:off x="2610000" y="550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4"/>
          <p:cNvSpPr/>
          <p:nvPr/>
        </p:nvSpPr>
        <p:spPr>
          <a:xfrm>
            <a:off x="3581280" y="5524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"/>
          <p:cNvSpPr/>
          <p:nvPr/>
        </p:nvSpPr>
        <p:spPr>
          <a:xfrm>
            <a:off x="4552920" y="5524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6"/>
          <p:cNvSpPr/>
          <p:nvPr/>
        </p:nvSpPr>
        <p:spPr>
          <a:xfrm>
            <a:off x="1438200" y="6037200"/>
            <a:ext cx="18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7"/>
          <p:cNvSpPr/>
          <p:nvPr/>
        </p:nvSpPr>
        <p:spPr>
          <a:xfrm>
            <a:off x="1809720" y="5924520"/>
            <a:ext cx="34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oton Energy (M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8"/>
          <p:cNvSpPr/>
          <p:nvPr/>
        </p:nvSpPr>
        <p:spPr>
          <a:xfrm flipV="1">
            <a:off x="1657440" y="2876040"/>
            <a:ext cx="1047600" cy="95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20"/>
          <p:cNvSpPr/>
          <p:nvPr/>
        </p:nvSpPr>
        <p:spPr>
          <a:xfrm>
            <a:off x="3238560" y="2781360"/>
            <a:ext cx="1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21"/>
          <p:cNvSpPr/>
          <p:nvPr/>
        </p:nvSpPr>
        <p:spPr>
          <a:xfrm flipV="1">
            <a:off x="2647800" y="2743200"/>
            <a:ext cx="66708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22"/>
          <p:cNvSpPr/>
          <p:nvPr/>
        </p:nvSpPr>
        <p:spPr>
          <a:xfrm flipV="1">
            <a:off x="3295800" y="2705040"/>
            <a:ext cx="1028520" cy="38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23"/>
          <p:cNvSpPr/>
          <p:nvPr/>
        </p:nvSpPr>
        <p:spPr>
          <a:xfrm flipV="1">
            <a:off x="1695600" y="4991040"/>
            <a:ext cx="10857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24"/>
          <p:cNvSpPr/>
          <p:nvPr/>
        </p:nvSpPr>
        <p:spPr>
          <a:xfrm flipV="1">
            <a:off x="2800440" y="4914720"/>
            <a:ext cx="571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25"/>
          <p:cNvSpPr/>
          <p:nvPr/>
        </p:nvSpPr>
        <p:spPr>
          <a:xfrm>
            <a:off x="3352680" y="489600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26"/>
          <p:cNvSpPr/>
          <p:nvPr/>
        </p:nvSpPr>
        <p:spPr>
          <a:xfrm>
            <a:off x="1033920" y="363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27"/>
          <p:cNvSpPr/>
          <p:nvPr/>
        </p:nvSpPr>
        <p:spPr>
          <a:xfrm>
            <a:off x="1033920" y="2703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28"/>
          <p:cNvSpPr/>
          <p:nvPr/>
        </p:nvSpPr>
        <p:spPr>
          <a:xfrm>
            <a:off x="1014840" y="175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29"/>
          <p:cNvSpPr/>
          <p:nvPr/>
        </p:nvSpPr>
        <p:spPr>
          <a:xfrm>
            <a:off x="1071720" y="563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30"/>
          <p:cNvSpPr/>
          <p:nvPr/>
        </p:nvSpPr>
        <p:spPr>
          <a:xfrm>
            <a:off x="1090800" y="478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31"/>
          <p:cNvSpPr/>
          <p:nvPr/>
        </p:nvSpPr>
        <p:spPr>
          <a:xfrm>
            <a:off x="1109880" y="4056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32"/>
          <p:cNvSpPr/>
          <p:nvPr/>
        </p:nvSpPr>
        <p:spPr>
          <a:xfrm>
            <a:off x="4938480" y="26114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33"/>
          <p:cNvSpPr/>
          <p:nvPr/>
        </p:nvSpPr>
        <p:spPr>
          <a:xfrm>
            <a:off x="4957560" y="47451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35"/>
          <p:cNvSpPr/>
          <p:nvPr/>
        </p:nvSpPr>
        <p:spPr>
          <a:xfrm>
            <a:off x="1357920" y="5694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36"/>
          <p:cNvSpPr/>
          <p:nvPr/>
        </p:nvSpPr>
        <p:spPr>
          <a:xfrm>
            <a:off x="2386080" y="569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37"/>
          <p:cNvSpPr/>
          <p:nvPr/>
        </p:nvSpPr>
        <p:spPr>
          <a:xfrm>
            <a:off x="3453120" y="569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38"/>
          <p:cNvSpPr/>
          <p:nvPr/>
        </p:nvSpPr>
        <p:spPr>
          <a:xfrm>
            <a:off x="4367880" y="57135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uS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:Tm 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ge:  1 mR to 1,000 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ear up to about 200 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itive to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and X-R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ver responds to Low Energy X-R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Useful for Environmental Measu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582D1A7-17F0-40B0-8D24-BDF6E6138B7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lcium Sulfat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onse Cur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"/>
          <p:cNvSpPr txBox="1"/>
          <p:nvPr/>
        </p:nvSpPr>
        <p:spPr>
          <a:xfrm rot="16200000">
            <a:off x="-1524960" y="2839320"/>
            <a:ext cx="417204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adiation Respon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r Roent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ED62306-B178-4B69-87CA-637A9AB0A7A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4"/>
          <p:cNvSpPr/>
          <p:nvPr/>
        </p:nvSpPr>
        <p:spPr>
          <a:xfrm>
            <a:off x="1467000" y="1847880"/>
            <a:ext cx="3295440" cy="19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6"/>
          <p:cNvSpPr/>
          <p:nvPr/>
        </p:nvSpPr>
        <p:spPr>
          <a:xfrm>
            <a:off x="1619280" y="3581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7"/>
          <p:cNvSpPr/>
          <p:nvPr/>
        </p:nvSpPr>
        <p:spPr>
          <a:xfrm>
            <a:off x="2571840" y="3562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8"/>
          <p:cNvSpPr/>
          <p:nvPr/>
        </p:nvSpPr>
        <p:spPr>
          <a:xfrm>
            <a:off x="3524400" y="3543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9"/>
          <p:cNvSpPr/>
          <p:nvPr/>
        </p:nvSpPr>
        <p:spPr>
          <a:xfrm>
            <a:off x="4495680" y="3581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4"/>
          <p:cNvSpPr/>
          <p:nvPr/>
        </p:nvSpPr>
        <p:spPr>
          <a:xfrm>
            <a:off x="1467000" y="4172040"/>
            <a:ext cx="3295440" cy="156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15"/>
          <p:cNvSpPr/>
          <p:nvPr/>
        </p:nvSpPr>
        <p:spPr>
          <a:xfrm>
            <a:off x="1486080" y="4952880"/>
            <a:ext cx="325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16"/>
          <p:cNvSpPr/>
          <p:nvPr/>
        </p:nvSpPr>
        <p:spPr>
          <a:xfrm>
            <a:off x="1638360" y="550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17"/>
          <p:cNvSpPr/>
          <p:nvPr/>
        </p:nvSpPr>
        <p:spPr>
          <a:xfrm>
            <a:off x="2610000" y="550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18"/>
          <p:cNvSpPr/>
          <p:nvPr/>
        </p:nvSpPr>
        <p:spPr>
          <a:xfrm>
            <a:off x="3581280" y="5524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19"/>
          <p:cNvSpPr/>
          <p:nvPr/>
        </p:nvSpPr>
        <p:spPr>
          <a:xfrm>
            <a:off x="4552920" y="5524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20"/>
          <p:cNvSpPr/>
          <p:nvPr/>
        </p:nvSpPr>
        <p:spPr>
          <a:xfrm>
            <a:off x="1438200" y="6037200"/>
            <a:ext cx="18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21"/>
          <p:cNvSpPr/>
          <p:nvPr/>
        </p:nvSpPr>
        <p:spPr>
          <a:xfrm>
            <a:off x="1733400" y="5924520"/>
            <a:ext cx="34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oton Energy (M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22"/>
          <p:cNvSpPr/>
          <p:nvPr/>
        </p:nvSpPr>
        <p:spPr>
          <a:xfrm>
            <a:off x="1090800" y="363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23"/>
          <p:cNvSpPr/>
          <p:nvPr/>
        </p:nvSpPr>
        <p:spPr>
          <a:xfrm>
            <a:off x="1053000" y="287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24"/>
          <p:cNvSpPr/>
          <p:nvPr/>
        </p:nvSpPr>
        <p:spPr>
          <a:xfrm>
            <a:off x="957960" y="2208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25"/>
          <p:cNvSpPr/>
          <p:nvPr/>
        </p:nvSpPr>
        <p:spPr>
          <a:xfrm>
            <a:off x="1090800" y="5599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26"/>
          <p:cNvSpPr/>
          <p:nvPr/>
        </p:nvSpPr>
        <p:spPr>
          <a:xfrm>
            <a:off x="1071720" y="4818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27"/>
          <p:cNvSpPr/>
          <p:nvPr/>
        </p:nvSpPr>
        <p:spPr>
          <a:xfrm>
            <a:off x="1071720" y="4037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28"/>
          <p:cNvSpPr/>
          <p:nvPr/>
        </p:nvSpPr>
        <p:spPr>
          <a:xfrm>
            <a:off x="1486080" y="3029040"/>
            <a:ext cx="17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32"/>
          <p:cNvSpPr/>
          <p:nvPr/>
        </p:nvSpPr>
        <p:spPr>
          <a:xfrm>
            <a:off x="1486080" y="2381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36"/>
          <p:cNvSpPr/>
          <p:nvPr/>
        </p:nvSpPr>
        <p:spPr>
          <a:xfrm>
            <a:off x="1847880" y="2209680"/>
            <a:ext cx="2514600" cy="1409760"/>
          </a:xfrm>
          <a:custGeom>
            <a:avLst/>
            <a:gdLst/>
            <a:ahLst/>
            <a:rect l="l" t="t" r="r" b="b"/>
            <a:pathLst>
              <a:path w="1584" h="888">
                <a:moveTo>
                  <a:pt x="0" y="0"/>
                </a:moveTo>
                <a:cubicBezTo>
                  <a:pt x="36" y="24"/>
                  <a:pt x="72" y="36"/>
                  <a:pt x="108" y="60"/>
                </a:cubicBezTo>
                <a:cubicBezTo>
                  <a:pt x="133" y="135"/>
                  <a:pt x="161" y="219"/>
                  <a:pt x="228" y="264"/>
                </a:cubicBezTo>
                <a:cubicBezTo>
                  <a:pt x="241" y="303"/>
                  <a:pt x="275" y="333"/>
                  <a:pt x="288" y="372"/>
                </a:cubicBezTo>
                <a:cubicBezTo>
                  <a:pt x="315" y="454"/>
                  <a:pt x="324" y="480"/>
                  <a:pt x="372" y="552"/>
                </a:cubicBezTo>
                <a:cubicBezTo>
                  <a:pt x="388" y="575"/>
                  <a:pt x="472" y="754"/>
                  <a:pt x="492" y="768"/>
                </a:cubicBezTo>
                <a:cubicBezTo>
                  <a:pt x="516" y="784"/>
                  <a:pt x="540" y="800"/>
                  <a:pt x="564" y="816"/>
                </a:cubicBezTo>
                <a:cubicBezTo>
                  <a:pt x="585" y="830"/>
                  <a:pt x="612" y="832"/>
                  <a:pt x="636" y="840"/>
                </a:cubicBezTo>
                <a:cubicBezTo>
                  <a:pt x="781" y="888"/>
                  <a:pt x="875" y="881"/>
                  <a:pt x="1044" y="888"/>
                </a:cubicBezTo>
                <a:cubicBezTo>
                  <a:pt x="1130" y="877"/>
                  <a:pt x="1203" y="855"/>
                  <a:pt x="1284" y="828"/>
                </a:cubicBezTo>
                <a:cubicBezTo>
                  <a:pt x="1326" y="814"/>
                  <a:pt x="1372" y="820"/>
                  <a:pt x="1416" y="816"/>
                </a:cubicBezTo>
                <a:cubicBezTo>
                  <a:pt x="1570" y="765"/>
                  <a:pt x="1412" y="814"/>
                  <a:pt x="1548" y="780"/>
                </a:cubicBezTo>
                <a:cubicBezTo>
                  <a:pt x="1560" y="777"/>
                  <a:pt x="1584" y="768"/>
                  <a:pt x="1584" y="7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37"/>
          <p:cNvSpPr/>
          <p:nvPr/>
        </p:nvSpPr>
        <p:spPr>
          <a:xfrm>
            <a:off x="1847880" y="4743360"/>
            <a:ext cx="743040" cy="381240"/>
          </a:xfrm>
          <a:custGeom>
            <a:avLst/>
            <a:gdLst/>
            <a:ahLst/>
            <a:rect l="l" t="t" r="r" b="b"/>
            <a:pathLst>
              <a:path w="468" h="240">
                <a:moveTo>
                  <a:pt x="0" y="240"/>
                </a:moveTo>
                <a:cubicBezTo>
                  <a:pt x="21" y="177"/>
                  <a:pt x="64" y="163"/>
                  <a:pt x="120" y="144"/>
                </a:cubicBezTo>
                <a:cubicBezTo>
                  <a:pt x="128" y="132"/>
                  <a:pt x="133" y="117"/>
                  <a:pt x="144" y="108"/>
                </a:cubicBezTo>
                <a:cubicBezTo>
                  <a:pt x="166" y="89"/>
                  <a:pt x="216" y="60"/>
                  <a:pt x="216" y="60"/>
                </a:cubicBezTo>
                <a:cubicBezTo>
                  <a:pt x="251" y="7"/>
                  <a:pt x="263" y="15"/>
                  <a:pt x="324" y="0"/>
                </a:cubicBezTo>
                <a:cubicBezTo>
                  <a:pt x="348" y="8"/>
                  <a:pt x="388" y="0"/>
                  <a:pt x="396" y="24"/>
                </a:cubicBezTo>
                <a:cubicBezTo>
                  <a:pt x="400" y="36"/>
                  <a:pt x="400" y="50"/>
                  <a:pt x="408" y="60"/>
                </a:cubicBezTo>
                <a:cubicBezTo>
                  <a:pt x="424" y="80"/>
                  <a:pt x="450" y="90"/>
                  <a:pt x="468" y="1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39"/>
          <p:cNvSpPr/>
          <p:nvPr/>
        </p:nvSpPr>
        <p:spPr>
          <a:xfrm flipV="1">
            <a:off x="2590920" y="4933440"/>
            <a:ext cx="121896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47"/>
          <p:cNvSpPr/>
          <p:nvPr/>
        </p:nvSpPr>
        <p:spPr>
          <a:xfrm>
            <a:off x="3695760" y="4759200"/>
            <a:ext cx="762120" cy="174600"/>
          </a:xfrm>
          <a:custGeom>
            <a:avLst/>
            <a:gdLst/>
            <a:ahLst/>
            <a:rect l="l" t="t" r="r" b="b"/>
            <a:pathLst>
              <a:path w="480" h="110">
                <a:moveTo>
                  <a:pt x="0" y="110"/>
                </a:moveTo>
                <a:cubicBezTo>
                  <a:pt x="67" y="104"/>
                  <a:pt x="138" y="104"/>
                  <a:pt x="204" y="86"/>
                </a:cubicBezTo>
                <a:cubicBezTo>
                  <a:pt x="280" y="65"/>
                  <a:pt x="354" y="42"/>
                  <a:pt x="432" y="26"/>
                </a:cubicBezTo>
                <a:cubicBezTo>
                  <a:pt x="471" y="0"/>
                  <a:pt x="454" y="2"/>
                  <a:pt x="480" y="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48"/>
          <p:cNvSpPr/>
          <p:nvPr/>
        </p:nvSpPr>
        <p:spPr>
          <a:xfrm>
            <a:off x="1319760" y="5675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49"/>
          <p:cNvSpPr/>
          <p:nvPr/>
        </p:nvSpPr>
        <p:spPr>
          <a:xfrm>
            <a:off x="2348280" y="5675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50"/>
          <p:cNvSpPr/>
          <p:nvPr/>
        </p:nvSpPr>
        <p:spPr>
          <a:xfrm>
            <a:off x="3453120" y="569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51"/>
          <p:cNvSpPr/>
          <p:nvPr/>
        </p:nvSpPr>
        <p:spPr>
          <a:xfrm>
            <a:off x="4329720" y="5694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52"/>
          <p:cNvSpPr/>
          <p:nvPr/>
        </p:nvSpPr>
        <p:spPr>
          <a:xfrm>
            <a:off x="4843440" y="24591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53"/>
          <p:cNvSpPr/>
          <p:nvPr/>
        </p:nvSpPr>
        <p:spPr>
          <a:xfrm>
            <a:off x="4957560" y="468792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mitations of Both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itive to Heat, Moisture, and Sh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Shielded by th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ject to Improper Wear by Wor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use Results in Incorrect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rors from Logistical/Record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E1AD1AF-4DAE-4BC5-8E6B-1A4B91634DF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nasonic 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4" name="Picture 3" descr=""/>
          <p:cNvPicPr/>
          <p:nvPr/>
        </p:nvPicPr>
        <p:blipFill>
          <a:blip r:embed="rId1"/>
          <a:stretch/>
        </p:blipFill>
        <p:spPr>
          <a:xfrm>
            <a:off x="438120" y="15238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7FE62EB-BF33-49FA-964B-94D719DD9F4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7" name="Picture 4" descr="MVC-030F"/>
          <p:cNvPicPr/>
          <p:nvPr/>
        </p:nvPicPr>
        <p:blipFill>
          <a:blip r:embed="rId1"/>
          <a:stretch/>
        </p:blipFill>
        <p:spPr>
          <a:xfrm>
            <a:off x="0" y="0"/>
            <a:ext cx="7588080" cy="6126120"/>
          </a:xfrm>
          <a:prstGeom prst="rect">
            <a:avLst/>
          </a:prstGeom>
          <a:ln w="0">
            <a:noFill/>
          </a:ln>
        </p:spPr>
      </p:pic>
      <p:sp>
        <p:nvSpPr>
          <p:cNvPr id="8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3B9B0A5-3B18-49D4-873E-C3C8BCB4A86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7"/>
          <p:cNvSpPr/>
          <p:nvPr/>
        </p:nvSpPr>
        <p:spPr>
          <a:xfrm>
            <a:off x="762120" y="285840"/>
            <a:ext cx="659124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Thermoluminescent Dosim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1" name="Picture 7" descr="MVC-023F"/>
          <p:cNvPicPr/>
          <p:nvPr/>
        </p:nvPicPr>
        <p:blipFill>
          <a:blip r:embed="rId1"/>
          <a:stretch/>
        </p:blipFill>
        <p:spPr>
          <a:xfrm>
            <a:off x="0" y="0"/>
            <a:ext cx="7683480" cy="6126120"/>
          </a:xfrm>
          <a:prstGeom prst="rect">
            <a:avLst/>
          </a:prstGeom>
          <a:ln w="0">
            <a:noFill/>
          </a:ln>
        </p:spPr>
      </p:pic>
      <p:sp>
        <p:nvSpPr>
          <p:cNvPr id="8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1DB7977-4707-434C-B67B-E2B76430BEB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0"/>
          <p:cNvSpPr/>
          <p:nvPr/>
        </p:nvSpPr>
        <p:spPr>
          <a:xfrm>
            <a:off x="4781520" y="6667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11"/>
          <p:cNvSpPr/>
          <p:nvPr/>
        </p:nvSpPr>
        <p:spPr>
          <a:xfrm>
            <a:off x="4686480" y="228600"/>
            <a:ext cx="2781000" cy="132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0dc4"/>
                </a:solidFill>
                <a:latin typeface="Arial"/>
              </a:rPr>
              <a:t>TLD Ba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0dc4"/>
                </a:solidFill>
                <a:latin typeface="Arial"/>
              </a:rPr>
              <a:t>Assem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urse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s &amp; Defin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tions, Exposure Limits &amp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e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Exposure Moni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Exposure Moni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erms &amp; Dose Calc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racking &amp; Repor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56CAE8F-0CC8-49C8-AC35-6BA93AFFD83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6" name="Picture 4" descr="MVC-031F"/>
          <p:cNvPicPr/>
          <p:nvPr/>
        </p:nvPicPr>
        <p:blipFill>
          <a:blip r:embed="rId1"/>
          <a:stretch/>
        </p:blipFill>
        <p:spPr>
          <a:xfrm>
            <a:off x="0" y="0"/>
            <a:ext cx="7588080" cy="6126120"/>
          </a:xfrm>
          <a:prstGeom prst="rect">
            <a:avLst/>
          </a:prstGeom>
          <a:ln w="0">
            <a:noFill/>
          </a:ln>
        </p:spPr>
      </p:pic>
      <p:sp>
        <p:nvSpPr>
          <p:cNvPr id="8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FB8EC9F-E51D-4785-AE3B-3D60FC5AF8B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7"/>
          <p:cNvSpPr/>
          <p:nvPr/>
        </p:nvSpPr>
        <p:spPr>
          <a:xfrm>
            <a:off x="0" y="22860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8"/>
          <p:cNvSpPr/>
          <p:nvPr/>
        </p:nvSpPr>
        <p:spPr>
          <a:xfrm>
            <a:off x="2476440" y="361800"/>
            <a:ext cx="226692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0dc4"/>
                </a:solidFill>
                <a:latin typeface="Arial"/>
              </a:rPr>
              <a:t>TLD Ba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nasonic 802 T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Element #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TLD Materia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Filt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4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60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u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T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60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u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T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.7 mg Le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E898A4F-BF80-458C-9C04-D3CF01B2116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easuring Neutrons with TL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 and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 Rather Than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 and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st Neutrons not Directly Measu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trons Moderated by th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ower Recoil Neutrons Measu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bedo Effect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2B4D846-6102-4909-8BF6-C982BA11275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nasonic 802 T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Element #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TLD Materia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Filt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4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60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u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T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60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u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T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.7 mg Le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A73604D-2FF3-4795-9A98-2ED0191082C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ading Panasonic 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0" name="Picture 4" descr=""/>
          <p:cNvPicPr/>
          <p:nvPr/>
        </p:nvPicPr>
        <p:blipFill>
          <a:blip r:embed="rId1"/>
          <a:stretch/>
        </p:blipFill>
        <p:spPr>
          <a:xfrm>
            <a:off x="1057320" y="2592360"/>
            <a:ext cx="7029360" cy="2541600"/>
          </a:xfrm>
          <a:prstGeom prst="rect">
            <a:avLst/>
          </a:prstGeom>
          <a:ln w="0">
            <a:noFill/>
          </a:ln>
        </p:spPr>
      </p:pic>
      <p:sp>
        <p:nvSpPr>
          <p:cNvPr id="8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C89C450-E04C-4DCF-BFD6-CD45B8F9F36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ystem Calib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utine Calib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ily QC Ch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ibration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-Line QC TLDs Dai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32FB180-8961-4785-A35A-498F8C457BA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ystem QC/Q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DS Accredited by NIST and NVL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comparison 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&amp; Verification Che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istical Review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ed by External Organiz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lity Manager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utine Internal Eval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A05ED16-98CD-4F8E-B394-7122C92CA1D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dge Issue &amp; 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d &amp; Collected by RADC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r Assigns a TLD Num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d for a 3-Month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ssed by T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 TLDs Mainta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0681D37-73DF-45EC-BF9C-12C01C89344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pecial Pu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ministrative Dose Limits Excee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D Off Scale or Displays Er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ination/Relocation of Employ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lity Control Ch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e Badge or Neutron Proc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C45A434-33F0-42EB-9BF9-DF8A643D07F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earing the T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nt of Body, Neck to Wa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itions May Require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r Inside Coveralls in Contaminat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Open or Pamper With the Ba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8062D63-D901-43C7-8442-FA9CF8D563A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abling Objectives: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Dose Te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Regulations &amp; Li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miliar with Radiation Monitoring De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Operation of Various Dosi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Dosimetry Administrative Contr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Multiple &amp; Extremity Dosi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imetry for Various Sit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9EF4F14-AFCF-4CE4-8DA2-062E808B7FF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8" name="Picture 8" descr="MVC-041F"/>
          <p:cNvPicPr/>
          <p:nvPr/>
        </p:nvPicPr>
        <p:blipFill>
          <a:blip r:embed="rId1"/>
          <a:stretch/>
        </p:blipFill>
        <p:spPr>
          <a:xfrm>
            <a:off x="-422280" y="0"/>
            <a:ext cx="5192640" cy="603252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ope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earin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f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osimet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lide Number Placeholder 6"/>
          <p:cNvSpPr/>
          <p:nvPr/>
        </p:nvSpPr>
        <p:spPr>
          <a:xfrm>
            <a:off x="457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F2DE36A-0341-4470-8009-065A7CD0F70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ltiple Bad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uniform Radiation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Do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/= 100 mrem/h &amp;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ighest Dose Location Unkn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adiation Levels Unknown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radient Nonunif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143429A-3683-401F-883D-0FAD003A7FD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lti-Badge 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eh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n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ght 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ft 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ght Fem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ft Fem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 (Not Wor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5C0E919-E2E5-44DB-93B1-D61A6F8DA0E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tremity Bad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/= 500 mrem to Extrem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andling Unshielded Beta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hole Body (Except Hands) Shiel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andling Small Non-Shielded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contamination of Be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Glove Box Op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andling I-1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4C32914-2D8D-4F1D-99B6-C537B4BACF1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tremity Dosime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2" name="Picture 5" descr="MVC-036F"/>
          <p:cNvPicPr/>
          <p:nvPr/>
        </p:nvPicPr>
        <p:blipFill>
          <a:blip r:embed="rId1"/>
          <a:stretch/>
        </p:blipFill>
        <p:spPr>
          <a:xfrm>
            <a:off x="952560" y="1630440"/>
            <a:ext cx="7124760" cy="4278240"/>
          </a:xfrm>
          <a:prstGeom prst="rect">
            <a:avLst/>
          </a:prstGeom>
          <a:ln w="0">
            <a:noFill/>
          </a:ln>
        </p:spPr>
      </p:pic>
      <p:sp>
        <p:nvSpPr>
          <p:cNvPr id="9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85BBDAF-C60A-4BFB-9B88-5DC63EC2AF0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earing Extremity Bad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5" name="Picture 7" descr="MVC-038F"/>
          <p:cNvPicPr/>
          <p:nvPr/>
        </p:nvPicPr>
        <p:blipFill>
          <a:blip r:embed="rId1"/>
          <a:stretch/>
        </p:blipFill>
        <p:spPr>
          <a:xfrm>
            <a:off x="1500120" y="1717560"/>
            <a:ext cx="6446880" cy="4222800"/>
          </a:xfrm>
          <a:prstGeom prst="rect">
            <a:avLst/>
          </a:prstGeom>
          <a:ln w="0">
            <a:noFill/>
          </a:ln>
        </p:spPr>
      </p:pic>
      <p:sp>
        <p:nvSpPr>
          <p:cNvPr id="9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34D6198-95AD-43D4-BA65-4FBCB5D160F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condary Dosime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ny R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D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Periodically During Job Assig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r on Front of P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r Inside in Contamination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484D1DB-6487-40D3-AA9C-8A17434EFAD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1" name="Picture 4" descr="MVC-019F"/>
          <p:cNvPicPr/>
          <p:nvPr/>
        </p:nvPicPr>
        <p:blipFill>
          <a:blip r:embed="rId1"/>
          <a:stretch/>
        </p:blipFill>
        <p:spPr>
          <a:xfrm>
            <a:off x="0" y="0"/>
            <a:ext cx="7588080" cy="6126120"/>
          </a:xfrm>
          <a:prstGeom prst="rect">
            <a:avLst/>
          </a:prstGeom>
          <a:ln w="0">
            <a:noFill/>
          </a:ln>
        </p:spPr>
      </p:pic>
      <p:sp>
        <p:nvSpPr>
          <p:cNvPr id="9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20E3CE6-F9B5-4408-A545-137BAB2A028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7"/>
          <p:cNvSpPr/>
          <p:nvPr/>
        </p:nvSpPr>
        <p:spPr>
          <a:xfrm>
            <a:off x="1542960" y="0"/>
            <a:ext cx="44197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Electronic Dosim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5" name="Picture 4" descr="MVC-022F"/>
          <p:cNvPicPr/>
          <p:nvPr/>
        </p:nvPicPr>
        <p:blipFill>
          <a:blip r:embed="rId1"/>
          <a:stretch/>
        </p:blipFill>
        <p:spPr>
          <a:xfrm>
            <a:off x="0" y="266760"/>
            <a:ext cx="7588080" cy="5859360"/>
          </a:xfrm>
          <a:prstGeom prst="rect">
            <a:avLst/>
          </a:prstGeom>
          <a:ln w="0">
            <a:noFill/>
          </a:ln>
        </p:spPr>
      </p:pic>
      <p:sp>
        <p:nvSpPr>
          <p:cNvPr id="9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449EDF8-B1A6-4B21-B99B-AC81F44C57A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7"/>
          <p:cNvSpPr/>
          <p:nvPr/>
        </p:nvSpPr>
        <p:spPr>
          <a:xfrm>
            <a:off x="838080" y="4991040"/>
            <a:ext cx="62485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Electronic Dosimeter Dis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9" name="Picture 4" descr="MVC-021F"/>
          <p:cNvPicPr/>
          <p:nvPr/>
        </p:nvPicPr>
        <p:blipFill>
          <a:blip r:embed="rId1"/>
          <a:stretch/>
        </p:blipFill>
        <p:spPr>
          <a:xfrm>
            <a:off x="0" y="0"/>
            <a:ext cx="7588080" cy="6126120"/>
          </a:xfrm>
          <a:prstGeom prst="rect">
            <a:avLst/>
          </a:prstGeom>
          <a:ln w="0">
            <a:noFill/>
          </a:ln>
        </p:spPr>
      </p:pic>
      <p:sp>
        <p:nvSpPr>
          <p:cNvPr id="93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B1FBCD4-4123-43AC-96A7-EF639F33725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7"/>
          <p:cNvSpPr/>
          <p:nvPr/>
        </p:nvSpPr>
        <p:spPr>
          <a:xfrm>
            <a:off x="4400640" y="533520"/>
            <a:ext cx="2514600" cy="1477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Po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Cha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abling Objectives: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Actions for Abnormal Sit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Concepts of Internal Dosimet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ary Radionuclides of Conc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Biological Effects &amp; Ri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Dose Calculation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ment of Radioactivity Up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racking and Repor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5CF2B7E-B879-418D-8BE2-BBD2B334EE1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3" name="Picture 20" descr="MVC-018F"/>
          <p:cNvPicPr/>
          <p:nvPr/>
        </p:nvPicPr>
        <p:blipFill>
          <a:blip r:embed="rId1"/>
          <a:stretch/>
        </p:blipFill>
        <p:spPr>
          <a:xfrm>
            <a:off x="0" y="0"/>
            <a:ext cx="9144000" cy="6126120"/>
          </a:xfrm>
          <a:prstGeom prst="rect">
            <a:avLst/>
          </a:prstGeom>
          <a:ln w="0">
            <a:noFill/>
          </a:ln>
        </p:spPr>
      </p:pic>
      <p:sp>
        <p:nvSpPr>
          <p:cNvPr id="9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489EB26-517B-43B8-9764-0D50F880A7C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imetry Requirements for Work Areas: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tricted Area – T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Area – T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CA – TLD &amp; DAD/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uniform Radiation Fields –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e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Doses to Extremities –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remity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FEBC65F-46EC-4319-80C7-BA4105D2543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imetry Requirements for Work Areas: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tron Areas –Process TLD for Neu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Radiation Area – Secondary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lemental Dosi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High Radiation Area – Seconda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Supplemental Dosi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ed Special Exposure –Per RADC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sitors – Same as Esc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3C55E9C-0AE7-4765-B0E2-E97CCEB8785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imeter Discrepa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imeter Investigative Report (DIR)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ost or Damaged T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ost/Damaged/Malfunctioning D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uspect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econdary Dosimet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/= 100 mrem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&lt;/= 25% Difference in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 Customer Complaints &amp; Conce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B14B498-BDE7-42C1-A1B0-71B0BEF3BE4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Path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ha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g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sor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n W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EA359DE-DCE8-40DA-BD12-65B7574F908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ducing Internal Expos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Eating, Drinking, Smoking, Chewing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Dipping in R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r Protective Clothing Correct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er All W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irators in Airborne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Work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DE11506-A722-4ABB-B14F-4D7D2B03E01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limination of Internal Radioac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logical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logical Dec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nation of the Tw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C8E63D1-F497-429E-BE6A-4EA39628E7D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tential Health Effects and Risk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9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BFEC419-1FF0-4031-AA4F-3BA4B352B7A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99960" y="96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aturally Occurring Radioactive Materi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514440" y="2571480"/>
            <a:ext cx="8229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-4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18 mrem/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-1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 1 mrem/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-22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200 mrem/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B23B66B-81B0-4B1C-91AD-8C97FC4F632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tential Health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e fro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 10,000 mrem (100 m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nver, CO, Background 1,000 m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 No Adverse Biological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ancer Associated with &gt; 50,000 m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 Leukemia, Lung, Colon &amp;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ong Latent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ndistinguishable from Cancers fro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on-Radiation Ca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56831F8-7C25-4570-B771-3CF15110DA3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its of Radiation Dos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bsorbed Do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y – The SI Unit of Absorbed D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Gray = 1 Joule/Kilogra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 gray = 100 ra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 – The Special Unit of Absorbed D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rad = 100 ergs/gram or 0.01 Joule/k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 rad = 0.01 gra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B36B55D-EE71-49A7-83B6-F4D09EB6E4B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ther Influ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&amp; Physical Hazards Contribute to the Same Dise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mo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Alcoh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Di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B36D7E5-4F2D-4E5E-9E62-9E6393D1CE9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3812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Terms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438120" y="1733040"/>
            <a:ext cx="82296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ntration – Activity/Volume of Ai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x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c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ake – Curies of Radioactive Materia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n into th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 – (10CFR20, Appendix B, Table 1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ention of Radioactive Material 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ulmonary Region of the Lung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=Days, W=Weeks, Y=Yea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3760AA8-9AD5-4B04-8457-12CE5AFF245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Terms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ual Limit on Intake (ALI) – Radioacti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erial Taken into the Body in 1 ye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000 h) Resulting in a CEDE (To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dy Dose) of 5 rem (0.05 Sv) or 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 (Organ Dose) of 50 rem (0.5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I Fraction (fALI) – Fraction of ALI from 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Intake,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LI = Intake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)/ALI 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7509C21-F415-4431-8DC5-1D785CA4521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ALI(s) for Co-6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0CFR20 Appendix B, Table 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I for Class W = 20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I for Class Y =    30 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67F1A90-9099-4F64-A3FC-8CD0205F4CC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38120" y="63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Terms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457200" y="188604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rived Air Concentration (DAC)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ntration of Air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ml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Breathed for 2000 h at 1.2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0,000 ml/min) Results in an Intak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1 AL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0CFR20, Appendix B, Table 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7F79461-604C-443C-BAF9-9B243026142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38120" y="67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lationship Betwee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C and 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457200" y="217188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 = ALI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)/(h/y)(60 min/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Breathing Rate),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AC = ALI (µCi)/(2000 h/y)(60 min/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20,000 ml/min),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AC = ALI (µCi)/(2.4 E 9 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BB42C81-9E7F-4BB3-9103-D3A52F9AA3E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4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Terms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457200" y="17334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 Fraction (fDAC) – Fraction of DAC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ing from Exposure to a Specifi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borne Concentration of Radioacti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erial,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DAC = Conc.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ml)/DAC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-hour – The fDAC Multiplied by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of Exposure,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-h = (fDAC)(h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D59DB7E-6953-497C-A4D1-BFC2795530A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e the DAC Fraction (fDAC) for a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osure to 1 E -9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ml of Co-6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Oxide For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olu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AC for Co-60 (Oxide Form) =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 E -8 µCi/ml,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DAC = (1 E -9 µCi/ml)/(1 E -8 µCi/ml)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r, fDAC = 0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F4C848C-E39D-4780-983B-5D9F9CDECB6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e the DAC-h for Sample Problem # 3 Where the Exposure Time is 3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-h = (0.1)(3 h), or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-h = 0.3 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F7FE034-9086-416F-965B-DAB503A5E0B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lationship of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C-h and 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the ALI is Based on an Exposure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rem (5,000 mrem) in 2,000 hours/y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,000 mrem/2000 h = 2.5 mrem/DAC-h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,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DAC-h = 2.5 mrem Internal D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32D7AFC-E592-457C-BD0D-C368E9291E6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its of Radiation Dos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e Equival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 – The Special Unit of Any Quant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ed as Dose Equivalent (D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= Absorbed Dose times Quality Fact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 rem = 0.01 siever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evert (Sv) – The SI Unit of Quant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ed as Dose Equivalent (D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 Sv = 100 re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88D954F-8C0B-4CB5-90EF-95ADB6234A2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71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457200" y="224748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the Concept of ALI and DAC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 if a Worker Should We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Respirator for a Specific Task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1832603-AE1A-4437-BE04-A47C03568BA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Rate = 24 mrem/h, Plus so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borne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b Time: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Respirator = 2 h, 20 min, or 2.33 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out Respirator = 2 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out Respirator = 2 DAC-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E21E66A-34EC-4084-B7C9-CF98C0614CE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Dose Wearing a Respirator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4 mrem/h)(2.33 h) = 56 mrem fro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Direct Radiation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Exposure from Airbor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activity (Respirat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F94C3E9-55AF-40F2-83FA-BFEADDB5DD9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Not Wearing a Respirator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4 mrem/h)(2 h) = 48 mrem, Direc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 DAC-h)(2.5 mrem/DAC-h) = 5 mr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Airborne Radio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tal = 48 mrem + 5 mrem = 53 m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8518501-7B0F-4511-BE42-E196903BB3F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earing a Respirator,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er Will Recei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ective Dose Equivalent, Therefor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Respirator Should be Worn f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Jo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708853E-0607-4636-8F45-A6A0329BC28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asuring Internal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adioactivity (Bioassa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CFR20.1204 Requires Measure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be Taken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ntrations of Radioactive Materia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ir in Work Areas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ntities of Radionuclides in the Bod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ntities of Radionuclides Excret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the Body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nations of these Measu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B55ECF5-B12A-47AB-B9EE-09ADE7D7449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li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nciple Means Used at TVA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onstrate Compli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 Sampling,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ing DAC-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8BB8F87-C8AD-4E1A-A5BF-2572EC82516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Dose Monito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ose Monitoring Required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0.1 ALI or 200 DAC-h/ye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Adul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&gt;/= 100 mrem or 40 DAC-h/ye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Pregnant Wom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1F72785-2D19-4CD1-B232-A30B5736B2A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ioassay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fore Initial Entry to Contamination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borne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mination on Face Indicates Up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sal Contamination De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gestion or Suspected Ing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mination of Open W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domly (Evaluate Control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1C62E9C-D555-4BA7-BA7E-126182EB522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ole Body Count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(In-Vivo Bioassa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ary Bioassay Techn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use Bed, Chair, Booth, or 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Detectors Placed Near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Accumulated by Multichannel Analy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Analyzed by Computer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ed if Exposur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 20 DAC-h/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6D80B71-573A-4B39-A583-43FFE8E7CCA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uality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6292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ype of Radi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Quality Fact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-Rays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or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pha, Fis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ragments, et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20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eutrons (Unknown Energy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10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igh-Energy Prot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104DDB0-CDF1-4FBB-918C-59B1F5F85E5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3" name="Picture 14" descr="MVC-001F"/>
          <p:cNvPicPr/>
          <p:nvPr/>
        </p:nvPicPr>
        <p:blipFill>
          <a:blip r:embed="rId1"/>
          <a:stretch/>
        </p:blipFill>
        <p:spPr>
          <a:xfrm>
            <a:off x="0" y="0"/>
            <a:ext cx="7943760" cy="5959440"/>
          </a:xfrm>
          <a:prstGeom prst="rect">
            <a:avLst/>
          </a:prstGeom>
          <a:ln w="0">
            <a:noFill/>
          </a:ln>
        </p:spPr>
      </p:pic>
      <p:sp>
        <p:nvSpPr>
          <p:cNvPr id="10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E7E632E-4907-44AF-B4CB-D719B52E894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7"/>
          <p:cNvSpPr/>
          <p:nvPr/>
        </p:nvSpPr>
        <p:spPr>
          <a:xfrm>
            <a:off x="0" y="1455840"/>
            <a:ext cx="246708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I 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9"/>
          <p:cNvSpPr/>
          <p:nvPr/>
        </p:nvSpPr>
        <p:spPr>
          <a:xfrm>
            <a:off x="1676520" y="2000160"/>
            <a:ext cx="1181160" cy="13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15"/>
          <p:cNvSpPr/>
          <p:nvPr/>
        </p:nvSpPr>
        <p:spPr>
          <a:xfrm>
            <a:off x="285840" y="723960"/>
            <a:ext cx="302904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hyroid 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16"/>
          <p:cNvSpPr/>
          <p:nvPr/>
        </p:nvSpPr>
        <p:spPr>
          <a:xfrm>
            <a:off x="5886360" y="1657440"/>
            <a:ext cx="2171880" cy="1169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erma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19"/>
          <p:cNvSpPr/>
          <p:nvPr/>
        </p:nvSpPr>
        <p:spPr>
          <a:xfrm flipH="1">
            <a:off x="5238720" y="2781360"/>
            <a:ext cx="952560" cy="9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20"/>
          <p:cNvSpPr/>
          <p:nvPr/>
        </p:nvSpPr>
        <p:spPr>
          <a:xfrm>
            <a:off x="2990880" y="1257480"/>
            <a:ext cx="762120" cy="13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21"/>
          <p:cNvSpPr/>
          <p:nvPr/>
        </p:nvSpPr>
        <p:spPr>
          <a:xfrm>
            <a:off x="2133720" y="1943280"/>
            <a:ext cx="1504800" cy="62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3" name="Picture 12" descr="MVC-002F"/>
          <p:cNvPicPr/>
          <p:nvPr/>
        </p:nvPicPr>
        <p:blipFill>
          <a:blip r:embed="rId1"/>
          <a:stretch/>
        </p:blipFill>
        <p:spPr>
          <a:xfrm>
            <a:off x="30240" y="0"/>
            <a:ext cx="4587840" cy="613404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781520" y="2400480"/>
            <a:ext cx="4038480" cy="33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ooth Who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ody Count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Slide Number Placeholder 6"/>
          <p:cNvSpPr/>
          <p:nvPr/>
        </p:nvSpPr>
        <p:spPr>
          <a:xfrm>
            <a:off x="457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0DB297A-5DA3-4E5F-9577-E6C85CE5EDA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7" name="Picture 14" descr="MVC-006F"/>
          <p:cNvPicPr/>
          <p:nvPr/>
        </p:nvPicPr>
        <p:blipFill>
          <a:blip r:embed="rId1"/>
          <a:stretch/>
        </p:blipFill>
        <p:spPr>
          <a:xfrm>
            <a:off x="0" y="0"/>
            <a:ext cx="4583160" cy="6134040"/>
          </a:xfrm>
          <a:prstGeom prst="rect">
            <a:avLst/>
          </a:prstGeom>
          <a:ln w="0">
            <a:noFill/>
          </a:ln>
        </p:spPr>
      </p:pic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channel Analyzer System Used for Whole Body Coun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Slide Number Placeholder 6"/>
          <p:cNvSpPr/>
          <p:nvPr/>
        </p:nvSpPr>
        <p:spPr>
          <a:xfrm>
            <a:off x="457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C664AE7-675E-4423-A2C7-A14081DB33E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BC Measuremen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Quality Assur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ment Performance Verific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QA) T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s Traceable to N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Expected Nucl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BC MQA Intercompari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ind Phan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e Results with Known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DB7DC7D-177B-48E7-848E-C8F95A3EB4E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ctions Taken fo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sitive Results: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ontaminate and Follow-up C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eat Unti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Activity F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More Decr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gnostic Count if Radioactivity Contin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04BEC0B-F96B-45E8-AE59-B9F6E849AC2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ctions Taken fo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sitive Results: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-up Bioassa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Count (WBC)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ine Sample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cal S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BC Trend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F5EC36E-863B-42B4-95FD-8BCCF829828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-Vitro Bioass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ine and Fecal S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ples Taken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it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o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i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9B75C9C-C6DB-4FA0-B4C1-77875FE73D1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-Vitro Bioassa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zed by ERM&amp;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 in Individual’s Exposure Rec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y Trend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5339B5B-167B-45D7-8EA5-3FA4A85E1ED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quired Action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ults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&gt;/= 0.01 ALI or 20 DAC-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-Up Investi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 Internal &amp; Exter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-Up Bioass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 Intake &amp; CE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rd on NRC Form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706D378-AC30-4EAB-9B5E-EC3C4A3BA81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 Terms &amp; Calcul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itted Effective Dose Equivalent-(CE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a Function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ide Intake &amp; ALI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borne Concentration &amp; DAC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ide Intake &amp; Dose Conver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effic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4BE8F22-EC27-4C36-B0AF-A2435F83AB5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sonnel Monitoring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quired by 10CFR20.15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1FA6A0F-5711-46D2-B037-12B46B12F08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EDE From C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* CDE), Whe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= Committed Effective D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quival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Weighting Factor (rem) for eac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Organ or Tiss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DE = Committed Dose Equival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F8CB4DA-1B43-4E68-A983-24A9B6705C2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EDE Fro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uclide Intake &amp; 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5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/A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= Committed Effective D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quivalen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 = Annual Stochastic Limi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Inhalation or Ingestion Intak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f Nuclide I 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Stochastic ALI for Nuclide i 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A5ABDD2-F211-4F0F-9BAB-F3CFFD1A5D8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EDE From Airbor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centration &amp; DA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5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* t)/(2,000 D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= Committed Effective Do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quival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 = Annual Stochastic Limit (5 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= Airborne Concentration (µCi/m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 = Time of Exposure (hou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2000 = Hours in a Work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D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Stochastic DAC for Nuclide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B78A66C-5B6A-4D39-BB30-1788E834E16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EDE From Nuclide Intak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&amp; Dose Conversion Coeffici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odology Used by HIS-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*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CEDE = Committed Effective Do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quivalent,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Inhalation or Ingestion Intake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uclide i 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Stochastic Dose Conve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efficient for Tissue t &amp; Nuclide 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EPA Report No. 11), rem/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A1FC219-952F-48A9-9FA0-0243523DF4C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mitted Dose Equival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rgan or Tissue Specific Committed Dose Equivalent (CDE) Must be Calculated When the CE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/= 1.0 r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r an Overdose has Occur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30F9E26-C84B-45A8-9E05-B4D68845B59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ederal Guidance Report No. 1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deral Guidance Report No. 11 (EPA Report No. 11) Provides Conversion Factors for CDE per Unit Intake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halation (Table 2.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gestion (Table 2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sion Fac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v/Bq * 3.7 E 6 = rem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v/Bq * 3.7 E 9 = mrem/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B01D33D-A2D1-44F7-B4F2-DFA7975CC54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DE Fro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take &amp; 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50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/A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DE = Committed Dose Equival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0 = Annual Nonstochastic Limi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Inhalation Intake for Nuclide i (µCi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Nonstochastic ALI for Nuclide 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A19809B-59DA-45DE-AFF1-3BB991754F9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DE From Airbor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centration &amp; DA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0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[50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/(2,000 D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]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DE=Committed Dose Equivalent (m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0 = Annual Nonstochastic Limi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Airborne Concentration of Nuclide 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µCi/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 = Duration of Exposure (hours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2000 = Hours in a Work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DAC for Nuclide i (µCi/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5EC7B9C-FA00-4064-8204-11812A70587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DE From Intake &amp;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e Conversion Coeffici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Ii * 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Committed Dose Equivalent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 or Tissue 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Intake for Nuclide i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Nonstochastic Dose Conve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efficient for Tissue t and Nuclide 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rem/µCi) from Federal Guidanc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port No.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1A4D2D6-62DD-447F-9215-1F18D1348ED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 to Embryo/Fe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[(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(FDC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(T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(1,000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DE = Dose Equivalent (mrem) to Fe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Intake (µCi) for Nuclide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DC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Fetal Dose Convers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efficient (rem/µCi) for Mother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ssimilation of Radionuclide i a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etal Age t (Regulatory Guide 8.3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B12B4E2-23CD-4C01-9D81-C66B9A03298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16:16:16Z</dcterms:created>
  <dc:creator>Ralph G. Wallace`</dc:creator>
  <dc:description/>
  <dc:language>en-US</dc:language>
  <cp:lastModifiedBy>Peggy Hines IRSC</cp:lastModifiedBy>
  <dcterms:modified xsi:type="dcterms:W3CDTF">2013-02-18T19:25:41Z</dcterms:modified>
  <cp:revision>28</cp:revision>
  <dc:subject/>
  <dc:title>Personnel Monitoring</dc:title>
</cp:coreProperties>
</file>