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911808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450A2-1C0E-41DA-A12D-1FA00B89B0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B1399-2201-4F05-9A17-20EE9396932C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B7189-9ECB-4FB5-83C0-60FC10E2DB7D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4310A-6194-46C8-BDDF-EAF1589B4C5A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64DD4-9235-40A8-A361-A6A28051487C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19C4B-84EC-432C-9E11-F52CA8AB8EEE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E3315-ABAB-4291-8345-DA88865A8D4F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19AF4-3FD8-41D7-BDED-E5D713149CD7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05013-4E70-45C6-957D-28FC63E4F1BA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A1D54-73C9-4FD2-9219-1AC166BE3CBB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A978F-1E67-49C9-BBE0-922234E9B872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A0BAE-FF0F-4240-B2D7-D7E81D04BB7E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4FC15-930C-4D75-B8F5-1102141B8579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0CA84-E8DA-4A86-8DAB-F441DDD53ED9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AE225-1D59-4688-B836-8F4861F0EEE3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B3333-BDBB-4397-9F76-534BC7ACC372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E95B4-C274-44D6-AF1E-7F9DCCA4FB63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3941D-D781-4C99-91BD-3EDC2442A015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2A9C2-5AC1-4702-8ED9-44A643A7F426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1D3C3-B0E0-49CA-849B-265C3DB34BA7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6169F-7A9F-44DE-A375-3EF03FF58877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026D2-47BF-4EB6-AC24-88E4D542E8B6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D99A5-CA5F-4174-8D40-498180FA853A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4896F-943F-4DB9-83D0-5F3DC8BA5EB5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2E79F-5606-4F35-848D-2C4A861061A3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9EDF1-7191-4843-9921-1D5B4C3C6108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90891-0CEC-4EF6-9AB0-8C8E1761C35F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BE6C7-15F3-4E2F-A78E-DFCB72500367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D55F7-CD46-49CF-99DC-768E808F2867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62DE2-A93C-4380-89D8-66EFD2880E7F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21661-6D26-475F-946F-7A95DC8C5E7B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03B16-B0D5-489F-9442-0F845FE957EE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CAA22-9BEF-4602-8DE5-F1FF412E10A4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42788-BE7F-4ACB-933C-0E2C179025A9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218D6-2C11-4265-808B-A64F27BF26BC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22728-F5C5-4FB2-BAA9-F7073B2354F0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3B498-53D0-43A6-8AD8-C827F643ECB2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358FE-57D7-4B74-B246-115E970D149F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5AEEC-0D4C-458F-B181-57CCE3A23DB8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9AC01-18E9-4B7F-B4CE-6B60235DF912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3FDA7-D7FA-4B09-A60A-163C8403FC73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E9B0B-A4F5-4586-B072-A5DDC91C127B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6FE6A-6035-41C3-8F01-6B4D055DE979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B4F1-1734-4C3F-90FD-CD16A6510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6587-F2CF-4D8E-BED1-37D4A87C7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4C47-EC08-4A85-B3BE-AC8090211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F40F-78CA-4FC0-955F-B9793956D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78FD6-F8E1-4520-B865-09C4466BF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E7B89-D313-43F8-8819-11449CADA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9B09E-5158-43A6-9785-6041A8513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C255A-1912-4CC5-A9E0-5D5D8B4AF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8398F-BB39-46E3-8ED6-BA3C88447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EE295-4E49-4463-A4BE-F60E244E2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7CF2B-19D7-4610-9170-BA92411E5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0642-0C05-4960-AA4D-F3EFE8163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59979-328B-4094-9F35-4E0FE3A31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CD061-81B8-4F56-B548-CC2C96B4D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C2176-7D5C-495A-BC66-ECFE92D14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3062E-72EF-4C39-B4F7-83EFFA61C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DA7F1-8D69-4041-B2D6-1FA1BB641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A78D-78DE-4D9F-B0B2-939921842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A0D2-EA6D-439E-AFD8-E44A18394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0ED1-51F6-473C-8A84-B42B9DC6F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9015-6DBA-431F-8BE7-7B30C3222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F378-8F91-49CC-AD53-A24ED7DCD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F1CA-ACE0-47EC-A88C-2E62FAD6A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BCD2-4CCB-4679-88E8-C16FBE1FE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f2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f2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f2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e8d8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AA1C9-7DFC-44E7-81BB-CC748ABF986B}" type="slidenum">
              <a:rPr b="0" lang="en-US" sz="1200" spc="-1" strike="noStrike">
                <a:solidFill>
                  <a:srgbClr val="8e8d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RCNET.jpg"/>
          <p:cNvPicPr/>
          <p:nvPr/>
        </p:nvPicPr>
        <p:blipFill>
          <a:blip r:embed="rId3"/>
          <a:stretch/>
        </p:blipFill>
        <p:spPr>
          <a:xfrm>
            <a:off x="8121600" y="5961240"/>
            <a:ext cx="1044720" cy="9666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IRSC_NSFPoster.jpg"/>
          <p:cNvPicPr/>
          <p:nvPr/>
        </p:nvPicPr>
        <p:blipFill>
          <a:blip r:embed="rId4"/>
          <a:stretch/>
        </p:blipFill>
        <p:spPr>
          <a:xfrm>
            <a:off x="0" y="6443640"/>
            <a:ext cx="457200" cy="358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f2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f2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f2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e8d8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9514B-8A7F-4D40-B067-801F3B6B7F11}" type="slidenum">
              <a:rPr b="0" lang="en-US" sz="1200" spc="-1" strike="noStrike">
                <a:solidFill>
                  <a:srgbClr val="8e8d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file:///Gamma%20Exposure%20Video.mov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Box 1"/>
          <p:cNvSpPr/>
          <p:nvPr/>
        </p:nvSpPr>
        <p:spPr>
          <a:xfrm>
            <a:off x="152280" y="1023840"/>
            <a:ext cx="883944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ACADs (08-006)  Covered</a:t>
            </a: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Keywords</a:t>
            </a: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adiographic testing,  x-ray,  natural radiation, curie, becquerel, personnel monitoring, decay, half-life, intensity, exposure limits, inverse square, stochastic, nonstochastic, radiation safety officer.</a:t>
            </a: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Description</a:t>
            </a: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Supporting Material</a:t>
            </a: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</p:txBody>
      </p:sp>
      <p:pic>
        <p:nvPicPr>
          <p:cNvPr id="92" name="Title 1" descr=""/>
          <p:cNvPicPr/>
          <p:nvPr/>
        </p:nvPicPr>
        <p:blipFill>
          <a:blip r:embed="rId1"/>
          <a:stretch/>
        </p:blipFill>
        <p:spPr>
          <a:xfrm>
            <a:off x="-195120" y="0"/>
            <a:ext cx="9339120" cy="1262160"/>
          </a:xfrm>
          <a:prstGeom prst="rect">
            <a:avLst/>
          </a:prstGeom>
          <a:ln w="0">
            <a:noFill/>
          </a:ln>
        </p:spPr>
      </p:pic>
      <p:sp>
        <p:nvSpPr>
          <p:cNvPr id="93" name="Footer Placeholder 5"/>
          <p:cNvSpPr/>
          <p:nvPr/>
        </p:nvSpPr>
        <p:spPr>
          <a:xfrm>
            <a:off x="3124080" y="6524640"/>
            <a:ext cx="28958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e8d8c"/>
                </a:solidFill>
                <a:latin typeface="Tahoma"/>
              </a:rPr>
              <a:t>Augusta Technical College</a:t>
            </a:r>
            <a:r>
              <a:rPr b="0" lang="en-US" sz="1000" spc="-1" strike="noStrike">
                <a:solidFill>
                  <a:srgbClr val="8e8d8c"/>
                </a:solidFill>
                <a:latin typeface="Tahoma"/>
              </a:rPr>
              <a:t>	</a:t>
            </a:r>
            <a:r>
              <a:rPr b="0" lang="en-US" sz="1000" spc="-1" strike="noStrike">
                <a:solidFill>
                  <a:srgbClr val="8e8d8c"/>
                </a:solidFill>
                <a:latin typeface="Tahoma"/>
              </a:rPr>
              <a:t>2011</a:t>
            </a:r>
            <a:endParaRPr b="0" lang="en-US" sz="1000" spc="-1" strike="noStrike">
              <a:solidFill>
                <a:srgbClr val="2f2b20"/>
              </a:solidFill>
              <a:latin typeface="Tahoma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237960" y="1752480"/>
          <a:ext cx="8668080" cy="1463760"/>
        </p:xfrm>
        <a:graphic>
          <a:graphicData uri="http://schemas.openxmlformats.org/drawingml/2006/table">
            <a:tbl>
              <a:tblPr/>
              <a:tblGrid>
                <a:gridCol w="1082880"/>
                <a:gridCol w="1084320"/>
                <a:gridCol w="1082520"/>
                <a:gridCol w="1084320"/>
                <a:gridCol w="1084320"/>
                <a:gridCol w="1082520"/>
                <a:gridCol w="1084320"/>
                <a:gridCol w="1082880"/>
              </a:tblGrid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1.1.8.1.2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1.1.8.3.1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3.3.1.8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3.3.2.4.5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3.3.3.14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3.3.4.3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3.3.5.6.1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3.3.5.6.2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3.3.5.6.4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3.3.6.1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3.3.7.5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4.9.1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4.9.8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4.10.4.5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4.12.1.1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4.12.1.2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4.12.1.3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4.12.1.4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4.12.2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4.14.6.1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4.14.6.2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4.14.6.4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Atoms Continued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066320" y="190512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Nucleus of atom – contains the positively-charged protons and neutrally-charged neutron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Electrons – negatively-charged particles that travel at high speed around the nucleu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Atomic number – based on an element’s number of proton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Ex. Carbon (C) has atomic number 6, Potassium (K) has atomic number 19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Isotopes – atoms of the same element with different number of neutron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Atomic mass – approximately equal to sum of protons and neutron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0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9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Radioactivity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066320" y="190512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Defined as the release of energy and matter that results from changes in the nucleus of an ato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An atom that contains additional neutrons is unstabl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In order to move to a more stable state, the nucleus seeks to remove the extra neutrons, thereby emitting radiatio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Atoms with atomic numbers &gt; 83 referred to as radioisotopes – they have unstable nuclei and are radioactiv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1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6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1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6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Radioactive Decay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066320" y="190512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Defined as the spontaneous breakdown of an atomic nucleus resulting in the release of energy and matter from the nucleu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Occurs by: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Alpha decay (emits 2 protons and 2 neutrons from the nucleus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Beta decay (a neutron split into a proton and an electron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Gamma decay (energy in the form of gamma radiation emitted from the nucleus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Alpha and beta decay involve particle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Example nuclear reaction: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baseline="-25000">
                <a:solidFill>
                  <a:srgbClr val="2f2b20"/>
                </a:solidFill>
                <a:latin typeface="Calibri"/>
              </a:rPr>
              <a:t>92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U</a:t>
            </a:r>
            <a:r>
              <a:rPr b="0" lang="en-US" sz="2200" spc="-1" strike="noStrike" baseline="30000">
                <a:solidFill>
                  <a:srgbClr val="2f2b20"/>
                </a:solidFill>
                <a:latin typeface="Calibri"/>
              </a:rPr>
              <a:t>238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         </a:t>
            </a:r>
            <a:r>
              <a:rPr b="0" lang="en-US" sz="2200" spc="-1" strike="noStrike" baseline="-25000">
                <a:solidFill>
                  <a:srgbClr val="2f2b20"/>
                </a:solidFill>
                <a:latin typeface="Calibri"/>
              </a:rPr>
              <a:t>90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</a:t>
            </a:r>
            <a:r>
              <a:rPr b="0" lang="en-US" sz="2200" spc="-1" strike="noStrike" baseline="30000">
                <a:solidFill>
                  <a:srgbClr val="2f2b20"/>
                </a:solidFill>
                <a:latin typeface="Calibri"/>
              </a:rPr>
              <a:t>234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+ </a:t>
            </a:r>
            <a:r>
              <a:rPr b="0" lang="en-US" sz="2200" spc="-1" strike="noStrike" baseline="-25000">
                <a:solidFill>
                  <a:srgbClr val="2f2b20"/>
                </a:solidFill>
                <a:latin typeface="Calibri"/>
              </a:rPr>
              <a:t>2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He</a:t>
            </a:r>
            <a:r>
              <a:rPr b="0" lang="en-US" sz="2200" spc="-1" strike="noStrike" baseline="30000">
                <a:solidFill>
                  <a:srgbClr val="2f2b20"/>
                </a:solidFill>
                <a:latin typeface="Calibri"/>
              </a:rPr>
              <a:t>4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+ gamma ray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cxnSp>
        <p:nvCxnSpPr>
          <p:cNvPr id="117" name="Straight Arrow Connector 4"/>
          <p:cNvCxnSpPr/>
          <p:nvPr/>
        </p:nvCxnSpPr>
        <p:spPr>
          <a:xfrm>
            <a:off x="2438280" y="6324120"/>
            <a:ext cx="610560" cy="2520"/>
          </a:xfrm>
          <a:prstGeom prst="straightConnector1">
            <a:avLst/>
          </a:prstGeom>
          <a:ln w="9360">
            <a:solidFill>
              <a:srgbClr val="2f2b2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0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3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8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3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8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8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3" dur="5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8" dur="5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alibri"/>
              </a:rPr>
              <a:t>Radioactive Decay Continued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066320" y="190512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When an atom undergoes radiographic decay, it emits one or more forms of radiation with sufficient energy to ionize the atoms with which it interact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Ionizing radiation – high speed subatomic particles ejected from the nucleus, or gamma rays emitted by the either the nucleus or orbital electron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Ionization – complete removal of an electron from an atom following the transfer of energy from a passing charged particl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0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5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0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Radioactive Decay Continued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066320" y="190512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Activity – quantity which expresses the degree of radioactivity or the radiation-producing potential of a given amount of radioactive material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Given in units of Curie (English system) or Becquerel (SI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One Curie is quantity of radioactive material in which 3.7 * 10</a:t>
            </a:r>
            <a:r>
              <a:rPr b="0" lang="en-US" sz="2200" spc="-1" strike="noStrike" baseline="30000">
                <a:solidFill>
                  <a:srgbClr val="2f2b20"/>
                </a:solidFill>
                <a:latin typeface="Calibri"/>
              </a:rPr>
              <a:t>10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atoms disintegrate per second (move to a more stable state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1 Becquerel = quantity of radioactive material in which 1 atom disintegrates per second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1 Curie = 3.7 * 10</a:t>
            </a:r>
            <a:r>
              <a:rPr b="0" lang="en-US" sz="2200" spc="-1" strike="noStrike" baseline="30000">
                <a:solidFill>
                  <a:srgbClr val="2f2b20"/>
                </a:solidFill>
                <a:latin typeface="Calibri"/>
              </a:rPr>
              <a:t>10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Becquer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Specific activity – activity per unit mass or volum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2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7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2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7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2" dur="5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Half-Life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066320" y="190512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Defined as the time required for the activity of a particular radioisotope to decrease to half of its original valu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Varies for different radioisotope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Ranges from microseconds to billions of years (uranium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Half-life of Cobalt-60 = 5.3 year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Half-life Iridium-192 = 74 day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Carbon-14 dating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used to approximate the age of fossils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ecays with a half-life of 5730 year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9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4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9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4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9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4" dur="5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9" dur="5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4" dur="500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Half-Life Example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066320" y="190512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Example:  You originally have a 30-Curie source of  Cobalt-60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914400" indent="-457200">
              <a:spcBef>
                <a:spcPts val="476"/>
              </a:spcBef>
              <a:buClr>
                <a:srgbClr val="2f2b2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f2b20"/>
                </a:solidFill>
                <a:latin typeface="Calibri"/>
              </a:rPr>
              <a:t>How many Curies will you have in 5.3 years?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  <a:p>
            <a:pPr lvl="1" marL="914400" indent="-457200">
              <a:spcBef>
                <a:spcPts val="476"/>
              </a:spcBef>
              <a:buClr>
                <a:srgbClr val="2f2b2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f2b20"/>
                </a:solidFill>
                <a:latin typeface="Calibri"/>
              </a:rPr>
              <a:t>Answer: The source will have decayed by one half-life in 5.3 years, therefore half of the original source will remain, or 15 Curies.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  <a:p>
            <a:pPr lvl="1" marL="914400" indent="-457200">
              <a:spcBef>
                <a:spcPts val="476"/>
              </a:spcBef>
              <a:buClr>
                <a:srgbClr val="2f2b20"/>
              </a:buClr>
              <a:buFont typeface="Calibri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f2b20"/>
                </a:solidFill>
                <a:latin typeface="Calibri"/>
              </a:rPr>
              <a:t>How long will it take for the source to decay to 3.75 Curies?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  <a:p>
            <a:pPr lvl="1" marL="914400" indent="-457200">
              <a:spcBef>
                <a:spcPts val="476"/>
              </a:spcBef>
              <a:buClr>
                <a:srgbClr val="2f2b2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f2b20"/>
                </a:solidFill>
                <a:latin typeface="Calibri"/>
              </a:rPr>
              <a:t>Answer:  Every 5.3 years the source will be reduced by half.  In 1 half-life, the source will be reduced to 15 Curies.  In 2 half-lives, the source will be down to 7.5 Curies.  Finally, in 3 half-lives, the source will be 3.75 Curies.  Therefore, it will take a total of 3 half-lives (or 15.9 years) for the source to decay to 3.75 Curies.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1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6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1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6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1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Penetrating Power of Radiation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066320" y="190512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Only x-rays and gamma rays can penetrate solid materials to a significant extent (alpha and beta particles can penetrate skin only up to 8 mm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Transmission of radiation depends on: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2f2b2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Material thicknes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2f2b2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Material density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2f2b2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Energy of the photon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Photons that are not transmitted are attenuated (absorbed or scattered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8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3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8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3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8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3" dur="5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Radiation Safety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Science of radiation protection (also called health physics) developed to address acceptable radiation levels to reduce risk of injury to human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Primary health concern (for chronic, not acute exposure) is increased risk for cancer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Depends on amount of radiation dose, duration of dose, and specific body parts exposed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Possession and use of radioactive materials strictly regulated by the Nuclear Regulatory Commission (NRC) as specified in Title 10 of the Code of Federal Regulations (CFR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0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5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0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5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Radiation Safety Continued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By 1900 it was understood that use of x-rays and gamma radiation required safety precautions to protect one’s health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1920’s – routine use of film badges for personnel monitoring begun, genetic effects of radiation recognized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Origin of radiation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Natural (sun, radon gas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Man-made (x-rays, gamma rays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2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7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2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7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2" dur="5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ubtitle 2"/>
          <p:cNvSpPr/>
          <p:nvPr/>
        </p:nvSpPr>
        <p:spPr>
          <a:xfrm>
            <a:off x="1371600" y="10666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2f2b20"/>
                </a:solidFill>
                <a:latin typeface="Calibri"/>
              </a:rPr>
              <a:t>Radiographic Testing</a:t>
            </a:r>
            <a:endParaRPr b="0" lang="en-US" sz="3800" spc="-1" strike="noStrike">
              <a:solidFill>
                <a:srgbClr val="2f2b2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Tahoma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2f2b20"/>
                </a:solidFill>
                <a:latin typeface="Tahoma"/>
              </a:rPr>
              <a:t>Prepared by:</a:t>
            </a:r>
            <a:endParaRPr b="0" lang="en-US" sz="2500" spc="-1" strike="noStrike">
              <a:solidFill>
                <a:srgbClr val="2f2b20"/>
              </a:solidFill>
              <a:latin typeface="Tahoma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2f2b20"/>
                </a:solidFill>
                <a:latin typeface="Tahoma"/>
              </a:rPr>
              <a:t>Chattanooga State Community College</a:t>
            </a:r>
            <a:endParaRPr b="0" lang="en-US" sz="25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Radiation Energy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Different radioactive materials and x-ray generators produce radiation at different energie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Energy of radiation – responsible for the ability to penetrate matter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Measured in electronvolts (eV) or kiloelectronvolts (keV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An electronvolt is the energy gained by an electron passing through a potential difference of 1 vol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Energy adjustable on an x-ray generator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Energy an unchangeable characteristic of a radioisotope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9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4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9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4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9" dur="5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4" dur="5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Radiation Intensity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Amount of energy passing through a given area (perpendicular to the direction of radiation travel) in a given unit of tim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Survey meter – used to measure intensity or radiation dose rate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Units in mRem/hr or Rem/hr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requently referred to as the most important tool a radiographer has to determine the presence and intensity of radiatio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Per the inverse square law, the intensity varies inversely with the square of the distanc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1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6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1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6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1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Dose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066320" y="182880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Exposure – measure of the strength of a radiation field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Units of Roentgen or R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ose (also called absorbed dose) – amount of ionizing energy absorbed by an object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Units of Rad (“radiation absorbed dose”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ose equivalent relates absorbed dose to biological effect of dose – equals absorbed dose times a quality factor (quality factor = 1 for x-ray and gamma radiation in humans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Units of Rem (“Roentgen equivalent in man”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r humans, 1 R = 1 Rad = 1 Rem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8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3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8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3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8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3" dur="5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8" dur="500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Dose vs. Dose Rate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066320" y="1828440"/>
            <a:ext cx="7543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ose rate – measure of how fast a radiation dose is being received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dose rate = dose / time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Units of R/hr, mR/hr, Rem/hr, mRem/hr (same units as intensity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o calculate a person’s dose, multiply the dose rate (measured with a survey meter) by the duration of exposure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dose = dose rate * time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Example: If the radiation intensity in a particular area is 5 mRem/hr, and the person remains in that area for 30 minutes, what is the person’s radiation dose?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        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ose = 5 mRem/hr * 0.5 hr = 2.5 mRem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5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0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5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0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5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0" dur="5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5" dur="500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Biological Effects of Radiation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Absorbed dose depends on: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Intensity of radiation source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Distance from source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Time of exposure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onization of living tissue causes molecules in cells to be broken apar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Biological effects vary with: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Type of radiation (penetrating ability)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Size of dose received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Dose rate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Body part exposed (extremities can handle more exposure than blood-forming organs)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Age of individual (cell divisions slow with age – older people less sensitive to ionizing radiation)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2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7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2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7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2" dur="5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7" dur="5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2" dur="500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7" dur="500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2" dur="500"/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7" dur="500"/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2" dur="500"/>
                                        <p:tgtEl>
                                          <p:spTgt spid="1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2b20"/>
                </a:solidFill>
                <a:latin typeface="Calibri"/>
              </a:rPr>
              <a:t>Stochastic and Nonstochastic Effects</a:t>
            </a:r>
            <a:endParaRPr b="0" lang="en-US" sz="40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066320" y="198108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Stochastic effects are delayed and difficult to specifically correlate to radiation exposure (cancer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Nonstochastic effects are acute effect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35480" indent="-28296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irectly proportional to size of dose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35480" indent="-28296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ymptom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131480" indent="-226080">
              <a:spcBef>
                <a:spcPts val="499"/>
              </a:spcBef>
              <a:buClr>
                <a:srgbClr val="2f2b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Skin reddening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131480" indent="-226080">
              <a:spcBef>
                <a:spcPts val="499"/>
              </a:spcBef>
              <a:buClr>
                <a:srgbClr val="2f2b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Skin and tissue burn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131480" indent="-226080">
              <a:spcBef>
                <a:spcPts val="499"/>
              </a:spcBef>
              <a:buClr>
                <a:srgbClr val="2f2b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Cataract formation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131480" indent="-226080">
              <a:spcBef>
                <a:spcPts val="499"/>
              </a:spcBef>
              <a:buClr>
                <a:srgbClr val="2f2b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Sterility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131480" indent="-226080">
              <a:spcBef>
                <a:spcPts val="499"/>
              </a:spcBef>
              <a:buClr>
                <a:srgbClr val="2f2b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Radiation sickness (nausea, vomiting, diarrhea, headache, fever, dizziness, weakness, hair loss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131480" indent="-226080">
              <a:spcBef>
                <a:spcPts val="499"/>
              </a:spcBef>
              <a:buClr>
                <a:srgbClr val="2f2b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Death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131480" indent="-226080">
              <a:spcBef>
                <a:spcPts val="499"/>
              </a:spcBef>
              <a:buClr>
                <a:srgbClr val="2f2b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nodeType="clickEffect" fill="hold">
                      <p:stCondLst>
                        <p:cond delay="0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9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4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9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nodeType="clickEffect" fill="hold">
                      <p:stCondLst>
                        <p:cond delay="indefinite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4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7" dur="5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0" dur="500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3" dur="500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6" dur="500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9" dur="500"/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2" dur="500"/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Important NRC Codes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10CFR19 – Notices, Instructions, and Reports to Workers: Inspection and Investigation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10CFR20 – Standards for Protection Against Radiatio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10CFR34 – Licenses for Industrial Radiography and Radiation Safety Requirements for Industrial Radiographic Operation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Guidelines established to both prevent acute exposure and limit chronic exposure to “acceptable” level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esire to maintain all exposure “as low as reasonably achievable” – referred to as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ALARA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BANANA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– “build absolutely nothing anywhere near anyone”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9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nodeType="clickEffect" fill="hold">
                      <p:stCondLst>
                        <p:cond delay="indefinite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4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9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4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9" dur="5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4" dur="500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Exposure Limits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Effect of exposure (dose received in a 24-hour period):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0-25 Rem – no evident injury (blood changes detectable at 5 Rem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400-500 Rem – results in death in 50% of case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1000+ Rem – results in death in ALL case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Annual Occupational Limit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Total effective dose – 5 Rem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For pregnant women - 0.5 Rem during gestation period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For people younger than age 18 – 0.5 Rem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1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6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1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nodeType="clickEffect" fill="hold">
                      <p:stCondLst>
                        <p:cond delay="indefinite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6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1" dur="5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6" dur="5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1" dur="500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nodeType="clickEffect" fill="hold">
                      <p:stCondLst>
                        <p:cond delay="indefinite"/>
                      </p:stCondLst>
                      <p:childTnLst>
                        <p:par>
                          <p:cTn id="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6" dur="500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Exposure Limits Continued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066320" y="182880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Annual Non-Occupational Limits (for general public exposure to industrial ionizing radiation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76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f2b20"/>
                </a:solidFill>
                <a:latin typeface="Calibri"/>
              </a:rPr>
              <a:t>0.1 Rem (2% of occupational limit)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76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f2b20"/>
                </a:solidFill>
                <a:latin typeface="Calibri"/>
              </a:rPr>
              <a:t>Doesn’t include natural background radiation (0.3 Rem) or radiation from man-made sources, such as medical x-rays (0.05 Rem)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Full-body X-ray Scanners at Airport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76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f2b20"/>
                </a:solidFill>
                <a:latin typeface="Calibri"/>
              </a:rPr>
              <a:t>According to the FAA web-site, the effective dose per scan is less than 0.0001 mSv (milliSievert)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76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f2b20"/>
                </a:solidFill>
                <a:latin typeface="Calibri"/>
              </a:rPr>
              <a:t>0.01 Sievert = 1 Rem, therefore 0.0001 mSv = 0.01 mRem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76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f2b20"/>
                </a:solidFill>
                <a:latin typeface="Calibri"/>
              </a:rPr>
              <a:t>The Health Physics Society (HPS) recommends 0.25 mSv (25 mRem) max annual dose from single source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76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f2b20"/>
                </a:solidFill>
                <a:latin typeface="Calibri"/>
              </a:rPr>
              <a:t>This corresponds to 2500 exposures per year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7" dur="indefinite" restart="never" nodeType="tmRoot">
          <p:childTnLst>
            <p:seq>
              <p:cTn id="778" dur="indefinite" nodeType="mainSeq">
                <p:childTnLst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3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nodeType="clickEffect" fill="hold">
                      <p:stCondLst>
                        <p:cond delay="indefinite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8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3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nodeType="clickEffect" fill="hold">
                      <p:stCondLst>
                        <p:cond delay="indefinite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8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3" dur="5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nodeType="clickEffect" fill="hold">
                      <p:stCondLst>
                        <p:cond delay="indefinite"/>
                      </p:stCondLst>
                      <p:childTnLst>
                        <p:par>
                          <p:cTn id="8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8" dur="5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3" dur="50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8" dur="500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Controlling Radiation Exposure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Remember: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TIME, DISTANCE, and SHIELDING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Recall that dose = dose rate * tim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Collimator – device used to direct radiation onto a part and shield the radiation in other direction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In general, the denser the material the greater the shielding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Most effective shielding by depleted uranium – used to shield the source in gamma ray camera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Lead and concrete commonly used for shielding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9" dur="indefinite" restart="never" nodeType="tmRoot">
          <p:childTnLst>
            <p:seq>
              <p:cTn id="820" dur="indefinite" nodeType="mainSeq">
                <p:childTnLst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5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nodeType="clickEffect" fill="hold">
                      <p:stCondLst>
                        <p:cond delay="indefinite"/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0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5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nodeType="clickEffect" fill="hold">
                      <p:stCondLst>
                        <p:cond delay="indefinite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0" dur="5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nodeType="clickEffect" fill="hold">
                      <p:stCondLst>
                        <p:cond delay="indefinite"/>
                      </p:stCondLst>
                      <p:childTnLst>
                        <p:par>
                          <p:cTn id="8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5" dur="5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nodeType="clickEffect" fill="hold">
                      <p:stCondLst>
                        <p:cond delay="indefinite"/>
                      </p:stCondLst>
                      <p:childTnLst>
                        <p:par>
                          <p:cTn id="8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0" dur="5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Calibri"/>
              </a:rPr>
              <a:t>Topics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066320" y="198108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lvl="1" marL="1009800" indent="-609840">
              <a:lnSpc>
                <a:spcPct val="80000"/>
              </a:lnSpc>
              <a:spcBef>
                <a:spcPts val="901"/>
              </a:spcBef>
              <a:buClr>
                <a:srgbClr val="2f2b2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Calibri"/>
              </a:rPr>
              <a:t>History of RT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lvl="1" marL="1009800" indent="-609840">
              <a:lnSpc>
                <a:spcPct val="80000"/>
              </a:lnSpc>
              <a:spcBef>
                <a:spcPts val="901"/>
              </a:spcBef>
              <a:buClr>
                <a:srgbClr val="2f2b2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Calibri"/>
              </a:rPr>
              <a:t>Science of Radiation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lvl="1" marL="1009800" indent="-609840">
              <a:lnSpc>
                <a:spcPct val="80000"/>
              </a:lnSpc>
              <a:spcBef>
                <a:spcPts val="901"/>
              </a:spcBef>
              <a:buClr>
                <a:srgbClr val="2f2b2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Calibri"/>
              </a:rPr>
              <a:t>Radiation Terminology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lvl="1" marL="1009800" indent="-609840">
              <a:lnSpc>
                <a:spcPct val="80000"/>
              </a:lnSpc>
              <a:spcBef>
                <a:spcPts val="901"/>
              </a:spcBef>
              <a:buClr>
                <a:srgbClr val="2f2b2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Calibri"/>
              </a:rPr>
              <a:t>Radiation Safety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Controlling Radiation Exposure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066320" y="198108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Recall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inverse square law 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– “the radiation intensity varies inversely with the square of the distance”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25800" indent="-3258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</a:t>
            </a:r>
            <a:r>
              <a:rPr b="0" lang="en-US" sz="2200" spc="-1" strike="noStrike" baseline="-25000">
                <a:solidFill>
                  <a:srgbClr val="2f2b20"/>
                </a:solidFill>
                <a:latin typeface="Calibri"/>
              </a:rPr>
              <a:t>1*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</a:t>
            </a:r>
            <a:r>
              <a:rPr b="0" lang="en-US" sz="2200" spc="-1" strike="noStrike" baseline="-25000">
                <a:solidFill>
                  <a:srgbClr val="2f2b20"/>
                </a:solidFill>
                <a:latin typeface="Calibri"/>
              </a:rPr>
              <a:t>1</a:t>
            </a:r>
            <a:r>
              <a:rPr b="0" lang="en-US" sz="2200" spc="-1" strike="noStrike" baseline="30000">
                <a:solidFill>
                  <a:srgbClr val="2f2b20"/>
                </a:solidFill>
                <a:latin typeface="Calibri"/>
              </a:rPr>
              <a:t>2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= I</a:t>
            </a:r>
            <a:r>
              <a:rPr b="0" lang="en-US" sz="2200" spc="-1" strike="noStrike" baseline="-25000">
                <a:solidFill>
                  <a:srgbClr val="2f2b20"/>
                </a:solidFill>
                <a:latin typeface="Calibri"/>
              </a:rPr>
              <a:t>2*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</a:t>
            </a:r>
            <a:r>
              <a:rPr b="0" lang="en-US" sz="2200" spc="-1" strike="noStrike" baseline="-25000">
                <a:solidFill>
                  <a:srgbClr val="2f2b20"/>
                </a:solidFill>
                <a:latin typeface="Calibri"/>
              </a:rPr>
              <a:t>2</a:t>
            </a:r>
            <a:r>
              <a:rPr b="0" lang="en-US" sz="2200" spc="-1" strike="noStrike" baseline="30000">
                <a:solidFill>
                  <a:srgbClr val="2f2b20"/>
                </a:solidFill>
                <a:latin typeface="Calibri"/>
              </a:rPr>
              <a:t>2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25800" indent="-3258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25800" indent="-3258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Example: If the intensity at 1’ from the source is 500 Rem/hr, at what distance is the intensity 2 mRem/hr?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05600" indent="-2714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Solution:  Let I</a:t>
            </a:r>
            <a:r>
              <a:rPr b="0" lang="en-US" sz="1800" spc="-1" strike="noStrike" baseline="-25000">
                <a:solidFill>
                  <a:srgbClr val="2f2b20"/>
                </a:solidFill>
                <a:latin typeface="Calibri"/>
              </a:rPr>
              <a:t>1</a:t>
            </a: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 = 500 Rem/hr; D</a:t>
            </a:r>
            <a:r>
              <a:rPr b="0" lang="en-US" sz="1800" spc="-1" strike="noStrike" baseline="-25000">
                <a:solidFill>
                  <a:srgbClr val="2f2b20"/>
                </a:solidFill>
                <a:latin typeface="Calibri"/>
              </a:rPr>
              <a:t>1</a:t>
            </a: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 = 1 foot; I</a:t>
            </a:r>
            <a:r>
              <a:rPr b="0" lang="en-US" sz="1800" spc="-1" strike="noStrike" baseline="-25000">
                <a:solidFill>
                  <a:srgbClr val="2f2b20"/>
                </a:solidFill>
                <a:latin typeface="Calibri"/>
              </a:rPr>
              <a:t>2</a:t>
            </a: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 = 2 mRem/hr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1" marL="705600" indent="-2714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Solve for D2.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1" marL="705600" indent="-27144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2b20"/>
                </a:solidFill>
                <a:latin typeface="Calibri"/>
              </a:rPr>
              <a:t>D</a:t>
            </a:r>
            <a:r>
              <a:rPr b="1" lang="en-US" sz="1800" spc="-1" strike="noStrike" baseline="-25000">
                <a:solidFill>
                  <a:srgbClr val="2f2b20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2f2b20"/>
                </a:solidFill>
                <a:latin typeface="Calibri"/>
              </a:rPr>
              <a:t> = Square root (I</a:t>
            </a:r>
            <a:r>
              <a:rPr b="1" lang="en-US" sz="1800" spc="-1" strike="noStrike" baseline="-25000">
                <a:solidFill>
                  <a:srgbClr val="2f2b20"/>
                </a:solidFill>
                <a:latin typeface="Calibri"/>
              </a:rPr>
              <a:t>1*</a:t>
            </a:r>
            <a:r>
              <a:rPr b="1" lang="en-US" sz="1800" spc="-1" strike="noStrike">
                <a:solidFill>
                  <a:srgbClr val="2f2b20"/>
                </a:solidFill>
                <a:latin typeface="Calibri"/>
              </a:rPr>
              <a:t>D</a:t>
            </a:r>
            <a:r>
              <a:rPr b="1" lang="en-US" sz="1800" spc="-1" strike="noStrike" baseline="-25000">
                <a:solidFill>
                  <a:srgbClr val="2f2b20"/>
                </a:solidFill>
                <a:latin typeface="Calibri"/>
              </a:rPr>
              <a:t>1</a:t>
            </a:r>
            <a:r>
              <a:rPr b="1" lang="en-US" sz="1800" spc="-1" strike="noStrike" baseline="30000">
                <a:solidFill>
                  <a:srgbClr val="2f2b20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2f2b20"/>
                </a:solidFill>
                <a:latin typeface="Calibri"/>
              </a:rPr>
              <a:t> / I</a:t>
            </a:r>
            <a:r>
              <a:rPr b="1" lang="en-US" sz="1800" spc="-1" strike="noStrike" baseline="-25000">
                <a:solidFill>
                  <a:srgbClr val="2f2b20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2f2b20"/>
                </a:solidFill>
                <a:latin typeface="Calibri"/>
              </a:rPr>
              <a:t>) = 500 feet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325800" indent="-3258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25800" indent="-3258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gns must be posted at intensity boundaries (usually 2 mRem/hr and 100 mRem/hr) to warn individuals that radiographic testing is in progres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519920" indent="-21708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1" dur="indefinite" restart="never" nodeType="tmRoot">
          <p:childTnLst>
            <p:seq>
              <p:cTn id="852" dur="indefinite" nodeType="mainSeq">
                <p:childTnLst>
                  <p:par>
                    <p:cTn id="853" nodeType="clickEffect" fill="hold">
                      <p:stCondLst>
                        <p:cond delay="indefinite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7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nodeType="clickEffect" fill="hold">
                      <p:stCondLst>
                        <p:cond delay="indefinite"/>
                      </p:stCondLst>
                      <p:childTnLst>
                        <p:par>
                          <p:cTn id="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2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nodeType="clickEffect" fill="hold">
                      <p:stCondLst>
                        <p:cond delay="indefinite"/>
                      </p:stCondLst>
                      <p:childTnLst>
                        <p:par>
                          <p:cTn id="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7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nodeType="clickEffect" fill="hold">
                      <p:stCondLst>
                        <p:cond delay="indefinite"/>
                      </p:stCondLst>
                      <p:childTnLst>
                        <p:par>
                          <p:cTn id="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2" dur="5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nodeType="clickEffect" fill="hold">
                      <p:stCondLst>
                        <p:cond delay="indefinite"/>
                      </p:stCondLst>
                      <p:childTnLst>
                        <p:par>
                          <p:cTn id="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7" dur="5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nodeType="clickEffect" fill="hold">
                      <p:stCondLst>
                        <p:cond delay="indefinite"/>
                      </p:stCondLst>
                      <p:childTnLst>
                        <p:par>
                          <p:cTn id="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2" dur="500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7" dur="500"/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Half-Value Layer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066320" y="190512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Defined as the thickness of a material needed to reduce the radiation intensity to ½ of its original valu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o provide shielding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epends on radioisotope used for gamma radiation (or voltage if radiation source is an x-ray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epends on voltage if radiation source if an x-ray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838080" y="4419720"/>
          <a:ext cx="7674120" cy="1882800"/>
        </p:xfrm>
        <a:graphic>
          <a:graphicData uri="http://schemas.openxmlformats.org/drawingml/2006/table">
            <a:tbl>
              <a:tblPr/>
              <a:tblGrid>
                <a:gridCol w="1324080"/>
                <a:gridCol w="1270080"/>
                <a:gridCol w="1270080"/>
                <a:gridCol w="1269720"/>
                <a:gridCol w="1270080"/>
                <a:gridCol w="1270080"/>
              </a:tblGrid>
              <a:tr h="3794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a9a57c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Half-Value Layer, mm (inch)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a9a57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94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Source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Concrete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Steel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Lead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Tungsten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Uranium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561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Iridium-192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44.5 (1.75)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12.7 (0.5)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4.8 (0.19)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3.3 (0.13) 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2.8 (0.11) 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f1f0ec"/>
                    </a:solidFill>
                  </a:tcPr>
                </a:tc>
              </a:tr>
              <a:tr h="561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Cobalt-60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60.5 (2.38) 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21.6 (0.85) 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12.5 (0.49) 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7.9 (0.31) 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6.9 (0.27)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e2e1d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8" dur="indefinite" restart="never" nodeType="tmRoot">
          <p:childTnLst>
            <p:seq>
              <p:cTn id="889" dur="indefinite" nodeType="mainSeq">
                <p:childTnLst>
                  <p:par>
                    <p:cTn id="890" nodeType="clickEffect" fill="hold">
                      <p:stCondLst>
                        <p:cond delay="0"/>
                      </p:stCondLst>
                      <p:childTnLst>
                        <p:par>
                          <p:cTn id="8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4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7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nodeType="clickEffect" fill="hold">
                      <p:stCondLst>
                        <p:cond delay="indefinite"/>
                      </p:stCondLst>
                      <p:childTnLst>
                        <p:par>
                          <p:cTn id="8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2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5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Radiation Safety Officer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Radiation Safety Officer (RSO) - individual authorized by company to ensure radiation activities performed safely and per approved procedures and regulation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Radiographers required to wear personnel monitoring devices to aid in tracking and minimizing their radiation exposur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9" dur="indefinite" restart="never" nodeType="tmRoot">
          <p:childTnLst>
            <p:seq>
              <p:cTn id="910" dur="indefinite" nodeType="mainSeq">
                <p:childTnLst>
                  <p:par>
                    <p:cTn id="911" nodeType="clickEffect" fill="hold">
                      <p:stCondLst>
                        <p:cond delay="indefinite"/>
                      </p:stCondLst>
                      <p:childTnLst>
                        <p:par>
                          <p:cTn id="9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5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nodeType="clickEffect" fill="hold">
                      <p:stCondLst>
                        <p:cond delay="indefinite"/>
                      </p:stCondLst>
                      <p:childTnLst>
                        <p:par>
                          <p:cTn id="9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0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Personnel Monitoring Devices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1066320" y="182880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Pocket dosimeter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Similar in appearance to small marker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Reads radiation dose (not dose rate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Allows workers to track daily dose received (reset at the start of each shift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Audible alarm rate meter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Sounds an alarm at a preset dose rate (typically 500 mRem/hr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NOT a replacement for a survey meter!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d25814"/>
                </a:solidFill>
                <a:uFillTx/>
                <a:latin typeface="Calibri"/>
                <a:hlinkClick r:id="rId1"/>
              </a:rPr>
              <a:t>Gamma Exposure Video.mov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1" dur="indefinite" restart="never" nodeType="tmRoot">
          <p:childTnLst>
            <p:seq>
              <p:cTn id="922" dur="indefinite" nodeType="mainSeq">
                <p:childTnLst>
                  <p:par>
                    <p:cTn id="923" nodeType="clickEffect" fill="hold">
                      <p:stCondLst>
                        <p:cond delay="indefinite"/>
                      </p:stCondLst>
                      <p:childTnLst>
                        <p:par>
                          <p:cTn id="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7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nodeType="clickEffect" fill="hold">
                      <p:stCondLst>
                        <p:cond delay="indefinite"/>
                      </p:stCondLst>
                      <p:childTnLst>
                        <p:par>
                          <p:cTn id="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2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nodeType="clickEffect" fill="hold">
                      <p:stCondLst>
                        <p:cond delay="indefinite"/>
                      </p:stCondLst>
                      <p:childTnLst>
                        <p:par>
                          <p:cTn id="9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7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nodeType="clickEffect" fill="hold">
                      <p:stCondLst>
                        <p:cond delay="indefinite"/>
                      </p:stCondLst>
                      <p:childTnLst>
                        <p:par>
                          <p:cTn id="9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2" dur="5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nodeType="clickEffect" fill="hold">
                      <p:stCondLst>
                        <p:cond delay="indefinite"/>
                      </p:stCondLst>
                      <p:childTnLst>
                        <p:par>
                          <p:cTn id="9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7" dur="5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nodeType="clickEffect" fill="hold">
                      <p:stCondLst>
                        <p:cond delay="indefinite"/>
                      </p:stCondLst>
                      <p:childTnLst>
                        <p:par>
                          <p:cTn id="9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2" dur="500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nodeType="clickEffect" fill="hold">
                      <p:stCondLst>
                        <p:cond delay="indefinite"/>
                      </p:stCondLst>
                      <p:childTnLst>
                        <p:par>
                          <p:cTn id="9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7" dur="500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nodeType="clickEffect" fill="hold">
                      <p:stCondLst>
                        <p:cond delay="indefinite"/>
                      </p:stCondLst>
                      <p:childTnLst>
                        <p:par>
                          <p:cTn id="9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2" dur="500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2b20"/>
                </a:solidFill>
                <a:latin typeface="Calibri"/>
              </a:rPr>
              <a:t>Personnel Monitoring Devices - Continued</a:t>
            </a:r>
            <a:endParaRPr b="0" lang="en-US" sz="40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Film badg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Piece of radiation-sensitive film that provides a permanent record of radiation dose received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TLD (thermoluminescent dosimeter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Often used instead of a film badge (may be reused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Both film badges and TLDs typically worn for 1-3 months before being processed to determine dos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3" dur="indefinite" restart="never" nodeType="tmRoot">
          <p:childTnLst>
            <p:seq>
              <p:cTn id="964" dur="indefinite" nodeType="mainSeq">
                <p:childTnLst>
                  <p:par>
                    <p:cTn id="965" nodeType="clickEffect" fill="hold">
                      <p:stCondLst>
                        <p:cond delay="indefinite"/>
                      </p:stCondLst>
                      <p:childTnLst>
                        <p:par>
                          <p:cTn id="9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9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nodeType="clickEffect" fill="hold">
                      <p:stCondLst>
                        <p:cond delay="indefinite"/>
                      </p:stCondLst>
                      <p:childTnLst>
                        <p:par>
                          <p:cTn id="9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4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nodeType="clickEffect" fill="hold">
                      <p:stCondLst>
                        <p:cond delay="indefinite"/>
                      </p:stCondLst>
                      <p:childTnLst>
                        <p:par>
                          <p:cTn id="9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9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nodeType="clickEffect" fill="hold">
                      <p:stCondLst>
                        <p:cond delay="indefinite"/>
                      </p:stCondLst>
                      <p:childTnLst>
                        <p:par>
                          <p:cTn id="9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4" dur="5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nodeType="clickEffect" fill="hold">
                      <p:stCondLst>
                        <p:cond delay="indefinite"/>
                      </p:stCondLst>
                      <p:childTnLst>
                        <p:par>
                          <p:cTn id="9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9" dur="5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2b20"/>
                </a:solidFill>
                <a:latin typeface="Calibri"/>
              </a:rPr>
              <a:t>Radiography Equipment – X-Ray Generators</a:t>
            </a:r>
            <a:endParaRPr b="0" lang="en-US" sz="40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X-rays are generated by directing a stream of high-speed electrons at a target material, such as tungsten, which has a high atomic number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Interaction with the tungsten atoms slows or stops the electrons, and x-rays are produced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Major components of an x-ray machin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Tube – contains a cathode (coiled wire) and an anode (target) – operates in a vacuum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High voltage generator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Control console (to adjust output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Cooling system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0" dur="indefinite" restart="never" nodeType="tmRoot">
          <p:childTnLst>
            <p:seq>
              <p:cTn id="991" dur="indefinite" nodeType="mainSeq">
                <p:childTnLst>
                  <p:par>
                    <p:cTn id="992" nodeType="clickEffect" fill="hold">
                      <p:stCondLst>
                        <p:cond delay="indefinite"/>
                      </p:stCondLst>
                      <p:childTnLst>
                        <p:par>
                          <p:cTn id="9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6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nodeType="clickEffect" fill="hold">
                      <p:stCondLst>
                        <p:cond delay="indefinite"/>
                      </p:stCondLst>
                      <p:childTnLst>
                        <p:par>
                          <p:cTn id="9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1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nodeType="clickEffect" fill="hold">
                      <p:stCondLst>
                        <p:cond delay="indefinite"/>
                      </p:stCondLst>
                      <p:childTnLst>
                        <p:par>
                          <p:cTn id="10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6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nodeType="clickEffect" fill="hold">
                      <p:stCondLst>
                        <p:cond delay="indefinite"/>
                      </p:stCondLst>
                      <p:childTnLst>
                        <p:par>
                          <p:cTn id="10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1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nodeType="clickEffect" fill="hold">
                      <p:stCondLst>
                        <p:cond delay="indefinite"/>
                      </p:stCondLst>
                      <p:childTnLst>
                        <p:par>
                          <p:cTn id="10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6" dur="5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nodeType="clickEffect" fill="hold">
                      <p:stCondLst>
                        <p:cond delay="indefinite"/>
                      </p:stCondLst>
                      <p:childTnLst>
                        <p:par>
                          <p:cTn id="10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1" dur="500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nodeType="clickEffect" fill="hold">
                      <p:stCondLst>
                        <p:cond delay="indefinite"/>
                      </p:stCondLst>
                      <p:childTnLst>
                        <p:par>
                          <p:cTn id="10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6" dur="500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X-Ray Generators Continued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f2b20"/>
                </a:solidFill>
                <a:latin typeface="Calibri"/>
              </a:rPr>
              <a:t>X-ray control console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Increasing current (or milliamperage) increases number  of electrons that flow from the cathode to the anode – thus increases the x-ray intensity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Increasing the voltage increases the speed at which the electrons travel – thus increasing the energy or penetrating power of the x-ray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7" dur="indefinite" restart="never" nodeType="tmRoot">
          <p:childTnLst>
            <p:seq>
              <p:cTn id="1028" dur="indefinite" nodeType="mainSeq">
                <p:childTnLst>
                  <p:par>
                    <p:cTn id="1029" nodeType="clickEffect" fill="hold">
                      <p:stCondLst>
                        <p:cond delay="indefinite"/>
                      </p:stCondLst>
                      <p:childTnLst>
                        <p:par>
                          <p:cTn id="10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3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nodeType="clickEffect" fill="hold">
                      <p:stCondLst>
                        <p:cond delay="indefinite"/>
                      </p:stCondLst>
                      <p:childTnLst>
                        <p:par>
                          <p:cTn id="10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8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nodeType="clickEffect" fill="hold">
                      <p:stCondLst>
                        <p:cond delay="indefinite"/>
                      </p:stCondLst>
                      <p:childTnLst>
                        <p:par>
                          <p:cTn id="10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3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2b20"/>
                </a:solidFill>
                <a:latin typeface="Calibri"/>
              </a:rPr>
              <a:t>Radiography Equipment – Gamma Sources</a:t>
            </a:r>
            <a:endParaRPr b="0" lang="en-US" sz="40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Man-made radioactive sources produced by introducing an extra neutron to atoms of the source material by neutron bombardmen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As the atoms shed the neutron energy is released in the form of gamma ray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o-60 and Ir-192 common industrial gamma ray sources due to: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high energie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Portability (as opposed to x-ray machines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isadvantage of gamma sources – cannot be turned off, therefore source must be isolated and shielded within an exposure device (camera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4" dur="indefinite" restart="never" nodeType="tmRoot">
          <p:childTnLst>
            <p:seq>
              <p:cTn id="1045" dur="indefinite" nodeType="mainSeq">
                <p:childTnLst>
                  <p:par>
                    <p:cTn id="1046" nodeType="clickEffect" fill="hold">
                      <p:stCondLst>
                        <p:cond delay="indefinite"/>
                      </p:stCondLst>
                      <p:childTnLst>
                        <p:par>
                          <p:cTn id="10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0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nodeType="clickEffect" fill="hold">
                      <p:stCondLst>
                        <p:cond delay="indefinite"/>
                      </p:stCondLst>
                      <p:childTnLst>
                        <p:par>
                          <p:cTn id="10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5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nodeType="clickEffect" fill="hold">
                      <p:stCondLst>
                        <p:cond delay="indefinite"/>
                      </p:stCondLst>
                      <p:childTnLst>
                        <p:par>
                          <p:cTn id="10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0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nodeType="clickEffect" fill="hold">
                      <p:stCondLst>
                        <p:cond delay="indefinite"/>
                      </p:stCondLst>
                      <p:childTnLst>
                        <p:par>
                          <p:cTn id="10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5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nodeType="clickEffect" fill="hold">
                      <p:stCondLst>
                        <p:cond delay="indefinite"/>
                      </p:stCondLst>
                      <p:childTnLst>
                        <p:par>
                          <p:cTn id="10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0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nodeType="clickEffect" fill="hold">
                      <p:stCondLst>
                        <p:cond delay="indefinite"/>
                      </p:stCondLst>
                      <p:childTnLst>
                        <p:par>
                          <p:cTn id="10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5" dur="5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2b20"/>
                </a:solidFill>
                <a:latin typeface="Calibri"/>
              </a:rPr>
              <a:t>Radiography Equipment – Gamma Sources</a:t>
            </a:r>
            <a:endParaRPr b="0" lang="en-US" sz="40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ources typically consist of multiple pellets loaded into a stainless steel capsule to obtain desired activity level (number of Curies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apsule sealed by welding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Attached to a short flexible cable called a pigtail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Housed in a shielding device referred to as an exposure device or camera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Activity of source governs amount of shielding required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Co-60 has a higher activity (1.25MeV) than Ir-192 (460keV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Co-60 cameras typically weigh 500 lbs vs. ~45 lbs for Ir-192 camera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6" dur="indefinite" restart="never" nodeType="tmRoot">
          <p:childTnLst>
            <p:seq>
              <p:cTn id="1077" dur="indefinite" nodeType="mainSeq">
                <p:childTnLst>
                  <p:par>
                    <p:cTn id="1078" nodeType="clickEffect" fill="hold">
                      <p:stCondLst>
                        <p:cond delay="indefinite"/>
                      </p:stCondLst>
                      <p:childTnLst>
                        <p:par>
                          <p:cTn id="10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2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nodeType="clickEffect" fill="hold">
                      <p:stCondLst>
                        <p:cond delay="indefinite"/>
                      </p:stCondLst>
                      <p:childTnLst>
                        <p:par>
                          <p:cTn id="10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7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nodeType="clickEffect" fill="hold">
                      <p:stCondLst>
                        <p:cond delay="indefinite"/>
                      </p:stCondLst>
                      <p:childTnLst>
                        <p:par>
                          <p:cTn id="10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2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nodeType="clickEffect" fill="hold">
                      <p:stCondLst>
                        <p:cond delay="indefinite"/>
                      </p:stCondLst>
                      <p:childTnLst>
                        <p:par>
                          <p:cTn id="10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7" dur="5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nodeType="clickEffect" fill="hold">
                      <p:stCondLst>
                        <p:cond delay="indefinite"/>
                      </p:stCondLst>
                      <p:childTnLst>
                        <p:par>
                          <p:cTn id="10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2" dur="5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nodeType="clickEffect" fill="hold">
                      <p:stCondLst>
                        <p:cond delay="indefinite"/>
                      </p:stCondLst>
                      <p:childTnLst>
                        <p:par>
                          <p:cTn id="1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7" dur="500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nodeType="clickEffect" fill="hold">
                      <p:stCondLst>
                        <p:cond delay="indefinite"/>
                      </p:stCondLst>
                      <p:childTnLst>
                        <p:par>
                          <p:cTn id="1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2" dur="500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Performing Radiography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Exposure device connected to source tube on one end and a crank-out mechanism on the other end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Source tube in positioned as needed to obtain radiograph of component (with the source itself safely housed in the exposure device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From as far away as possible, the radiograph turns the crank to move the source from the camera to the tip of the source tube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After the proper exposure time (calculated based on source strength, source to film distance, and thickness of the component), the radiographer cranks the source back into the camera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The radiographer must use the survey meter to confirm the source fully extracted back into the camera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nodeType="clickEffect" fill="hold">
                      <p:stCondLst>
                        <p:cond delay="indefinite"/>
                      </p:stCondLst>
                      <p:childTnLst>
                        <p:par>
                          <p:cTn id="1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9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nodeType="clickEffect" fill="hold">
                      <p:stCondLst>
                        <p:cond delay="indefinite"/>
                      </p:stCondLst>
                      <p:childTnLst>
                        <p:par>
                          <p:cTn id="1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4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nodeType="clickEffect" fill="hold">
                      <p:stCondLst>
                        <p:cond delay="indefinite"/>
                      </p:stCondLst>
                      <p:childTnLst>
                        <p:par>
                          <p:cTn id="1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9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nodeType="clickEffect" fill="hold">
                      <p:stCondLst>
                        <p:cond delay="indefinite"/>
                      </p:stCondLst>
                      <p:childTnLst>
                        <p:par>
                          <p:cTn id="1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4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nodeType="clickEffect" fill="hold">
                      <p:stCondLst>
                        <p:cond delay="indefinite"/>
                      </p:stCondLst>
                      <p:childTnLst>
                        <p:par>
                          <p:cTn id="1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9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5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Radiographic Testing (RT)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066320" y="20570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f2b20"/>
                </a:solidFill>
                <a:latin typeface="Calibri"/>
              </a:rPr>
              <a:t>Definition: </a:t>
            </a:r>
            <a:r>
              <a:rPr b="0" lang="en-US" sz="3600" spc="-1" strike="noStrike">
                <a:solidFill>
                  <a:srgbClr val="2f2b20"/>
                </a:solidFill>
                <a:latin typeface="Calibri"/>
              </a:rPr>
              <a:t>An NDT method that utilizes x-rays or gamma radiation to detect discontinuities in materials, and to present their images on recording medium.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Radiograph Image Properties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Sensitivity – a measure of the quality of the image in terms of the smallest detail that may be detected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Image Quality Indicators (IQIs or penetrameters) – devices used to indicate the quality level or sensitivity of the radiograph (plaque type or wire type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Depends on contrast and definition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Contrast – degree of density difference between two areas on a radiograph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Definition – degree of sharpness of the radiographic imag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Codes require a minimum “unsharpness”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0" dur="indefinite" restart="never" nodeType="tmRoot">
          <p:childTnLst>
            <p:seq>
              <p:cTn id="1141" dur="indefinite" nodeType="mainSeq">
                <p:childTnLst>
                  <p:par>
                    <p:cTn id="1142" nodeType="clickEffect" fill="hold">
                      <p:stCondLst>
                        <p:cond delay="indefinite"/>
                      </p:stCondLst>
                      <p:childTnLst>
                        <p:par>
                          <p:cTn id="1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6" dur="5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nodeType="clickEffect" fill="hold">
                      <p:stCondLst>
                        <p:cond delay="indefinite"/>
                      </p:stCondLst>
                      <p:childTnLst>
                        <p:par>
                          <p:cTn id="1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1" dur="5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2" nodeType="clickEffect" fill="hold">
                      <p:stCondLst>
                        <p:cond delay="indefinite"/>
                      </p:stCondLst>
                      <p:childTnLst>
                        <p:par>
                          <p:cTn id="1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6" dur="5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7" nodeType="clickEffect" fill="hold">
                      <p:stCondLst>
                        <p:cond delay="indefinite"/>
                      </p:stCondLst>
                      <p:childTnLst>
                        <p:par>
                          <p:cTn id="1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1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2" nodeType="clickEffect" fill="hold">
                      <p:stCondLst>
                        <p:cond delay="indefinite"/>
                      </p:stCondLst>
                      <p:childTnLst>
                        <p:par>
                          <p:cTn id="1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6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nodeType="clickEffect" fill="hold">
                      <p:stCondLst>
                        <p:cond delay="indefinite"/>
                      </p:stCondLst>
                      <p:childTnLst>
                        <p:par>
                          <p:cTn id="1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1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Radiograph Image Properties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Density – degree of film darkening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If 0.01% of transmitted light reaches far side of film the density is 4.0 (based on an exponential equation)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If 1.0% of transmitted light reaches far side of film the density is 2.0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Many governing codes require densities of 2-4% (don’t want image too light or too dark)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Densitometer – device used to measure film density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Density through the IQI must meet code (2-4%)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Also, the density in the area of interest (the weld perhaps), must satisfy plus/minus criteria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buClr>
                <a:srgbClr val="2f2b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2b20"/>
                </a:solidFill>
                <a:latin typeface="Calibri"/>
              </a:rPr>
              <a:t>Darkest area must have a density of not more than 30% of the density under the IQI</a:t>
            </a: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buClr>
                <a:srgbClr val="2f2b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2b20"/>
                </a:solidFill>
                <a:latin typeface="Calibri"/>
              </a:rPr>
              <a:t>Lightest area must have  a density of not less than 15% of the density under the IQI</a:t>
            </a: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buClr>
                <a:srgbClr val="2f2b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2" dur="indefinite" restart="never" nodeType="tmRoot">
          <p:childTnLst>
            <p:seq>
              <p:cTn id="1173" dur="indefinite" nodeType="mainSeq">
                <p:childTnLst>
                  <p:par>
                    <p:cTn id="1174" nodeType="clickEffect" fill="hold">
                      <p:stCondLst>
                        <p:cond delay="indefinite"/>
                      </p:stCondLst>
                      <p:childTnLst>
                        <p:par>
                          <p:cTn id="1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8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nodeType="clickEffect" fill="hold">
                      <p:stCondLst>
                        <p:cond delay="indefinite"/>
                      </p:stCondLst>
                      <p:childTnLst>
                        <p:par>
                          <p:cTn id="1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3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4" nodeType="clickEffect" fill="hold">
                      <p:stCondLst>
                        <p:cond delay="indefinite"/>
                      </p:stCondLst>
                      <p:childTnLst>
                        <p:par>
                          <p:cTn id="1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8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nodeType="clickEffect" fill="hold">
                      <p:stCondLst>
                        <p:cond delay="indefinite"/>
                      </p:stCondLst>
                      <p:childTnLst>
                        <p:par>
                          <p:cTn id="1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3" dur="5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4" nodeType="clickEffect" fill="hold">
                      <p:stCondLst>
                        <p:cond delay="indefinite"/>
                      </p:stCondLst>
                      <p:childTnLst>
                        <p:par>
                          <p:cTn id="1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8" dur="5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nodeType="clickEffect" fill="hold">
                      <p:stCondLst>
                        <p:cond delay="indefinite"/>
                      </p:stCondLst>
                      <p:childTnLst>
                        <p:par>
                          <p:cTn id="1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3" dur="500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nodeType="clickEffect" fill="hold">
                      <p:stCondLst>
                        <p:cond delay="indefinite"/>
                      </p:stCondLst>
                      <p:childTnLst>
                        <p:par>
                          <p:cTn id="1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8" dur="500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nodeType="clickEffect" fill="hold">
                      <p:stCondLst>
                        <p:cond delay="indefinite"/>
                      </p:stCondLst>
                      <p:childTnLst>
                        <p:par>
                          <p:cTn id="1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3" dur="500"/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nodeType="clickEffect" fill="hold">
                      <p:stCondLst>
                        <p:cond delay="indefinite"/>
                      </p:stCondLst>
                      <p:childTnLst>
                        <p:par>
                          <p:cTn id="1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8" dur="500"/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2f2b20"/>
                </a:solidFill>
                <a:latin typeface="Calibri"/>
              </a:rPr>
              <a:t>Assignment…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RT Worksheet/Calculations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Densitometersa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History – X-Rays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X-rays discovered in 1895 by Wilhelm Roentge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1896 – used by physicians to locate bullets in wounded soldier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1913 – development of high vacuum x-ray tubes enabled voltages of 100,000 V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ncreased penetrating power of x-rays led to industrial application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1931 – GE developed 1,000,000 V x-ray generator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ASME approved use of x-ray to test fusion-welded pressure vessel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History – Natural Radiation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1896 – Henri Becquerel identified uranium as radioactive material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1898 – Pierre and Marie Curie discovered polonium, followed by radium (“shining” element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Radium capable of filming through 10-12” thick steel casting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Used extensively during WWII as part of U.S. Navy shipbuilding program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1946 – cobalt and iridium became availabl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Both stronger and cheaper than radium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What is radiation?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X-rays and gamma rays are types of electromagnetic radiation of shorter wavelengths than visible light: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λ</a:t>
            </a:r>
            <a:r>
              <a:rPr b="0" lang="en-US" sz="2000" spc="-1" strike="noStrike" baseline="-25000">
                <a:solidFill>
                  <a:srgbClr val="2f2b20"/>
                </a:solidFill>
                <a:latin typeface="Calibri"/>
              </a:rPr>
              <a:t>visible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  = 600 Angstroms, </a:t>
            </a:r>
            <a:r>
              <a:rPr b="0" lang="el-GR" sz="2000" spc="-1" strike="noStrike">
                <a:solidFill>
                  <a:srgbClr val="2f2b20"/>
                </a:solidFill>
                <a:latin typeface="Calibri"/>
              </a:rPr>
              <a:t>λ</a:t>
            </a:r>
            <a:r>
              <a:rPr b="0" lang="en-US" sz="2000" spc="-1" strike="noStrike" baseline="-25000">
                <a:solidFill>
                  <a:srgbClr val="2f2b20"/>
                </a:solidFill>
                <a:latin typeface="Calibri"/>
              </a:rPr>
              <a:t>x-rays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 = 1 A, </a:t>
            </a:r>
            <a:r>
              <a:rPr b="0" lang="el-GR" sz="2000" spc="-1" strike="noStrike">
                <a:solidFill>
                  <a:srgbClr val="2f2b20"/>
                </a:solidFill>
                <a:latin typeface="Calibri"/>
              </a:rPr>
              <a:t>λ</a:t>
            </a:r>
            <a:r>
              <a:rPr b="0" lang="en-US" sz="2000" spc="-1" strike="noStrike" baseline="-25000">
                <a:solidFill>
                  <a:srgbClr val="2f2b20"/>
                </a:solidFill>
                <a:latin typeface="Calibri"/>
              </a:rPr>
              <a:t>gamma rays 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= 0.0001 A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shorter wavelengths permit penetration through material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high energy levels break chemical bond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*Leads to destruction of living tissue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X-rays and gamma rays differ only in source of origi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5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5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50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Radiation Properties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Undetectable by human senses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Cannot be seen, felt, heard, or smelled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Possesses no charge or mas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Referred to as photons (packets of energy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Generally travels in straight lines (can bend at material interfaces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Characterized by frequency, wavelength, and velocity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Part of electromagnetic spectrum but not influenced by electrical or magnetic field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5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Atoms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066320" y="190512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f2b20"/>
                </a:solidFill>
                <a:latin typeface="Calibri"/>
              </a:rPr>
              <a:t>Atom - the smallest particle of any element that retains the characteristics of that element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Subatomic particles – protons, electrons, neutron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10" name="Picture 3" descr="AtomLabeledLarge.gif"/>
          <p:cNvPicPr/>
          <p:nvPr/>
        </p:nvPicPr>
        <p:blipFill>
          <a:blip r:embed="rId1"/>
          <a:stretch/>
        </p:blipFill>
        <p:spPr>
          <a:xfrm>
            <a:off x="3352680" y="2971800"/>
            <a:ext cx="2667240" cy="26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0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7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2" dur="500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2T17:57:16Z</dcterms:created>
  <dc:creator>Mark and Jacki Smith</dc:creator>
  <dc:description/>
  <dc:language>en-US</dc:language>
  <cp:lastModifiedBy>Peggy Hines IRSC</cp:lastModifiedBy>
  <cp:lastPrinted>2011-10-20T14:45:59Z</cp:lastPrinted>
  <dcterms:modified xsi:type="dcterms:W3CDTF">2013-02-07T17:17:01Z</dcterms:modified>
  <cp:revision>321</cp:revision>
  <dc:subject/>
  <dc:title>Statics and Strength of Materials</dc:title>
</cp:coreProperties>
</file>