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0C9D7-4AF4-41D3-B955-544C2432F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27CD6-F634-47ED-9394-7DE0D72037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2D2AC-4942-4898-B9C7-FC4F827B8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1F08A-399D-491B-AAF4-54D7BF709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1974C-AF40-4B3B-842B-986DEDF95A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7E3DB-D3A2-4A66-977C-D0E4D062A2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0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3ED4F-20B1-4EE2-BE6E-D67E1429D2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B5566-DF2F-4FFA-8EB1-6889E26482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9B3E-459C-46BB-8375-889C5DA5B5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1FFC7-56EB-4261-BE99-78AD361A3D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B2678-5C85-4ACA-92B4-95FC10D2C0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A33CC-A8B3-4A3B-8DC4-A1274E05AF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59533-9A4C-4579-8EB9-6964A4296A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F90DD-5DD9-4A0E-ADBB-7DF633B186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0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DC78E-9CB1-41E2-B1A9-AD767E6A46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50C67-5B4F-480B-95D8-D6CFFA7E27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14CAA-C3B9-428D-82B2-9FCF1C13CA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58F53-0060-43BF-956F-3C78A81B02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1C2CB-AB04-40D6-BE44-0627165C43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F77E0-FC56-46D5-AE25-8A1007E849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C6E80-766C-4F0F-80E9-B41F7E4075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3084B-CFF3-4F0C-9DF7-FF8B13FAD1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A02A0-8307-4F7D-832B-91718B277C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497E9-C1F2-4E37-8AB5-E33EEAD7EC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2F069-6576-47E7-8039-14E4A980C4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2AA4E-37EA-4DEC-A2EC-7CE9793D33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8F1F8-B151-4352-9CAC-F3AE28A79B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2BAE4-EA6C-40BB-83D3-8D6B64F287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1BFD5-F213-42A0-924F-EA227F7932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B4DA9-3A0E-4DDB-AF7E-7E170376F6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EBB5C-E7A8-4B1F-A241-FFD94CA44D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CB194-85EB-4C55-A7D7-D22B26449D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D9185-5A1D-4EDE-B36F-4732A84F1C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6DB59-42CF-4822-8059-CFA8BE36E3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86604-1756-479D-A991-192C43C2C0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69C81-A106-432F-86BB-B3D96B7620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C0E55-5C87-49DE-8569-F6466221C1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A94D6-7D13-41CE-ABE1-34E93AADD9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1F711-0952-4FA7-AAEF-562CE327CA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0346C-1C0F-4AAC-BE2B-F0A35803E2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764D3-FE96-486F-9287-1F48CD55B9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A5389-F123-45F5-AE50-1594E496D2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CE7AC-8B04-40F0-8089-31CD30779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7FD1C-7AEE-417C-872D-A39FF9EFD5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9E540-9693-487E-9717-8CBD7E9F5D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9F651-EA22-47F1-897C-DE2223E5D4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AA866-53AD-422C-BA66-BE11856C71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54E57-04A3-4B76-8129-62B92A7BB6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D80-8CDF-4847-8F5C-2EBB91A4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9BD-3A6D-471B-85C7-105FACDB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DCB-597D-45BC-A663-EC926D54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D1D-776E-4AF2-B9D5-4C358DA3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A04-B545-48D1-9CE3-D7EEE40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9E8-7AC4-469F-8F6C-CC39F7B4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D88-9597-4678-B6F0-6F13E70F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11E-F9D4-4ABC-9713-875F7546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B87-8B82-44BF-A8CA-1CFE64AC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B28-FAF8-44B8-BE53-E26042D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626-FC11-4E6B-8FDE-E0A1DCCE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1C7-24B9-4B25-B339-0AF0C7F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F7C0D-2E56-4274-80A7-AA7EDA2A9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pectronic.co.uk/img/m550.jpg&amp;imgrefurl=http://www.spectronic.co.uk/uv-vis-spectrophotometers/m550.htm&amp;h=292&amp;w=400&amp;sz=14&amp;hl=en&amp;start=3&amp;um=1&amp;tbnid=sr7jPIzm_qoizM:&amp;tbnh=91&amp;tbnw=124&amp;prev=/images%3Fq%3Dspectrophotometer%26um%3D1%26hl%3Den%26ie%3DUTF-8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cscale.net/pictures/large/Electronic-Balance-LED-HX-T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rumentation and 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cience of physical measurement appli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variables such as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f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asurements contain some error and it is calculated by the following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Error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e Value  -   Average Measured 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22256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22860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78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 Gives a Measure of Var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676520" y="3178080"/>
            <a:ext cx="121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099680" y="2876400"/>
            <a:ext cx="21654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56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623120" y="3790800"/>
            <a:ext cx="1269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2865600" y="3436920"/>
            <a:ext cx="198360" cy="274680"/>
          </a:xfrm>
          <a:custGeom>
            <a:avLst/>
            <a:gdLst>
              <a:gd name="textAreaLeft" fmla="*/ 0 w 198360"/>
              <a:gd name="textAreaRight" fmla="*/ 198720 w 198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5" h="173">
                <a:moveTo>
                  <a:pt x="0" y="173"/>
                </a:moveTo>
                <a:lnTo>
                  <a:pt x="12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6"/>
          <p:cNvSpPr/>
          <p:nvPr/>
        </p:nvSpPr>
        <p:spPr>
          <a:xfrm>
            <a:off x="3063960" y="3422520"/>
            <a:ext cx="220680" cy="1301760"/>
          </a:xfrm>
          <a:custGeom>
            <a:avLst/>
            <a:gdLst>
              <a:gd name="textAreaLeft" fmla="*/ 0 w 220680"/>
              <a:gd name="textAreaRight" fmla="*/ 221040 w 22068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139" h="820">
                <a:moveTo>
                  <a:pt x="0" y="0"/>
                </a:moveTo>
                <a:lnTo>
                  <a:pt x="139" y="8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3289320" y="2568600"/>
            <a:ext cx="376200" cy="2146320"/>
          </a:xfrm>
          <a:custGeom>
            <a:avLst/>
            <a:gdLst>
              <a:gd name="textAreaLeft" fmla="*/ 0 w 376200"/>
              <a:gd name="textAreaRight" fmla="*/ 376560 w 37620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237" h="1352">
                <a:moveTo>
                  <a:pt x="0" y="1352"/>
                </a:moveTo>
                <a:lnTo>
                  <a:pt x="23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3670200" y="2568600"/>
            <a:ext cx="3327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828800" y="3178080"/>
            <a:ext cx="121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746520" y="3787920"/>
            <a:ext cx="3098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5740560" y="3102120"/>
            <a:ext cx="25380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ignificant Figu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cessary number of figures (digits) required to express the result of a measurement or calculation so that only the last digit in the number is in doub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gives significance (or meaning) to each digit in the number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10680"/>
            <a:ext cx="80773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nsider Significant Figu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depends upon experimentation which requires numerical measu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 are taken from instruments made by other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asurement is 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is alway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Significant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17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t figure is estimated in measuring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.3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whole #'s are significant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2.33 = 3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zeros between 2 numbers are significant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.03 = 3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s to the right of whole number digits are significant if prec by a decimal point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03.00  = 5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zeros to the right of a decimal point &amp; whole number are significant        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.0230 = 5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s to the right of a decimal but to the left of a whole number are not significant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0.0203  3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uracy of an analytical measurement is how close a result comes to the true value.  The analytical method is calibrated using a known standard to determine the accuracy of a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The reproducibility of multiple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It is evaluated statistically using standard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, standard error, or confidence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13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Requires Accuracy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14376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205740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value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 flipH="1">
            <a:off x="5700600" y="2514600"/>
            <a:ext cx="486000" cy="22860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71600" y="4646520"/>
            <a:ext cx="6172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371600" y="4800600"/>
            <a:ext cx="2635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 vs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of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is reset to detect a specific weight  according to directions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00.00 g standard is placed on the balance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recalibrating, the balance will then show a value equal to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using balanc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ion versus Accuracy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tion of balances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of pipet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79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of Pipet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60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89080" indent="-289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petman is selected and set to a specific volume :  1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or 2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drawn up to a desired volume and place into weighed small beaker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equ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= Mass/Volum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calculate the volume using 1 gram/ml           for density of water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 Err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02040" indent="-302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ation from an expected value can be expressed as a Percent Er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040" indent="-302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Percent Error use the formula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% Error  =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rue Value – Average val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 100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trum of electromagnetic waves ranges from low-frequency radio waves to high-frequency gamma rays. Only a small portion of the spectrum, representing wavelengths of roughly 400–700 nanometers, is visible to the human ey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© Merriam-Webster In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0007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0">
              <a:spcBef>
                <a:spcPts val="799"/>
              </a:spcBef>
              <a:buNone/>
              <a:tabLst>
                <a:tab algn="l" pos="0"/>
                <a:tab algn="l" pos="59544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light of a specific wavelength interacts with a substance, the subsequent energy transfer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224"/>
              </a:spcBef>
              <a:buNone/>
              <a:tabLst>
                <a:tab algn="l" pos="0"/>
                <a:tab algn="l" pos="59544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59544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59544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57200" y="18288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26440" indent="-226440">
              <a:spcBef>
                <a:spcPts val="79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light hits a substan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spcBef>
                <a:spcPts val="79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ransferred to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spcBef>
                <a:spcPts val="79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by raising its energy to an exc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spcBef>
                <a:spcPts val="79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05640" indent="-30564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absorption of a photon triggers the emission of another photon with a longer wavelength when the molecule relaxes back to its ground st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itation: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ce: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Planck’s cons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frequency of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round state of the fluorescent molecu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xcited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that are excited through light absorption can transfer energy to a second molecule, which is converted to its excited state and can then fluoresc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orescent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emitting diodes (LEDs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 vapor street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w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 fluorescent lighting (CFL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V/Vis Spectropho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ption of light in the visible and ultraviolet  spectrum results in changes electronic structure of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V/Vis Spectropho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light sou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range: Tungsten lamp (400 – 700 n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 range: Deutrium lamp (200 – 400 n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ting Monoch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using Balan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Pi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bert-Beer Law A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whe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abso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molar extinction coefficient (L mmo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= molar concentration (m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 = pathlength (c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ambert-Beer law is used to accurately determine the concentration of a substance by measure absorbance at a specific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ert-Beer Law is used to determine the concentration of an unknown using a standard cu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628800" cy="2828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124080" y="33526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= 0.063 x + 0.002 R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0.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80880" y="3352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for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2438280" y="35337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Nucleic Acid Concent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measurement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for nucleic acids (DNA and RNA) at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specific for each type of nucle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ds-DNA = 50 µ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ss-DNA = 37 µ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ss-RNA = 40 µ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 and 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60/2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y of nucleic acid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re range 1.8 – 2.0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4572000"/>
            <a:ext cx="13716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ion of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omogenous liquid mixture composed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r more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u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 which dissolves in the sol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v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in which solute is dis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nt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io of the mass of a solute to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solution Examples: g/mL, mol/L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actor, medium, volu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dilution is logarith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dilution using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 (cont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iquo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divided portions of a s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34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ff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lt solution which resists change in p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addition of acid or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34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ag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which is involved in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d during a chemical reaction or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 other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34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isc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 in the surface of a liquid which res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teraction with the 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"/>
          <p:cNvGrpSpPr/>
          <p:nvPr/>
        </p:nvGrpSpPr>
        <p:grpSpPr>
          <a:xfrm>
            <a:off x="914400" y="1295280"/>
            <a:ext cx="6202440" cy="4972320"/>
            <a:chOff x="914400" y="1295280"/>
            <a:chExt cx="6202440" cy="4972320"/>
          </a:xfrm>
        </p:grpSpPr>
        <p:pic>
          <p:nvPicPr>
            <p:cNvPr id="154" name="Picture 3" descr=""/>
            <p:cNvPicPr/>
            <p:nvPr/>
          </p:nvPicPr>
          <p:blipFill>
            <a:blip r:embed="rId1"/>
            <a:stretch/>
          </p:blipFill>
          <p:spPr>
            <a:xfrm>
              <a:off x="914400" y="1295280"/>
              <a:ext cx="6202440" cy="49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4"/>
            <p:cNvSpPr/>
            <p:nvPr/>
          </p:nvSpPr>
          <p:spPr>
            <a:xfrm>
              <a:off x="1066320" y="1371240"/>
              <a:ext cx="5942160" cy="9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6627960" y="2057040"/>
              <a:ext cx="380520" cy="396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1066320" y="2057040"/>
              <a:ext cx="380880" cy="396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1218960" y="5942160"/>
              <a:ext cx="556092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8"/>
          <p:cNvSpPr/>
          <p:nvPr/>
        </p:nvSpPr>
        <p:spPr>
          <a:xfrm>
            <a:off x="763560" y="18288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pH ranges for common laboratory buff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7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: [H+]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&gt; 7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: [H+] &gt;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&lt;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ic: [H+] &lt;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 meter is an instrument used to measure the pH of a liquid. Componen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(glass electro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 (measures and displays pH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pH is Meas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solutions with different pH values exist inside and outside a glass membrane, an electromotive force is proportional to the difference between the two pH values. The solution inside the glass membrane has a pH value of 7. The pH value of the solution outside the membrane can be obtained by measuring the electromotive force generated in the membra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uses and limitations of the balances we use in the labora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volved in making and reporting a measur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affect the uncertainty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easu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significant figures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 meter consists of a glass electrode and a reference electrode. It allows the pH value of the sample to be obtained by measuring the potential difference between the two electrodes with a potential difference me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ibrate the pH meter, a standard solution with a known pH value is used. As standard solutions, phthalic acid (pH 4.01), neutral phosphate (pH 6.86), and borate (pH 9.18) are mainly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34290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is the ratio of the mass (or volume) of a solute to the mass (or volume) of the solution (or solvent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/volume (%w/v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/volume (%v/v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ar volume (mol/L or 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Prepare 1 L of 1.5 M Tris pH 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otal number of moles of Tris required. 1 L X 1.5 mol/L = 1.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s (MW = 121.1 g/mo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 mol X 121.1 g/mol = 181.65 g T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Dissolve 181.65 g Tris in 700 mL 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(using beak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 Adjust pH to 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Transfer to 1 L graduated cylinder. Bring to final volume with 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Safety Data Sheet (MSD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materials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 (PPE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ves, eye protection, hood,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equipment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wash station, safety shower, fire alarms, fire extinguisher, 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808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6524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Safety Data Sheet (MSDS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information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chemic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respons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ust be a MSDS for every chemical used and stored in a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DS for all chemicals must be read and understood before starting 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line of defense are container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manufacturers post physical and health hazards on container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formation goes on a container label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’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ing, handling, and dis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733920" cy="2830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367668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057400" y="457200"/>
            <a:ext cx="2286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971440" y="379440"/>
            <a:ext cx="2514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1160"/>
            <a:ext cx="6858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Fire Protection Association - NFPA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0120" y="2057040"/>
            <a:ext cx="4033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ue =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= Flam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llow = Re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119480" y="5570640"/>
            <a:ext cx="47959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98800" indent="-298800" algn="ctr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= 0 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800" indent="-298800" algn="ctr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Intense to Most Int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58520" y="4800600"/>
            <a:ext cx="381384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te = Special Haz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 : ACID, NO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4160" y="1461960"/>
            <a:ext cx="52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rcbs.msu.edu/chemical/nfpa/nfp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… Bio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6324480" y="2057400"/>
            <a:ext cx="2619360" cy="2048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304920" y="1600200"/>
            <a:ext cx="7619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Biohazardous mater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in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producing harmful eff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ther biological organisms, particularly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bacteria, fungi, viruses, parasites, recombinant products, allergens, cultured human or animal cells and their potentially infectious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7464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0">
              <a:spcBef>
                <a:spcPts val="79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are equipped with two types of bala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34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a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loading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34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79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mary difference between these instrument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788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sion = +/- 0.01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52472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Loading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733920"/>
            <a:ext cx="411480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less quantitative results are required (+/- 0.01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pacity &lt; 1200 g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measurements requiring highly quantitative results i.e. +/- 0.0002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pacity &lt; 100 g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505320" y="3505320"/>
            <a:ext cx="17524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-Rad Pipet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pets can measure +/-1% of their largest volume and be 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Jennifer Imbesi</cp:lastModifiedBy>
  <dcterms:modified xsi:type="dcterms:W3CDTF">2016-01-06T15:07:52Z</dcterms:modified>
  <cp:revision>14</cp:revision>
  <dc:subject/>
  <dc:title>Slide 1</dc:title>
</cp:coreProperties>
</file>