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9374188" cy="7088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4400" cy="708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60800" cy="353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08200" y="-360"/>
            <a:ext cx="4062600" cy="353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14200" y="531720"/>
            <a:ext cx="3543480" cy="265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730920"/>
            <a:ext cx="4060800" cy="35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30820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E50B-FB2E-4D67-8BA3-BBCAAD7ED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64AA-0A3F-4F7D-99D5-86918C17E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209D-57DF-4F4B-A661-FCEE888DC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7DAC-940B-495F-BDB6-60C2A5992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9B06-1D07-4D37-89F4-0E14A22A9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82B3-1BCD-46E6-BD63-0B3456617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4230-4D66-4021-BDF8-14B92F342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36FF-BC0F-4B5F-A04B-56D4527CF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F36A-777A-4895-8BF6-39FAE21C4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8311-6815-441A-90E6-725E74191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9F44-B4E6-47E6-A1F1-2CB8699FD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569F-8228-4182-82FD-727CE83A1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5FF6-FFC6-4DF3-8CB1-FE39C89D4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DE3F-8293-4507-84FA-7AE1A2A8B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2DAD-1308-41FE-BEBE-FF0E3A72A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AE3F-8B7F-4750-A0C8-9A3E76037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3E09-DD71-4D14-8992-A7CD1C5DB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4195-CF72-459B-A2D6-2E304CBA9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7397-FF6D-4352-9C86-CB7B33023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8E00-0B1C-401C-A068-03FA3F8C9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1B3B-D09B-4A37-8D46-FD63D64C1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7C60-7533-48F2-8F42-092079001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E96D-D792-4AC6-9B97-958AE7A3F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DFED-FB87-4C65-98E1-3D28E842A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E49A-2473-4F47-AA37-D727CBF21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82A0-3A93-4DEE-9089-47A22A66D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DDE3-B3C0-4CB5-A1FA-6D03AE7BB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582C-DDE7-46B0-A047-C97B0629D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C796-64AD-4236-B196-AFC848D19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75EE-6E6F-49F0-9CF3-28CB1A27D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3F8F-725A-40DF-B60F-81DCF3B1D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ED03-D305-4C09-8B8E-36BAD957B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4E85-C338-4F7C-BA5C-95856A1B2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BB12-BF57-4462-957F-75EA38792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456A-F3DD-4352-9D3F-E6CF42178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9F88-AC41-4C30-B673-0B29A0951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0D62-0AE4-4896-9774-5C99A673A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6741-8806-4AB7-A6AA-86D9C9255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A358-4341-4DC0-A39A-33242324A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D8BF-2D79-42F7-A480-6BE9EACA2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6A7B-C7BC-4750-9ACE-84763F50D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55FB-C3B8-4BC0-A1A1-7A0734279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6E39-0429-421B-A9D8-1F98C38BD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6AE2-F85D-4B4C-A5E7-BC6CF9937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51A5-9ED3-4873-8A11-A56C277A4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C7C4-0E0F-4B0B-9D19-61E81100C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BF29-0147-463D-AA56-769655575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B537-9A20-497A-894A-1C9C1990F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BB8A-CFEC-4E94-A988-1BAEAFC15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0C55-539A-4824-8460-FAD1C87F9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6087-1954-480D-A215-35E1631D8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5DED-2837-4831-BCF7-921A05583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4E5A-4271-4C56-9927-ADB814A94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2A7A-54E4-404F-9EC5-F83A78583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403-8A66-48D9-AE2E-2B019183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160-DBEF-4EFB-B7D2-03F76FE4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8F5-99B8-4C08-B791-44DA7E13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39E-3EE7-4078-AE55-876351FE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62E-FA4E-422B-BA5E-DAB113F7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6A6-9D6C-476F-9B7A-F7DA6D59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F92-2A62-4A26-B4B7-931BDCF1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04E-8B80-40C5-B7B9-E52385C5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1AB-EC18-4951-AA5E-69CB3A1D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FF5-DAF4-499D-8ACD-7C482AC9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25E-4CEF-4C1A-A1E4-55618347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F79-6395-47F0-B999-25FE36B5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95FE-670B-4451-8FB8-E9DDEEE1C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orldcanals.com/english/nthameast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Carriers and Pipelin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6 S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ctober 29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American Water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ssissippi Rive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racoastal Water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theastern Heritage ca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lumbia, Sacramento &amp; San Joaquin 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land Water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worldcanals.com/image/usa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7543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worldcanals.com/image/usazoom.gif"/>
          <p:cNvPicPr/>
          <p:nvPr/>
        </p:nvPicPr>
        <p:blipFill>
          <a:blip r:embed="rId1"/>
          <a:stretch/>
        </p:blipFill>
        <p:spPr>
          <a:xfrm>
            <a:off x="1219320" y="243000"/>
            <a:ext cx="70866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worldcanals.com/image/northamzoomeast.gif"/>
          <p:cNvPicPr/>
          <p:nvPr/>
        </p:nvPicPr>
        <p:blipFill>
          <a:blip r:embed="rId1"/>
          <a:stretch/>
        </p:blipFill>
        <p:spPr>
          <a:xfrm>
            <a:off x="1150920" y="395280"/>
            <a:ext cx="6697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33333" t="22400" r="32003" b="6400"/>
          <a:stretch/>
        </p:blipFill>
        <p:spPr>
          <a:xfrm>
            <a:off x="2097000" y="152280"/>
            <a:ext cx="4867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these video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Marine Highway Initiative – Part 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http://www.youtube.com/watch?v=wz0Zd4kT5X8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Marine Highway Initiative – Part 2 (http://www.youtube.com/watch?v=CvNn9N28gr0&amp;feature=rela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Vess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g and barge combinations (used by internal water carri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Lakes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stal carriers (oceangoing vessels and bar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 haul length is 400 miles for inland water carriers to 1,500 miles for coastal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ttp://www.freefoto.com/images/31/47/31_47_3---Cleanaway-refuse-barges--River-Thames--London_web.jpg?&amp;k=Cleanaway+refuse+barges%2C+River+Thames%2C+London"/>
          <p:cNvPicPr/>
          <p:nvPr/>
        </p:nvPicPr>
        <p:blipFill>
          <a:blip r:embed="rId1"/>
          <a:stretch/>
        </p:blipFill>
        <p:spPr>
          <a:xfrm>
            <a:off x="990720" y="914400"/>
            <a:ext cx="70484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davidshome.net/StLouisArch/P1000020.jpg"/>
          <p:cNvPicPr/>
          <p:nvPr/>
        </p:nvPicPr>
        <p:blipFill>
          <a:blip r:embed="rId1"/>
          <a:stretch/>
        </p:blipFill>
        <p:spPr>
          <a:xfrm>
            <a:off x="1295280" y="9144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upload.wikimedia.org/wikipedia/commons/d/d6/Alaska_tugboat_moves_a_barge.jpg"/>
          <p:cNvPicPr/>
          <p:nvPr/>
        </p:nvPicPr>
        <p:blipFill>
          <a:blip r:embed="rId1"/>
          <a:stretch/>
        </p:blipFill>
        <p:spPr>
          <a:xfrm>
            <a:off x="647640" y="7621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private fle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Nittany Products case (13-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Port of Tacoma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on mid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carriers and pipelines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static.guim.co.uk/sys-images/Environment/Pix/columnists/2009/1/9/1231508061683/Hijacked-oil-tanker-MV-Si-001.jpg"/>
          <p:cNvPicPr/>
          <p:nvPr/>
        </p:nvPicPr>
        <p:blipFill>
          <a:blip r:embed="rId1"/>
          <a:stretch/>
        </p:blipFill>
        <p:spPr>
          <a:xfrm>
            <a:off x="1066680" y="1219320"/>
            <a:ext cx="70614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://www.jwgainc.com/coastalprogress.jpg"/>
          <p:cNvPicPr/>
          <p:nvPr/>
        </p:nvPicPr>
        <p:blipFill>
          <a:blip r:embed="rId1"/>
          <a:stretch/>
        </p:blipFill>
        <p:spPr>
          <a:xfrm>
            <a:off x="990720" y="1523880"/>
            <a:ext cx="718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trans-inst.org/img/M%20V%20Midnight%20Sun.jpg"/>
          <p:cNvPicPr/>
          <p:nvPr/>
        </p:nvPicPr>
        <p:blipFill>
          <a:blip r:embed="rId1"/>
          <a:stretch/>
        </p:blipFill>
        <p:spPr>
          <a:xfrm>
            <a:off x="609480" y="1143000"/>
            <a:ext cx="7620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bp0.blogger.com/_tzPE3Hl9sZw/SI-DBRIiukI/AAAAAAAAAIM/xLVx9V4aMRU/s320/matson_268191014_std.jpg"/>
          <p:cNvPicPr/>
          <p:nvPr/>
        </p:nvPicPr>
        <p:blipFill>
          <a:blip r:embed="rId1"/>
          <a:stretch/>
        </p:blipFill>
        <p:spPr>
          <a:xfrm>
            <a:off x="1981080" y="1295280"/>
            <a:ext cx="5354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shipsandharbours.com.s3.amazonaws.com/2621.jpg"/>
          <p:cNvPicPr/>
          <p:nvPr/>
        </p:nvPicPr>
        <p:blipFill>
          <a:blip r:embed="rId1"/>
          <a:stretch/>
        </p:blipFill>
        <p:spPr>
          <a:xfrm>
            <a:off x="1600200" y="1066680"/>
            <a:ext cx="6286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.S. Vessels by Type, 200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y bar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8.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wboa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k, liquid bar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.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shore support vess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4.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y cargo vess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.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enger vess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.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k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0.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ight Carried on Major Waterways, 2006, in millions of t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issippi River System, incl. Ohi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Lak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lf Intracoastal Waterw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umbia Ri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ake Ri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lantic Intracoastal Waterw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.S. Navigable water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16,000 miles, where 12,000 miles are maintained by the US Army Corps of Engin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estic waterborne freight is more than 1 billion tons, whereof inland is around 60% (the rest is coastwise domestic shipp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goes hauled are typically bulky raw materials (coal, ore, aggregates, grains, petroleum, chemic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mestic Commodities Shipped by Waterborne Traffic, 200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9.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role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6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de materi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.6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and farm produc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8.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ufactured goo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4.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ufactured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1.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carriers account for around 12% of the total US freight expenses (3% domestic and 9% international trade) of almost $400 bill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borne transportation accounted for 13% of the all transported freight (2005, ton-mi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stwise was 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waterways was 4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otal ton-miles down 29% from 1996 to 2006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barge carry the same as 58 tractor-trai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Private fl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orting your own car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rail car fleets do exist (Dow Chemicals has more than 20,000 cars, mostly tank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thundertrain.org/051711USMCVX3390ChemTrainTank-7R.jpg"/>
          <p:cNvPicPr/>
          <p:nvPr/>
        </p:nvPicPr>
        <p:blipFill>
          <a:blip r:embed="rId1"/>
          <a:stretch/>
        </p:blipFill>
        <p:spPr>
          <a:xfrm>
            <a:off x="990720" y="2743200"/>
            <a:ext cx="6858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costs per dollar of gross outpu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9%, which is the second high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l is the most efficient, at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 is at 2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ining market share and freight ra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ition and substit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 becoming more of a service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rn supply chai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ivate carriers and bulk commodity carriers are exempt from economic regulation, while regulated carriers are either common or contrac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-hire water carriers are (passively) regulated by the STB (Surface Transportation Board)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“… to encourage and promote service and price competition in the noncontiguous domestic trade”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on carriers hauling freight to domestic points beyond the continental US have to file tariffs with the FMC (Federal Maritime Commission) (exercises control over the rates, practices, agreements and servic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st Structure f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charg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k &amp; dock fees, fu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vs. variabl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 15% fixed; 85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el cost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ly the highe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able 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 cost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lower than the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ative Labor Int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-miles of freight carried for each carrier employe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pel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9.30 million ton-m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.74 mill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2.72 m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or carri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0.40 m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on pip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ip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acteristics of Pip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rted out serving the oil fiel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nly uni-directional (one-way) m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ounted for 20% of ton-miles in 2005 (oil 13%; gas 7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/3 is oil and oil products; 1/3 is natural g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out 160,000 miles of oil pipelines in 200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out 1.5 million miles of gas pipel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ipelines only 4% of total transportation revenues (vs. trucking at 75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pelines and the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arriers (for-hire pipelines) account for 90% of all pipeline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il  companies own the majority (20 oil cos. Control 2/3 of the oil pipeline mile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tural gas pipelines operate as public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ed by the Dept. of Transportation (PHM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ipeline and Hazardous Materials Safety Administration’s 4 goa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the risk of harm to people due to the transportation of hazardous materi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the risk of harm to the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onize and standardize the requirements for pipeline and Hazmat internationally and facilitate safe &amp; efficient transportation through ports of entry and the supply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the consequences after a pipeline or Hazmat failure has occur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 of pip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rates (less than ½ cent per ton-mi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loss and damag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ehousing function (slow throughpu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able (reliab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/7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labor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ly non-polluting when in 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www.theodora.com/pipelines/united_states_pipelines_map.jpg"/>
          <p:cNvPicPr/>
          <p:nvPr/>
        </p:nvPicPr>
        <p:blipFill>
          <a:blip r:embed="rId1"/>
          <a:stretch/>
        </p:blipFill>
        <p:spPr>
          <a:xfrm>
            <a:off x="152280" y="1295280"/>
            <a:ext cx="872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st common reasons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ng a private fl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ain direct control of transportation capacity on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ontrol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 to provide consistent and high quality                      customer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) to benchmark outside transportation services used by the company (provide insight into real operational costs of transpor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5)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ww.pipeline101.com/overview/images/CrudeLines.gif"/>
          <p:cNvPicPr/>
          <p:nvPr/>
        </p:nvPicPr>
        <p:blipFill>
          <a:blip r:embed="rId1"/>
          <a:stretch/>
        </p:blipFill>
        <p:spPr>
          <a:xfrm>
            <a:off x="422280" y="762120"/>
            <a:ext cx="7947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cargo unit 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lk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aded directly into the ship’s lar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http://www.seatech.eng.br/photos/HOME%20MARINE%20-%202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bulk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ariety of odd sized cargoes loaded directly into to the holds or onto the deck of the 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www.sharaflogistics.com/wp-content/uploads/16_head_638134903.jpg"/>
          <p:cNvPicPr/>
          <p:nvPr/>
        </p:nvPicPr>
        <p:blipFill>
          <a:blip r:embed="rId1"/>
          <a:stretch/>
        </p:blipFill>
        <p:spPr>
          <a:xfrm>
            <a:off x="1219320" y="2971800"/>
            <a:ext cx="65721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in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mma Maersk is one of the largest shi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log.ae/wp-content/uploads/2009/06/emma-maersk-2.jpg"/>
          <p:cNvPicPr/>
          <p:nvPr/>
        </p:nvPicPr>
        <p:blipFill>
          <a:blip r:embed="rId1"/>
          <a:stretch/>
        </p:blipFill>
        <p:spPr>
          <a:xfrm>
            <a:off x="914400" y="2743200"/>
            <a:ext cx="70390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ld’s ten largest container lin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ersk Li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4.4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nis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diterranean Shipping Lines12.4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wi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MA CGM Grou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8.1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ren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vergree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4.1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iwane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pag-Lloy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4.0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rm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merican President Lin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4.0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…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SAV Grou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3.8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ile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SCO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3.6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ine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SC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3.2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ine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nj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3.2%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ore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p 20 carriers have 82.7% of the mark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l-on, Roll-off (RoR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lers &amp;  vehicles are rolled straight on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www.ascopeshipping.co.uk/RoRo%20ship.JPG"/>
          <p:cNvPicPr/>
          <p:nvPr/>
        </p:nvPicPr>
        <p:blipFill>
          <a:blip r:embed="rId1"/>
          <a:stretch/>
        </p:blipFill>
        <p:spPr>
          <a:xfrm>
            <a:off x="990720" y="21337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e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goes are often hand stowed or palletized, kept at a variety of temper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ww.trimarinegroup.com/images/operations/fleet/wei_hong.jpg"/>
          <p:cNvPicPr/>
          <p:nvPr/>
        </p:nvPicPr>
        <p:blipFill>
          <a:blip r:embed="rId1"/>
          <a:stretch/>
        </p:blipFill>
        <p:spPr>
          <a:xfrm>
            <a:off x="1165320" y="2743200"/>
            <a:ext cx="63784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ized ships have height adjustable d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upload.wikimedia.org/wikipedia/commons/c/c5/Car_carrier_Nordic_Ace.jpg"/>
          <p:cNvPicPr/>
          <p:nvPr/>
        </p:nvPicPr>
        <p:blipFill>
          <a:blip r:embed="rId1"/>
          <a:stretch/>
        </p:blipFill>
        <p:spPr>
          <a:xfrm>
            <a:off x="1447920" y="20574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vy l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y anything, like other ships, oil rigs, container cranes, huge 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cryptome.org/eyeball/sbx1/sbx-267.jpg"/>
          <p:cNvPicPr/>
          <p:nvPr/>
        </p:nvPicPr>
        <p:blipFill>
          <a:blip r:embed="rId1"/>
          <a:stretch/>
        </p:blipFill>
        <p:spPr>
          <a:xfrm>
            <a:off x="1219320" y="2133720"/>
            <a:ext cx="60958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al Carriers and Intermedi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ight Forward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 as both Shippers and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ed by the Freight Forwarder Act of 19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R title 49 and the FMC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Bills of Lading, as NVOC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liability for cargo; maintains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nded to insure carriers get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provides express service, etc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acts as customs bro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tablish separate trucking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it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btain for-hire (common carrier) authority (by registering and paying fees, plus publishing their rates and char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handle the empty backhaul situ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ster as a for-hire carrier and start soliciting space, or try to work trip-leas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haul exempt (agricultural) commod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losing focus; stay with core compet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ight Bro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be licensed by the FMC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have performance bond (to ensure payment to carri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maintain cargo liability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issue Bills of L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modal Marketing Compani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olidato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ipper’s Ag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 similar as Freight Forwa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regulated and not require to keep cargo liability insuranc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PL’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Party Logistics Provi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nies outsource to them a variety of logistics task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ight forwarding and carri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nto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io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Technology,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d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ditors Interna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xpeditor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lile Transportation Syste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carlile.biz/logistics/pages/Home.asp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lo Worldw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con-way.com/en/log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how about Nittany Products? (case 13-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 of Tacoma case due ton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ontributes to the congestion at the Port of Tacoma? Who are the major players in this scenario, and what is their ro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 What are the major problems resulting from the trucking conges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 Discuss the short and long-term solutions discussed at the May 2010 meeting.  Which of these seem viable and yet might yield effective resul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 Research some of the other ports that are experiencing similar congestion problems.  Are there solutions implemented at these ports that might work at the Port of Tacom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 Are there other solutions that could be considered for this situ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Midterm Exam this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160" y="167652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format through An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from Tuesday, Oct. 30 at noon to Friday, Nov. 2 at midnight.  (start before 10 pm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hou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book, notes,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multiple choice and 6 short e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0 points total (15% of gra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types of water carriers are the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ed for the operating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ed for the cargoes car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ed for the shore side equipment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00:52Z</dcterms:created>
  <dc:creator>Andreas</dc:creator>
  <dc:description/>
  <dc:language>en-US</dc:language>
  <cp:lastModifiedBy>Andreas</cp:lastModifiedBy>
  <dcterms:modified xsi:type="dcterms:W3CDTF">2012-10-29T17:44:16Z</dcterms:modified>
  <cp:revision>17</cp:revision>
  <dc:subject/>
  <dc:title>LOG 102 - Transportation</dc:title>
</cp:coreProperties>
</file>