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4CC0-DCEF-471B-929E-03C5D28A6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2560" y="400788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A08C-B049-461B-846C-A379EDBC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200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AC6D-B874-40FE-93B0-7F66873C2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0020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784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256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0020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784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76DC-E3C2-46D7-AD32-43C74819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18ED-2D2E-443A-9848-2746DA220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0642-E504-4520-B237-F3D985E9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B515-0517-4EEE-BC23-8FBCB785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DFCA-F431-49C3-B773-29D08383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EFC1-1A0D-4D3F-B9F8-CEA34C72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73200" y="188640"/>
            <a:ext cx="779760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BC92-05D1-4575-9790-D5193154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899A-A52F-4067-A7B0-61B7661E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7CBC-6C46-447A-9170-CD5C2A15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200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698D-9E76-411D-A45C-3AA0CA99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150A-6327-4FD8-B717-6870D180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52560" y="400788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F2D1-F7DE-4662-AC36-051B225F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200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3ADC-B811-4724-B312-3443CCDDA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0020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4784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5256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0020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4784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DE3C-1384-428C-8EBA-4A7477AA5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6DF47-CFEA-4DD3-846F-D9FED0E15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D5D50-5530-4B0E-89B7-2D98B1E6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417F7-01CD-4943-A061-7A527C97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25337-EB66-4B69-AC59-1515023C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6C59B-C1E2-44D8-A2FB-E2ED7211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3F03-E9C9-4085-886D-5A4D71CE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73200" y="188640"/>
            <a:ext cx="779760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1AF45-585C-4391-9AC7-32D3FE7D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C6D47-B337-4630-AE3C-8BDAC0AB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200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0815D-4A46-48AD-ACAC-9D539125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B1BD4-E11B-4443-9CBC-99DA03D8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952560" y="400788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BD4CE-192E-4C94-8DC8-7A7E0564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200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71BE5-AF11-4FB1-970A-61EDED39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40020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84784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95256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40020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84784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B4F7F-A1C5-4300-933A-E80E24C36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04618-D6A6-4B36-92A9-20A0CDC37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D2A61-DC56-42A9-99FF-2EF40A16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C9538-5863-45AF-8506-6A83D4AA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DFFA-8452-49F0-936E-9B1E519B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59318-7B83-419C-B513-C7AA6E9E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D3F3B-819D-4702-9992-02C470F2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73200" y="188640"/>
            <a:ext cx="779760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783B5-3DE3-4B5C-B6EC-0D145B05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4AD0D-B966-4BF3-B58C-5141E9FF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200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EB38A-7691-49F2-92FA-F9262D6C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00C4B-9DFB-46F0-9465-15FC43E6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52560" y="400788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D7105-3417-4228-8E8B-7123BCF9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200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FC695-C340-4B52-998D-131FFA05D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40020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84784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5256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40020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84784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6DFDF-40F6-4BB4-AC14-1F0346EF4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7935-F9E1-4118-A8B0-6A906417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3200" y="188640"/>
            <a:ext cx="779760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759D-67F6-42BF-91BB-6F58D029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EB76-1B70-48BF-B043-D8B7B3D9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200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593A-8C62-4F67-8215-D82DAB43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8A8C-16BB-4A68-A9E3-847DA724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c5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Fresh Mast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3" marL="16002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4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5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6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52560" y="65527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77040" y="655272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4DFC-8969-40E3-ABE1-3E67F48E4F06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c5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Fresh title.png"/>
          <p:cNvPicPr/>
          <p:nvPr/>
        </p:nvPicPr>
        <p:blipFill>
          <a:blip r:embed="rId2"/>
          <a:srcRect l="0" t="0" r="0" b="39778"/>
          <a:stretch/>
        </p:blipFill>
        <p:spPr>
          <a:xfrm>
            <a:off x="0" y="1566720"/>
            <a:ext cx="9144000" cy="2243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Fresh title.png"/>
          <p:cNvPicPr/>
          <p:nvPr/>
        </p:nvPicPr>
        <p:blipFill>
          <a:blip r:embed="rId3"/>
          <a:srcRect l="0" t="33639" r="0" b="59391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3" marL="16002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4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5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6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324480" y="6288120"/>
            <a:ext cx="1981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85440" y="62881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381520" y="62881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CFD3-48B8-4FA2-90B0-48D866CD1A9E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c5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Fresh section.png"/>
          <p:cNvPicPr/>
          <p:nvPr/>
        </p:nvPicPr>
        <p:blipFill>
          <a:blip r:embed="rId2"/>
          <a:stretch/>
        </p:blipFill>
        <p:spPr>
          <a:xfrm>
            <a:off x="0" y="3767040"/>
            <a:ext cx="9144000" cy="30909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3" marL="16002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4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5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6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72840" y="6553080"/>
            <a:ext cx="198108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620880" y="6553080"/>
            <a:ext cx="289548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759440" y="6553080"/>
            <a:ext cx="6858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155B-A94E-4A05-B8A2-7C005DCBA5F4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c5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Fresh Mast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8"/>
          <p:cNvSpPr/>
          <p:nvPr/>
        </p:nvSpPr>
        <p:spPr>
          <a:xfrm>
            <a:off x="4675320" y="1841400"/>
            <a:ext cx="3504960" cy="39625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990720" y="1841400"/>
            <a:ext cx="3504960" cy="39625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3" marL="16002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4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5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6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952560" y="65527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55272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7277040" y="655272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D72D-24B3-4D7E-BE30-D5B35BEB1811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3276360" y="2057400"/>
            <a:ext cx="28191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Garden.com 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ase Study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Log 103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2" name="TextBox 3"/>
          <p:cNvSpPr/>
          <p:nvPr/>
        </p:nvSpPr>
        <p:spPr>
          <a:xfrm>
            <a:off x="2590920" y="5638680"/>
            <a:ext cx="449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Case study used with permission of the Tuck School of Business at Dartmouth – Glassmeyer/McNamee Center for Digital Strategies</a:t>
            </a:r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Title 1" descr=""/>
          <p:cNvPicPr/>
          <p:nvPr/>
        </p:nvPicPr>
        <p:blipFill>
          <a:blip r:embed="rId1"/>
          <a:stretch/>
        </p:blipFill>
        <p:spPr>
          <a:xfrm>
            <a:off x="512640" y="182520"/>
            <a:ext cx="7979040" cy="14749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ookman Old Style"/>
              </a:rPr>
              <a:t>Garden.com started in March 1996 as an Internet company</a:t>
            </a:r>
            <a:endParaRPr b="0" lang="en-US" sz="17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ookman Old Style"/>
              </a:rPr>
              <a:t>Concept: Sell products to consumers at a retail price and then ship them directly from the suppliers at a wholesale price</a:t>
            </a:r>
            <a:endParaRPr b="0" lang="en-US" sz="17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Live plants, flowers and bulbs would be shipped direct from growers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Gardening supplies and other related merchandise could be inventoried and shipped from Garden.com or from supplier depending on attributes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ookman Old Style"/>
              </a:rPr>
              <a:t>Products included live plants, shrubs, trees, bulbs, seeds, organic fertilizers/pesticides, tools furniture, garden ornaments, clothing, garden accessories, garden gifts</a:t>
            </a:r>
            <a:endParaRPr b="0" lang="en-US" sz="17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Title 1" descr=""/>
          <p:cNvPicPr/>
          <p:nvPr/>
        </p:nvPicPr>
        <p:blipFill>
          <a:blip r:embed="rId1"/>
          <a:stretch/>
        </p:blipFill>
        <p:spPr>
          <a:xfrm>
            <a:off x="512640" y="182520"/>
            <a:ext cx="7966080" cy="14749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952560" y="1600200"/>
            <a:ext cx="7238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Research indicated 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Gardening was a fast growing hobby in US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Industry was fragmented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No dominant player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Competition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Large format home improvement retailers had uprooted many of the 60,000+ retail nurseries in the 1990’s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Many of the traditional local nurseries had either grown larger and/or added seasonal merchandise in the fall/winter, or found niche markets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Home Improvement/Superstores  offered price and convenience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Mail-order catalogs expanded into online but did not have variety of products planned by Garden.com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Multi-channel online retailers  could be major competition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Title 1" descr=""/>
          <p:cNvPicPr/>
          <p:nvPr/>
        </p:nvPicPr>
        <p:blipFill>
          <a:blip r:embed="rId1"/>
          <a:stretch/>
        </p:blipFill>
        <p:spPr>
          <a:xfrm>
            <a:off x="512640" y="182520"/>
            <a:ext cx="7966080" cy="14749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man Old Style"/>
              </a:rPr>
              <a:t>Website provided lots of information for both new and experienced gardeners</a:t>
            </a:r>
            <a:endParaRPr b="0" lang="en-US" sz="19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man Old Style"/>
              </a:rPr>
              <a:t>Web and paper-based magazine provided lots of content, links to Garden.com products</a:t>
            </a:r>
            <a:endParaRPr b="0" lang="en-US" sz="19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man Old Style"/>
              </a:rPr>
              <a:t>Monthly newsletter distributed to Garden.com members</a:t>
            </a:r>
            <a:endParaRPr b="0" lang="en-US" sz="19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man Old Style"/>
              </a:rPr>
              <a:t>Weekly email sent to preferred customers with special offerings/content</a:t>
            </a:r>
            <a:endParaRPr b="0" lang="en-US" sz="19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man Old Style"/>
              </a:rPr>
              <a:t>Value-added services included horticulture database, plant finder, gift reminder, gift registry</a:t>
            </a:r>
            <a:endParaRPr b="0" lang="en-US" sz="19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man Old Style"/>
              </a:rPr>
              <a:t>Customer service included product variety and accessibility; responsive communication; reliable delivery; concise, easy to navigate website; ease of returns </a:t>
            </a:r>
            <a:endParaRPr b="0" lang="en-US" sz="19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Title 1" descr=""/>
          <p:cNvPicPr/>
          <p:nvPr/>
        </p:nvPicPr>
        <p:blipFill>
          <a:blip r:embed="rId1"/>
          <a:stretch/>
        </p:blipFill>
        <p:spPr>
          <a:xfrm>
            <a:off x="512640" y="182520"/>
            <a:ext cx="7966080" cy="14749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ookman Old Style"/>
              </a:rPr>
              <a:t>Relationships with 60 suppliers offered over 20,000 items</a:t>
            </a:r>
            <a:endParaRPr b="0" lang="en-US" sz="17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Many were small, privately held growers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Suppliers needed to show fulfillment capabilities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Allowed to continue own catalog/web operations but could not work with competing e-tailers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In some cases, Garden.com would prepay for a portion of the product forecast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Suppliers were sole providers of specific product line barring stock-outs, however no single suppler accounted for more than 10% of revenue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Supplier services included:  co-branding and channel access, consumer demand management, improved forecasting, fulfillment consulting, packaging consulting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Title 1" descr=""/>
          <p:cNvPicPr/>
          <p:nvPr/>
        </p:nvPicPr>
        <p:blipFill>
          <a:blip r:embed="rId1"/>
          <a:stretch/>
        </p:blipFill>
        <p:spPr>
          <a:xfrm>
            <a:off x="512640" y="182520"/>
            <a:ext cx="7966080" cy="14749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Garden.com developed information-driven virtual warehouse model to address fragmented supply base, geographically dispersed suppliers, and the perishability of live planting material</a:t>
            </a: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Co-developed proprietary shipping module – Trellis -  with FedEx which leveraged Federal Express’ information systems capabilities to link itself with suppliers and customers</a:t>
            </a: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Information flow between members of supply chain automated updating of order status  providing customers with information about current and future product availability, order status, and package tracking</a:t>
            </a: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Garden.com focused on capability of receiving and transmitting data thru supply chain, allowing suppliers to concentrate on physical transfer of goods –avoiding the expense and overhead of centralized multi-tier distribution models</a:t>
            </a: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Title 1" descr=""/>
          <p:cNvPicPr/>
          <p:nvPr/>
        </p:nvPicPr>
        <p:blipFill>
          <a:blip r:embed="rId1"/>
          <a:stretch/>
        </p:blipFill>
        <p:spPr>
          <a:xfrm>
            <a:off x="512640" y="182520"/>
            <a:ext cx="7966080" cy="1474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952560" y="16765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Many suppliers resisted or could not afford to integrate with Trellis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Inventory issues were a significant problem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Inventory could be wiped out by disease – stockouts occurred frequently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Incorrect forecasting could result in unsellable plants, or large shortages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When Garden.com overcommitted to inventory, they were forced to pay for plants at the end of the season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Communication mistakes/ misunderstanding of business caused order fulfillment problems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Return policy  was expensive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Replacing plants or 110% refund was expensive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Returning defective products was inconvenient to customer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Returned items were piled in warehouse and could not be resold</a:t>
            </a:r>
            <a:endParaRPr b="0" lang="en-US" sz="1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Title 1" descr=""/>
          <p:cNvPicPr/>
          <p:nvPr/>
        </p:nvPicPr>
        <p:blipFill>
          <a:blip r:embed="rId1"/>
          <a:stretch/>
        </p:blipFill>
        <p:spPr>
          <a:xfrm>
            <a:off x="512640" y="182520"/>
            <a:ext cx="7966080" cy="14749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Overall garden market huge, but premium market not as large as earlier expected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Low-end segment of market was necessary for success, but costs were too high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urrent suppliers would most likely not be able to keep up with demand if Garden.com grew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Many suppliers were not willing to increase capacity and sold to Garden.com until they ran out -  avoiding excess inventory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Title 1" descr=""/>
          <p:cNvPicPr/>
          <p:nvPr/>
        </p:nvPicPr>
        <p:blipFill>
          <a:blip r:embed="rId1"/>
          <a:stretch/>
        </p:blipFill>
        <p:spPr>
          <a:xfrm>
            <a:off x="23760" y="1139760"/>
            <a:ext cx="890100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8:08:51Z</dcterms:created>
  <dc:creator>Erika Bowles</dc:creator>
  <dc:description/>
  <dc:language>en-US</dc:language>
  <cp:lastModifiedBy>Erika Bowles</cp:lastModifiedBy>
  <dcterms:modified xsi:type="dcterms:W3CDTF">2009-12-08T21:04:27Z</dcterms:modified>
  <cp:revision>20</cp:revision>
  <dc:subject/>
  <dc:title>Slide 1</dc:title>
</cp:coreProperties>
</file>