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08DB-5AF2-425C-AFF3-FF189AB47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D53F-A576-48D3-8CC6-CF4F08DF1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1F22-1A7F-4C03-92DE-DEA650BD1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EA1F-BAA8-445D-AC3E-AB4F8B252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5A7E-5A3D-4FC3-97B1-47247AFDC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69FF-655F-4926-BC9A-573475AED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D919-BFEA-40C9-BD80-295D781BB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C097-58AA-4DE5-AE5D-E165BD741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6192-35C3-4EC0-A149-3051D4877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ED5B-CC66-4839-A698-46B0CB3FD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B7AE-AFE3-465B-B605-66091F843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4984-3A54-4EEB-8722-76A07A4C3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23D-3882-40F3-89D4-E091DC61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F48-6E7F-4D36-91A0-C654A1A3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C91-F42A-44DC-8106-CAABF8DB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85F-130F-40A0-A54C-3944BB82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A19-CEC8-4928-A4EF-23772DA3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3DB-B4EC-4841-B05A-9893D3D9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A4A-CA4F-482C-AFA9-C797B625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B6D-D318-4735-AA41-71E9E7B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E45-C7F9-4DFA-B893-970FA724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328-8B70-4060-934D-AF5C452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298-FC8D-4BE6-95F2-BB7B932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545-5D43-4490-A64F-760EEAA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09AF-8F78-4BA8-BEB9-05F5A0988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Transportation Planning and Execu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 2 (chapter 11 materia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G 102, Sessi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ovember 12,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mensional We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the higher of the actual weight or the dimensional we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for international airfreight, 166 cubic inches per pound = approx. 10.4 lbs per cubic 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 (fluffy) cargoes are charged on the dimensional w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s Clea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ustoms Broker (often a freight forwarder or 3P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 of cargo can happen right away, while liquidation happens weeks la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quidation is basically that the original tariff calculations and assessments were correct (or no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mod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or indirect (multimodal) serv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modal: Freight moves door-to-door under one through Bill of L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ight forwarders or shipping companies as “travel agents” for car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sure cargo is packaged right for possible transload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ft vs. 40 f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mrbox.co.uk/images/galleries/new-used-containers/gallery01-new20ft.jpg"/>
          <p:cNvPicPr/>
          <p:nvPr/>
        </p:nvPicPr>
        <p:blipFill>
          <a:blip r:embed="rId1"/>
          <a:stretch/>
        </p:blipFill>
        <p:spPr>
          <a:xfrm>
            <a:off x="1676520" y="1752480"/>
            <a:ext cx="533376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ize contain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ight rates (40 ft cheaper per ft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sity of cargo (conversion rate between weight and volume, e.g. 50 lbs per cu.ft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viously, length of car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height of cargo (need open top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content (e.g. pallets) be double stack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do with a rack container (no wall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bout your loading dock capac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er lab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my.datexx.com/www/product/cartonmarking/datexx_carton_example.jpg"/>
          <p:cNvPicPr/>
          <p:nvPr/>
        </p:nvPicPr>
        <p:blipFill>
          <a:blip r:embed="rId1"/>
          <a:stretch/>
        </p:blipFill>
        <p:spPr>
          <a:xfrm>
            <a:off x="2109960" y="1609560"/>
            <a:ext cx="4595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ings (HazMa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labelmaster.com/hazmat-source/images/Prepared_Hazmat_Package.jpg"/>
          <p:cNvPicPr/>
          <p:nvPr/>
        </p:nvPicPr>
        <p:blipFill>
          <a:blip r:embed="rId1"/>
          <a:stretch/>
        </p:blipFill>
        <p:spPr>
          <a:xfrm>
            <a:off x="4782960" y="2514600"/>
            <a:ext cx="3870360" cy="274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dgmromania.ro/assets/images/products/hazardous.jpg"/>
          <p:cNvPicPr/>
          <p:nvPr/>
        </p:nvPicPr>
        <p:blipFill>
          <a:blip r:embed="rId2"/>
          <a:stretch/>
        </p:blipFill>
        <p:spPr>
          <a:xfrm>
            <a:off x="762120" y="2141640"/>
            <a:ext cx="365760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anana Ship (private flee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gcaptain.com/maritime/blog/wp-content/uploads/2008/11/172PXNRZYB.aHR0cDovL2djYXB0YWluLmNvbS9tYXJpdGltZS9ibG9nL3dwLWNvbnRlbnQvdXBsb2Fkcy8yMDA4LzEwLzE0MzA1ODYwNXNqc2lmaV9mcy5qcGc....1.jpg"/>
          <p:cNvPicPr/>
          <p:nvPr/>
        </p:nvPicPr>
        <p:blipFill>
          <a:blip r:embed="rId1"/>
          <a:stretch/>
        </p:blipFill>
        <p:spPr>
          <a:xfrm>
            <a:off x="1447920" y="16002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Sh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4.bp.blogspot.com/-2CWu1ni1OUc/TkbXWC4OsII/AAAAAAAAADg/J61mhhe0SFc/s1600/cargo-ship-panamax-container-ship-194367.jpg"/>
          <p:cNvPicPr/>
          <p:nvPr/>
        </p:nvPicPr>
        <p:blipFill>
          <a:blip r:embed="rId1"/>
          <a:srcRect l="5760" t="10286" r="4320" b="6172"/>
          <a:stretch/>
        </p:blipFill>
        <p:spPr>
          <a:xfrm>
            <a:off x="380880" y="1606680"/>
            <a:ext cx="4038840" cy="262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asiabreakbulk.com/images/normed05.jpg"/>
          <p:cNvPicPr/>
          <p:nvPr/>
        </p:nvPicPr>
        <p:blipFill>
          <a:blip r:embed="rId2"/>
          <a:stretch/>
        </p:blipFill>
        <p:spPr>
          <a:xfrm>
            <a:off x="228600" y="4495680"/>
            <a:ext cx="500364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Midnight Sun"/>
          <p:cNvPicPr/>
          <p:nvPr/>
        </p:nvPicPr>
        <p:blipFill>
          <a:blip r:embed="rId3"/>
          <a:stretch/>
        </p:blipFill>
        <p:spPr>
          <a:xfrm>
            <a:off x="5638680" y="4484520"/>
            <a:ext cx="2667240" cy="181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jiyolive.com/wp-content/uploads/2011/02/BulkCarrier.jpg"/>
          <p:cNvPicPr/>
          <p:nvPr/>
        </p:nvPicPr>
        <p:blipFill>
          <a:blip r:embed="rId4"/>
          <a:srcRect l="11028" t="22495" r="5514" b="14987"/>
          <a:stretch/>
        </p:blipFill>
        <p:spPr>
          <a:xfrm>
            <a:off x="5257800" y="152280"/>
            <a:ext cx="2766960" cy="152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www.motorship.com/__data/assets/image/0005/624623/USE-this-pic-TAITAR-NO.2.jpg"/>
          <p:cNvPicPr/>
          <p:nvPr/>
        </p:nvPicPr>
        <p:blipFill>
          <a:blip r:embed="rId5"/>
          <a:stretch/>
        </p:blipFill>
        <p:spPr>
          <a:xfrm>
            <a:off x="4800600" y="1752480"/>
            <a:ext cx="3772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Cargolux 747-8 freigh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34 metric tons, 9.9 lbs per cuft ave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flightglobal.com/airspace/media/galleries/images/81703/500x400/cargolux-747-8f-freighter-paine-field-wa.jpg"/>
          <p:cNvPicPr/>
          <p:nvPr/>
        </p:nvPicPr>
        <p:blipFill>
          <a:blip r:embed="rId1"/>
          <a:stretch/>
        </p:blipFill>
        <p:spPr>
          <a:xfrm>
            <a:off x="1371600" y="1523880"/>
            <a:ext cx="637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8:07:46Z</dcterms:created>
  <dc:creator>Andreas</dc:creator>
  <dc:description/>
  <dc:language>en-US</dc:language>
  <cp:lastModifiedBy>Andreas</cp:lastModifiedBy>
  <dcterms:modified xsi:type="dcterms:W3CDTF">2012-11-19T01:08:35Z</dcterms:modified>
  <cp:revision>5</cp:revision>
  <dc:subject/>
  <dc:title>Slide 1</dc:title>
</cp:coreProperties>
</file>