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  <p:sldId id="288" r:id="rId61"/>
    <p:sldId id="289" r:id="rId62"/>
    <p:sldId id="290" r:id="rId63"/>
    <p:sldId id="291" r:id="rId64"/>
    <p:sldId id="292" r:id="rId65"/>
    <p:sldId id="293" r:id="rId66"/>
    <p:sldId id="294" r:id="rId67"/>
    <p:sldId id="295" r:id="rId68"/>
    <p:sldId id="296" r:id="rId69"/>
    <p:sldId id="297" r:id="rId70"/>
    <p:sldId id="298" r:id="rId71"/>
    <p:sldId id="299" r:id="rId72"/>
    <p:sldId id="300" r:id="rId73"/>
    <p:sldId id="301" r:id="rId74"/>
    <p:sldId id="302" r:id="rId75"/>
    <p:sldId id="303" r:id="rId76"/>
    <p:sldId id="304" r:id="rId77"/>
    <p:sldId id="305" r:id="rId78"/>
    <p:sldId id="306" r:id="rId79"/>
    <p:sldId id="307" r:id="rId80"/>
    <p:sldId id="308" r:id="rId81"/>
    <p:sldId id="309" r:id="rId82"/>
    <p:sldId id="310" r:id="rId83"/>
    <p:sldId id="311" r:id="rId84"/>
    <p:sldId id="312" r:id="rId85"/>
    <p:sldId id="313" r:id="rId8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slide" Target="slides/slide33.xml"/><Relationship Id="rId62" Type="http://schemas.openxmlformats.org/officeDocument/2006/relationships/slide" Target="slides/slide34.xml"/><Relationship Id="rId63" Type="http://schemas.openxmlformats.org/officeDocument/2006/relationships/slide" Target="slides/slide35.xml"/><Relationship Id="rId64" Type="http://schemas.openxmlformats.org/officeDocument/2006/relationships/slide" Target="slides/slide36.xml"/><Relationship Id="rId65" Type="http://schemas.openxmlformats.org/officeDocument/2006/relationships/slide" Target="slides/slide37.xml"/><Relationship Id="rId66" Type="http://schemas.openxmlformats.org/officeDocument/2006/relationships/slide" Target="slides/slide38.xml"/><Relationship Id="rId67" Type="http://schemas.openxmlformats.org/officeDocument/2006/relationships/slide" Target="slides/slide39.xml"/><Relationship Id="rId68" Type="http://schemas.openxmlformats.org/officeDocument/2006/relationships/slide" Target="slides/slide40.xml"/><Relationship Id="rId69" Type="http://schemas.openxmlformats.org/officeDocument/2006/relationships/slide" Target="slides/slide41.xml"/><Relationship Id="rId70" Type="http://schemas.openxmlformats.org/officeDocument/2006/relationships/slide" Target="slides/slide42.xml"/><Relationship Id="rId71" Type="http://schemas.openxmlformats.org/officeDocument/2006/relationships/slide" Target="slides/slide43.xml"/><Relationship Id="rId72" Type="http://schemas.openxmlformats.org/officeDocument/2006/relationships/slide" Target="slides/slide44.xml"/><Relationship Id="rId73" Type="http://schemas.openxmlformats.org/officeDocument/2006/relationships/slide" Target="slides/slide45.xml"/><Relationship Id="rId74" Type="http://schemas.openxmlformats.org/officeDocument/2006/relationships/slide" Target="slides/slide46.xml"/><Relationship Id="rId75" Type="http://schemas.openxmlformats.org/officeDocument/2006/relationships/slide" Target="slides/slide47.xml"/><Relationship Id="rId76" Type="http://schemas.openxmlformats.org/officeDocument/2006/relationships/slide" Target="slides/slide48.xml"/><Relationship Id="rId77" Type="http://schemas.openxmlformats.org/officeDocument/2006/relationships/slide" Target="slides/slide49.xml"/><Relationship Id="rId78" Type="http://schemas.openxmlformats.org/officeDocument/2006/relationships/slide" Target="slides/slide50.xml"/><Relationship Id="rId79" Type="http://schemas.openxmlformats.org/officeDocument/2006/relationships/slide" Target="slides/slide51.xml"/><Relationship Id="rId80" Type="http://schemas.openxmlformats.org/officeDocument/2006/relationships/slide" Target="slides/slide52.xml"/><Relationship Id="rId81" Type="http://schemas.openxmlformats.org/officeDocument/2006/relationships/slide" Target="slides/slide53.xml"/><Relationship Id="rId82" Type="http://schemas.openxmlformats.org/officeDocument/2006/relationships/slide" Target="slides/slide54.xml"/><Relationship Id="rId83" Type="http://schemas.openxmlformats.org/officeDocument/2006/relationships/slide" Target="slides/slide55.xml"/><Relationship Id="rId84" Type="http://schemas.openxmlformats.org/officeDocument/2006/relationships/slide" Target="slides/slide56.xml"/><Relationship Id="rId85" Type="http://schemas.openxmlformats.org/officeDocument/2006/relationships/slide" Target="slides/slide57.xml"/><Relationship Id="rId86" Type="http://schemas.openxmlformats.org/officeDocument/2006/relationships/slide" Target="slides/slide58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52"/>
          </p:nvPr>
        </p:nvSpPr>
        <p:spPr>
          <a:xfrm>
            <a:off x="4012920" y="-36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ftr" idx="53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 type="sldNum" idx="54"/>
          </p:nvPr>
        </p:nvSpPr>
        <p:spPr>
          <a:xfrm>
            <a:off x="4012920" y="890244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BA2-DED1-434A-945A-841439245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4140-3645-4107-B4F0-E954C1122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5D02-A288-49D3-8A88-D71DE0899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EF1E-F90E-4651-B010-18BF1C255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9B17-0CF7-4358-B636-E5508EBE9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CFE2-0AC1-4A47-8195-FD27C282E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821C-3900-4E39-BD1A-FD6330EB8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5AC-828E-4F40-9A4D-1013AB9BE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77B-363E-4C18-8554-C795C8FA5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16E2-A6CC-45D9-B668-921C29B5E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F603-12CF-49C3-B2E0-FD395F282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CC17-DB21-4204-9F1D-CB0C567FC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1FC-A70F-4C7C-82EB-4C016FDB9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81BB-C92B-45EB-B8D1-5E099C265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4C63-6814-4C32-BC07-FA9D5EE96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6A41-14BD-4A31-A9C5-783025485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344D-00A6-462C-82EF-1E5F7E4D1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C494-D3C8-452B-B866-9455ADDB8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B206-D63B-45DC-8BC5-5254E18DF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43FB-BE34-48CA-AA63-6558C360D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E5E5-2DC0-4353-ACF0-5D2AB6E71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EB8-248B-493C-87A6-B7F1FBF3F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706-AD8D-4D91-9D69-CF69CC735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52D-D379-44CB-9B8B-B0E5D763E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CEF2-9466-45F1-8C01-5EA611C1E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F085-1879-465B-AE3F-28386497E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0BDF-3064-4225-9C56-AFABAD73D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2A16-D898-4C51-A2F3-E63E1F27B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B457-F794-48DF-B073-B619F737A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B422-9A76-4156-8864-1E6EF813D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A25-AFDC-4A6E-9714-E7A793E65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9059-4DD7-4EA6-A174-260860E7C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2909-AE01-4189-AE6F-BBD2F3E7C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3792-C889-41C7-B53E-4A91E4D9B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4D1A-BFB4-49EA-B09B-DA46DD652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86FE-725C-48F3-8FA9-458E17443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FF1-A282-4580-B009-A3940C12E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E8F1-BDBE-4639-8E90-4544E89C7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ABCD-B2DB-4AA9-8EB6-3B39C5E36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4B4E-50AB-4BA7-9CAC-AEB8AC82F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16D8-1647-420D-A45D-F0DC00D2B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372B-B3F0-49C1-8F2C-A29164A85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9C6E-85A9-41D4-9EE1-F3677D140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F41-9F07-494E-B879-6D5796A1B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E2CA-B091-4BDB-8C39-665F43F30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8217-3256-4377-8144-FFF96CEE5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209600" y="709560"/>
            <a:ext cx="4667400" cy="350208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0FD7-EE76-471F-991F-FC5084CFE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0092-C9B0-4AD9-B99E-3006D0CD2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DC89-FA86-4157-8175-C5C7835CA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03E-A976-4132-96F6-A7AE4A65A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A6E6-96BF-4702-B99B-9352ED5DC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A47A-CAB7-4542-AD4B-43CA797B9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9C4-B05A-4122-A9E1-24F25B843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275-8D4A-4E1C-A548-EED447442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2255-8E73-4854-BCA2-D2ED2014C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6FA3-7C8F-47B4-9D5A-73F03F7A9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A4FC-9B55-45A3-A609-DB8FBE1E3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91A6-0319-4396-A800-805BE1DCF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2043-0667-403E-9872-094E6917E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D68-951A-42B0-9C7C-E328A6FC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03D-9B62-4416-8E3C-87B03391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462D42-CA8E-47CC-8E8C-AA584517BF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129BB1-346D-44DA-848A-BD8FCB23C12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A07FAB-18C1-4554-B6E2-650E76E752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C3441-BB9B-4549-B43C-00401974F4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479B21-D27A-481F-B90A-F99E1D0A6E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A59618-535A-4B80-8D3C-47883408F0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157196-5F9B-46EC-BEBD-D53FED7AAB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79DABE-E3C0-4208-AA4E-BCC90B9C29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1D9A86-5D6C-4296-A7A5-438F6CE070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15FAC-F5F7-4CFE-A41A-9902457AE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A66-49E8-4EC4-BEE9-472AECF9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F1C9-A125-4E60-A66E-2FA9B5F63EE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6745-2A81-40FE-B69B-CEDA72B048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EC95-A828-4250-AFED-D1B495B31E0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6F6C-787F-4B3F-BEB2-76826A739AC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97C0-D3CF-4A88-8386-D1F71D30544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0D7FA-8E77-417B-88EA-DE0FDDCA12E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5E18-4C0E-4084-940A-92C6CD7F7D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BAC6F-0EE1-4E22-8366-473361B8A9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5183-397D-44E6-A5BA-E87BA3F4DF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ABA37-A788-43E7-8B6A-BE76AB8F7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320-3FF7-4DEE-A00E-2FA5FEE0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2C1E-EDB2-4740-8255-60193C23FB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80E2B6-B03D-4BCA-A7D9-DCA681C9748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EA6DF-7CB3-4F9E-8137-BDAA98A7DD3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6E6EA-222F-46F7-BCFD-C07FBEEF8B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53186-F333-4344-AABA-E2F16514BDB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959B7-6092-40A3-97B4-D96E42D444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7B87B-2D46-4025-84AA-BA322C8940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326AA-0D6D-42EA-B240-F107721C4DD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DC96E-273F-4A66-B058-F02DD786915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4E946-6B77-420E-9D47-C45A930BF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DABD8-5A26-4AC8-86F8-1748A0BB90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494802-72A6-41AE-97B4-C1365467CA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792F4C-FF47-4342-A370-60B3FD0EEC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8EEC9A-BA7B-4861-8817-BA66AE8473A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8FCAF-5B58-47BD-A378-83F512C19D8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CE785-6AD4-49FB-B5CB-E4A906EAA95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EC982-2617-4D62-9432-83B7DC8C27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5B74A-D384-4B29-8FD0-D227D87073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07F7E-BAEE-4D75-9258-0434218D21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A5C2F-0423-4C85-87D3-1E5897DE33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550ED-D0E9-48B2-936E-48E624AF56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15C32-F977-48D1-A9BC-BA1CBBA0F1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1A30A-1BB1-4A4A-AFD1-85CC63A0BD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5F0AD-EC7B-4448-B187-FCA0CA2E79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B7AF5-58E3-4A2E-84F0-5D48809DD6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DB315-4E78-4FCA-BDFB-8F292D6873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6B14F-17F1-43DB-9B07-BF7EA356047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2249A-18FC-4666-B8B8-4F6AE172F0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B85AC-F6D6-47B5-8AD1-0CEEBD2DDA3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20C51-E193-4EFC-9A31-7CEE26CD036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F3053-F708-417E-A04E-138573AC9A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ACABE-4D85-4FDA-8B67-4DC9560958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111B4-7522-4DD4-89C1-AB13F6F352D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5F68A-098E-4CF1-97C1-B502B71E33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58D79-1D09-46A8-8C23-FD530FF8CE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72FFA-FAE5-4F69-884F-F82DB6010F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D61CB-E822-4016-966B-15FC827CB4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26FA7-7171-4613-B2BD-8E27CDEF26F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64B54-5D9C-4ABC-BEC6-7447815DBAF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CD313-D9FB-4AD5-90FE-2E2FE1ACD9F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161BE4-71C0-491A-96E0-34B9704252C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3DEC82-A107-4DAE-ADFD-EB5F30FB1F8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1F079-4199-4719-B2D1-EC621B24F4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9486-FE71-4E54-A6AE-F3BF51F46BC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F3C8B-6A7E-48DF-91C9-DE2E3F1617E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0236B3-88A3-4B8A-904B-FF5D2E465E6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F71D04-F7A8-47F8-A162-3CDF36FC9BA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B53572-FF6F-4A06-910C-588192CE8A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C5F92-70C5-4ACD-9A7F-A2AB31D52EA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DB805A-FCCB-47B9-8DA8-52E1F53FDE2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2D3442-56C2-4E0A-A5B5-0F076857AFA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08C6FB-C749-453E-B2D7-F5EA875B6C7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DE33B6-84FE-40BA-B240-B9D044B4DF3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7C3584-ABEF-4A6B-B3CF-1A379260A9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DBF1E-CCAD-4386-B2FD-DE35EF69621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C970F8-D71E-40EC-9315-8C8FE804CD3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B938F9-07B0-411F-8F61-F978F129520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22854B-4276-468A-8F2F-A5E1FC7827A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8AF22C-5615-4097-9309-902811FF64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7656ED-DBFF-4A4D-ABBC-290038E5DE9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0BDDD1-DDAE-43E1-B7C7-2E7FCBDA6FC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FCE809-FF87-49AA-9E0D-AA0173F4A39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66C467-B528-4254-99FE-A7B45F718F4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6407E6-C549-4A95-8B20-F5CFC1FB485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285E03-346E-4309-97A6-E0B08AA4D3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F2675-D8B6-421A-9E1E-AE468D1901D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8CA0A3-896D-430A-9C8C-DD726EA6527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A4CE1-F704-4E47-9DA2-F783C588756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DD35A-7CF4-429F-9D53-4F4655EF809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F48DF-1E56-41DD-9926-8964B9FF74E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1B13-EA42-40C5-98A5-F446541C8F4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14B91-A22F-47D4-8843-873BE4F15BA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41B48-12BF-46A6-AEDC-E9EB3431C7B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BCF19-E609-48C0-A646-FF1145BA958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77126-6E19-4CC7-8DC4-1AA266F84E6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FF8DF-7698-4C16-B294-406EC4409B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E5ED7-2F38-4199-A5E7-EB63A337081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6B320-BDDF-4065-B655-99057A90F1F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61942-BE46-489E-B746-9BB12820831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7D5E-B46F-4C07-963C-698CFD63EED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2E2DD7-50A1-4A0E-9D3C-99742542041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A3AFB9-6568-435C-97FC-2AD1DD491A5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01BC63-4A61-4132-9C63-08F9BE0AF03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C62ADF-5486-45F2-B628-D6B4306339A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8AFF5A-08CD-4423-B81C-39F9BCD1D07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E9B99D-B9E1-464F-B9F4-0B03FCD2B8B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D9F8F8-3F6B-4ABD-99EE-DD3C55BC7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683-8F9B-4A24-970E-4E1764D2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6E8F1-8A83-4DA7-BAEB-7366EC92D6A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6ACCEC-859E-4D83-BB5D-2C5EA125D9C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123007-6073-495B-AD07-FBF2B35C070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7CF43F-20A7-443D-AEF5-6EADA15DAA2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2A8BAF-77DD-4029-A172-415ED0964EC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055B4C-8491-40C9-B1DC-A47E510973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8AB4AF-C097-4C72-AB50-4D1177245C5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10082F-5E87-4865-B878-CBE95FD89EA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F745CC-707A-4446-8731-E4FFE3E9C8C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CE3DDF-AA7D-4172-B44D-492156DCED2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D81E3B-6F97-4F51-BF11-3876EB5ED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E7BCC-558B-4F69-B6FF-7BB83F8AD9A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424BC3-4F90-45EF-90DA-0572465C0E4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D62E32-B9B3-47D5-9A7F-70F5E12FA4F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F320F-F7BD-40D0-8F22-9ED6C86F369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5F55A3-5D66-4BEA-ACA0-C9AEB2953FF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B62FC8-EBFC-4C60-BBE7-0874388BA15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72E3D8-8991-495C-8BE3-E475335A423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073A66-85EC-4195-961D-1676D2CA9BB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3FDF1-95BE-46B8-9677-ABFBC44AC82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596B8-49B4-4AF8-8007-661C5B0C9FA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0D8B2-E5F6-4B02-8061-D60F6A9F98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E0A1D-E3BC-4520-B2F5-4FEB8F5010A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69560-2A13-4705-91A2-CF140AE71DA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A5EB5-3BD7-407D-B9BB-76BDD8567F2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022CA-819B-4131-9C04-C9BEDD17732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13F64-943F-4A2B-AEF1-BF6427718AA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56306-A9DA-404E-B581-E08DF63D0F3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AB4B2-F98C-43E0-A09F-A8C28AF16E1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DB3F2-46F7-4015-89AB-71DCAA7AF12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A68CB-01E0-4325-B043-A61CBB99194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03053-52D1-4ABF-8400-A4324FAAB75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0ED343-7591-45E3-91FE-68A4098B0B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9604D-4E93-40B5-A0FF-DF077A12089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2F3600-3C03-4496-8249-5CB38388EB8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665996-0752-4795-8AA4-4E493CFA421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419314-164D-4678-A482-FF5FAD10E31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1BA36D-AA93-43E0-89FE-09A1F65C253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586B30-37F7-43D8-A186-65911FC62B9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B3F370-16C7-44A1-BCCF-5F2721F090A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1E18F1-63C1-4CF1-AF7C-2338BFD8B54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5616FF-213D-4AE7-96D2-BF283E09642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F78918-3F25-4828-BB18-8E55F97F195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CE8F4E-7CCF-4370-9004-F3F8831016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A39A5-F515-4ED5-8BB2-D53DA3EFB8A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D8BFF4-5019-4AB2-B548-54D6000C161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F7E255-B5ED-44DB-A17F-CCE90CB8369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17B0AD-8A69-40F6-B71E-3D8D133EAE4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8BC063-9219-4F73-B532-E5FDB3448A3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92AED6-06DF-4E49-B7BA-50593053D4F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015A12-45C2-485C-843A-EC186189D35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E560BF-70CA-43E6-8073-E324F819D5F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BDCD7A6-157E-42CE-8474-7A877AEDF1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1AAD05-0AB9-4FB7-A9DF-BDE017D2BE9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E025B5-8ECA-408E-AE6D-98E5B61F0E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3644B-A7EE-40F7-8C34-19278FDE127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42E4AC-F0FB-4A4C-BA42-40AD1E965F3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7A9C13-9F7D-4B3D-A098-28FA691C934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84F527-349A-4EFB-94A6-5522DAC6653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281A9-0A2F-443B-9F22-932B6B0B49C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642D7-D6FD-4C26-9351-55A6D64D66E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54B8F-E23A-487A-944D-926F10CF094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4702A-9FA9-4BBF-A7DC-0856C5117C5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BF80E-8C9D-4FF1-BA8E-756F2CF5B86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00ED2-3287-4F42-8473-1B6E9E6CED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D196E-8893-4D6F-A9FF-E9EA8899E4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580A7-1E47-4973-8A99-AC23D01B302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DF863-CB9A-48C2-B42C-6AC2559C96A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1C207-0B8C-433A-9C02-AC0AD400A8B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F2E08-F0E8-4781-8633-1CE08586854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2F770-9232-45E5-A448-56A5D82EC5C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D4AD9-DE8F-4D08-B71C-3257716B8E4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95861E-AEDC-45D3-A821-6ADCBFDECBA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E17498-7DC0-416C-A217-EF0BE16C0B5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B86BE3-22DB-4B8B-BEA2-1F94324B0F0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3CF513-729F-4614-A28F-C524C7439A5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1E3A01-4469-408F-BC35-4D209BE4DC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5FCD4-A8DA-4441-B2D0-FD5BB9B4DE7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E76041-22EA-449C-91B4-D4DF3C4B2E1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6645ED-5220-47F5-9F47-8146EA456EF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9D0A72-1A49-4389-B896-66334AA385A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4CCA9E-19E0-4C77-9A5F-B386B6F3545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9840BD-379B-4708-B676-2A908F1F52E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C39D28-E832-438D-BDFA-2A1D33DF5F7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152BF4-AF72-4C79-94BC-D564FDB1F1D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8D4B99-7DDF-4596-A834-4AD2D84092A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40C756-891A-447D-A785-3AABD7928CA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4FF516-1A76-47DD-A3CB-627C8F6DFB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C881AE-1784-4A06-8BDF-0A3BBFDEC61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B0BD46-CA74-4731-B734-4FC95CC865E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700A05-F376-44A2-84F9-FB88119237A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B2C830-319B-4C3F-93D3-CC27EE76F0F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C675C0-49B4-48C1-9391-85301BEACA7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3F60E71-9567-4D5A-AEC2-0E4389DCE4A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33CAF6-B5BA-4C13-B01C-DADFBBFAE37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0EEFB7-4691-4515-AB7E-562D9D5D8E6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EBB08E-C9A1-4DC6-858D-F17F6B18681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C5271E-46CA-4E35-8B8D-A37319F393D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7CC4C-8482-4BB9-9DDF-EDA8F19BED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424AB-B7FA-48AA-B17C-21DB1C5BB15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02A09-D5A6-45B2-9619-C65D0B5B45D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3E3D3-9CB2-4144-A4F1-B5CBCE9969D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D443F-D904-49B9-A19F-AFD9795F8E9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A0C47-CF66-493A-B1B8-A053BE090D9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C25B2-1280-48FB-87A1-3C21651FF72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DF7A0-FB5F-4E66-96C2-BF77C8807DD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1BFD6-0A79-4217-90BC-B9E4BEE83F4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C7D2E-AACA-45D6-8AC5-27B8A04B220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8F002-C8D7-4AC4-BEB2-6042525BFA7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2B3DF-C7F6-4CCA-80C7-B28091994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3A8-7F7D-4114-8F85-BFD62391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62AEC-48A5-4339-A44D-0C4B8F0D2C0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C0A6D-5BD8-4F4C-86B2-7F4CC3C6EB4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FCAC4-F322-404C-9EF3-506F3F09DC8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F7DD2-4DB6-4F33-9868-696D088B8C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65129-BFC1-4290-B964-49331F5679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A9FE3-5B56-4938-82F8-515230D8D2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9507D-A0E4-486B-B9B2-62A8FD8CA9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1B1B2-D5EB-4709-BF88-55F9C97486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7BB7-D99B-481B-8A5C-82136C95F1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438B-E25D-4D17-AAAF-912463A9A8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1981-0E1A-4DCC-AA89-B9A2BD3FA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C71-7BEA-41F4-BC25-B47AD2D7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71F2-55B3-490F-9B19-041EA987BB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0E0A-9134-4672-9A39-E6CD354A35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ED7C-2AF6-43E7-86F5-86C882DD64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7129-0BA0-438D-934B-53C4A12B4C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4603-BD5B-42EC-9B1F-C339F40249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2590-59F4-431F-B97C-8831E66B84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C74C-EA96-497B-90CB-27A7C018F6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ED4F-FA1D-4F08-9BAD-691DA4CB91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85D4-AE04-4030-9877-BC9D9B1930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91925-CE74-4622-B17D-E877D1E57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FE8-5C11-400E-B709-0C785CF0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36154-03DA-481A-9D56-7A507176623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C63E8-737E-4041-94E1-4A90B04309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5135F-8956-461B-91A2-286B0B2C463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E8F7F-CEB8-4EFE-9076-8051DEE000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594D2-2BDA-487E-9F0A-E2A55C4A57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D1B72-A3B5-4F24-9DF2-D5E26A0E57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A1464-65F1-47D9-BA49-96B3529FAB4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6F8F2-44F9-4856-A676-7D999305D1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9FF5D-0312-45C9-AC94-34EDCD773F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626C2-B45E-4ABA-973B-7512FBBE3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472-8A0E-42B7-8872-2C488522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9228A-73EE-4E5F-AC49-F6C1C704AC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69DBF-ECCF-4083-A417-906EE698E74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D86F8-EBD7-4AFB-93A9-AB8445957E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65218-2424-4CC4-B09A-A9EDCAECDB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A88285-BA8E-41D7-8E8A-CB4D4914A8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C5E52-19F8-4511-9D8D-AE39ACC25B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3511E-1792-46F9-8E07-AF70506A01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B8B1C0-3FAA-42CD-9DB0-9FAD3186B0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20D27-7904-4689-9880-9373F671F1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00CC93-3D06-4496-B1D4-FC2EB49BA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978-EA7F-4061-B714-8F4C5FDC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42ACB-EF49-4D94-92E7-8CB49725C9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422EF-3442-44BD-99D5-3BC23E3532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A72F2-0E02-46DD-89FD-562A49567CE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1C94-A251-424A-94E9-8FF9685710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1500-7B49-4E03-BD87-3A8C50DF607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715B-93AC-466E-A601-126F1403E8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9AD32-2323-48CA-9C94-4A5479CFC2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9DA1-906F-49C6-B6CD-F412F2011C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323A0-56B3-4C3B-ABE5-8E3C61DF22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7DA86-F651-4524-9EE0-078E2C803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E8D-AD94-41B8-B62C-38F2BF8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A0B5-979E-417A-B622-1926EF71A2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DAE3-881D-46B3-8F86-0CB77DEC80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31DD5-6332-4F5A-AE90-62C6589731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89EA-41BD-4969-8B79-F2A6DCF9E4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8B25-067A-4358-9176-AE0687D278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5F121-F549-48A4-A09B-8018CE6B32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F3483-D707-4AC9-A307-24C574907F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E92B9-6503-4ADF-9026-AF316E79883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426E7F-F910-4E07-BFD6-2553C72C4EC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6A6C3-1C87-4339-87D4-C495AD943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667-53B5-4A31-B4C5-8B194A9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AB6FC-CD23-455D-8388-28151BD0B9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73EB2-DC13-4604-B5DE-95ACF8FA67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B6898-53BD-41E3-8D97-5A81198DD2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E3BF4-1945-4C59-BAEC-ED2F4EA8A0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8436C-0EB0-4D21-988A-BEF8FAB901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F293E-621C-4803-AB39-98834E2506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34282-F316-4DD7-85BC-805A408CEAC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019418-94D2-4316-A8C0-AF789849C3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734BC-0866-45F1-8D9E-6D44DEEFD60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34808F-C019-4216-BF45-AEBBB3806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AC3-E5E8-4293-9455-74C156E9B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4CF7-AD23-4211-A6FD-70C1DF4FE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F58F-BCBA-421B-B5F6-E6EE30A47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A249-160C-4E6E-B6D9-68C5F2E6D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2113-C2B9-489C-A47A-2ECDA970B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871F-F278-4CA4-9990-9CBACE3BB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3F11-AA04-45BC-9EC2-0860527C2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32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918D-AAE4-4D0A-820C-70015DD7F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ftr" idx="3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A9F-AE82-4270-ACED-85B84330D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3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97A2-F98A-4F5D-ACC8-3AA14FEDE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3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F5F1-7ECD-469B-872A-246557481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E75-AF5C-4E6F-88D0-472E0FDA3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ftr" idx="4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sldNum" idx="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0AE-9DE6-4B95-92A9-481264C8A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ftr" idx="4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1CC-4868-49CF-9207-156C67974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4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A40-364B-4A52-9438-A4A4825DE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ftr" idx="4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sldNum" idx="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B61-6FCD-41C7-8703-341E30857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4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193-2AA9-466F-9A03-59A1A0ADE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5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2FA2-93E3-4666-8D79-7352FAFF0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6D62-4DF0-487D-A300-93E883CA4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BA98-DD1F-464D-B93F-A3249E73E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C7B-D978-4CAE-BE84-14495C4F3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A1F-7D91-4FC4-829E-666BB55BB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8EE2-EEFA-408F-BC35-37BD7B8BF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E9B-E1DD-4D5B-BB77-D79D4C867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4d080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4D85-9466-4869-B29D-235BE76C8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3plstudy.com/" TargetMode="External"/><Relationship Id="rId2" Type="http://schemas.openxmlformats.org/officeDocument/2006/relationships/hyperlink" Target="http://www.3plogistics.com/" TargetMode="External"/><Relationship Id="rId3" Type="http://schemas.openxmlformats.org/officeDocument/2006/relationships/hyperlink" Target="http://www.dcvelocity.com/" TargetMode="External"/><Relationship Id="rId4" Type="http://schemas.openxmlformats.org/officeDocument/2006/relationships/hyperlink" Target="http://www.freightworld.com/" TargetMode="External"/><Relationship Id="rId5" Type="http://schemas.openxmlformats.org/officeDocument/2006/relationships/hyperlink" Target="http://inboundlogistics.com/3pl/top100.shtml" TargetMode="External"/><Relationship Id="rId6" Type="http://schemas.openxmlformats.org/officeDocument/2006/relationships/hyperlink" Target="http://www.logisticstoday.com/" TargetMode="External"/><Relationship Id="rId7" Type="http://schemas.openxmlformats.org/officeDocument/2006/relationships/hyperlink" Target="http://www.supplychainbrain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pper Processes, Outsourcing and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ty Log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26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76212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ituting external specialists for in-house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common today for activities such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u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roll and tax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 benefits admini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atio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d by organizations known as third-party logistics service providers or 3P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ADC1-309C-4028-BF64-E0BD374DF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ice of a 3PL should be carefully 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 performance impacts financial and customer servic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addresses process for selecting 3P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of 3PL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3PL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3PL relation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and future 3PL industry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441F-7647-4067-904C-E87B55AF3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28240" y="14475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of a 3P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ernal supplier that performs all or a part of a company’s logistics func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may include: inventory management, warehousing, financial services, transport,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pter focuses on transportation services, b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 services should be integrated with customer’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logistics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 focused 3PL should be capable of providing solutions to logistics and supply chain challeng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B29-ABA5-453A-A4CC-78AC5A931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3PLs have their origin in a specific activity, such as transport, IT, etc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foundation services provide a basis for classifying 3P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ion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er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al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655F-5B9F-4B9A-B769-3B05C0177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transportation carr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3PL subsidiaries in response to expanding customer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now include transport management, dedicated contract carriage, and fulfillment center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 (with parent comp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L Logistics/Neptune Orient Lines Lim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S Supply Chain Solutions/UPS of Nor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4D82-B8E6-4D39-BF78-FC426C7C1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ion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public or contract warehousing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ed services into inventory management       and order fulfillmen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integrated transport services into offe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range of market reach, from local to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l, DSC Logistics, Ozburn-Hessey Log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rpillar Logistics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5077-98D6-4BFD-B7E1-8BA67E69B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warder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ted from intermediaries such as freight forwarders, brokers and a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range transport-related services for less-than-volume shipments and for international shi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H. Robinson Worldwide, Hub Group, Kuehne+Nag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ble mergers and acquisitions among this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79A3-FC4E-4357-8CFB-E9B661AD1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customers with monetary issues and financial flows in the supply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ditional services include freight rating, freight payment, freight bill auditing, accounting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ded services include IT systems for freight visibility, electronic payment, carrier compliance reporting, claims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s Information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rcial Traffic 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44DC-F2C5-43D5-A4D6-9C305BD71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include online freight brokering and cargo planning, routing, and schedu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offer online access to transport and warehouse management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purchase of licensed software for thes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artes Systems Group, Sterling Commerce, Trans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BD4-D710-4940-87A9-96453A44A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native 3PL classification sc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t based provi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3PL owns the equipment used to provid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asset based provi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arranges for services from other companies that own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3PL tends to not own equipment (asset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69EF-2E8C-4804-87BA-D05999BA0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ficeMax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tt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65K ft2) is one of 27 national CFC’s, serving B2B orders and online retail or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s WA, AK, Northern ID, NW Montana, in addition to OR retail custom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cross-docks in Everett, Spokane, plus Por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rtlan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(48K ft2) serves OR B2B (contract) customers and supports cross-docks in Tangent and southern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t based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 include Exel, FedEx, UPS, Men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tages for user of 3PL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maintains direct control over shipper’s fr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has ready access to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wer organizations to work through to resolve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advantages for user of 3P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r may favor using the type of assets it owns, this may be less then optimal for u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FA4-1824-4086-863E-24660B0B8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of 3PL Provid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asset based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integr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customer-tailored solutions from services offered by transport and logistics service specia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ts in structuring and negotiating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pular services include freight management and brokerage, routing and scheduling shipments, international freight flow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 CEVA Logistics, C.H. Robin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tages: flexibility, unbiased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47D-7CBD-40E7-B0D5-79E00933B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 range of services, from supply chain design to daily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in transport, 3PLs provide 4 principal types of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ediar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B31E-6A68-492C-8143-2212F6EA0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10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gure 12-1: 3PL Primary Transportation Offering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Footer Placeholder 15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A856-BB52-4CC6-8816-EB77F405A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9"/>
          <p:cNvSpPr/>
          <p:nvPr/>
        </p:nvSpPr>
        <p:spPr>
          <a:xfrm>
            <a:off x="152280" y="228600"/>
            <a:ext cx="883944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 Single Corner Rectangle 6"/>
          <p:cNvSpPr/>
          <p:nvPr/>
        </p:nvSpPr>
        <p:spPr>
          <a:xfrm flipH="1">
            <a:off x="685080" y="1295280"/>
            <a:ext cx="3886200" cy="23623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EIGHT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hire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edited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 definit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moda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ound Single Corner Rectangle 11"/>
          <p:cNvSpPr/>
          <p:nvPr/>
        </p:nvSpPr>
        <p:spPr>
          <a:xfrm flipH="1" flipV="1">
            <a:off x="684720" y="3657600"/>
            <a:ext cx="3886200" cy="2362320"/>
          </a:xfrm>
          <a:custGeom>
            <a:avLst/>
            <a:gdLst>
              <a:gd name="textAreaLeft" fmla="*/ 0 w 3886200"/>
              <a:gd name="textAreaRight" fmla="*/ 3771000 w 3886200"/>
              <a:gd name="textAreaTop" fmla="*/ 360 h 2362320"/>
              <a:gd name="textAreaBottom" fmla="*/ 2363040 h 2362320"/>
            </a:gdLst>
            <a:ahLst/>
            <a:rect l="textAreaLeft" t="textAreaTop" r="textAreaRight" b="textAreaBottom"/>
            <a:pathLst>
              <a:path w="3886200" h="2362200">
                <a:moveTo>
                  <a:pt x="0" y="0"/>
                </a:moveTo>
                <a:lnTo>
                  <a:pt x="3492492" y="0"/>
                </a:lnTo>
                <a:lnTo>
                  <a:pt x="3492492" y="0"/>
                </a:lnTo>
                <a:arcTo wR="393708" hR="393708" stAng="-5400000" swAng="5400009"/>
                <a:lnTo>
                  <a:pt x="3886200" y="2362200"/>
                </a:lnTo>
                <a:lnTo>
                  <a:pt x="0" y="2362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ound Single Corner Rectangle 12"/>
          <p:cNvSpPr/>
          <p:nvPr/>
        </p:nvSpPr>
        <p:spPr>
          <a:xfrm>
            <a:off x="4572000" y="1295280"/>
            <a:ext cx="4038480" cy="23623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EIGH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rier selection, routing, &amp; schedu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forman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eight bill auditing and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portation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 Single Corner Rectangle 13"/>
          <p:cNvSpPr/>
          <p:nvPr/>
        </p:nvSpPr>
        <p:spPr>
          <a:xfrm flipV="1">
            <a:off x="4572000" y="3657600"/>
            <a:ext cx="4038480" cy="2362320"/>
          </a:xfrm>
          <a:custGeom>
            <a:avLst/>
            <a:gdLst>
              <a:gd name="textAreaLeft" fmla="*/ 0 w 4038480"/>
              <a:gd name="textAreaRight" fmla="*/ 3923280 w 4038480"/>
              <a:gd name="textAreaTop" fmla="*/ 360 h 2362320"/>
              <a:gd name="textAreaBottom" fmla="*/ 2363040 h 2362320"/>
            </a:gdLst>
            <a:ahLst/>
            <a:rect l="textAreaLeft" t="textAreaTop" r="textAreaRight" b="textAreaBottom"/>
            <a:pathLst>
              <a:path w="4038600" h="2362200">
                <a:moveTo>
                  <a:pt x="0" y="0"/>
                </a:moveTo>
                <a:lnTo>
                  <a:pt x="3644892" y="0"/>
                </a:lnTo>
                <a:lnTo>
                  <a:pt x="3644892" y="0"/>
                </a:lnTo>
                <a:arcTo wR="393708" hR="393708" stAng="-5400000" swAng="5400009"/>
                <a:lnTo>
                  <a:pt x="4038600" y="2362200"/>
                </a:lnTo>
                <a:lnTo>
                  <a:pt x="0" y="2362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4"/>
          <p:cNvSpPr/>
          <p:nvPr/>
        </p:nvSpPr>
        <p:spPr>
          <a:xfrm>
            <a:off x="801720" y="3854520"/>
            <a:ext cx="3770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MEDI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rface forwa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ir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eight broker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modal 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ippers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15"/>
          <p:cNvSpPr/>
          <p:nvPr/>
        </p:nvSpPr>
        <p:spPr>
          <a:xfrm>
            <a:off x="4689360" y="3854520"/>
            <a:ext cx="2966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ECIALT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dicated contract carri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ay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o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rge in transi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usehold good move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mediar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freight forwa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ks up, assembles and consolidates ship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nges for carriers to transport and deliver to final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 as shippers and carriers.  As carriers, they are liable for loss and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 freight forwarder (similar to surface forwa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izes in high value, time sensitive g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817D-59ED-4FB7-95EE-868DBEB91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ight brok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ddlemen between shipper and 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es to match carrier’s capacity with shipper’s dem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odal marketing compan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idators or agents, facilitate intermodal rai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no liability, legal shipping arrangement is between shipper and carr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pers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profit coops, aggregate member cargo for shipment as consolidated 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8909-3070-4C8A-B984-4664E8F80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t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dicated contract 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PL serves as customer’s private fl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 gains advantage of private fleet without capitalization, operating and management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y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haul trucking, pick up and delivery of contai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ically contracted for by rail or ocean carri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4633-7603-4830-B970-F51F47EFA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l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quantity of freight moved as one shipment in bulk to central distribution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eight unloaded, sorted by customer, delivered to local dest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es directly with LTL service offered by LTL motor c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advant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transit time, less handling, lower rates, lower inventory co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FDED-F310-4204-8060-77B4AD0B7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52280" y="13712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ge in tran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es shipments from multiple suppliers at a merge point near end 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 orders of assorted goods assembled at merge facility for delivery to end custo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s: lowers total inventory cost, customer avoids capital cost of warehous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ehold goods movement (HHG or van li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 include local agency with warehouse, pick-up and delivery equipment, centralized dispatch, and specialized  vehicles for long distance trans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A8F1-71C2-4EEC-BA62-F5CC2B1EB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rging 3PL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s desire “one-stop shopping” thus, leading 3PLs developing as integrated servic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s desire global reach, thus, leading 3PLs expanding service terri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capabilities requi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chain network design cap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implementation and 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-to-day exec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IT tools and multi-modal cap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E5A-7E3D-457A-92D5-5FE3EB320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0" name=""/>
          <p:cNvGraphicFramePr/>
          <p:nvPr/>
        </p:nvGraphicFramePr>
        <p:xfrm>
          <a:off x="685800" y="1523880"/>
          <a:ext cx="7696080" cy="4632480"/>
        </p:xfrm>
        <a:graphic>
          <a:graphicData uri="http://schemas.openxmlformats.org/drawingml/2006/table">
            <a:tbl>
              <a:tblPr/>
              <a:tblGrid>
                <a:gridCol w="1208160"/>
                <a:gridCol w="1268280"/>
                <a:gridCol w="1416240"/>
                <a:gridCol w="1268280"/>
                <a:gridCol w="1192320"/>
                <a:gridCol w="1342800"/>
              </a:tblGrid>
              <a:tr h="88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Transpor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Facil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Payro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Seattle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Portland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Hybrid  option (PDX cross-dock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Retain exi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1" name="Rectangle 1"/>
          <p:cNvSpPr/>
          <p:nvPr/>
        </p:nvSpPr>
        <p:spPr>
          <a:xfrm>
            <a:off x="533520" y="417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What factors/costs would have to be considered for each of the alternatives?  Outline these in the table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dustry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PL Services and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es to global integration inclu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eraging strengths of express deliver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ility, door-to-door, high rel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quisitions and partnerships among 3P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ing portfolio of transportation, e-commerce supply chain and business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inventory, fulfillment, cold chain solutions, cross docking, brokerage, freight forwar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investments in transport/distribution facil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F89E-81C9-404D-B373-AB3F11515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PL growth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nding on 3PL services steadily 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U.S. 3PL providers account for 16% of total logistics spending in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 from 10% in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7% of Fortune 500 outsourced some portion of logistics and supply chain functions in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 from 64%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industries lead use of 3PL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y, automotive, re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F94F-2CE7-4CE9-935A-E6E02DEB2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gure 12-2:  U.S. Spending on 3PL Servi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Footer Placeholder 11"/>
          <p:cNvSpPr/>
          <p:nvPr/>
        </p:nvSpPr>
        <p:spPr>
          <a:xfrm>
            <a:off x="685800" y="6324480"/>
            <a:ext cx="426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A255-0123-4387-A3AB-67F14EFE5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228600" y="380880"/>
            <a:ext cx="87631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37"/>
          <p:cNvSpPr/>
          <p:nvPr/>
        </p:nvSpPr>
        <p:spPr>
          <a:xfrm>
            <a:off x="1523880" y="601992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Armstrong and Associates,  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Trends in 3PL/Customer Relationships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2009. Us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Object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977240" cy="4816440"/>
          </a:xfrm>
          <a:prstGeom prst="rect">
            <a:avLst/>
          </a:prstGeom>
          <a:ln w="0">
            <a:noFill/>
          </a:ln>
        </p:spPr>
      </p:pic>
      <p:sp>
        <p:nvSpPr>
          <p:cNvPr id="1169" name="TextBox 11"/>
          <p:cNvSpPr/>
          <p:nvPr/>
        </p:nvSpPr>
        <p:spPr>
          <a:xfrm rot="16200000">
            <a:off x="-84240" y="32043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 Bill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TextBox 9"/>
          <p:cNvSpPr/>
          <p:nvPr/>
        </p:nvSpPr>
        <p:spPr>
          <a:xfrm>
            <a:off x="838080" y="60958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10"/>
          <p:cNvSpPr/>
          <p:nvPr/>
        </p:nvSpPr>
        <p:spPr>
          <a:xfrm>
            <a:off x="81532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Picture 5" descr="E:\Tables\CH12\12-T02.jpg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s for Outsourc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ternal expert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ement internal expert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to reduce costs, improve financia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to increase resource capacity or improve asset produ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Footer Placeholder 5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812D-3DFF-46D5-96AF-3D05D46B3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ble 12-3: Reasons For and Against 3PL Us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s for Using 3P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56840" y="2174400"/>
            <a:ext cx="4040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portunity for cost reduct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ility to focus on core competenc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portunity to improve customer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prove return on ass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 in inventory tu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ivity improvement opportun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bibe more flexibility into logistics proce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cess to emerging technolo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pansion to unfamiliar mark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ility to divert capital invest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s Against Using 3P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343400" y="2174400"/>
            <a:ext cx="464832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gistics is a core competency of comp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reductions would not be experien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rol over outsourced function would dimini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rvice level commitments would not be realiz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any has more expertise than 3PL provi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gistics is too important to consider outsour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utsourcing is not a corporate 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al capabilities of 3PL need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ability of 3PLs to form meaningful relationshi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ssues related to security of ship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Footer Placeholder 3"/>
          <p:cNvSpPr/>
          <p:nvPr/>
        </p:nvSpPr>
        <p:spPr>
          <a:xfrm>
            <a:off x="6858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3FF5-B699-44F9-9F0B-4D0EA423E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0"/>
          <p:cNvSpPr/>
          <p:nvPr/>
        </p:nvSpPr>
        <p:spPr>
          <a:xfrm>
            <a:off x="380880" y="5562720"/>
            <a:ext cx="838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s: B.S. Sahay and Ramneesh Mohan, “3PL practices: an Indian perspective,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International Journal of Physical Distribution &amp; Logistics Management,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Vol .36, No. 9, 2006; and, Georgia Tech and CapGemini LLC,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Eleventh Annual 3PL Stud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20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mary Activities Outsourc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6854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relationships with 3PLs are tactical, meaning 3PLs are used for a specific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 is the most often used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s clearing, freight forwarding and shipment consolidation also widely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8% of 3PL relationships are strate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s fully manage customer’s supply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many users look to 3PLs for help in integrating global service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Footer Placeholder 6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D7C-6EDA-4C37-98BA-D173A1DE8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PL User Overview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ults Achiev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PL users satisfied with outsourc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stics cost reductions in 12%-15%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xed logistics assets reduced 20%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der cycle time reductions of 20%-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s provide more flexibility to fluctuating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PLs help customers increase service 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most 3PL relationships have some 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: unrealized service-levels or cost reductions, lack of continuous improv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F32-2D99-4E2A-885D-694FE2423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gure 12-3: 3PL Relationship Evalua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Rectangle 9"/>
          <p:cNvSpPr/>
          <p:nvPr/>
        </p:nvSpPr>
        <p:spPr>
          <a:xfrm>
            <a:off x="228600" y="380880"/>
            <a:ext cx="87631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237"/>
          <p:cNvSpPr/>
          <p:nvPr/>
        </p:nvSpPr>
        <p:spPr>
          <a:xfrm>
            <a:off x="1143000" y="5868000"/>
            <a:ext cx="7391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Georgia Tech and Capemini LLC,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tate of Logistics Outsourcing: 13th Annual 3PL Study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2008, Fig. 4, p. 11 Copyright © 2008 C. John Langley, Jr., Ph.D, and Capgemini U.S. LLC.  All  rights reserved.  Reprinted by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7" name="Chart 12"/>
          <p:cNvGraphicFramePr/>
          <p:nvPr/>
        </p:nvGraphicFramePr>
        <p:xfrm>
          <a:off x="914400" y="1219320"/>
          <a:ext cx="73915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8" name="Char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391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TextBox 13"/>
          <p:cNvSpPr/>
          <p:nvPr/>
        </p:nvSpPr>
        <p:spPr>
          <a:xfrm rot="16200000">
            <a:off x="-360720" y="318456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ercent of Respon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501-9AF8-41E7-BC78-990A0960B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ooter Placeholder 11"/>
          <p:cNvSpPr/>
          <p:nvPr/>
        </p:nvSpPr>
        <p:spPr>
          <a:xfrm>
            <a:off x="68580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52280" y="9903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 step process for establishing 3PL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Perform strategic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 a logistics/supply chain au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current state, needs, and strategy al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 to be collected in audit incl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/objectives at corporate, division, supply chain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ments of customers, suppliers, key logistics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/analyze strategic environmental factors, industry tr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current logistics network, firm’s pos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chmark logistics costs and key performance indic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p analysis between current and desired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4E8-0665-4EE4-95C9-31D571063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"/>
          <p:cNvSpPr/>
          <p:nvPr/>
        </p:nvSpPr>
        <p:spPr>
          <a:xfrm>
            <a:off x="685800" y="117000"/>
            <a:ext cx="8001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Is each of these alternatives viable?  What is the overriding benefit to each alternat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Which scenario supports improved network optimization and inventory deploymen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What data would be necessary to determine new inventory levels at the primary s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What processes would have to be initiated to implement a consolidation?  List some specific examp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gure 12-4: 3PL Relationship Development Proces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Rectangle 9"/>
          <p:cNvSpPr/>
          <p:nvPr/>
        </p:nvSpPr>
        <p:spPr>
          <a:xfrm>
            <a:off x="152280" y="3049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Object 1" descr=""/>
          <p:cNvPicPr/>
          <p:nvPr/>
        </p:nvPicPr>
        <p:blipFill>
          <a:blip r:embed="rId1"/>
          <a:stretch/>
        </p:blipFill>
        <p:spPr>
          <a:xfrm>
            <a:off x="225360" y="1749600"/>
            <a:ext cx="8772480" cy="3590640"/>
          </a:xfrm>
          <a:prstGeom prst="rect">
            <a:avLst/>
          </a:prstGeom>
          <a:ln w="0">
            <a:noFill/>
          </a:ln>
        </p:spPr>
      </p:pic>
      <p:sp>
        <p:nvSpPr>
          <p:cNvPr id="1210" name="Rectangle 7"/>
          <p:cNvSpPr/>
          <p:nvPr/>
        </p:nvSpPr>
        <p:spPr>
          <a:xfrm>
            <a:off x="533520" y="5562720"/>
            <a:ext cx="876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:  Copyright © 2001 C. John Langley Jr., Ph.D. and Capgemini U.S. LLC.  All rights reserved.  Reprinted by per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77B6-25CB-41A2-8E8B-0A33A6FCF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ooter Placeholder 7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28240" y="9903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2: Decision to form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service provider’s capabilities are need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the company appear to have core competency (expertise, strategic fit, and ability to invest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mbert, Emmelhainz, and Gardner Partnership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 parts: drivers and facilitators of a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ers: the compelling reasons to part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nergy from the partnership that cannot otherwise be attain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ors: corporate environmental factors that enhance partnership development and 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tible cultures, mgmt. philosophy, relationship commi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7C0B-0787-4752-9BFC-A514110D6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3: Evaluate 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ing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either drivers or facilitators are present, then the relationship should be transactional or arm’s 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ll parties in the relationship share common drivers and facilitating factors are present, then a more structured, formal relationship is just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should include comparison of firm’s needs with capabilities of potential 3PL part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should include cross-functional persp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0F9-15E5-4441-AE2B-A114ECD0F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4: Select part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identifies 3PLs that have credentials to be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, given the strategic nature of the pending relationship, the firm’s executives should interact professionally with candidate 3P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l outcome should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nsus on “best fit” 3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ent understanding of the decision 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ent expectation of what to expect from the 3PL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386A-7E1F-4163-B363-A2797FD8F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5: Structure operat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refers to activities, processes, and priorities of the 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 of the operating model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t planning processes and operating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/reward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st and commi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 sty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pe of the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al inves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23F7-7524-400A-8A42-01BEFB4B3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6: Implementation and continuous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time varies depending on scope and complexity of 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improvement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m for breakthrough improvements that strengthen the market position of the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er value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owcharting and statistical process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ity-based costing, benchmarking, process reengineeri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FC2B-0899-49AE-A970-B117C2A88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stablishing and Managing 3PL Relationship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successful 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organizations invest time and money in development and sustai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sh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e of 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ness to new ideas and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on a regular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 approach to problem solv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eraging of each partner’s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DAC0-C36F-4E1E-A096-EB15AAAE9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vice Require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30492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questions prior to forming relatio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the types of services requir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tical or strategic approach to attaining servi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ctical: outsource individual services a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onship is transactional, collaboration is tac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l-Mart’s use of Greatwide Transportation for refrigerated product delivery rather than own fleet is an examp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: establish extensive set of integrated service capabilities with 3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onsequences, 3PL heavily impacts service perform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: Goodyear uses Exel for transportation load planning, private fleet operations and order fulfill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413D-45EE-4053-A694-17D5D4629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ordination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should the role of coordinating key logistics activities res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s internally if firm does not out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s internally if firm outsources tactically, largely to reduce cost of key activities, such as 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uses 3PLs specializing in limited number of services, i.e. logistics servic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73DA-F1BC-4FE6-9C9D-8E4B39A68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ordination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ion role shared with 3PL if firm outsources to achieve value added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uses 3PL integrated servic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ion role largely lies with service provider if they have lead responsibility for regional supply chain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r known as lead logistics provider or 4P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ion totally assumed by advance service providers (global integr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C83-2CA3-4CA4-A6CC-058F8E03B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Outsource Logistics Servic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Better Customer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able to grow f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mon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need for staffing, equipment, warehouse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ing a fixed cost into a variable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10"/>
          <p:cNvSpPr/>
          <p:nvPr/>
        </p:nvSpPr>
        <p:spPr>
          <a:xfrm>
            <a:off x="228600" y="3808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gure 12-7: 3PL Coordination Capab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Rectangle 9"/>
          <p:cNvSpPr/>
          <p:nvPr/>
        </p:nvSpPr>
        <p:spPr>
          <a:xfrm>
            <a:off x="228600" y="380880"/>
            <a:ext cx="8763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4"/>
          <p:cNvSpPr/>
          <p:nvPr/>
        </p:nvSpPr>
        <p:spPr>
          <a:xfrm>
            <a:off x="7156440" y="1281240"/>
            <a:ext cx="177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5"/>
          <p:cNvSpPr/>
          <p:nvPr/>
        </p:nvSpPr>
        <p:spPr>
          <a:xfrm>
            <a:off x="7707240" y="4413240"/>
            <a:ext cx="979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6"/>
          <p:cNvSpPr/>
          <p:nvPr/>
        </p:nvSpPr>
        <p:spPr>
          <a:xfrm>
            <a:off x="2133720" y="1676520"/>
            <a:ext cx="5470560" cy="4032000"/>
          </a:xfrm>
          <a:prstGeom prst="triangle">
            <a:avLst>
              <a:gd name="adj" fmla="val 4972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7"/>
          <p:cNvSpPr/>
          <p:nvPr/>
        </p:nvSpPr>
        <p:spPr>
          <a:xfrm>
            <a:off x="1773360" y="5000760"/>
            <a:ext cx="6324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8"/>
          <p:cNvSpPr/>
          <p:nvPr/>
        </p:nvSpPr>
        <p:spPr>
          <a:xfrm>
            <a:off x="3322800" y="4232160"/>
            <a:ext cx="3228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9"/>
          <p:cNvSpPr/>
          <p:nvPr/>
        </p:nvSpPr>
        <p:spPr>
          <a:xfrm>
            <a:off x="3755880" y="3537000"/>
            <a:ext cx="2305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0"/>
          <p:cNvSpPr/>
          <p:nvPr/>
        </p:nvSpPr>
        <p:spPr>
          <a:xfrm>
            <a:off x="4249800" y="2838600"/>
            <a:ext cx="137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11"/>
          <p:cNvSpPr/>
          <p:nvPr/>
        </p:nvSpPr>
        <p:spPr>
          <a:xfrm>
            <a:off x="4267080" y="5181480"/>
            <a:ext cx="1828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12"/>
          <p:cNvSpPr/>
          <p:nvPr/>
        </p:nvSpPr>
        <p:spPr>
          <a:xfrm>
            <a:off x="3657600" y="4343400"/>
            <a:ext cx="2743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ic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Logistics Service Provid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3"/>
          <p:cNvSpPr/>
          <p:nvPr/>
        </p:nvSpPr>
        <p:spPr>
          <a:xfrm>
            <a:off x="3809880" y="3581280"/>
            <a:ext cx="2210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ue-Adde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Third Party Logist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4"/>
          <p:cNvSpPr/>
          <p:nvPr/>
        </p:nvSpPr>
        <p:spPr>
          <a:xfrm>
            <a:off x="4114800" y="2971800"/>
            <a:ext cx="1447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d 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P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5"/>
          <p:cNvSpPr/>
          <p:nvPr/>
        </p:nvSpPr>
        <p:spPr>
          <a:xfrm>
            <a:off x="4343400" y="2286000"/>
            <a:ext cx="1266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095480"/>
                <a:tab algn="l" pos="1643040"/>
                <a:tab algn="l" pos="2190600"/>
                <a:tab algn="l" pos="2738520"/>
                <a:tab algn="l" pos="3286080"/>
                <a:tab algn="l" pos="3833640"/>
                <a:tab algn="l" pos="4381560"/>
                <a:tab algn="l" pos="4929120"/>
                <a:tab algn="l" pos="5477040"/>
                <a:tab algn="l" pos="6024600"/>
                <a:tab algn="l" pos="6572160"/>
                <a:tab algn="l" pos="7120080"/>
                <a:tab algn="l" pos="7667640"/>
                <a:tab algn="l" pos="8215200"/>
                <a:tab algn="l" pos="8763120"/>
                <a:tab algn="l" pos="9310680"/>
                <a:tab algn="l" pos="9858240"/>
                <a:tab algn="l" pos="104061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6"/>
          <p:cNvSpPr/>
          <p:nvPr/>
        </p:nvSpPr>
        <p:spPr>
          <a:xfrm>
            <a:off x="6211800" y="2205000"/>
            <a:ext cx="247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Global Supply Chain Integ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7"/>
          <p:cNvSpPr/>
          <p:nvPr/>
        </p:nvSpPr>
        <p:spPr>
          <a:xfrm>
            <a:off x="6757920" y="3067200"/>
            <a:ext cx="1928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n-Regional Integ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8"/>
          <p:cNvSpPr/>
          <p:nvPr/>
        </p:nvSpPr>
        <p:spPr>
          <a:xfrm>
            <a:off x="6742080" y="3657600"/>
            <a:ext cx="194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hared across activities and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9"/>
          <p:cNvSpPr/>
          <p:nvPr/>
        </p:nvSpPr>
        <p:spPr>
          <a:xfrm>
            <a:off x="1805040" y="2841480"/>
            <a:ext cx="6259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20"/>
          <p:cNvSpPr/>
          <p:nvPr/>
        </p:nvSpPr>
        <p:spPr>
          <a:xfrm>
            <a:off x="1805040" y="3538440"/>
            <a:ext cx="6259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21"/>
          <p:cNvSpPr/>
          <p:nvPr/>
        </p:nvSpPr>
        <p:spPr>
          <a:xfrm>
            <a:off x="1793880" y="4233960"/>
            <a:ext cx="6261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23"/>
          <p:cNvSpPr/>
          <p:nvPr/>
        </p:nvSpPr>
        <p:spPr>
          <a:xfrm>
            <a:off x="741240" y="2908440"/>
            <a:ext cx="1849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736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jec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ngle Point of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4"/>
          <p:cNvSpPr/>
          <p:nvPr/>
        </p:nvSpPr>
        <p:spPr>
          <a:xfrm>
            <a:off x="741240" y="3710160"/>
            <a:ext cx="204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hanced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roader Service Offe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5"/>
          <p:cNvSpPr/>
          <p:nvPr/>
        </p:nvSpPr>
        <p:spPr>
          <a:xfrm>
            <a:off x="741240" y="1981080"/>
            <a:ext cx="2036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peed of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hared Risk &amp;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omprehensiv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7"/>
          <p:cNvSpPr/>
          <p:nvPr/>
        </p:nvSpPr>
        <p:spPr>
          <a:xfrm>
            <a:off x="741240" y="5124600"/>
            <a:ext cx="1649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992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ident Client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173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8"/>
          <p:cNvSpPr/>
          <p:nvPr/>
        </p:nvSpPr>
        <p:spPr>
          <a:xfrm>
            <a:off x="741240" y="4362480"/>
            <a:ext cx="17179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Focused Cost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9"/>
          <p:cNvSpPr/>
          <p:nvPr/>
        </p:nvSpPr>
        <p:spPr>
          <a:xfrm>
            <a:off x="6459480" y="1752480"/>
            <a:ext cx="2227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3PL Coordination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30"/>
          <p:cNvSpPr/>
          <p:nvPr/>
        </p:nvSpPr>
        <p:spPr>
          <a:xfrm>
            <a:off x="741240" y="1697040"/>
            <a:ext cx="222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Key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31"/>
          <p:cNvSpPr/>
          <p:nvPr/>
        </p:nvSpPr>
        <p:spPr>
          <a:xfrm>
            <a:off x="7399440" y="5160960"/>
            <a:ext cx="12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32"/>
          <p:cNvSpPr/>
          <p:nvPr/>
        </p:nvSpPr>
        <p:spPr>
          <a:xfrm>
            <a:off x="1735200" y="2847960"/>
            <a:ext cx="6323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37"/>
          <p:cNvSpPr/>
          <p:nvPr/>
        </p:nvSpPr>
        <p:spPr>
          <a:xfrm>
            <a:off x="990720" y="5792760"/>
            <a:ext cx="78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urce:  Georgia Tech and Capgemini LLC, The State of Logistics Outsourcing: 10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Annual 3PL Study, 2005.  Copyright © 2005 C. John Langley, Jr., Ph.D., and Capgemini U.S. LLC.  All rights reserved.  Reprinted by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E7EC-E496-4591-A27C-546CE94F4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3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 Integ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228600" y="15238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of the art IT: critical capability for 3PLs.  Necessar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d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pment visibility and even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of daily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p between expectations and 3PL cap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ufficient shipment visi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3PL internal systems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edes seamless info flow and activity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27B4-21C5-4F1A-A295-C842706A9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al Cohes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ngruent goals create potential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creation of consisten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personal relationships at both operating and executiv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s with detailed requirements and performance verification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ainable performance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 of key performance indicat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5974-6BDD-41A5-A657-8844B4999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ly Chain Secur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cipal concern is theft.  Keys for avoi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better physical security for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security procedures collaboratively with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proactive reports and alerts when shipments deviate from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key freight transfer points, avoid high risk transport routes, i.e., Gulf of A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tain C-TPAT, and other cert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840-63AF-46DB-96E2-EAAA4CF03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ategic Challenges for 3PL User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uture Issues and Challeng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ic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atile fuel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fting demand and production patt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capability expec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s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ing worldw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ing demand for strategic capabil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Footer Placeholder 3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   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C9C-803A-4BB9-83F9-16F44C6AD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e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electing 3PL partner, make sure there is ample cross-organizational inp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e and 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ufacturing/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problems with 3PL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alized service-level commi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continuous improvements and achievements in offe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reductions not re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ufficient IT cap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 of integration across regions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Verdana"/>
                <a:ea typeface="Verdana"/>
              </a:rPr>
              <a:t>3PL Study Criteria We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0A8C-1489-4A69-BCB0-494ACD2E9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4" name="Chart 7" descr=""/>
          <p:cNvPicPr/>
          <p:nvPr/>
        </p:nvPicPr>
        <p:blipFill>
          <a:blip r:embed="rId1"/>
          <a:stretch/>
        </p:blipFill>
        <p:spPr>
          <a:xfrm>
            <a:off x="1212840" y="1365120"/>
            <a:ext cx="663876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pful Web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PL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3plstudy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mstrong and Associ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3plogistics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C Veloc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dcvelocity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ightworl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freightworld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bound Logisti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nboundlogistics.com/3pl/top100.shtm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istics Tod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logisticstoday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lyChainBra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upplychainbrain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being outsourc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rect transportation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stoms brokerage (export papers, to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ight payment proces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ight forwarding, incl. insu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rehouse &amp; inventory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ment consolidation, cross-doc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cking/tra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se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der fulfillment (picking, packing, shi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erse logistics (handling returned merchandis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driving 3PL growt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re for one-stop-sho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documentation complex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 data and IT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inventories and in-house fle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-in-time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dbye’s advice on Outsourc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r’s IT system and files need to be compatible (EDI for importing data into your own ERP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poll customers regularly on provider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key contact person(s) inter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benchmarks, standards, KPI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always trust sales people who over-promise and over-com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2"/>
          <p:cNvSpPr/>
          <p:nvPr/>
        </p:nvSpPr>
        <p:spPr>
          <a:xfrm>
            <a:off x="0" y="3200400"/>
            <a:ext cx="9144000" cy="213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19360" y="10663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ransportati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venth Edition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yle, Novack, Gibson &amp; Bardi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© 2011 Cengage Learning</a:t>
            </a:r>
            <a:br>
              <a:rPr sz="1800"/>
            </a:br>
            <a:br>
              <a:rPr sz="1800"/>
            </a:b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5410080" y="33526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rd Party Log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4" name="Picture 1025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519360" cy="4572000"/>
          </a:xfrm>
          <a:prstGeom prst="rect">
            <a:avLst/>
          </a:prstGeom>
          <a:ln w="0">
            <a:noFill/>
          </a:ln>
        </p:spPr>
      </p:pic>
      <p:sp>
        <p:nvSpPr>
          <p:cNvPr id="10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1BA1-3AD7-4E53-9B7E-FC6F689D7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ooter Placeholder 6"/>
          <p:cNvSpPr/>
          <p:nvPr/>
        </p:nvSpPr>
        <p:spPr>
          <a:xfrm>
            <a:off x="3049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7:30:47Z</dcterms:created>
  <dc:creator>Andreas</dc:creator>
  <dc:description/>
  <dc:language>en-US</dc:language>
  <cp:lastModifiedBy>Andreas</cp:lastModifiedBy>
  <dcterms:modified xsi:type="dcterms:W3CDTF">2012-11-26T22:12:24Z</dcterms:modified>
  <cp:revision>10</cp:revision>
  <dc:subject/>
  <dc:title>Freight &amp; Shipment Management Outsourcing Transportation Risk Management</dc:title>
</cp:coreProperties>
</file>