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BC82-DD3D-4DCC-A58F-8B162A14C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0009-A878-4452-ACAE-5E99EA882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9A2A-9876-4E1D-8F0C-7EF5C59D2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C779-F7FA-4992-861C-D41B00659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74BE-B707-4604-87BA-7BD20F659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A5DE-5CC9-48AB-B94E-A29ECDE2B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C385-A3A3-4E11-A737-507AAC704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7D82-6D53-438D-ACAD-DA2E08ED6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4F95-ADF1-4855-9335-B751ADF40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1A8E-C74D-44F5-ADA9-971C5CDB8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C459-3727-458D-9777-77FD4D812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010B-1BD3-4573-B9C5-FA7C6CF69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76AA-E552-4D87-836C-03876E17B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2963-64AA-461A-85A5-C8FAB49B6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5279-14A4-4204-BB26-1EE0A5451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CF88-330A-44D1-A1A5-99E035BE0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965D-1672-45E2-B365-3263ECEA7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4A36-96CB-49BA-8D89-11F36B968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1392-A101-4AC7-BDA6-D526206B7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658-CB54-495C-99BF-E8FCEE7E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6E1-4A23-4AF3-B73F-32EDA504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D5C-0F68-4A19-BC5E-CBA00A41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32D-7F8D-4C2C-A137-259D1BA0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F52-958A-4788-9672-278D7853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BD0-3BAC-4195-B774-0E8875DD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651-E372-415C-8D5D-9C9DCC0C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1DB-E1E5-45BD-8330-BA61919A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CEF-743C-4523-8673-8E2A5B49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6CE-38E9-4341-9E45-47C1DDB0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99C-8449-4CC8-BFF8-F0058664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926-2AF3-4892-A886-01BD68D4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E573-00A8-4A20-AAC1-15096E075D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07E3-7FDE-4A87-8706-C09B02E39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Costing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ew of Ocean Transpor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 the Transpacific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1F79-FDA5-49A6-93B5-8BE961A5C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kellerh\Pictures\Baltic Dry Index.bmp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1714-6661-4D85-A7B1-F5B274E81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2"/>
          <p:cNvGraphicFramePr/>
          <p:nvPr/>
        </p:nvGraphicFramePr>
        <p:xfrm>
          <a:off x="533520" y="1030320"/>
          <a:ext cx="800100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30320"/>
                    <a:ext cx="80010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9"/>
          <p:cNvSpPr/>
          <p:nvPr/>
        </p:nvSpPr>
        <p:spPr>
          <a:xfrm>
            <a:off x="0" y="0"/>
            <a:ext cx="9144000" cy="436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709000" y="60948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tts Bunker Index – Seattle IFO 180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nthly Average Price per M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E1D1-5688-46AD-9F14-78D4CA43A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mpt from any economic 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be owned by a company whose primary business 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anspor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in any of the modes but most prevalent in tru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contract out on backhaul or excess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Westwood, Wal-Mart, ExxonMob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ED68-C2FD-4884-87D8-118B15F66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s general pub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ed by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charge reasonabl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ed a “for-hire”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’t discrimnate in pricing, claims, service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UPS, FedEx, BNSF, Schneider, United Airlines, APL, Westw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1D71-713F-4880-855A-CE8A3BABA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ct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s selected (contracted)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legally discriminate on prices, service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act can be tailored to fit individual cust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for-hire”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BNSF, Schneider, United Airlines, APL, Golden State, Westw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7915-0BA8-4D35-B48B-1620B6426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mpt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conomic 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es/service negot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izes in exempt commodities such as forest products, agricultural products, liquid bulk commodities, dry bulk commod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ed a “for-hire”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BNSF, Schneider, APL, Westwoo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B528-B1BB-45A8-B1C2-286E396E8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vernmental Overs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198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tariff rates with loyalty contr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ocean carrier conferences (legal cartels) regulated by the FM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limited intermodal servi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ipping Act of 1984 through OSRA 199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tariff rates and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alibri"/>
              </a:rPr>
              <a:t>published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service contracts (essential terms/”me-too”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intermodal  through rates now allowed by conference memb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continued antitrust immunity for conferen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right of independent action by conference memb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ean Shipping Reform Act of 1998 through to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fidenti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rvice contr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ecline (and death) of the ocean carrier con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limited use of freight tarif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iminished role by F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2487-7292-41E3-922E-92671E166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Strategies and Tac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r 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cing by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ervice” instead of 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ervic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share/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haul cost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-cutting/staff red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el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632E-ACA9-4EBF-9ACE-DBBA90297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pper Tac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services offered by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trust an agen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cognizant of the carrier’s financial 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ve for rate predic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the carrier’s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speaks volum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nderestimate your 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you don’t cost yourself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307F-ACDF-4255-AA67-DF9194D40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portation Cost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Pric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s’ Costs and Reven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vernmental Overs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 pre-198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 1984 through 199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 1999 through pres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 Strategies and Tac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ipper Tac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8298-47BB-4E18-BDF1-C6A9758BA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four market structures (Monopoly/ Oligopoly/ Pure Competition/Monopolistic Competition) which all have five characteristics which differentiate the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1. The number of sell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2. The number of buy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3. Who influences price (seller or buy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4. Barriers to e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5. Price elasticity of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99F9-9688-40D5-BD79-1AEA32C9E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re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many sellers/buyers of identical produc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no chance for price/service different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ow or no barrier to e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opolistic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many sellers/buyers of close products/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chance to be different  (e.g. motor carri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ow barrier to e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A0ED-DDEE-4B5E-AA32-38FA5EAFD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p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one seller/many bu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o close substit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igh barrier to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igop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few sellers/many bu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imited differentiation (ships, intermod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igh barriers to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3684-30E0-404A-8F37-80F4FA779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Reven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Ocean Fr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s and Sur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Fuel Surcharge (FAF or BA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Currency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ocumentation F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Outport Arbit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quipment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Security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emurrage/De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Special Handling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iversion F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t cet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AB30-35FC-492C-988C-158DC01CA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436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454120" y="1066680"/>
            <a:ext cx="420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verage Revenue/TEU by Quarter – Transpacific T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380880" y="1447920"/>
          <a:ext cx="83822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3822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9"/>
          <p:cNvSpPr/>
          <p:nvPr/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B Container Industry – Revenue per T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6077-9074-416D-B0FD-E68BAE511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Cos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basic costs in transportation costs stru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fixed costs  (e.g. ships, contai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ariable costs (e.g. fuel, loading, wa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Variable costs stop if operation is shut down; fixed costs don’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joint costs (e.g. port cost, fuel !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common costs (e.g. insurance, repai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A22B-81D4-4F66-9A86-9E533630E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arter Hire or Mortg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u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rew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tainer Leasing (Long Term Lease vs. Master Leas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essel Insurance (P&amp;I, War Risk, Hull and Machiner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oad/Discharge (Stevedoring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ort Charges/Pilotage/Tugs/Line Handl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i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ear and Dunn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rminal Lea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G&amp;A Expenses (Sales, General, and Administrativ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intenance and Repairs (dry-docking and container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t ceter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D9CB-37C0-4246-9F7B-BF69EEA41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8:58:44Z</dcterms:created>
  <dc:creator>kellerh</dc:creator>
  <dc:description/>
  <dc:language>en-US</dc:language>
  <cp:lastModifiedBy>Andreas</cp:lastModifiedBy>
  <dcterms:modified xsi:type="dcterms:W3CDTF">2011-08-19T21:09:58Z</dcterms:modified>
  <cp:revision>29</cp:revision>
  <dc:subject/>
  <dc:title>Slide 1</dc:title>
</cp:coreProperties>
</file>