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4A84C-0688-4733-B24F-9FE127688A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40681-C4CE-465A-B8C1-21025CEFD7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95C80-7B4B-4EB7-9CD1-1A7A885526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46E5F-A733-4EA9-A4D6-8AF0209395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D6911-ADBA-41F5-94D5-61D8B4B265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EAAF7-3FFC-493A-85B6-71E1F95969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47DC1-FD10-4F85-A407-3F46F16DB9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0A570-3171-4A64-ACF2-D3A1769007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524AC-831E-4478-B985-2B394F419D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D2E74-421F-45CF-A585-56C1150569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BC252-D47D-4F9A-A8B4-AB4087C707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4589D-C69B-474A-9857-F23BD492EA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66126-B2C1-4370-8E46-CC6A2776E5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DC30C-CEB5-403C-9302-690333130F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8A13E-A85A-4DF8-9D13-7A9E6EDB53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98579-AEF9-45B2-A190-478A55E0D0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1CED4-E1B8-4471-82AA-8BC534AA6B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AB463-27CF-4C93-8B3C-5E8DBA16FA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2D7B8-B3F7-4FF9-8527-60A75920D1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02E9-94A3-4DEB-AD8F-5EC9FAB83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096A-0220-41E0-B68F-83805CF1C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0B74-7924-4312-B658-CA3AA5CA3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6BF6-BE8D-446C-A059-611B2AFBA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3A3F-06B8-43F3-99E7-C33E1A117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94D3-2F94-4BE5-ABEF-695B44056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ED91-10E1-4A65-9561-3F6BDD648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7378-B32A-45C4-88CF-25E5FB5D3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3E1B-D825-44AA-AFFA-5FAB44226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AF33-B97A-44E0-ACEA-BFE8033B1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79D8-E097-41E2-B361-A5A37730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09F1-BACF-4F64-8972-FC5CE163F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A8712-D730-418E-9B81-7FBD37F44D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portation Networks and Distribution Cen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LOG 102, Session 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November 19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tribution Cen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“square root rule” for how much more inventory you need to maintain with more distribution center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ing from 1 to 2 loca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√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/√1 = 1.41/1.00 = 41% more invent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ing from 1 to 3 loca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√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/√1 = 1.73/1.00 = 73% more invent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rcRect l="24669" t="21333" r="20000" b="9600"/>
          <a:stretch/>
        </p:blipFill>
        <p:spPr>
          <a:xfrm>
            <a:off x="762120" y="609480"/>
            <a:ext cx="7589880" cy="592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rehouse layo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ossdoc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is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qui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mage contr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rehouse Cost Driv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orage costs (mostly space depende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ndling costs  (productivit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erical costs  (documentation and I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ventory contr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xed time ordering (the quantity varie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xed quantity ordering (the timing varie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terials Requirements Planning (a push system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r pull systems based on bills of material, e.g. Just-in-Tim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BC system of categorizing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10% is 75% of the invest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25% is 90% of the invest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conomic Ordering Quantit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radeoff between holding costs and ordering co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is an optimal (theoretical) quantity that should be orde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IT and pull metho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u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u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re on distrib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warehousing adds valu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utomated sys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RP (Enterprise Resource Plannin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uterized WMS’s (warehouse management syste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gging technologies using barcodes and RFID ta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perless picking and packing li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enda for today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ses and discussion board review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ectations for the Project (due Dec. 12; no exce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slides on Distribution networ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discu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9-1 Young Again Pharmaceutic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-2 A Megapixel Opport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lobal air freigh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llection of state sales ta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KEA guest speaker on December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The Project is due Dec. 12 and worth 20% of the course grad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can work in tandem with somebody el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oose something you are personally interested in, for exampl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regulatory agency (e.g. the Washington State Ferry System has been suggeste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transportation policy issue (e.g. the politics of high speed rail has been suggeste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mode of transportation  (e.g. the history of railroads and their application in modern life and transport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Project,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bout 2,000 words, preferably a pdf file (Word is OK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clude an introductory abstract (one paragraph), an introductory section (problem statement and what you will be doing), a main body (analysis and discussion) section, and a summary/ conclusions section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se descriptive headlin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oper references and citations are expect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ables and figures in the body or in the bac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tribution (downstream activity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gain, two main prioriti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ffectiveness (Customer Orient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fficiency (Cost Control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514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THE COST OF MEETING THE CUSTOMER NEE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y tradeoffs, for exampl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rom Designing the Distribution Network artic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rcRect l="17333" t="18133" r="18669" b="9600"/>
          <a:stretch/>
        </p:blipFill>
        <p:spPr>
          <a:xfrm>
            <a:off x="1066680" y="1600200"/>
            <a:ext cx="66945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rcRect l="25333" t="11733" r="20667" b="6400"/>
          <a:stretch/>
        </p:blipFill>
        <p:spPr>
          <a:xfrm>
            <a:off x="1371600" y="304920"/>
            <a:ext cx="6264360" cy="59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rcRect l="26667" t="23466" r="26667" b="19200"/>
          <a:stretch/>
        </p:blipFill>
        <p:spPr>
          <a:xfrm>
            <a:off x="1143000" y="1143000"/>
            <a:ext cx="640080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5T21:16:06Z</dcterms:created>
  <dc:creator>Andreas</dc:creator>
  <dc:description/>
  <dc:language>en-US</dc:language>
  <cp:lastModifiedBy>Andreas</cp:lastModifiedBy>
  <dcterms:modified xsi:type="dcterms:W3CDTF">2012-11-19T01:14:56Z</dcterms:modified>
  <cp:revision>4</cp:revision>
  <dc:subject/>
  <dc:title>Transportation and Trade Management</dc:title>
</cp:coreProperties>
</file>