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374188" cy="7088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74400" cy="708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60800" cy="353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08200" y="-360"/>
            <a:ext cx="4062600" cy="353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14200" y="531720"/>
            <a:ext cx="3543480" cy="265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730920"/>
            <a:ext cx="4060800" cy="354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30820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BAE8-2ADB-4246-BC25-30CD81356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8425-9904-401F-BD49-8FADF4E83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0F28-0821-412F-8365-1093F3033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450D-5ABC-4D8E-BBEF-3A80CDA1D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D25F-86AB-4AF3-A9C3-AE7B99971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7DC7-5FDB-4823-8F1A-9C7FC92D4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1474-65F6-4EE4-A616-06B7119B1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2250-99E6-4F6C-9943-AE05CABEC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25E9-AB7A-45C5-9887-07BEB104B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3E24-ACFE-41AB-97CA-BEA5C583F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6CAD-B7F8-4AEF-BA33-4612B431E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CD23-1E18-4AC6-83E4-B9389507A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3B3E-3003-487F-B1E3-8A524D1C6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3E44-FD2C-45E3-A0CD-9B0563F98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AF2F-383F-46D4-8D9C-7E9AC4301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A99A-422A-45C8-AF8E-DF264588E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BA7C-1BE5-4A4F-8D6D-D3028ADF7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6CF7-6EC2-4B04-8D75-08649989B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6778-E74E-4441-B772-178CF1B0B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1DA8-0775-4F6C-8E73-EA5496AA5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5584-CDE3-448C-8B75-4F2C526E2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BD59-E722-4C3A-9509-C874D0AD1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422E-7D18-499F-801E-038936BDF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7817-A185-4342-88F5-E0280AAEE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EF06-589E-4DCF-B2EA-5280A20BA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B190-FC1E-4072-B790-4698CA5AB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5C4A-08AF-4BAF-967C-6A4205371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2939-BA79-4C67-BCEB-27EBBFC1D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37B8-9178-41B3-9553-DDE89AF97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74DA-59BF-4246-A353-2B439149F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DA12-3B44-49AE-AC1B-2A0D75892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B1DA-7C8C-4C48-8E0E-812422494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F43C-ABAD-468E-A09F-329763902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8AB1-B571-4588-A0BB-9BD3B29E3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EBE1-01D3-42CB-A067-790A8F74A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CABF-6745-4C6A-A79B-9CBD3572E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DB63-8F17-4CC1-92EF-4326586AF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1D96-31F8-43FE-B38B-F6F509BBB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14560" y="531720"/>
            <a:ext cx="3543480" cy="2657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6360" y="3365280"/>
            <a:ext cx="749916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308560" y="6730920"/>
            <a:ext cx="40626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7A4D-E42E-468B-B105-C0E218066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991-3BFF-4511-90E4-6B6A9242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7DA-38EB-4796-A658-4D4F8AD4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2A6-14C5-4312-BD09-E7F2AB5A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E1A-A8CA-4FD1-ABD5-0451850E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7FD-86A3-42C6-BC21-D18ADF31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C61-B398-42AB-A1F2-3DDEC31F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F01-1399-49A3-81F2-8DA731B8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FB8-8227-4AC1-B263-E6B3B1A9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07E-DA58-40AA-9236-96F8C917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CE1-219D-43BB-9D6C-D5E265AB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308-DE98-4756-80F8-A06BF333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065B-B6AC-444A-B444-239F96A5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2205-EA68-4387-967F-42F26BC94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epgis.fhwa.dot.gov/hepgis_v2/Highway/Map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ps-scs.com/transportation/road.html" TargetMode="External"/><Relationship Id="rId2" Type="http://schemas.openxmlformats.org/officeDocument/2006/relationships/hyperlink" Target="http://www.fedex.com/us/freightportal/" TargetMode="External"/><Relationship Id="rId3" Type="http://schemas.openxmlformats.org/officeDocument/2006/relationships/hyperlink" Target="http://www.schneider.com/truckload/index.htm" TargetMode="External"/><Relationship Id="rId4" Type="http://schemas.openxmlformats.org/officeDocument/2006/relationships/hyperlink" Target="http://www.yrc.com/" TargetMode="External"/><Relationship Id="rId5" Type="http://schemas.openxmlformats.org/officeDocument/2006/relationships/hyperlink" Target="http://www.jbhunt.com/" TargetMode="External"/><Relationship Id="rId6" Type="http://schemas.openxmlformats.org/officeDocument/2006/relationships/hyperlink" Target="http://www.abfs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mcsa.dot.gov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truckline.com/pages/article.aspx?id=782/%7B8E1C7279-ED27-4C03-B189-CEEEE26BBB12%7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sdot.wa.gov/NR/rdonlyres/C43BCA33-4F74-43C4-B10F-9AD745168744/0/Permit_Brochure.pdf" TargetMode="External"/><Relationship Id="rId2" Type="http://schemas.openxmlformats.org/officeDocument/2006/relationships/hyperlink" Target="http://www.wsdot.wa.gov/NR/rdonlyres/EE2D33C7-E6A0-4C58-9BD9-AE05C003B327/0/VehicleGuide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fmcsa.dot.gov/rules-regulations/topics/ho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mfta.org/Pages/welcome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or Carriers – and where to go to look fo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2 Session 4 s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ctober 15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U.S. Highway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epgis.fhwa.dot.gov/hepgis_v2/Highway/Map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argest Trucking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S 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ups-scs.com/transportation/road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x 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edex.com/us/freightportal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neider 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schneider.com/truckload/index.ht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llow - Roadway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rc.co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.B. Hunt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jbhunt.co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F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abfs.co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-hire Carriers (local or line-haul/intercity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(serve the general public upon demand, at reasonable rates, and without discri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act Carriers (serve specific shippers with contrac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mpt Carriers (e.g. dump trucks, agricultur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Carri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service to its ow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: Operating Authority no longer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: Operating Authority no longer required (after ICC was abolished in 199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s cannot enact economic 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st regis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FMCSA to get DOT perm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rs must provide proof of in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sehold goods transportation still regul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mcsa.dot.go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eed lim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ight lim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hicle size lim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urs-of-service lim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llution limits (emission standard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cal bans and rules (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ruckline.com/pages/article.aspx?id=782/{8E1C7279-ED27-4C03-B189-CEEEE26BBB12}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zMat lim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stern Regional Permi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wsdot.wa.gov/NR/rdonlyres/C43BCA33-4F74-43C4-B10F-9AD745168744/0/Permit_Brochure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ington State Commercial Vehicle Gui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wsdot.wa.gov/NR/rdonlyres/EE2D33C7-E6A0-4C58-9BD9-AE05C003B327/0/VehicleGuide.pd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trailer siz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8-foot (can be hooked 2 or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-f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-f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3-f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28 Foot Trailer"/>
          <p:cNvPicPr/>
          <p:nvPr/>
        </p:nvPicPr>
        <p:blipFill>
          <a:blip r:embed="rId1"/>
          <a:stretch/>
        </p:blipFill>
        <p:spPr>
          <a:xfrm>
            <a:off x="6095880" y="1600200"/>
            <a:ext cx="2381400" cy="178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fleetcotrailers.com/images/53_foot_truck.gif"/>
          <p:cNvPicPr/>
          <p:nvPr/>
        </p:nvPicPr>
        <p:blipFill>
          <a:blip r:embed="rId2"/>
          <a:stretch/>
        </p:blipFill>
        <p:spPr>
          <a:xfrm>
            <a:off x="1676520" y="4267080"/>
            <a:ext cx="2884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TTAX 555680"/>
          <p:cNvPicPr/>
          <p:nvPr/>
        </p:nvPicPr>
        <p:blipFill>
          <a:blip r:embed="rId1"/>
          <a:stretch/>
        </p:blipFill>
        <p:spPr>
          <a:xfrm>
            <a:off x="762120" y="838080"/>
            <a:ext cx="768024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S (Hours-of-Service)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Motor Carrier Safety Administr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mcsa.dot.gov/rules-regulations/topics/ho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s driving time, duty time, rest time, etc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ppers need to be respectful of this (the truckers don’t have a choi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freightlinertrucks.com/images/gallery/gallery-images/front_to_back_640x480.jpg"/>
          <p:cNvPicPr/>
          <p:nvPr/>
        </p:nvPicPr>
        <p:blipFill>
          <a:blip r:embed="rId1"/>
          <a:stretch/>
        </p:blipFill>
        <p:spPr>
          <a:xfrm>
            <a:off x="787320" y="762120"/>
            <a:ext cx="7518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coma News Tribune, 10-14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Andreas\Documents\My Scans\Scan_Doc0001.jpg"/>
          <p:cNvPicPr/>
          <p:nvPr/>
        </p:nvPicPr>
        <p:blipFill>
          <a:blip r:embed="rId2"/>
          <a:stretch/>
        </p:blipFill>
        <p:spPr>
          <a:xfrm>
            <a:off x="376200" y="1874880"/>
            <a:ext cx="84628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als used by LTL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ly placed Pickup and Delivery Terminals (PU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olidation and dispersion of fr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s to/from line-haul trucks to/from  delivery trucks  (“cross-dock” opera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very trucks do peddle runs to pick up or deliver fr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pment routing is a complex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ational Motor Freight Class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mfta.org/Pages/welcome.asp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odities are grouped into one of 18 classes—from a low of class 50 to a high of class 500—based on an evaluation of four transportation characteristics: density, stowability, handling and li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CSB Case example: http://www.nmfta.org/Dockets/Docket%202010-1/2010-1%20Subject%2008/2010_1_S08_Letter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457200" y="304920"/>
            <a:ext cx="8534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Rates Example (National Motor Freight Classificati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“A” to Point “B” (cents per cw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Ra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5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5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5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0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4.6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4.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2.2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7.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5.3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3.0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7.6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3.6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7.8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7.6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6.2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6.4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0.7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2.7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3.3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8.2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7.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9.8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2.3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7.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6.1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.5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2.6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1.5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3.8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1.8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8.9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8.8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8.1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3.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9.6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.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.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8.9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.8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.0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5.3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6.3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1.6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9.1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3.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.9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1.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8.6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8.0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.2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.3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.7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.6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2.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3.9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7.3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.9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.2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6.9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.9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.4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.4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.0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.6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.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.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3.7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.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.2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.5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.9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8.7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.2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.9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.8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9.9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.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.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8.9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.2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.1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.2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.9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.0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.2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.0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.8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.7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.0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.8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.2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.1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.7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.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.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.3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.2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.1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.2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.3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.5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.3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.3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.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.8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.4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.0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.2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.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.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.3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.5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.4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.1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look at issues facing truc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-Operators Independent Drivers Associatio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ooida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ooida.com/OOIDA%20Foundation/Tools/business-webinar.s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esel Fuel P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U.S. Retail Diesel Prices - 2 1/2 years"/>
          <p:cNvPicPr/>
          <p:nvPr/>
        </p:nvPicPr>
        <p:blipFill>
          <a:blip r:embed="rId1"/>
          <a:stretch/>
        </p:blipFill>
        <p:spPr>
          <a:xfrm>
            <a:off x="838080" y="1447920"/>
            <a:ext cx="762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bout Mexican truc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pr.org/templates/story/story.php?storyId=1020158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ashington State and its Utilities and Transportation Commission (“WUTC”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state Common Carriers hauling general commodities (excluding household goods) must apply for and receive a permit from the commission prior to conducting hauling for-hire in the state of Washington. Household Goods and Brokers require a different appl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gulated Classes of Motor Carrier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ington Utilities and Transportation Commission: http://www.wutc.wa.gov/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UTC Application Fo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wutc.wa.gov/webdocs.nsf/de53b07997d108ea882563b50072c5b3/e53d79515d3f3f1e8825693800652cbd/$FILE/CC%20Application%20REVISED%20May%202010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ing with WA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TOR CARRIER IDENTIFICATION: List your current Common Carrier permit number (required for a transfer, extension, or reinstatement application), USDOT number, and Unified Business Identifier (UBI). Companies hauling for-hire within Washington must have a UBI number from the Department of Licens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quirement for a USDOT number -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ntrastat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 Any applicant that will operate a vehicle with a GVWR of 26,001 pounds or more, or any applicant that plans to haul hazardous materials requiring a placard, must obtain a USDOT number, as required by the Washington State Patrol (WSP). You may apply for a USDOT number online at www.fmcsa.dot.gov/online-registration. You may contact WSP at (360) 596-3816 for assistance. Beginning January 1, 2011, any applicant that will operate a vehicle with a GVWR of 16,001 pounds or more must obtain a USDOT numb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quirement for a USDOT number -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nterstat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 Any applicant that will operate a vehicle with a GVWR of 10,001 pounds or more, or any applicant that plans to haul hazardous materials requiring a placard, must obtain a USDOT numb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ederal Hwy Administration Truck Classifications, by GVWR (gross vehicle weight rating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alibri"/>
              </a:rPr>
              <a:t>Light Du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1 (up to 6,000 lbs); Class 2 (6,001 – 10,000 #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Medium Du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3 (10,000 – 14,000); Class 4 (14,001 – 16,000); Class 5 (16,001 – 19,500 l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eavy Du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6 (19,501 – 26,000); Class 7 (26,001 – 33,000); Class 8 (33,001 and u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 of Last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$$  -  PRICING - $$$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riers are now free to set their own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 plus approach or market approa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implify, still use Class Rate Tariffs as starting p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sive use of discounts, contracts, special de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ew words 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ivate Fleet Manag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back to last slides from session 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nges of Common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mall Delivery V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mi-Trail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blog.cleveland.com/business/2008/02/van.jpg"/>
          <p:cNvPicPr/>
          <p:nvPr/>
        </p:nvPicPr>
        <p:blipFill>
          <a:blip r:embed="rId1"/>
          <a:stretch/>
        </p:blipFill>
        <p:spPr>
          <a:xfrm>
            <a:off x="304920" y="2666880"/>
            <a:ext cx="4190760" cy="296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toplinetransport.com.au/assets/images/truck1.jpg"/>
          <p:cNvPicPr/>
          <p:nvPr/>
        </p:nvPicPr>
        <p:blipFill>
          <a:blip r:embed="rId2"/>
          <a:stretch/>
        </p:blipFill>
        <p:spPr>
          <a:xfrm>
            <a:off x="4724280" y="3505320"/>
            <a:ext cx="418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C:\Users\Andreas\Pictures\My Scans\Scan_Pic0009.jpg"/>
          <p:cNvPicPr/>
          <p:nvPr/>
        </p:nvPicPr>
        <p:blipFill>
          <a:blip r:embed="rId1"/>
          <a:srcRect l="0" t="29205" r="29558" b="7009"/>
          <a:stretch/>
        </p:blipFill>
        <p:spPr>
          <a:xfrm>
            <a:off x="1600200" y="228600"/>
            <a:ext cx="57452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s shown in this illustration, conventional tractor semitrailers include 5-axle tractor and twin double tractor semitrailers. Common forms of longer combination vehicles (LCVs) shown here include: (1) a 7-axle Rocky Mountain double, consisting of a tractor, a 15-meter (48-foot) trailer, and an 8.5-meter (28-foot) trailer, with a total length of about 34 meters (100 feet); (2) an  8-axle B-train double; (3) a 10-axle resource hauling double; (4) a 9-axle turnpike double, consisting of two 15-meter (48-foot) trailers, with a total length of about 37 meters (120 feet); and (5) a triple-trailer combination. Source: FHWA."/>
          <p:cNvPicPr/>
          <p:nvPr/>
        </p:nvPicPr>
        <p:blipFill>
          <a:blip r:embed="rId1"/>
          <a:stretch/>
        </p:blipFill>
        <p:spPr>
          <a:xfrm>
            <a:off x="1600200" y="152280"/>
            <a:ext cx="556272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tru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nfovisual.info/05/020_en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mcsa.dot.gov/facts-research/research-technology/visorcards/greencard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ff from textbook chapter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rating ratio (expenses as % of revenu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variable costs (90%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r and dies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arri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 the public (all shippers) upon dem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reasonable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discri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 as promi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forklif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t1.gstatic.com/images?q=tbn:ANd9GcQWIiJIJUCDRi7_KcE1RdBbyUoBGi0cRTVlpsjTZKoOc7axp8Y&amp;t=1&amp;usg=__4-dT3VYTcJTSI2bhlqBtRirlqoU="/>
          <p:cNvPicPr/>
          <p:nvPr/>
        </p:nvPicPr>
        <p:blipFill>
          <a:blip r:embed="rId1"/>
          <a:stretch/>
        </p:blipFill>
        <p:spPr>
          <a:xfrm>
            <a:off x="6019920" y="1447920"/>
            <a:ext cx="2057400" cy="221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t1.gstatic.com/images?q=tbn:ANd9GcRc5Cy3U90SibQM0kEwL7LJNGJf2Ga0zmo2hQZ0gPltGhhjbbU&amp;t=1&amp;usg=__IhcT_J2yZnG5lSD04QEcZkBWi14="/>
          <p:cNvPicPr/>
          <p:nvPr/>
        </p:nvPicPr>
        <p:blipFill>
          <a:blip r:embed="rId2"/>
          <a:stretch/>
        </p:blipFill>
        <p:spPr>
          <a:xfrm>
            <a:off x="1447920" y="17524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http://t3.gstatic.com/images?q=tbn:ANd9GcS_jw7vCDgERFaExoBSohsNsFSwdPeje4H8mC8cW0y2P-V65_k&amp;t=1&amp;usg=__SMDXxDEe8Ahl-CbNul3xghsI6WA="/>
          <p:cNvPicPr/>
          <p:nvPr/>
        </p:nvPicPr>
        <p:blipFill>
          <a:blip r:embed="rId3"/>
          <a:stretch/>
        </p:blipFill>
        <p:spPr>
          <a:xfrm>
            <a:off x="609480" y="3962520"/>
            <a:ext cx="3014640" cy="2133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t3.gstatic.com/images?q=tbn:ANd9GcTml2rTCCV6hhdWyd0ycPkZP9RNL05MeM1SrWb56l8dLVLu7Hg&amp;t=1&amp;usg=__538SXLND-5gipLt1Wt3Am3UC744="/>
          <p:cNvPicPr/>
          <p:nvPr/>
        </p:nvPicPr>
        <p:blipFill>
          <a:blip r:embed="rId4"/>
          <a:stretch/>
        </p:blipFill>
        <p:spPr>
          <a:xfrm>
            <a:off x="4648320" y="3965400"/>
            <a:ext cx="22096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Pallet Siz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 x 40 inches (approx. 1200 x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 m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ro-palle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0 x 1200 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typical pallet size"/>
          <p:cNvPicPr/>
          <p:nvPr/>
        </p:nvPicPr>
        <p:blipFill>
          <a:blip r:embed="rId1"/>
          <a:stretch/>
        </p:blipFill>
        <p:spPr>
          <a:xfrm>
            <a:off x="5154480" y="2438280"/>
            <a:ext cx="229896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t3.gstatic.com/images?q=tbn:ANd9GcQaiQBRdWeEuOD-zQT7QAPaFc6Jt2rLm9A0ZB2QtVjMGiBk5QQ&amp;t=1&amp;usg=__WIu7YgvcHfIq2eKBSHwIliJH40M="/>
          <p:cNvPicPr/>
          <p:nvPr/>
        </p:nvPicPr>
        <p:blipFill>
          <a:blip r:embed="rId2"/>
          <a:stretch/>
        </p:blipFill>
        <p:spPr>
          <a:xfrm>
            <a:off x="1828800" y="4648320"/>
            <a:ext cx="2800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t3.gstatic.com/images?q=tbn:ANd9GcQwKjeXerG2Jf2pF6PI4sm0tQPL_ym_PpR6ql-eUGD7UPHG8mM&amp;t=1&amp;usg=__ex-lHUhnXZB6CN7KN3XaxIYOpy8="/>
          <p:cNvPicPr/>
          <p:nvPr/>
        </p:nvPicPr>
        <p:blipFill>
          <a:blip r:embed="rId1"/>
          <a:stretch/>
        </p:blipFill>
        <p:spPr>
          <a:xfrm>
            <a:off x="1066680" y="762120"/>
            <a:ext cx="6604200" cy="3657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 flipV="1" rot="10800000">
            <a:off x="2379600" y="4986720"/>
            <a:ext cx="43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earates.com/reference/pallet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t0.gstatic.com/images?q=tbn:ANd9GcRAx3AVjHcEz_gmKVqTKU4u6yAcEm5HiIxEct9a5N5UbIqiTj4&amp;t=1&amp;usg=__aCNTeaIhQyJgVUKOMBuiMj88SpE="/>
          <p:cNvPicPr/>
          <p:nvPr/>
        </p:nvPicPr>
        <p:blipFill>
          <a:blip r:embed="rId1"/>
          <a:stretch/>
        </p:blipFill>
        <p:spPr>
          <a:xfrm>
            <a:off x="1600200" y="1447920"/>
            <a:ext cx="49975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cing: A compromise?</a:t>
            </a:r>
            <a:br>
              <a:rPr sz="44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ource: Mountain Global, Inc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mountainglobal.biz/images/pricing.jpg"/>
          <p:cNvPicPr/>
          <p:nvPr/>
        </p:nvPicPr>
        <p:blipFill>
          <a:blip r:embed="rId1"/>
          <a:stretch/>
        </p:blipFill>
        <p:spPr>
          <a:xfrm>
            <a:off x="380880" y="1676520"/>
            <a:ext cx="8317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est spea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bert Gl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ner, Freight Traffic Management, Des Moines, W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ifetime in the transportation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er and Adjunct Professor at Portland State University’s Supply Chain Management program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ld trav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4-2: Hardee Transpor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’ll spend 10 minutes debriefing this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ercise in building a rate quote, step by ste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cial to know what our costs are to avoid losing our shirt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9" descr=""/>
          <p:cNvPicPr/>
          <p:nvPr/>
        </p:nvPicPr>
        <p:blipFill>
          <a:blip r:embed="rId1"/>
          <a:srcRect l="17333" t="24533" r="27333" b="8533"/>
          <a:stretch/>
        </p:blipFill>
        <p:spPr>
          <a:xfrm>
            <a:off x="457200" y="380880"/>
            <a:ext cx="8153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ion of Appropriate M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ich Factors Should We Take Into Accoun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Shipping ti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Relia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Total Co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Cargo attribut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ze, density, perishability, packaging, liquidity,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Safety/HazMat/Security (risk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ustomer nee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Dista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Inventory level/buff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Flexi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is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uck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o popular in the U.S.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land n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ap (cheap gas, low tax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and flex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wy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(goods intensive)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20:47:06Z</dcterms:created>
  <dc:creator>Andreas</dc:creator>
  <dc:description/>
  <dc:language>en-US</dc:language>
  <cp:lastModifiedBy>Andreas</cp:lastModifiedBy>
  <dcterms:modified xsi:type="dcterms:W3CDTF">2012-10-15T15:09:13Z</dcterms:modified>
  <cp:revision>29</cp:revision>
  <dc:subject/>
  <dc:title>Motor Carriers</dc:title>
</cp:coreProperties>
</file>