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28"/>
          </p:nvPr>
        </p:nvSpPr>
        <p:spPr>
          <a:xfrm>
            <a:off x="4012920" y="-36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9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30"/>
          </p:nvPr>
        </p:nvSpPr>
        <p:spPr>
          <a:xfrm>
            <a:off x="4012920" y="8902440"/>
            <a:ext cx="30718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C6E0-31BF-48ED-9BBB-932A48278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5589-8C77-4C66-82BC-926DDEEC3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D38-86EF-4531-A6EE-00BA08EA9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C774-F487-499A-B690-F2AD82009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624D-0D2C-455D-B7A7-475B117F5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12D-BA46-4606-9E3F-A308B2EA6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4AE7-0D45-464E-AA5C-C0F4F4ACE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BEB9-02EF-4355-B011-E9A8F77B1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7B35-5043-428F-97C3-F310FCA59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5B68-9E58-453C-9289-ACC6B5608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A2A2-6E69-4176-986B-F63BA1CFF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4FCD-CB7E-4613-81C0-70E198F71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CE41-F4C4-4EEB-8F9B-1596CEF4B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94E9-7DE3-4C4A-98B2-B06A0E260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9648-2157-452A-AC08-F1D7312E7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3DBE-8904-4714-9472-E474A94E0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0212-F6C3-4CBF-97C2-C4C68C3C1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5B65-A6D1-4CA2-8A47-1C9B22C01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EED2-9B15-4FC7-B21B-C80DC9F6D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B0D7-6431-401F-BC21-CA5BE36A4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B46C-1F1B-408A-A223-3923702A1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145F-CA5B-499C-A805-6E8055850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DE1-A02B-4D5C-B6A3-C579422C4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F60A-42EE-47BF-AD93-2319A09D2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E9E4-F78B-4CF3-8EDD-B67DAC397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3E11-BE3D-4611-9B85-8F0929348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DC28-D29C-4E9E-9A9A-D224FA55C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13280" y="8902800"/>
            <a:ext cx="307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51FE-C3D5-43CD-9D52-63FB3A8F2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EC3-232E-4C28-87E5-3676A7B8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24D-19A4-478B-A0A4-C05F96E2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CCE4D1-63ED-4FBC-B5B7-F128826170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D78082-B7FE-426D-AD85-35AB9B75CF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C81F07-1B0B-4FD3-9D60-51F510FA580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3001EF-BD3E-4C99-8683-0C0603234EE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06150E-75D5-4E92-B789-FA0ED00AFD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AFE491-86DB-4242-B23A-4EF18E30702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5952D4-46F7-492B-99BF-59AA3A10C6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334340-95B1-47AC-97F2-1FD09C016BD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C2F49D-CB3D-4F87-84C2-C03C58DBEE2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65400-C0FA-405B-9111-E1D1EA404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B52-C1BF-443E-A431-4169C368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397C9-72C6-405F-9DB0-A454D1FCA37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F5837-CACA-4D40-929C-9D4A0CCEBBD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F413A-D802-4134-93A9-18B58F8FD41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07A97-20B2-49E4-9414-90268C1E61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1C444-57D3-4F40-BFAB-79389222CC7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ED390-0A15-4218-968B-9AE142DCA18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7595B-BF1F-47B6-9B8D-08537B7D97F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4A86E-8CEE-4A87-A86B-7CC9CCB1C27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2B8C1-0386-4A9A-902C-26CDD7AACF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E2D2E-7D09-47DE-BA45-34FCEC278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89D-05E2-4307-930D-3E6AEAEF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BE446-1809-40A3-B3BA-2647FAC1B8F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45290F-1250-446A-A53C-4893A6190E4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A37892-B00E-4F63-88F4-54269CDB806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2FEA0A-602A-43B0-AD94-DF50F3F6642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1D9A6D-846C-451B-823B-D36BAE4C9AA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2A5DF2-B788-4710-837C-CAA1DB84955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A03F06-73CF-4139-A3B1-1034A4E9E6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283CC-0F86-457E-B50F-299380C7AE4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52526-69E5-40A3-A162-BFC03446DF1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FF2E4E-0DAC-4650-8AE9-EAF52517E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3BECC-8444-4ACB-BA4F-86EFDC41D52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72FC0B-009C-44D9-B099-747BAB06DF0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8938D2-2E7A-485F-B9A5-38BA587A5B8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36D02-43DB-49F7-AE32-835EDB09293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9E937-010D-4042-A0D2-DEB454B927A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B9989-D197-41F0-9A52-9FB3AD6B21E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90A40-596E-45DE-9625-B49FDCE0DE6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6D5A3-D9D5-4710-8F47-6863D96FAFF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48DD0-991C-4AF9-AC62-D026AD94A5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CD784-543B-4365-9F9D-849AEB15E90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18A65-39DA-4F89-8562-D8DF0FE4A9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ED1AA-716A-4CAF-8762-C3223EFF765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AB8B6-F78D-41CE-92BF-61145B58499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299F2-CCE1-471E-B19A-BC03F12DF0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B9CF6-33D9-4C5A-A0E6-472DCF1A086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B470B-704C-4EFD-BF26-2E00E2A9C2D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C179F-579A-4E10-983F-AB15607F830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9858E-CF93-498B-9745-B2199EDFB9D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A1930-8729-407F-8EAD-C4DC37811D6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E3724-7927-449D-BE3F-6D52579207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FC828-0F46-44E6-9FEB-87781113AE0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3CAF2-2D19-48B3-AE9A-B9BBCEA08C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99996-2F50-45DF-BC41-F32218B0566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AB8B9-E3EE-41D7-91DD-C431A8AAFD4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19970-B6F4-41BF-B268-97CAA596A71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983FA-6D00-4F73-8330-977FF1ABB84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74D23-1CCA-40F2-B85D-6CD1E577DCA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31315-EDB9-4AE1-BF51-CD85CE5BE18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7FC05-A56F-4C3F-AE6A-C192096713E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C7B90-6AEB-433D-B534-9A3D02FD2F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3B3DD-08FB-4207-9415-47741F4859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0B5EE-A119-4565-B398-6D970FD71A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B75AF-7296-43AB-BDB5-8F0C835B9F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32FDC-83A1-4154-89B0-2EA5557F23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D34-0BC0-4A70-8A5C-4A6EE69C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749FA-7C98-4BE8-A676-B6942CDF17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8138B-E133-4AB7-B48F-E54F31A78B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7EBEF-9010-41E8-93D4-0C6527D201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7A11B-ACBF-4069-9DBE-2B442B75BF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2295F-0E07-43BC-BA24-3B8F0BDD28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71982-872E-46A4-833C-3DCCB1461D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11E944-1F1F-49A7-BE6A-0364B61FB4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607FC-507F-4F75-B2AA-41A566ED60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508C90-A400-4835-BA43-B3FFD8ED89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C8E869-8A77-4FD5-8DF7-EA35F268EA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5A3-406D-4D09-A75B-7F9143E3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B8D73-7993-4156-B554-617993EE44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F6292C-0A77-4F83-A0D6-9D5B0EBC71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83E533-3FF5-4079-ABB1-7697F7F6E1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21D4C-0D4D-429C-94E0-54CD7B49E6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32D51-0214-44E9-A9EE-F9C6E04891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182FCF-DE9C-4263-B123-BBE335BFC5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58CD2-2B0B-48B4-BD4D-484DA7526A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71DE-5BFF-4001-B54C-1D5FBA9BD6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57E13-A242-43A5-988B-E9DFD94E15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EEE9-A10B-46AA-B33C-167B3A745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F95-8D9B-4586-87CE-72DAE0FB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3C80-AA14-4E74-8538-CD98F7F6E3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C334-0A57-42EE-BE37-D31B821487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2D6AB-DC53-4F82-95D9-5F92DF06A6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1137-94ED-4CDE-8579-50C8297A02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35B60-347E-4684-92B2-61792FAD80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970F-C99F-4384-9ABE-641CEE083B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33564-334D-4363-BC2E-6CDA6BF604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0582-66AC-4780-A553-5605B5DB39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F0A9-6F8C-4457-B0C4-90B9443F6B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F4145-7DA4-4790-B17A-7E6F6E655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C1F-47AC-4BEE-A081-003DD988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9A045-5E71-4D64-81DD-129701ED161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78CB0-6D6B-4C15-97B5-67D678E3ED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69EE0-232A-4806-8778-8ECD4BE60D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D2B97-D0BB-4180-AD24-A88C18BBC0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7E972-CE21-4D2E-B657-91763841361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F1716-D182-4EBA-8C46-0F106B96C3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544C4-E679-4BC8-9DF1-4C3116B58F4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67D4B-0DD1-42FA-B6CE-A1F9D9A18D3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C9AA0-51B3-4FBB-B273-F4BFC1F419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BB432-0FCB-4DC3-8FD8-D535C5731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51B-C2EF-4090-A049-BDC9C4C6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43CA4-2A84-427F-ABDF-EB74322C69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95F057-109A-4E6E-83EC-E51411032B3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1191C9-3893-4668-8827-0F2BC1DB4EA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3DEEF3-A2EC-4B84-B48B-C165B8CA021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2D66DA-2723-43F5-851A-B92C8CD07D4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1BA3AF-F477-4942-AF64-A7048F33BC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013A19-6C23-4A4D-A01C-DD6691D5049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81280A-2A46-4F87-96DC-972FDFAEC86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AF78F9-065B-45D2-B860-1DE7BC604A7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2F304F-5F81-428E-907C-94A12865B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845-6825-4C1B-9F02-75D51212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658E7-61FC-4572-89B6-3EA1142AF4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D44B72-13A3-4135-8CB3-802B67E425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8C238A-063C-4C6C-AC1A-137282EF8A8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563BB-8F41-4BDA-A8B3-E6B756A877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AB3D9-D6AF-44F9-92D7-DCE077B8316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A93E7-EB8F-4EFD-9C8A-307C06A4705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0395-681E-452F-8937-CC2585E5EA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E57C5-87A3-4CB3-9C93-DBD2AE2103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C5878-AEE0-42D1-8CCC-9BC891D8E29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4A651-5EF8-43FD-BBDB-7379EB0F7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8AE-A1CC-4E2A-83A1-696D01FC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3F83F-54C2-427C-BC6B-4DF7EED3826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A4530-7B07-4D8F-81C7-1964284F851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C4462-8830-4F9D-8616-62AB7DD164F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27741-3030-4289-8E53-D268C436658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0323B-9472-42B8-8CA9-FC9B817E60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E6E30-2637-47F9-88D1-2FFDB23362B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94C47-2476-4AEF-B89A-C0DC6C92304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A52A4-06AD-4524-927A-51B2C57294C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B9F74-62E4-4B6A-A4DF-44D28D86A26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01C17-2235-4C0E-922F-5429FFD89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F17-8069-4B61-8B29-4962173F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CAE0D-9638-4264-83F1-84D27B92DBE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C583E-F024-459F-B75F-6CB252171FA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33723-52D1-4C19-AF2F-F71D4F7327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1A861-57B2-4FB9-BD79-C0E41FD934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05A7C-6D00-4746-ADBF-B68F0CC1DA2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17A59-E200-4BD4-AF4A-16AE6063A9D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4D423-8288-418C-8DEA-1705C0B378D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1A57AD-0961-4E5F-9B02-38CE34A6C03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AF9806-E627-4075-B165-2EECEDA8B4D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EA027C-9985-40BE-95CE-CC525D0D5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E739-B3C1-421B-87DC-DD7B15CEF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7C0E-089B-4AA2-BF0C-E0C781AC8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C88A-6284-49B4-B6C2-BCA49E7D7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F90A-C8B6-4FE5-8538-EA3F23927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1CBC-C2E3-45B4-8820-A8E537960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3802-2E32-4C96-9EE3-46040F0F9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FC4A-6474-491A-9D87-71D903C8B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68544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DDC8-5853-4EF7-9087-D10AA6769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66D0-6B1E-4A1E-AF82-2AEC8A3A9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2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9CE8-B82E-42E5-8D35-44F6CCCA5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DB9C-5C20-49D1-A1FD-775C6E951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E238-77CA-4890-A4A1-D49CCD3AD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8"/>
          </p:nvPr>
        </p:nvSpPr>
        <p:spPr>
          <a:xfrm>
            <a:off x="6854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10 Cengage Learning. All Rights Reserved. May not be scanned, copied  or duplicated, or posted to a publicly accessible website, in whole or in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D8DA-DE01-4BDC-82B7-7B5A71EDA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niform_Commercial_Cod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gital.nexsitepublishing.com/i/91575/13?utm_source=Copy+of+CBNewswire+110112&amp;utm_campaign=CBNOct12DigitalIssue&amp;utm_medium=emai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Risk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go In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5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ortation Risks, Supply Chain Disruptions, Service Inconvenien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rt our health:  Safety Firs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rt our pocket book:  Rippl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d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ing and fores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up plans (“plan B”), continuity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ndancies (buffers and slac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ative efforts (maintenance, repai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rout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4-step approach in risk managemen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Identify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Ris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  Da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   Contamin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   Del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5.   Interrup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.   Security Brea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alyze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sses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Risk (probability * impa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itigate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Ris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a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   Re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nsf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    Reten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onitor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&amp; Review (procedures and syste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form Bill of Lading Terms and Conditions, Sec. 1(b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arrier shall be liable for any loss or damage to a shipment or for any delay caused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t of God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ublic enem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uthority of law;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t or default of shipper…” (incl. “a defect or vice in the property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 of Go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natural event, not preventable by any human agency, such as flood, storms, or lightning. Forces of nature that no one has control over, and therefore cannot be held accountabl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phrase denotes those accidents which arise from physical causes, and which cannot be prevente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der the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iform Commercial Cod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2-615, failure to deliver goods sold may be excused by an "act of God" if the absence of such act was a "basic assumption" of the contract, but has made the delivery commercially "impracticable"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Management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:  Determine the potential transportation disru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 and Assess:  Evaluate the likelihood and impact of each dis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:  Apply risk management and mitigation strategies (detailed action pl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:  Monitor and update the plan, identify new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loss or da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t lo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t damag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cid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ement wea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or handling, loading or secu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vironmental exposure (water, heat, fros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t contamin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y del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ly chain interru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urity brea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://support.wdc.com/warranty/images/rmapics/Image2.gif"/>
          <p:cNvPicPr/>
          <p:nvPr/>
        </p:nvPicPr>
        <p:blipFill>
          <a:blip r:embed="rId1"/>
          <a:stretch/>
        </p:blipFill>
        <p:spPr>
          <a:xfrm>
            <a:off x="5194440" y="380880"/>
            <a:ext cx="3254400" cy="243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http://deeperwants.com/ratboys_anvil_2/sinking.ship01.jpg"/>
          <p:cNvPicPr/>
          <p:nvPr/>
        </p:nvPicPr>
        <p:blipFill>
          <a:blip r:embed="rId2"/>
          <a:stretch/>
        </p:blipFill>
        <p:spPr>
          <a:xfrm>
            <a:off x="304920" y="609480"/>
            <a:ext cx="4933800" cy="26863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http://media3.washingtonpost.com/wp-dyn/content/photo/2007/10/26/PH2007102602232.jpg"/>
          <p:cNvPicPr/>
          <p:nvPr/>
        </p:nvPicPr>
        <p:blipFill>
          <a:blip r:embed="rId3"/>
          <a:stretch/>
        </p:blipFill>
        <p:spPr>
          <a:xfrm>
            <a:off x="838080" y="3733920"/>
            <a:ext cx="3983040" cy="2394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http://www.lcapp.com/images/CargoTheft.gif"/>
          <p:cNvPicPr/>
          <p:nvPr/>
        </p:nvPicPr>
        <p:blipFill>
          <a:blip r:embed="rId4"/>
          <a:stretch/>
        </p:blipFill>
        <p:spPr>
          <a:xfrm>
            <a:off x="5867280" y="2819520"/>
            <a:ext cx="2325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http://www.tjocargo.com/cargo_damage.jpg"/>
          <p:cNvPicPr/>
          <p:nvPr/>
        </p:nvPicPr>
        <p:blipFill>
          <a:blip r:embed="rId1"/>
          <a:stretch/>
        </p:blipFill>
        <p:spPr>
          <a:xfrm>
            <a:off x="457200" y="380880"/>
            <a:ext cx="3333600" cy="27813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http://www.knichellogistics.com/assets/damaged.jpg"/>
          <p:cNvPicPr/>
          <p:nvPr/>
        </p:nvPicPr>
        <p:blipFill>
          <a:blip r:embed="rId2"/>
          <a:stretch/>
        </p:blipFill>
        <p:spPr>
          <a:xfrm>
            <a:off x="4495680" y="457200"/>
            <a:ext cx="3581640" cy="2600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http://peakclaims.com/wp-content/uploads/2009/10/6.30.07-054-300x225.jpg"/>
          <p:cNvPicPr/>
          <p:nvPr/>
        </p:nvPicPr>
        <p:blipFill>
          <a:blip r:embed="rId3"/>
          <a:stretch/>
        </p:blipFill>
        <p:spPr>
          <a:xfrm>
            <a:off x="533520" y="3657600"/>
            <a:ext cx="3454200" cy="25909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http://t1.gstatic.com/images?q=tbn:T8KVHVZkkD4dhM:http://woodbridgemarine.com/images/barmbek020.jpg&amp;t=1"/>
          <p:cNvPicPr/>
          <p:nvPr/>
        </p:nvPicPr>
        <p:blipFill>
          <a:blip r:embed="rId4"/>
          <a:stretch/>
        </p:blipFill>
        <p:spPr>
          <a:xfrm>
            <a:off x="4724280" y="3657600"/>
            <a:ext cx="31244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http://resources1.news.com.au/images/2009/08/19/1225763/701277-west-gate-crash-sparks-traffic-chaos.jpg"/>
          <p:cNvPicPr/>
          <p:nvPr/>
        </p:nvPicPr>
        <p:blipFill>
          <a:blip r:embed="rId1"/>
          <a:stretch/>
        </p:blipFill>
        <p:spPr>
          <a:xfrm>
            <a:off x="380880" y="457200"/>
            <a:ext cx="3333960" cy="3638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http://www.champion-glass.net/images/FL_Hurricane.jpg"/>
          <p:cNvPicPr/>
          <p:nvPr/>
        </p:nvPicPr>
        <p:blipFill>
          <a:blip r:embed="rId2"/>
          <a:stretch/>
        </p:blipFill>
        <p:spPr>
          <a:xfrm>
            <a:off x="4114800" y="4572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http://www.guzer.com/pictures/sink_hole_truck.jpg"/>
          <p:cNvPicPr/>
          <p:nvPr/>
        </p:nvPicPr>
        <p:blipFill>
          <a:blip r:embed="rId3"/>
          <a:stretch/>
        </p:blipFill>
        <p:spPr>
          <a:xfrm>
            <a:off x="4191120" y="3657600"/>
            <a:ext cx="4286160" cy="2914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http://www.kenn.com/the_blog/wp-content/uploads/2010/02/labor_strike.jpg"/>
          <p:cNvPicPr/>
          <p:nvPr/>
        </p:nvPicPr>
        <p:blipFill>
          <a:blip r:embed="rId4"/>
          <a:stretch/>
        </p:blipFill>
        <p:spPr>
          <a:xfrm>
            <a:off x="838080" y="4191120"/>
            <a:ext cx="23814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ing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ility (likeliho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 (consequen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proximity (when will it occur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ative and quantitative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tr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itizing risks and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ting  subjective boundaries (how much is too much risk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Port of Tacoma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midterm ex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 about Friday jobs fair and Monday IKEA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 on chapter 9 material and supply chain risk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reduce risk (mitigation and risk managemen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contingency plans (backups, buff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continuity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ng a “learning organization” (thinking ahea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avoi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ing the risk (e.g. selling Ex. Works and/or buying cargo insur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E:\Tables\CH09\09-T01.jpg"/>
          <p:cNvPicPr/>
          <p:nvPr/>
        </p:nvPicPr>
        <p:blipFill>
          <a:blip r:embed="rId1"/>
          <a:stretch/>
        </p:blipFill>
        <p:spPr>
          <a:xfrm>
            <a:off x="96840" y="304920"/>
            <a:ext cx="87328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reductio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dging  (e.g. offsett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po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ffering  (safety buff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backups and alterna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ing alert and informed (good intel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ventative mainten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ining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per securing, la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urity systems, procedures, infra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y cargo insu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Trans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y insur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terms (Incoter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3PL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proper documentation of ever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led (calculated) risk may even be an “added value” activity (if assume risk and get paid to do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go In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andard carrier limits are insu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delivery term, can be bought by both shipper and consign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are blanket policies that cover shipments over a time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“all risks” and “warehouse to warehouse” policies (know what the policy covers; may have to buy rid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ary to insure at 110% of invoice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ly Chain Security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-terrorism meas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go insp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s and higher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ign trade affected in many 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and State safety &amp; environmental regul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new laws and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ed at reducing ri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initiatives are pric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2" descr="http://s1.hubimg.com/u/1119904_f496.jpg"/>
          <p:cNvPicPr/>
          <p:nvPr/>
        </p:nvPicPr>
        <p:blipFill>
          <a:blip r:embed="rId1"/>
          <a:stretch/>
        </p:blipFill>
        <p:spPr>
          <a:xfrm>
            <a:off x="1131840" y="1523880"/>
            <a:ext cx="6527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KEA presenters (open to online students, to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 on global transportation planning an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10-2 is d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 of Tacoma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go Business News Sto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igital.nexsitepublishing.com/i/91575/13?utm_source=Copy+of+CBNewswire+110112&amp;utm_campaign=CBNOct12DigitalIssue&amp;utm_medium=e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at of customers shifting p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s must be depend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cceptable delays at Port of Tacoma (“3 hours to pick an empty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ufficient infrastructure to handle the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756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t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score: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7.45  (C-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6.5 - 13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36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rt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648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"/>
          <p:cNvPicPr/>
          <p:nvPr/>
        </p:nvPicPr>
        <p:blipFill>
          <a:blip r:embed="rId2"/>
          <a:srcRect l="9333" t="41603" r="8000" b="9600"/>
          <a:stretch/>
        </p:blipFill>
        <p:spPr>
          <a:xfrm>
            <a:off x="241200" y="2057400"/>
            <a:ext cx="8674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3200400"/>
            <a:ext cx="9144000" cy="2133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19360" y="1066320"/>
            <a:ext cx="4267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Edition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yle, Novack, Gibson &amp; Bard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© 2011 Cengage Learning</a:t>
            </a:r>
            <a:br>
              <a:rPr sz="16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257440" y="335268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98989"/>
                </a:solidFill>
                <a:latin typeface="Calibri"/>
              </a:rPr>
              <a:t>Transportation 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1025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519360" cy="4572000"/>
          </a:xfrm>
          <a:prstGeom prst="rect">
            <a:avLst/>
          </a:prstGeom>
          <a:ln w="0">
            <a:noFill/>
          </a:ln>
        </p:spPr>
      </p:pic>
      <p:sp>
        <p:nvSpPr>
          <p:cNvPr id="545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3F6F-922D-4551-9358-204A42282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6"/>
          <p:cNvSpPr/>
          <p:nvPr/>
        </p:nvSpPr>
        <p:spPr>
          <a:xfrm>
            <a:off x="3049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or duplicated, or posted to a publicly accessible website, in whole or in par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Risk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kinds of risks are we talking abou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Primary root caus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gestion, traffic mishaps, acci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ath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d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-made disruptions (crime, terroris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ects in quality (product and/or packag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Consequences (effects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ju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al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cial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st s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eers destroy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f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01045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D68B-2957-4E4E-B0C1-C2C6EE50E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risk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def: the chance of something going wr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ources of transport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-related disrup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or-related un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failures or network cong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racy, pilferage, terror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ministrative mista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 trade policy disp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Footer Placeholder 5"/>
          <p:cNvSpPr/>
          <p:nvPr/>
        </p:nvSpPr>
        <p:spPr>
          <a:xfrm>
            <a:off x="6858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1 Cengage Learning. All Rights Reserved. May not be scanned, cop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7:30:47Z</dcterms:created>
  <dc:creator>Andreas</dc:creator>
  <dc:description/>
  <dc:language>en-US</dc:language>
  <cp:lastModifiedBy>vista, setup</cp:lastModifiedBy>
  <dcterms:modified xsi:type="dcterms:W3CDTF">2012-11-06T03:06:43Z</dcterms:modified>
  <cp:revision>17</cp:revision>
  <dc:subject/>
  <dc:title>Freight &amp; Shipment Management Outsourcing Transportation Risk Management</dc:title>
</cp:coreProperties>
</file>