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5E49-61E9-41B0-95A3-1C27FF97F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C8F3-330C-4077-8B22-1DF710007C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08DE-D717-429E-890D-7E6915A886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BF19-ABB0-4799-80BC-8A95F9679D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5224-E94D-4850-BF02-2B78D079BA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93C7-EE15-4D94-A1EB-089A27F458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0AFE-D690-4BC1-B517-95CEEA25A5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7275-3265-4FAC-9B56-F48DB0A3A4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5590-EF62-4D10-B549-2151B65DCA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AB72-628F-4237-BD85-52F27D6E97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023A-BD22-43CE-A19D-21FD179D19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395A-6782-42F1-8040-D900C7CAA9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1B5E-167C-418D-A0BA-81C8160CB5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B880-EA3D-4A6B-9EFD-9B7D42E120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5428-DEE8-469D-BD7C-C845837BA4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1D91-E187-453E-AA32-343004BF63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B2EF-A696-49EC-8BFB-3BE9FAE264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1A9C-F161-432D-B521-79D643BE06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BCB7-B60E-4355-9E9E-AE9D539D94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C36C-AFAD-4463-93F3-19FB66226F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7D60-3A76-4BFD-93FD-3DA5290CA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E53D-E240-447F-A5D8-E39E64179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5F6C-B049-49EA-990A-ECE813BA3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648D-68F5-44EB-B462-26E5594D8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15FF-0E67-4C0E-8F45-677E0395C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8E4E-50E0-4E3E-AA26-58CC2C67B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DC49-E1F5-447C-8DFF-7B55E7C68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EFE51-E376-46D6-B255-A06A9FDAA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3D02-F6FA-4FE1-8D22-99086F485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F76A-844E-4255-B3DD-8660B94A4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4FD6-97B3-45F3-A62B-5CB2B77AA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6F54-CBF8-4B9F-8BA0-DE9DC76FC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1045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400440"/>
            <a:ext cx="5638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161D-F064-4809-A334-7FAFB5DCE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3200400"/>
            <a:ext cx="9144000" cy="2133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360" y="1066320"/>
            <a:ext cx="4267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ansportati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xth Edition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yle, Bardi, &amp; Novac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© 2006 Thomson</a:t>
            </a:r>
            <a:br>
              <a:rPr sz="1800"/>
            </a:br>
            <a:br>
              <a:rPr sz="1800"/>
            </a:b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57440" y="335268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modal and Special Carr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990720" y="1523880"/>
          <a:ext cx="3243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3243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A2DE-8E32-445C-A86A-35B4FFAB4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1076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ir Freight Forwar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up/delivery, consolid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airlines for line hau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high value, time-sensitive g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s, spare parts, medical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efi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, door-to-door, single carrier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 bill of lading, tracing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advantage – cost of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816B-67B2-4350-AFC5-7D1226E2C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11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eight Brok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man”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e defined by U.S. Code, Title 4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some functions of shippers, truck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represent shipper or car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provide intermodal, logistical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difference from forwa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issue a bills of l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maintain cargo liability ins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6EC9-2BD7-4C6E-9A62-11E0DCB33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ippers’ Associa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profit, cooperative consolidators or distributors for member fir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much like surface forwarders and brokers, but only for me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tise useful to small and medium size shipp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FCAD-F901-4AAF-8C16-C2D67D226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modal Marketing Compan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s that broker intermodal transportation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 little legal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 shipping arrangement remains between shipper and carrier providing line hau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le shipper’s payment to carrier - shippers must be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efits railroads - finds intermodal l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efits shippers - lower transport r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7D51-81D1-4D18-A7EA-267659328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wner Operators, Drayage Carri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wner-operators (motor carri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 applied to person owning truck and possibly trai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 versus evolving r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yage carrier (motor carri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pickup/delivery services in metro areas, to/from piggyback ramps and port termi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ical to intermodal container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re owner op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D9CB-46D8-4D41-BF03-4F8AFCAE6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ress and Expedited Servi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ices appeal to demand for cycle time, uncertainty, and inventory reduction in the supply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ice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reliable (time-definite servi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degree of shipment status vi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small ship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B897-7558-48FA-B433-E1BD9A665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ress and Expedited Servi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s: Largest services util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 of air and motor for line ha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etwork of terminals, pickup/delivery vehi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s expa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r shipment s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ge of transit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CD82-0E4A-4012-A3B2-6A0221B7D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usehold Goods Industr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or carriers (van lines) specializing in movement of household g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y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iances of entities (segments) sharing single external identity and communications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ral franchise fi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 a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-the-road veh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wner-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F20F-4E59-4FD2-9806-30BC00302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usehold Goods Industry, cont’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pment proc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 agent visits shipment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 agent estimates weight and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pper signs order for service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ing may be included as extra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n is loaded, transit to destination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ges: actual weight + special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nue distribution: 10/50/25/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97C5-B4DE-4BF6-8A9E-F9F386790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usehold Goods Industry, cont’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sses of mov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ation of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pper (individual) has little influence or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seasonal bu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y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ED8F-DA9E-4A3C-8BF9-B22A4493B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apter 7 Topic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2014200"/>
            <a:ext cx="647712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ment of Special Carr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modal 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-Party 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rrier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usehold Goods 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A367-2DE4-4D9C-8828-A2D796ABD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velopment of Special Carrier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rr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transport-related services that complement line haul services of basic m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 modes would not provide such services or would provide them at high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rvic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olidation of small shi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k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stics-related ser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49BD-130F-4E56-A7EA-E43D70007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rmodal Transportati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finition and Backgroun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two or more modes to provide complete, door-to-door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com McLean and containe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izes advantages and minimizes disadvantages of modes employ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ors in growth: deregulation, globalization, truck operating cos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540A-6BF6-48C5-B3F8-10CCB50A2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rmodal Transportation, cont’d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ggyback – combines rail and mo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or provides accessibility, rail provides lower line haul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ler on Flatcar (TOF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 on Flatcar (COF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ov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adRai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-stack Train (D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1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E58A-9920-43E2-918F-364E0715B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E:\0-324-20214-8\Figures\Caption Callouts\07ch02148bmp\Fig07-01.bmp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6D45-7431-4059-B943-D0A857C8B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rmodal Transportation, cont’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e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es operating efficienc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handling, less damage, reduced pilf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international shipping utilizing ocean, rail and motor transpor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 ft. (TEU) and 40 ft. (FEU) lengths most common s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EECD-BC72-44B4-B89E-E629A1FB5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rd-Party Transporta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 of outsourcing tr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core compet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reduction of as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cost, higher service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third-party prov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, information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t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value-adding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4008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yle/Bardi/Novack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e © 2006 Thom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5A77-2CAE-4137-BB75-E625A107D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ecial Carrier Form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Forwar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 as both shipper and carr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e defined by U.S. Code, Title 4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ly: consolidator, pickup/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ight Forwarder Act of 198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on intermodal and truckload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or carrier primary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er issues single bill of l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s liability for loss, maintains ins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04:34Z</dcterms:created>
  <dc:creator>Dr. Gary Gittings</dc:creator>
  <dc:description/>
  <dc:language>en-US</dc:language>
  <cp:lastModifiedBy>Andreas</cp:lastModifiedBy>
  <dcterms:modified xsi:type="dcterms:W3CDTF">2010-09-20T18:13:51Z</dcterms:modified>
  <cp:revision>33</cp:revision>
  <dc:subject/>
  <dc:title>Transportation  Sixth Edition    Coyle, Bardi, &amp; Novack  © 2006 Thomson</dc:title>
</cp:coreProperties>
</file>