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08080" y="698040"/>
            <a:ext cx="464184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210-FCFA-4204-8D84-65320108E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33C-059D-41DB-A964-630111ED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A50D-647F-4861-A7E5-0C1E0E2B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289-931A-48FE-B48C-DE0CE4B0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98F7-26A0-4221-B1D4-36C6B464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873-7063-4283-9D9E-1C04D016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E5A1-83D8-4725-8BCB-620825E16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7988-90FE-4BA8-93B6-DD9C14FA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9C8-3090-4473-AEE8-02C01A66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50B-BCA6-42E2-A367-14953256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C643-7E66-44AB-8BED-F168D424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387D-991F-4F4C-8475-8B62B624E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6153-A808-4C9C-B07B-15EE0668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62B5-BEA3-4369-B92A-CF0488E5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1428-4D01-4639-8F4B-39E3EF71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34E4-BCAF-4691-A1A0-3EBDBC24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D9C-7E64-4CCC-9979-DD1A57725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e  a fuel-efficient fleet – increased aerodynamics, vehicle weight reductions, improved engine and transmission designs, improved rolling efficiency of tires, more efficient access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regular preventive fleet maintenance and inspections – tire pressure checks important for fuel economy, safe vehicle handling and long tire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driver training on fuel efficient driving technique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unnecessary idling of delivery vehicles – turn engines off during pick-ups and deliveries; avoid running engies for heating and cooling – use separate cab he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 policies to reduce maximum vehicle speed -  or program engines not to exceed certain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B45-EC95-4EB7-93A3-FB5D8E1F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% of transport worldwide is fuelled by oil – rising oil prices and public policies aimed at reducing fuel emissions are strong incentives to explore other op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to more fuel-efficient modes of transportation – from truck to rail, from rail to 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lternative energy if possible – biodiesel, ethanol, hybrid electric vehicles, battery-electric, prop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738A-20D3-4F78-B277-B869BD55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oad factor – the percentage of capacity of a truck or container that is used is a factor affecting sustainable management of freight transport.  A ¼ full-truck uses 2 and ½ times as much fuel per ton-mile as a ¾ full truck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void unnecessary packaging – specify this from suppliers, use standardized and modularized packaging to allow more efficient lo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e load-planning software – to optimize loading in terms of weight, dimension, safety and legal variables – can eventake hazmat requirments into consid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e route planning software – to reduce total transport distan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aximize bi-directional load by using common carriers instead of private fleet, backhausl, Internet-based loading serv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chedule delivery times to avoid conges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ork with local suppliers to reduce inbound transport distances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fluence suppliers modes, loading and routes for inbound materials to gain full benefit of sustainable 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8E1-2B78-47B2-B1BE-8843A612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09CE-C81A-48C4-8E09-0B082B33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5BF-6189-420F-8B86-B3167C65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FE3-4D45-4F57-A0B7-271D67C5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BCAB-3F54-4E0D-BF08-D1DDA153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Trucking G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0, some 173 billion ton-miles of commercial intercity freight traveled by truck. (A ton-mile is one ton carried one mile.) As the interstate system grew, commercial freight by truck more than tripled to 555 billion ton-miles in 1980. Easing of federal restrictions on trucking prices and routes came in the 1980s, and commercial truck freight grew to nearly 650 billion ton-miles by 198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3F0-ACA3-47B8-951E-1BD5108E8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595-3E0C-41F2-854D-450C1575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15A2-A5D1-4286-9AB6-2AAA875BE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311-9AA3-4FE6-BFAD-0C72B174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D664-1266-4074-9CFA-8A1F86E98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CFC-5829-4781-A35A-C2D9493B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48C-4D86-4341-BD88-8B45DF5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969-2D0B-4057-AFAA-FB9891D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DC7A3-334E-491C-90E9-3399BB89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0063F-9FB7-411A-AF4C-B9BE9224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D3B2-74A3-44C9-8AEA-8ABECD1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2F9DD-CE67-4F22-B7A1-68B2510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0C00-2CD4-41DA-BD7C-FE4E29C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45A60-9BEB-4E51-B068-95C6173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C04FF-4680-40F3-B47E-D1308F9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0509B-0293-4F77-BAF1-8E31B89B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7813B-A7CB-45E3-BD76-89A3DD9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C6D7B-8A7E-48E9-8F13-8DC2D9E1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C7A-29EF-4197-BCDD-B9EF55E7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0551-75CF-4AA0-AE70-8EC5A98B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3D9D-7480-42B7-9522-406B5696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8CDC-F231-41C9-811C-E29833F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AB65D-3088-4E1B-843E-33C90FA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90F3-A0B6-4551-873F-8A29AC10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2517F-C8D6-4A6B-B450-0B136F4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7E4D9-9539-46F4-8FC0-2782FCF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F0856-1E48-4394-92A8-A85968E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9A771-9C3A-4BB4-9B7E-C5D8A468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4C7E2-C7BB-4CCA-9262-87B53B29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12F-2B97-4C76-A91F-D3FEB8DD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260C-A58B-436A-843D-428D0FD6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FDA39-CBC9-40A6-AFD3-6F9E59C8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F3EA0-6910-4B8E-9E0A-80E218E9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9731-9B96-4E61-9873-BFC18BD2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B7FB4-A41E-47EB-B99D-1A33A9B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061C-2687-4D30-BF02-4ADA6F9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E079-7F05-4EE4-B7CF-D835ACC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FBADC-D49D-4908-B502-086BB067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4091-51A0-4F49-9CEF-9318AF4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0E8B9-59CF-4C8B-B6B6-8976C4B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66F7-0559-4A9C-B620-80B3DA1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DF639-2E70-4EF1-A0F8-D2AD3441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EB04-6C14-45E0-8511-408AB6FF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DBC4-E5AE-43D7-822B-8B3F1BD9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CF389-699D-4894-BB83-3318E5C2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3ABC2-1A34-4ACD-989A-25ACB4B7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FBADE-CE6A-4001-9187-E43C087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0443B-0990-4814-8953-AA48BF6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928D3-723A-482B-99B1-C42C49ED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36614-E75A-4BFC-B143-F27A239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61104-04CA-4102-8E0C-94E9BBB8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798-C850-4C1F-B3C2-A6226E4A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5D76-8C06-487A-A031-C126D95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E9578-7DCC-496E-9CF1-A9722DB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50D12-6089-40EF-BC79-4E3FD0B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7D87-6D56-4583-AB8A-7FE71996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7E218-A40D-4D2C-AC6C-56D4B3AF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CB03-51A3-41AF-BEEC-25C9198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9773-490D-4396-A616-345815B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B607-7F08-47F3-AC59-468F9441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3CAF-CA1E-4E26-9E77-3E3B101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AEF6-43A5-418A-B0C6-D06E05D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1A3-DF23-4F43-81BB-24DFB6E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101D-AD14-4AC1-A6C6-6E7FF23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5B0A-807F-4A9A-A3C4-63CFB29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98F-DF16-437C-BF37-B793C489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FE4B-B170-441B-9CFF-406D7665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8BA-6002-4A7C-ABA2-90E85C30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7756-F47F-4AEA-B96D-DCE3C97C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1147-C4F8-4333-849D-7B3BC80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6B1C-D343-4ABF-8F61-6351993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088C-FB23-4302-A602-9D63A33C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6F80-399C-48F8-8395-5B82D49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D17-7AE6-4132-806D-801634A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050D-70DF-4310-A354-DFF0D252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3F7F-5393-478F-BCB4-93D6D25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90EC-57C4-49E8-892D-B5C99DD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0C15-FF47-442A-9A8C-43975EF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AD61-DA53-402C-BDF4-5321BA2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BC13-CCE1-4675-9024-855C7A08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AF43-A92D-4118-AFA8-42056318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6371-11E0-42CB-B513-D261A6B7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BB66-32BA-4D3A-9838-C797E1A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1286-1548-4B60-8229-85DF6806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8C9-D482-4FC9-8576-EB25198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8564-2A12-4AF1-A5A1-86D0FDB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F3E12-323A-4005-864A-C15FD47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D7A3-6654-4D43-8767-920A4DEF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B07B-47E6-44B7-A7F2-CD82761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9765-BD91-413D-BAEB-A930095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CBBC-6578-4C4D-A56E-A2D368B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5963-BE78-428D-86D8-0803D36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2BAC-D5A1-4776-AD0D-E2DD06E8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998C-60EC-4EA3-86D4-1E9E0C97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7A83-8C52-431C-B738-05EEC459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CEB-144E-4189-8711-8F52CE3C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A86BD-8556-40B0-9FC2-996AB6A3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20F0-2843-44FD-B2BB-4E2B087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CF69C-A060-40F4-B3B3-117E043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08527-2613-4679-ABF2-DF6F1BD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F516-17E6-40E5-B4EC-C9697AD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F68D-EE29-440F-8703-0B68BD66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EDBAC-C499-4FC7-A5BA-C5868EA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66C6-76DF-4AC7-9F0D-43EA0B7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9CAB-5433-44C4-AB99-01F221C0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2C4E-058D-4F41-B9CF-076496DB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C11-997F-4F32-B218-E525ABC3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CAE7-F4E7-4FB2-936A-DBA32B5B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B8831-045F-45DF-9E68-7AA0EEB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E080-74BE-4AB8-9D62-1096429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5CD2-83A7-47A4-AFE2-DAB7CDA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75E2-9471-4199-8B1A-2F7CE7DE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82332-F80B-4A79-B0B4-7162B87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A177-E2FF-4FA0-A936-73C266C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E45D-F72B-483E-BAF8-D69A5FE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A3F06-75F9-462A-ACEA-7FBBDBD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40D4-6158-41E1-846D-4266570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ED3-334F-44A5-8509-DB9C99B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ECB27-3200-48C0-AE46-F1B67647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DFFF-87BE-4982-82D8-6CF9EF7D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EA6E-1608-40A8-A927-4743D896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1C23-A5EC-4473-9221-F743D960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0E98-6B1F-4810-B76F-5232493D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2691-DC8D-49C4-99A0-218EAAC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51D64-29D4-4F55-B809-523ABEAE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E66D-0A6F-4B64-8C95-73C36DC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A7A3-2132-4838-9B7B-99C2B6D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3EACA-1BB8-42A4-B53F-D6AAEAD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DAB-4D86-42FC-A758-07B59E5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81F2-2BB1-4A16-8AC3-DB4217B1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4393-057F-4A01-8D0A-39AA383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37EB-D3DB-4B11-802D-A26D65A9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8FB6-20D0-49D7-BCB2-76FDB251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BF1F-84D8-449E-AE60-72CC2ED1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F964-6461-4C5B-BA94-05394637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503F-F0E2-48D2-BBCA-AAC4116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6110A-6004-4658-AF52-1792A80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33C1-DF53-49B7-81CA-E72825E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A6954-0305-456D-8772-F5A33DFF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219-28E4-4957-BD5E-29B2E486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79B9-2F44-4F67-81D6-554F907A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C660-6956-4961-8DFC-DFBB674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BE539-78BF-4741-837B-7F898C9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12510-FAC2-4A16-BDDE-25094AC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380F-C52F-4B2D-B069-DA5BEF80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E4FD-2B87-4E6D-BA8E-1175B3B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1DBC-21AC-4212-AF56-F1E8C28A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F3F6A-6B34-4B03-93B7-1A9A1390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CE613-1507-4F9D-A462-70FC3F5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79DC8-0D48-4A5C-A556-2057B55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105-BC1F-4F18-9F70-30EA459BC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8F8A-13DC-44C1-ACF3-5A6E67DA0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24EE-ACF2-4CF5-AC28-05398A339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D47-D7D2-4A98-B1FC-933D353EA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ADD5-20B3-4B5F-A8C5-373610FBE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93E2-5492-4282-913B-B07BD2384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4A7-683D-4C79-9F91-B6D436F02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F304-82ED-4DFB-A2CE-FEA659944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2E7-4240-4F81-93D9-871100B33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58B-D102-4819-BA97-2CCD921A8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812-7D19-489D-8B54-6CA988BD6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5BD9-1A6E-4966-AC3A-9C4065965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mcsa.dot.gov/safety-security/eta/ETA-Oct-08-lowRes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cal.yahoo.com/results?stx=motor+carriers&amp;csz=Seattle,+W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otor Carrier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Transportation and Distrib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LOG 1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6" descr="Picture1.png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ustry Overview, cont’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umber of Carri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772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number of relatively small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with 6 or fewer veh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s vary significantly by 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large number of TL c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capital requirements for entry into 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smaller number of LTL c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capital requirements for LTL due to terminal network and pick-up and delivery fle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nation of LTL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llow dominates national LTL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6EE-F884-4B80-8079-4F8BE1AE4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ckin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57200" y="1143000"/>
          <a:ext cx="8229600" cy="482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trucking fi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fi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riger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k Carr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ng/Household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vy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-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 - medium-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-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reight – L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k materials – non-t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-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medium-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-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1" name="TextBox 4"/>
          <p:cNvSpPr/>
          <p:nvPr/>
        </p:nvSpPr>
        <p:spPr>
          <a:xfrm>
            <a:off x="228600" y="61722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TOR CARRIER INDUSTRY PROFILE: STRUCTURE, OPERATIONS, AND FINANCIAL PERFORMANCE OF MAJOR SEGMENTS, May 2000, Prepared for the Federal Highway Administration, Federal Motor Carrier Safety Administration,U.S. Department of Transportation,Washington, D.C.,DTFH61-98-X-0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ers highest Accessibility of any mo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n serve virtually any 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 constrained by waterways, rail tracks, or airport lo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most every shipping &amp; receiving location is accessible via highw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loads traveling less than 500 miles, usually can deliver in less time than any other m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n over 500 miles, can be, in the right situation, faster than a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shipment traveling 600 mi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ck = 12 hours (600 miles @ 50 mp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r could take up to 24 h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light time = 1 ½ hou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 hours needed for pickup and another 3 for delive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only 1 flight per day is scheduled, shipment might have to wait 24 hours before it lifts of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go-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smaller than many other modes, shippers can enjoy the TL rate (volume discount) with a lower volu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TL minimums set at 20,000 – 30,000 l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il carload minimums are often set at 40,000 – 60,000 l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rge (water) minimums are set in terms of hundreds of 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shipping size provides buyers and sellers wi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inventory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r inventory-carry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frequent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Service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othness of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suspension system and pneumatic tires used on trucks, motor carriers offer smoother rides than rail 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less damage to the cargo (though some does occ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damage results in reduced packaging requirements and thus packag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it’s very nature, the industry tends to be more customer- or marketing-ori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in large part to the small size of most carriers must offer higher service to comp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BF4-0DB8-45EA-AA98-AA15661BD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" descr="E:\0-324-20214-8\Figures\Caption Callouts\03ch02148bmp\Fig03-04.bmp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-hi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s services to the public &amp; charges a fee for the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 vs. Intercity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arriers pick up &amp; deliver freight within the commercial zone of a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ity carriers operate between specifically defined commercial z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often work in con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vate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s a service to the industry or a company that owns or leases the vehicles, but does not charge a f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mpt Carri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ecifically exempt from economic 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ins this status 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of commodity hauled (I.e., agricultural commodi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of its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 factors influence transportation mode selec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nsportation co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ntory carrying co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eed/In-transit ti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livery reli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er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b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mod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mical com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s selection matches the requirements of the shipment with the characteristics of the transportation 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 logistics costs while satisfying due date requirements of the shi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74C3-0FCF-47E5-880C-86818F5F5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Carri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to serve the general public upon demand, at reasonable rates, &amp; without discri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act Carri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specific shippers with whom the carriers have a continuing con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us, typically not available for publ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ckload (TL)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ervice to shippers who tender sufficient volume to meet the minimum weights required for a full truckload shipment and TL rate (or who will pay the required amou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-than-Truckload (LTL)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ervice to shippers who tender shipments lower than minimum truckload quantities, such as 50 to 10,000 l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olidate numerous smaller shipments into TL quantities for Intercity 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ggregate TL shipments at destination for delivery in smaller quant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Issues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1760" y="15235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safety - improved prof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MCSA rules for motor carrier safety fitness insp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ings affect shipper selec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tance abuse programs and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urs-of-service and driver fati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hicle size and weight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326-766E-493A-B164-3A0242469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s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377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Impact of satellit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PS systems for vehicle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board computers for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ement of environment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5DA1-83DA-4F86-84EA-04F6E0F926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s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0" name="TextBox 4"/>
          <p:cNvSpPr/>
          <p:nvPr/>
        </p:nvSpPr>
        <p:spPr>
          <a:xfrm>
            <a:off x="533520" y="1219320"/>
            <a:ext cx="3886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 lifecycle performance of delivery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 a fuel-efficient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regular preventive fleet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driver training on fuel efficient driv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unnecessary idling of delivery 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policies to reduce maximum vehic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Multiply 5"/>
          <p:cNvSpPr/>
          <p:nvPr/>
        </p:nvSpPr>
        <p:spPr>
          <a:xfrm>
            <a:off x="5334120" y="167652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Multiply 6"/>
          <p:cNvSpPr/>
          <p:nvPr/>
        </p:nvSpPr>
        <p:spPr>
          <a:xfrm>
            <a:off x="5334120" y="22860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Multiply 7"/>
          <p:cNvSpPr/>
          <p:nvPr/>
        </p:nvSpPr>
        <p:spPr>
          <a:xfrm>
            <a:off x="5334120" y="2895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Multiply 8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Multiply 9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Multiply 10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1523880" y="4572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s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9" name="TextBox 4"/>
          <p:cNvSpPr/>
          <p:nvPr/>
        </p:nvSpPr>
        <p:spPr>
          <a:xfrm>
            <a:off x="533520" y="14479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ift to modes or equipment that use less fossil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to more fuel-efficient modes of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lternative energy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Multiply 5"/>
          <p:cNvSpPr/>
          <p:nvPr/>
        </p:nvSpPr>
        <p:spPr>
          <a:xfrm>
            <a:off x="5334120" y="50292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Multiply 6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Multiply 7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Multiply 8"/>
          <p:cNvSpPr/>
          <p:nvPr/>
        </p:nvSpPr>
        <p:spPr>
          <a:xfrm>
            <a:off x="5334120" y="1752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Multiply 9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98108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5257800" y="990720"/>
          <a:ext cx="3048120" cy="5155920"/>
        </p:xfrm>
        <a:graphic>
          <a:graphicData uri="http://schemas.openxmlformats.org/drawingml/2006/table">
            <a:tbl>
              <a:tblPr/>
              <a:tblGrid>
                <a:gridCol w="457200"/>
                <a:gridCol w="25909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ary Areas of Bene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enue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ustomer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sset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ssion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Environmental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impact Reduction (noie, congestion,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7" name="TextBox 4"/>
          <p:cNvSpPr/>
          <p:nvPr/>
        </p:nvSpPr>
        <p:spPr>
          <a:xfrm>
            <a:off x="609480" y="1143000"/>
            <a:ext cx="388620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 transportation loads and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unnecessary 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oad-plann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 bi-directional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oute planning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livery times to avoid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local suppliers to reduce transport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suppliers modes, loading and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Multiply 6"/>
          <p:cNvSpPr/>
          <p:nvPr/>
        </p:nvSpPr>
        <p:spPr>
          <a:xfrm>
            <a:off x="5334120" y="167652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Multiply 7"/>
          <p:cNvSpPr/>
          <p:nvPr/>
        </p:nvSpPr>
        <p:spPr>
          <a:xfrm>
            <a:off x="5334120" y="22860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Multiply 8"/>
          <p:cNvSpPr/>
          <p:nvPr/>
        </p:nvSpPr>
        <p:spPr>
          <a:xfrm>
            <a:off x="5334120" y="28954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Multiply 9"/>
          <p:cNvSpPr/>
          <p:nvPr/>
        </p:nvSpPr>
        <p:spPr>
          <a:xfrm>
            <a:off x="5334120" y="4114800"/>
            <a:ext cx="304560" cy="38088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0880"/>
              <a:gd name="textAreaBottom" fmla="*/ 311760 h 38088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Multiply 10"/>
          <p:cNvSpPr/>
          <p:nvPr/>
        </p:nvSpPr>
        <p:spPr>
          <a:xfrm>
            <a:off x="5334120" y="4495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Multiply 11"/>
          <p:cNvSpPr/>
          <p:nvPr/>
        </p:nvSpPr>
        <p:spPr>
          <a:xfrm>
            <a:off x="5334120" y="49528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Multiply 12"/>
          <p:cNvSpPr/>
          <p:nvPr/>
        </p:nvSpPr>
        <p:spPr>
          <a:xfrm>
            <a:off x="5334120" y="5638680"/>
            <a:ext cx="304560" cy="381240"/>
          </a:xfrm>
          <a:custGeom>
            <a:avLst/>
            <a:gdLst>
              <a:gd name="textAreaLeft" fmla="*/ 45000 w 304560"/>
              <a:gd name="textAreaRight" fmla="*/ 259560 w 304560"/>
              <a:gd name="textAreaTop" fmla="*/ 69120 h 381240"/>
              <a:gd name="textAreaBottom" fmla="*/ 312120 h 381240"/>
            </a:gdLst>
            <a:ahLst/>
            <a:rect l="textAreaLeft" t="textAreaTop" r="textAreaRight" b="textAreaBottom"/>
            <a:pathLst>
              <a:path w="304800" h="381000">
                <a:moveTo>
                  <a:pt x="45216" y="113899"/>
                </a:moveTo>
                <a:lnTo>
                  <a:pt x="101195" y="69115"/>
                </a:lnTo>
                <a:lnTo>
                  <a:pt x="152400" y="133121"/>
                </a:lnTo>
                <a:lnTo>
                  <a:pt x="203605" y="69115"/>
                </a:lnTo>
                <a:lnTo>
                  <a:pt x="259584" y="113899"/>
                </a:lnTo>
                <a:lnTo>
                  <a:pt x="198303" y="190500"/>
                </a:lnTo>
                <a:lnTo>
                  <a:pt x="259584" y="267101"/>
                </a:lnTo>
                <a:lnTo>
                  <a:pt x="203605" y="311885"/>
                </a:lnTo>
                <a:lnTo>
                  <a:pt x="152400" y="247879"/>
                </a:lnTo>
                <a:lnTo>
                  <a:pt x="101195" y="311885"/>
                </a:lnTo>
                <a:lnTo>
                  <a:pt x="45216" y="267101"/>
                </a:lnTo>
                <a:lnTo>
                  <a:pt x="106497" y="1905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1752480" y="3049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le Logistics Practice -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Issues,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62120" y="11426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s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arriers have high operating ratios, exceeding 9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inancial failures following de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e slowed in 199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345 failures in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gers and consolid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capacity is a recurring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price discounting and financial pres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evaluation: carrier selection f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836A-8C8E-42C2-9B0F-F72E738B4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s for 29% of total costs per vehicle 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bsorb about 50% of a carrier’s revenu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annual wage (1997) was $37,0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hourly compensation was $12.8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over-the-road driver paid 32.5 cents per 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drivers paid by the h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ing Time Regulations (USDO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hours on-duty after 8 hours off-du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hours driving after 8 hours off-du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accumulate more than 60 hours on-duty in 7 consecutive days, or 70 in 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0% increase in diesel fuel prices from 1976 to 19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76: 11.6 cents/mile (19.8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85: 24.6 cents/mile (21.1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5: 19.2 cents/mile (14.7% of total cost/m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el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reason for growth in fuel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carrier industry paid $23.8 billion in federal and state highway user taxes in 19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eral Fuel Tax is 24.3 cents per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s tack on anywhere from 2 cents to 24.5 cents per gal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total tax on a gallon can be as high as 48.8 cents (out of average total cost of $1.10/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ief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role in 20th C. U.S.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emerged at time of WW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nce on interstate hig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ck-rail competition after WW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essive dominance of tru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D37-2552-4447-A9BE-6310A5318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city Trucking Ton-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yle/Bardi/Novack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Transportation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6e © 2006 Thom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826B-A060-4883-8DBC-F2A0A7270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U.S. Intercity Commercial Freight chart"/>
          <p:cNvPicPr/>
          <p:nvPr/>
        </p:nvPicPr>
        <p:blipFill>
          <a:blip r:embed="rId1"/>
          <a:stretch/>
        </p:blipFill>
        <p:spPr>
          <a:xfrm>
            <a:off x="2209680" y="2057400"/>
            <a:ext cx="457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.S. Business Logistics Costs, 20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rrying Costs $1.444 Trillion all business invento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lions of Doll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es, Obsolescence, Depreciation, Insur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eho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portation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 Carri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ck – Inter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ck – Loc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Carri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Pipelin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e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pper Related Cos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ogistics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Logistics Co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A5C-DB62-4E76-87EA-B1F6874FF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5"/>
          <p:cNvSpPr/>
          <p:nvPr/>
        </p:nvSpPr>
        <p:spPr>
          <a:xfrm>
            <a:off x="1752480" y="6172200"/>
            <a:ext cx="50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 United States Department of Transportation - Federal Highway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Content Placeholder 5" descr="Transportation components.gif"/>
          <p:cNvPicPr/>
          <p:nvPr/>
        </p:nvPicPr>
        <p:blipFill>
          <a:blip r:embed="rId1"/>
          <a:stretch/>
        </p:blipFill>
        <p:spPr>
          <a:xfrm>
            <a:off x="1143000" y="1295280"/>
            <a:ext cx="6745320" cy="389124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323C-A8B7-4247-8898-4DAA04FD5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1981080" y="6095880"/>
            <a:ext cx="50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 United States Department of Transportation - Federal Highway Adminis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th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4 million jobs in 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verage compensation = $ 37,03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ucks logged 353 billion miles for business purposes (does NOT include government and far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 paid over $120 billion for highway transportation (1998) – 86% of the nation’s total freight bi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 of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5,677 interstate motor carriers were on file with the Office of Motor Carriers i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% operate with 6 or fewer tru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include private fle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ocal.yahoo.com/results?stx=motor+carriers&amp;csz=Seattle%2C+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 Distribution of Motor C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04:34Z</dcterms:created>
  <dc:creator>Dr. Gary Gittings</dc:creator>
  <dc:description/>
  <dc:language>en-US</dc:language>
  <cp:lastModifiedBy>Andreas</cp:lastModifiedBy>
  <dcterms:modified xsi:type="dcterms:W3CDTF">2010-09-08T20:28:06Z</dcterms:modified>
  <cp:revision>77</cp:revision>
  <dc:subject/>
  <dc:title>No Slide Title</dc:title>
</cp:coreProperties>
</file>