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1B35-9CBF-4DD4-920C-5EA8BFA7B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BC66-1362-415B-88E6-F17C405338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4440" y="687240"/>
            <a:ext cx="4569120" cy="342612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0F0F-6C49-4412-9FAD-E06B97B5F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5119-41A9-4661-9B88-FFDAF43B4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B121-4F66-426C-B9F3-2758D033B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DBF4-32D4-47ED-8803-9EC2F0F05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530E-4A4A-4DE8-A0B5-FBCFB9499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73D4-3701-47F1-B64A-9C186CC18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59FA-9DCD-469D-AF11-BF817C204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2722-5CAA-426C-98F4-0E1B98AE0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74A2-7EB2-42DD-87AC-A89D86306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93E4-210A-43D2-A331-CAD72B35C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6F46-00F6-4FC0-B379-60EC7E3CF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4440" y="687240"/>
            <a:ext cx="4569120" cy="342612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Trucking Gr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50, some 173 billion ton-miles of commercial intercity freight traveled by truck. (A ton-mile is one ton carried one mile.) As the interstate system grew, commercial freight by truck more than tripled to 555 billion ton-miles in 1980. Easing of federal restrictions on trucking prices and routes came in the 1980s, and commercial truck freight grew to nearly 650 billion ton-miles by 19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4B10-4D42-4ADA-BA94-AB30DC71FA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7422-043D-4E08-BA40-D2B8FDBF1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37A1-5ADD-4D02-845D-3DCF3E831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3E75-9C3A-4E60-ACCB-C12DBC9E1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1ADC-7935-4B40-9AB8-4C720AF16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B3528-0BAD-48C6-B0A7-797ACFBB7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AE990-D54C-4E1D-803A-54FD9C365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6AEDB-8DCE-4A33-981E-61F67BA4B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A9355-860D-4A69-BCF8-C1A580B24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AA19D-9B33-4B28-8813-403F85B71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B98E7-A075-48A7-A5EE-7A6B7F985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72051-2D4E-435A-AB1C-5C43E61F6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D6FCB-8314-4429-84C8-441941EAA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469E4-ECCE-4C83-A481-D41983B5B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7284-405F-49F4-9810-E31C59483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CA16-3569-4666-8929-DB9A68B63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501A6-F9FE-42CF-9735-EBDFA6EA0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9598-5C3B-4D8A-8B9B-D2D8E4D6EF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3276360"/>
            <a:ext cx="7162560" cy="609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ipelines</a:t>
            </a:r>
            <a:endParaRPr b="0" lang="en-US" sz="3200" spc="-1" strike="noStrike">
              <a:solidFill>
                <a:srgbClr val="000000"/>
              </a:solidFill>
              <a:latin typeface="Calibri"/>
            </a:endParaRPr>
          </a:p>
        </p:txBody>
      </p:sp>
      <p:sp>
        <p:nvSpPr>
          <p:cNvPr id="49" name="PlaceHolder 2"/>
          <p:cNvSpPr>
            <a:spLocks noGrp="1"/>
          </p:cNvSpPr>
          <p:nvPr>
            <p:ph type="title"/>
          </p:nvPr>
        </p:nvSpPr>
        <p:spPr>
          <a:xfrm>
            <a:off x="762120" y="3962160"/>
            <a:ext cx="7772400" cy="122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ortation and Distribution</a:t>
            </a:r>
            <a:br>
              <a:rPr sz="2000"/>
            </a:br>
            <a:r>
              <a:rPr b="0" lang="en-US" sz="2000" spc="-1" strike="noStrike">
                <a:solidFill>
                  <a:srgbClr val="000000"/>
                </a:solidFill>
                <a:latin typeface="Calibri"/>
              </a:rPr>
              <a:t>LOG 102</a:t>
            </a:r>
            <a:endParaRPr b="0" lang="en-US" sz="2000" spc="-1" strike="noStrike">
              <a:solidFill>
                <a:srgbClr val="000000"/>
              </a:solidFill>
              <a:latin typeface="Calibri"/>
            </a:endParaRPr>
          </a:p>
        </p:txBody>
      </p:sp>
      <p:pic>
        <p:nvPicPr>
          <p:cNvPr id="50" name="Picture 6" descr="Picture1.png"/>
          <p:cNvPicPr/>
          <p:nvPr/>
        </p:nvPicPr>
        <p:blipFill>
          <a:blip r:embed="rId1"/>
          <a:stretch/>
        </p:blipFill>
        <p:spPr>
          <a:xfrm>
            <a:off x="609480" y="609480"/>
            <a:ext cx="829800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
          <p:cNvPicPr/>
          <p:nvPr/>
        </p:nvPicPr>
        <p:blipFill>
          <a:blip r:embed="rId1"/>
          <a:stretch/>
        </p:blipFill>
        <p:spPr>
          <a:xfrm>
            <a:off x="457200" y="1066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Gas Pipelines</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bout 20,000 miles of natural gas gathering lines. The gathering lines move natural gas to large cross-country transmission pipelines. Including both onshore and offshore lines  there are approximately 278,000 miles of natural gas transmission lin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Products Carried by Pipelines</a:t>
            </a:r>
            <a:endParaRPr b="0" lang="en-US" sz="4000" spc="-1" strike="noStrike">
              <a:solidFill>
                <a:srgbClr val="000000"/>
              </a:solidFill>
              <a:latin typeface="Calibri"/>
            </a:endParaRPr>
          </a:p>
        </p:txBody>
      </p:sp>
      <p:sp>
        <p:nvSpPr>
          <p:cNvPr id="77" name=""/>
          <p:cNvSpPr txBox="1"/>
          <p:nvPr/>
        </p:nvSpPr>
        <p:spPr>
          <a:xfrm>
            <a:off x="1371240" y="1752120"/>
            <a:ext cx="70866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d in slurry lines, very few in num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large quantities of wat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a, propylene, ethylene</a:t>
            </a:r>
            <a:endParaRPr b="0" lang="en-US" sz="2800" spc="-1" strike="noStrike">
              <a:solidFill>
                <a:srgbClr val="000000"/>
              </a:solidFill>
              <a:latin typeface="Calibri"/>
            </a:endParaRPr>
          </a:p>
        </p:txBody>
      </p:sp>
      <p:sp>
        <p:nvSpPr>
          <p:cNvPr id="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05D2-D43D-49FF-86A0-BFB49E4C16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dustry Overview, cont’d</a:t>
            </a:r>
            <a:br>
              <a:rPr sz="4000"/>
            </a:br>
            <a:r>
              <a:rPr b="0" lang="en-US" sz="2900" spc="-1" strike="noStrike">
                <a:solidFill>
                  <a:srgbClr val="000000"/>
                </a:solidFill>
                <a:latin typeface="Calibri"/>
              </a:rPr>
              <a:t>Ownership: Ranked by Share of Revenues</a:t>
            </a:r>
            <a:endParaRPr b="0" lang="en-US" sz="2900" spc="-1" strike="noStrike">
              <a:solidFill>
                <a:srgbClr val="000000"/>
              </a:solidFill>
              <a:latin typeface="Calibri"/>
            </a:endParaRPr>
          </a:p>
        </p:txBody>
      </p:sp>
      <p:sp>
        <p:nvSpPr>
          <p:cNvPr id="81" name=""/>
          <p:cNvSpPr txBox="1"/>
          <p:nvPr/>
        </p:nvSpPr>
        <p:spPr>
          <a:xfrm>
            <a:off x="1371240" y="1828800"/>
            <a:ext cx="7086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vertically integrated oi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ly owned oil pipeline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roa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oi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dustria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203A-0A05-4179-B129-2B3459C95E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dustry Overview, cont’d</a:t>
            </a:r>
            <a:br>
              <a:rPr sz="2900"/>
            </a:br>
            <a:r>
              <a:rPr b="0" lang="en-US" sz="2900" spc="-1" strike="noStrike">
                <a:solidFill>
                  <a:srgbClr val="000000"/>
                </a:solidFill>
                <a:latin typeface="Calibri"/>
              </a:rPr>
              <a:t>Types and Number of Carriers</a:t>
            </a:r>
            <a:endParaRPr b="0" lang="en-US" sz="2900" spc="-1" strike="noStrike">
              <a:solidFill>
                <a:srgbClr val="000000"/>
              </a:solidFill>
              <a:latin typeface="Calibri"/>
            </a:endParaRPr>
          </a:p>
        </p:txBody>
      </p:sp>
      <p:sp>
        <p:nvSpPr>
          <p:cNvPr id="85" name=""/>
          <p:cNvSpPr txBox="1"/>
          <p:nvPr/>
        </p:nvSpPr>
        <p:spPr>
          <a:xfrm>
            <a:off x="1219320" y="1828440"/>
            <a:ext cx="7238880" cy="39625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 number of large carrier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hire common carrier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9 carriers in 2001</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 of all oil pipeline carrier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5% of all oil pipeline ton-miles</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carrier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 of all oil pipeline carrier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of all oil pipeline ton-miles</a:t>
            </a:r>
            <a:endParaRPr b="0" lang="en-US" sz="28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AF1F-426C-46B8-AE96-90875D6E40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rvice Characteristics</a:t>
            </a:r>
            <a:endParaRPr b="0" lang="en-US" sz="4400" spc="-1" strike="noStrike">
              <a:solidFill>
                <a:srgbClr val="000000"/>
              </a:solidFill>
              <a:latin typeface="Calibri"/>
            </a:endParaRPr>
          </a:p>
        </p:txBody>
      </p:sp>
      <p:sp>
        <p:nvSpPr>
          <p:cNvPr id="89" name=""/>
          <p:cNvSpPr txBox="1"/>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 advantag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ra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oss and damage ra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rehousing function (3-5 mp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delivery dependabilit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 disadvantag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 speed limits responsiven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geographic flexibil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variety of products carried  </a:t>
            </a:r>
            <a:endParaRPr b="0" lang="en-US" sz="28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7ED6-F861-4DE2-9C26-6610AD997D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st Structure</a:t>
            </a:r>
            <a:endParaRPr b="0" lang="en-US" sz="4400" spc="-1" strike="noStrike">
              <a:solidFill>
                <a:srgbClr val="000000"/>
              </a:solidFill>
              <a:latin typeface="Calibri"/>
            </a:endParaRPr>
          </a:p>
        </p:txBody>
      </p:sp>
      <p:sp>
        <p:nvSpPr>
          <p:cNvPr id="93" name=""/>
          <p:cNvSpPr txBox="1"/>
          <p:nvPr/>
        </p:nvSpPr>
        <p:spPr>
          <a:xfrm>
            <a:off x="1371240" y="1905120"/>
            <a:ext cx="7086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 of fixed cost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peline owners provide right-of-w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 invested 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ght-of-w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mping sta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minal faciliti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economies of sca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s explain joint ownership</a:t>
            </a:r>
            <a:endParaRPr b="0" lang="en-US" sz="2400" spc="-1" strike="noStrike">
              <a:solidFill>
                <a:srgbClr val="000000"/>
              </a:solidFill>
              <a:latin typeface="Calibri"/>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D3CB-C080-49B7-8993-1853B93032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Conditions</a:t>
            </a:r>
            <a:endParaRPr b="0" lang="en-US" sz="4400" spc="-1" strike="noStrike">
              <a:solidFill>
                <a:srgbClr val="000000"/>
              </a:solidFill>
              <a:latin typeface="Calibri"/>
            </a:endParaRPr>
          </a:p>
        </p:txBody>
      </p:sp>
      <p:sp>
        <p:nvSpPr>
          <p:cNvPr id="97" name=""/>
          <p:cNvSpPr txBox="1"/>
          <p:nvPr/>
        </p:nvSpPr>
        <p:spPr>
          <a:xfrm>
            <a:off x="1066680" y="1828440"/>
            <a:ext cx="7391520" cy="4267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little intramodal compet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number of carri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apital costs and scale econom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requirements for e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rship by large oil compan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intermodal compet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 for other modes to match r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arriers are closest competitors</a:t>
            </a:r>
            <a:endParaRPr b="0" lang="en-US" sz="2800" spc="-1" strike="noStrike">
              <a:solidFill>
                <a:srgbClr val="000000"/>
              </a:solidFill>
              <a:latin typeface="Calibri"/>
            </a:endParaRPr>
          </a:p>
        </p:txBody>
      </p:sp>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6DCD-B2FA-4589-9638-21BBE97BF6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ipelines:  Brief History</a:t>
            </a:r>
            <a:endParaRPr b="0" lang="en-US" sz="4400" spc="-1" strike="noStrike">
              <a:solidFill>
                <a:srgbClr val="000000"/>
              </a:solidFill>
              <a:latin typeface="Calibri"/>
            </a:endParaRPr>
          </a:p>
        </p:txBody>
      </p:sp>
      <p:sp>
        <p:nvSpPr>
          <p:cNvPr id="52" name=""/>
          <p:cNvSpPr txBox="1"/>
          <p:nvPr/>
        </p:nvSpPr>
        <p:spPr>
          <a:xfrm>
            <a:off x="1143000" y="1676520"/>
            <a:ext cx="731520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ly specialized mode, hauling small variety of produ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role, late 1800’s – move crude oil from wells to other mod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1900s – pipelines owned, operated by oil compan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WWII – Chaplin Oil Case: pipelines ordered to operate as common carriers</a:t>
            </a:r>
            <a:endParaRPr b="0" lang="en-US" sz="3200" spc="-1" strike="noStrike">
              <a:solidFill>
                <a:srgbClr val="000000"/>
              </a:solidFill>
              <a:latin typeface="Calibri"/>
            </a:endParaRPr>
          </a:p>
        </p:txBody>
      </p:sp>
      <p:sp>
        <p:nvSpPr>
          <p:cNvPr id="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80D6-5B4A-45A8-BE4C-BA9935C325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380880" y="304920"/>
            <a:ext cx="6096240" cy="4219560"/>
          </a:xfrm>
          <a:prstGeom prst="rect">
            <a:avLst/>
          </a:prstGeom>
          <a:ln w="0">
            <a:noFill/>
          </a:ln>
        </p:spPr>
      </p:pic>
      <p:pic>
        <p:nvPicPr>
          <p:cNvPr id="56" name="Picture 5" descr=""/>
          <p:cNvPicPr/>
          <p:nvPr/>
        </p:nvPicPr>
        <p:blipFill>
          <a:blip r:embed="rId2"/>
          <a:stretch/>
        </p:blipFill>
        <p:spPr>
          <a:xfrm>
            <a:off x="5715000" y="3352680"/>
            <a:ext cx="257184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dustry Overview</a:t>
            </a:r>
            <a:br>
              <a:rPr sz="4000"/>
            </a:br>
            <a:r>
              <a:rPr b="0" lang="en-US" sz="2900" spc="-1" strike="noStrike">
                <a:solidFill>
                  <a:srgbClr val="000000"/>
                </a:solidFill>
                <a:latin typeface="Calibri"/>
              </a:rPr>
              <a:t>Measures of Economic Significance</a:t>
            </a:r>
            <a:endParaRPr b="0" lang="en-US" sz="2900" spc="-1" strike="noStrike">
              <a:solidFill>
                <a:srgbClr val="000000"/>
              </a:solidFill>
              <a:latin typeface="Calibri"/>
            </a:endParaRPr>
          </a:p>
        </p:txBody>
      </p:sp>
      <p:sp>
        <p:nvSpPr>
          <p:cNvPr id="58" name=""/>
          <p:cNvSpPr txBox="1"/>
          <p:nvPr/>
        </p:nvSpPr>
        <p:spPr>
          <a:xfrm>
            <a:off x="1371240" y="1828800"/>
            <a:ext cx="7086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16.5% of intercity ton-mi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n 4% of total intercity transportation reven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66% of total domestic ton-miles of crude oil and petroleum products</a:t>
            </a:r>
            <a:endParaRPr b="0" lang="en-US" sz="2400" spc="-1" strike="noStrike">
              <a:solidFill>
                <a:srgbClr val="000000"/>
              </a:solidFill>
              <a:latin typeface="Calibri"/>
            </a:endParaRPr>
          </a:p>
        </p:txBody>
      </p:sp>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8407-FCAE-4642-8223-5FD6221E28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city Trucking Ton-Miles</a:t>
            </a:r>
            <a:endParaRPr b="0" lang="en-US" sz="4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33B6-975F-4465-9527-E57CDD55F54B}"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63" name="Picture 4" descr="U.S. Intercity Commercial Freight chart"/>
          <p:cNvPicPr/>
          <p:nvPr/>
        </p:nvPicPr>
        <p:blipFill>
          <a:blip r:embed="rId1"/>
          <a:stretch/>
        </p:blipFill>
        <p:spPr>
          <a:xfrm>
            <a:off x="2209680" y="2057400"/>
            <a:ext cx="4572000" cy="348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04920" y="1950120"/>
            <a:ext cx="8458200" cy="3385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ause of the volume that must be transported, pipelines are the only feasible method for moving the enormous quantities of petroleum America requires to keep going each da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lacing even a modest-sized pipeline, which might transport 150,000 barrels per day, would require 750 tanker truck loads per day, a load delivered every two minutes around the clock.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lacing the same pipeline with a railroad train of tank cars carrying 2,000 barrels each would require a 75-car train to arrive and be unloaded every da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ared to other inland transport modes, pipelines do not crowd our highways and rivers and they produce negligible air pollu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pelines also have a lower spill rate per barrel of oil transported than competing modes of transportation, namely trucks and barges. </a:t>
            </a:r>
            <a:endParaRPr b="0" lang="en-US" sz="1800" spc="-1" strike="noStrike">
              <a:solidFill>
                <a:srgbClr val="000000"/>
              </a:solidFill>
              <a:latin typeface="Arial"/>
            </a:endParaRPr>
          </a:p>
        </p:txBody>
      </p:sp>
      <p:sp>
        <p:nvSpPr>
          <p:cNvPr id="65" name="Rectangle 2"/>
          <p:cNvSpPr/>
          <p:nvPr/>
        </p:nvSpPr>
        <p:spPr>
          <a:xfrm>
            <a:off x="457200" y="38088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dustry Overview</a:t>
            </a:r>
            <a:br>
              <a:rPr sz="4400"/>
            </a:br>
            <a:r>
              <a:rPr b="0" lang="en-US" sz="3200" spc="-1" strike="noStrike">
                <a:solidFill>
                  <a:srgbClr val="000000"/>
                </a:solidFill>
                <a:latin typeface="Calibri"/>
              </a:rPr>
              <a:t>Measures of Economic Signific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il pipelines</a:t>
            </a: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ry 66% of total domestic ton-miles of crude oil and petroleum product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roximately 55,000 miles of crude oil trunk lines (usually 8 - 24 inches in diameter) in the U.S. that connect regional markets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estimated 30,000 to 40,000 miles of small gathering lines (usually 2 to 6 inches in diameter) located primarily in Texas, Oklahoma, Louisiana, and Wyoming with small systems in a number of other oil producing states. These small lines gather the oil from many wells, both onshore and offshore, and connect to larger trunk lines measuring from 8 to 24 inches in diamete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yle/Bardi/Novack </a:t>
            </a:r>
            <a:r>
              <a:rPr b="0" i="1" lang="en-US" sz="1200" spc="-1" strike="noStrike">
                <a:solidFill>
                  <a:srgbClr val="898989"/>
                </a:solidFill>
                <a:latin typeface="Calibri"/>
              </a:rPr>
              <a:t>Transportation</a:t>
            </a:r>
            <a:r>
              <a:rPr b="0" lang="en-US" sz="1200" spc="-1" strike="noStrike">
                <a:solidFill>
                  <a:srgbClr val="898989"/>
                </a:solidFill>
                <a:latin typeface="Calibri"/>
              </a:rPr>
              <a:t> 6e © 2006 Thomson</a:t>
            </a:r>
            <a:endParaRPr b="0" lang="en-US" sz="1200" spc="-1" strike="noStrike">
              <a:solidFill>
                <a:srgbClr val="000000"/>
              </a:solidFill>
              <a:latin typeface="Arial"/>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1268-2E23-42DD-92F9-700C14FEAA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http://www.pipeline101.com/Overview/images/CrudeLines.gif"/>
          <p:cNvPicPr/>
          <p:nvPr/>
        </p:nvPicPr>
        <p:blipFill>
          <a:blip r:embed="rId1"/>
          <a:stretch/>
        </p:blipFill>
        <p:spPr>
          <a:xfrm>
            <a:off x="1905120" y="1981080"/>
            <a:ext cx="5238720" cy="31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ined products pipelines</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pproximately 95,000 miles nationwide of refined products pipelines. Refined products pipelines are found in almost every state in the U.S., with the exception of some New England states. These refined product pipelines vary in size from relatively small 8 to 12 inch diameter lines up to 42 inches in diame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1:20:50Z</dcterms:created>
  <dc:creator>Erika Bowles</dc:creator>
  <dc:description/>
  <dc:language>en-US</dc:language>
  <cp:lastModifiedBy>Andreas</cp:lastModifiedBy>
  <dcterms:modified xsi:type="dcterms:W3CDTF">2010-09-20T17:28:24Z</dcterms:modified>
  <cp:revision>3</cp:revision>
  <dc:subject/>
  <dc:title>Slide 1</dc:title>
</cp:coreProperties>
</file>