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0047-D9AB-4471-BAD4-D7A06EFBA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0688-9086-4597-8179-2C75B6EC9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A4AA-DC2B-4B01-AF70-D3DB519FC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B70-4877-41E1-9C22-5BD2604F9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4B08-4D01-4F9E-BF7E-A61F49F01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34C-0ABE-4C62-AFC6-39485E793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1F0-A7A0-4900-BC88-18F0C5582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34CB-3BED-4D2C-BF5D-85CA44D49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E11A-106A-4F39-8A60-217A88C0E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66C-667D-4225-9497-FEC66DB0F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EF4-B9DD-44C3-8B70-E6734DE7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B36-ADD0-45BE-BCAB-805452CD2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D54E-2EFB-480D-A01D-3F38815EE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AD9-F240-4E7D-B35C-8EB347BF2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C23-4B84-4829-B9F3-6F9622E61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BCE1-0D9E-4349-B90F-E0ACD7411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0AA8-5916-4E10-A540-6CADD0DC8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9C30-DD0E-4418-BC2D-F466655D1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89B-7CC2-412D-A79C-55920A357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9FA-2611-49F3-B298-17F600DE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E657-EC8C-41DC-B4D3-4FC378978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7B4-CC0A-4B2E-A1A7-89C53A909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4E7E-D207-434A-B952-C90B5B139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2A28-D514-40BA-AA7B-64251CF6E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4852-7254-4C64-9D8D-A4B5C7EC1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11A-FE8B-4384-95FB-20BDD9DEF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138-5677-4156-B845-A858D02E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3FA-5EDD-47C8-80EE-14AFABE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609-69E4-4C60-AE18-F7F95F4A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1C9-8F73-4EFD-91D0-519DCEC4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AED-9822-4E36-93B3-4FEEFE6A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3AE-7D4D-4489-813D-1297EB2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6A2-AB9D-4036-8629-74A323E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E74-F89A-4353-8AFA-98808482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2D3-A38F-4838-B082-3B523F3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EAF-B598-4C45-B3F5-65EB072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6D6-5C67-4A8B-A0B1-8B9C104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F7F-D3FD-4718-AAE8-B5455F1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3F6D-B26C-4D02-BADD-67D8E15E6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rco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UPC_A.sv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ode_128B-2009-06-02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WikiQRCode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gmaster.com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Performance Measures,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ember 3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Benchmarking Survey:  Factors in choosing a carr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 time delive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mage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ck-up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ographic co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flex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tra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secu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oice proces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ncial cond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ical capa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T. is used to track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Logistics Execution Systems (LES) drive order fulfillment and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ehouse Management System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Transportation Management Systems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fall under this umbr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manufacturers/importers, wholesalers/distributors and retailers, as well as 3PL’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-away/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ntor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 processing/pi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MS optimize the use of transportation resources to manage inbound, outbound and internal shipments at the lowest cost consistent with customer service standards and trading partner requir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er / load plan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selection, rating &amp; load tende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ipment consolid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-if analy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ointment schedu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ipment status 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ight payment &amp; aud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ims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ier performance measur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 (electronic data interchan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mitting and sharing data between companies in the supply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cal machine-readable representation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alled Auto-ID data cap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, universal, reliable and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 has interesting history of bar co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Bar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S1 System of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 (International Standards Organiz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barcodes (two exampl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C (Universal Product Code) used in North American reta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S1-128 used in global shipp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upload.wikimedia.org/wikipedia/commons/thumb/f/fe/UPC_A.svg/220px-UPC_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286000"/>
            <a:ext cx="2095560" cy="1514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upload.wikimedia.org/wikipedia/commons/thumb/b/b5/Code_128B-2009-06-02.svg/262px-Code_128B-2009-06-02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5105520"/>
            <a:ext cx="2495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ing 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ick Response (QR)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trix barcode that reads fast and can hold mor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upload.wikimedia.org/wikipedia/commons/thumb/c/ce/WikiQRCode.png/120px-WikiQRCod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733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code scan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8-0738-17 - Datalogic QS6000 Plus Accessories Barcode Scanner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advanced barcode scanner"/>
          <p:cNvPicPr/>
          <p:nvPr/>
        </p:nvPicPr>
        <p:blipFill>
          <a:blip r:embed="rId2"/>
          <a:stretch/>
        </p:blipFill>
        <p:spPr>
          <a:xfrm>
            <a:off x="5257800" y="1371600"/>
            <a:ext cx="24670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symbol barcode scanner"/>
          <p:cNvPicPr/>
          <p:nvPr/>
        </p:nvPicPr>
        <p:blipFill>
          <a:blip r:embed="rId3"/>
          <a:stretch/>
        </p:blipFill>
        <p:spPr>
          <a:xfrm>
            <a:off x="5638680" y="3886200"/>
            <a:ext cx="2286000" cy="217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wt4000 wearable computer"/>
          <p:cNvPicPr/>
          <p:nvPr/>
        </p:nvPicPr>
        <p:blipFill>
          <a:blip r:embed="rId4"/>
          <a:srcRect l="7200" t="15319" r="0" b="15319"/>
          <a:stretch/>
        </p:blipFill>
        <p:spPr>
          <a:xfrm>
            <a:off x="1600200" y="3352680"/>
            <a:ext cx="3668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I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 of readers, tags, wiring an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agMaster websit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agmaster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o frequen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ds depending on ap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www.rfid-ready.com/images/stories/news6/tagmaster-rail-solutions.jpg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esecuritysales.com/images/bild2.jpg"/>
          <p:cNvPicPr/>
          <p:nvPr/>
        </p:nvPicPr>
        <p:blipFill>
          <a:blip r:embed="rId3"/>
          <a:stretch/>
        </p:blipFill>
        <p:spPr>
          <a:xfrm>
            <a:off x="609480" y="4419720"/>
            <a:ext cx="4683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assigned article: “Measures for Evaluating Supply Chain Performance in Transport Logistics” (Kee-hung La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ship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icienc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transport logistics service provid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consign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er values (the “right’s”) vs. costs to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S T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gps-tracking-systems.net/img/2.jpg"/>
          <p:cNvPicPr/>
          <p:nvPr/>
        </p:nvPicPr>
        <p:blipFill>
          <a:blip r:embed="rId1"/>
          <a:stretch/>
        </p:blipFill>
        <p:spPr>
          <a:xfrm>
            <a:off x="2133720" y="1600200"/>
            <a:ext cx="50101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take-aways from this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ve transportation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regu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 oriented out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and tradeo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cost of ownership (seeing the total system cost and benefi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transportation and shipping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3PL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ility and protecting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ing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ve until the end of this week (Sunday evening) to submit any missing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ount up to 4% of the grade ea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Ex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multiple choice and 6 short e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between Dec. 6 and Dec. 10 (midn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s material from sessions 7 –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 chapters (9, 10, 11, 12 and 14) and power point lecture notes from thos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% of the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Wednesday, December 12 (mid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rget: 2,000 words (4-5 pages plus illustrati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mit using Dropbox in Angel (or e-mail to m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free to select transportation related topic that you are interested 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ember to cite your sources (avoid plagiarism!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% of the gra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-of-course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you to complet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online students:  Feedback on whether our system is cumbersome or easy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we do to make online students feel more connected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rington, as quoted in the Kee-hung Lai artic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measure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control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control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manage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not manage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not improve it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OR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Supply chain 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Responsiveness and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Co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Ass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two criteria deal with effectiveness-related (customer-facing) performance measures, while the other two are efficiency-related (internal-facing) performance measures of a fi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ness vs. Effici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erent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radeoff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13333" t="36270" r="17333" b="12800"/>
          <a:stretch/>
        </p:blipFill>
        <p:spPr>
          <a:xfrm>
            <a:off x="152280" y="1828800"/>
            <a:ext cx="8629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for Shi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Fulfill promis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 (e.g. on-time vehicle arrival; offer competitive rat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Solve shippers’ probl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 suggest best routing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ervices for shippe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ight the first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.g. correctly input B/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service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t the time promis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he shippers (e.g. on-time delivery to exhibition site; higher shipping frequency than rival compani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shippers’ record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ccurate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e.g. correct invoic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ll shippe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exactly wh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es will be performed (e.g. location and opening hou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depots/ container freight station (CFS)/ warehous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rompt servi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 (e.g. special packaging for furniture/ pianos et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Willingness to hel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ippers (e.g. give advice on shipping schedule or packaging; track and trace status of the cargoes shipp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imely respon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ippers’ requests (e.g. delivery/ transshipment of cargoes at short no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peration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fficiency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for Transport Logistics Servi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der management costs (e.g. minimize order handling through ED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 cos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facilities/ equipment/ manpower used in providing the services (e.g. use IT to track and trace the status of shipped cargo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arehousing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nsportation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Redu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gistics administration costs (e.g. build good relationships with related organizations such as customs, bureau of commodity inspection, port author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rate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utiliz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facilities/ equipment/ manpower in providing the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number of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ash to cash cycle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he average days required to turn a dollar investment in facilities/equipment/manpower providing the shipping services into a dollar collected from custom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net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sset tur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orking capit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rvic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ffectivenes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for Consign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fill promises to consignees (e.g. advise arrival schedules; complaint hand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ve consignees’ problems (e.g. provide warehousing; repackage cargoes at CF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services for consignees right the first time (e.g. pack and remix cargo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services at the time promised to the consignees (e.g. availability of cargoes for collection at CF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consignees’ records accurately (e.g. error-free records of consignees’ addresses and opening hou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ll consignees exactly when services will be performed (e.g. advise estimated time of arrival (ETA) via fax/ mail; advise estimated time to change B/L to D/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 prompt services to consignees (e.g. advise regulations regarding discharge of overweight/ over-length cargo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ingness to help consignees (e.g. suggest inland rou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ly response to consignees’ requests (e.g. transshipment arrang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Benchmar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in transportation go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custome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ne survey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s the main factor (see next pg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 used to track carrier perform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ice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 deliv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-ups as schedu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0:36:21Z</dcterms:created>
  <dc:creator>Andreas</dc:creator>
  <dc:description/>
  <dc:language>en-US</dc:language>
  <cp:lastModifiedBy>Andreas</cp:lastModifiedBy>
  <dcterms:modified xsi:type="dcterms:W3CDTF">2012-12-03T17:20:12Z</dcterms:modified>
  <cp:revision>4</cp:revision>
  <dc:subject/>
  <dc:title>Transportation Performance Measures, IT</dc:title>
</cp:coreProperties>
</file>