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B966-6859-419F-9543-76D398525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D72A-ABB3-4DDD-8E95-A297A1ED0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F4C-DC6E-4A42-A33D-AF5CDC0F6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0BCF-44A2-4ECF-91B9-8B26A19BB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EEB-D594-46A4-A03F-0E7BCF7BB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972A-BB0D-4DF6-A023-E5ADE5962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E2D-FEC5-42AA-937C-555928A9F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84C-949F-4ED0-B15D-C48423796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D9D-4207-4F8A-9892-DB35BEBC4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628-2A20-4386-AF13-D22CCEB1D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730C-3E87-4D99-AA30-A7071AF07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4654-594F-4C52-936E-B2A82FC31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2E0-CF61-4C06-B3E8-B1A619834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F0E-5361-463E-B31E-27E5DBBF0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E8AF-BE14-424D-A5FC-D474FFD9E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2879-7AA2-4D57-9E7A-016A1769C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F1A7-707A-47E2-B38E-C0F5C6063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245-10A9-4194-BE92-F178F8FFE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A68-C9EE-4AD2-99D7-C7FF926D4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777-F4FD-488A-A770-0046BA0C1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9FB3-2BDF-462B-9C91-EF33D97F4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E79-3A45-4072-8108-9F191F0A0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B168-0FC3-4C1D-9D9F-DB60B9C8E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2EC6-8844-4642-81E4-DF78D679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B61D-4156-49B1-9E0A-50FC18F51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C3B-5FAE-4636-BDF9-19E4E1D89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938-A48D-47CB-ABD2-F11BF4DEC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5046-2A7B-45F2-8874-CA8390BFB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489-9239-47AE-A6DA-A6E9C04A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728-C672-4D4A-97BF-195DCED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68BAF-B975-432B-A051-A2AAD92393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97B3FF-41A4-4738-9B19-CA12DB24E5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62B63-6C83-4963-B476-553844C0DC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0F9AD-CA1D-4E2C-9762-9DA6062B27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1C4755-B4E8-4B11-8750-68B566A627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B7B957-AC09-419F-BC0D-C132E3EAC3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9AE779-1A39-4EA4-8C42-B599B6036E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9F9C48-AFC5-4FE5-B6BF-FE913F6B9B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31518-062F-4924-88D2-B750EF0472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A0983-877A-4232-BC90-9FA589CE8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770-70FD-4A9A-98D6-F7C25474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C0E4C-5F1F-47E2-9EB2-494F780FD6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09093-8B6D-40D2-96EF-CADAA60367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C2B1-2F44-4B2E-9D66-932A8B0A974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34E4-06EA-49C6-B25F-4DE3B76006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3A399-9746-474E-9116-70FDDE6CE2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6D6BF-A0C3-4627-8B1C-C5178DA74D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AAEF9-32EF-42FE-A012-99E4858D132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1E4E-9ABF-4894-BDC6-F4EE010958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25F19-F73E-43DD-9588-CF34DD54A0C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4E0F-9059-4983-AFDE-A9E933A9F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D99-E38E-4FDB-BC6E-C5A29545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DF5B-8A2E-49BE-900B-CB48B37E421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F647FD-8B97-4860-BAD0-27BD6C05A3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2BC24-DABB-4336-9D5D-176C9D8751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76480-641F-4697-B23C-F14F38102C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44BE1-F8D6-42DC-B8F1-31460E3313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228E7-113A-4571-B694-90006FF003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6D9EC-A24D-46FC-A157-64469B53B95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63EA5-10BD-4C8A-A89C-F7CC0F3577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B4EC6-06D7-44AC-B6EC-CAEB5C9D607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43401C-FCD5-40C9-8D79-C0324FBDF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223B-E5ED-4D4E-A90E-BD3ECAA0BA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D2776-D278-43A7-B0A9-DC67333BB9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169BF-69C1-4723-9097-448A8E2C10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6AC34F-3530-4F34-A23A-AB49028D74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E6A42-8D28-42C4-ADB2-1EF8A85F225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F76EE-7038-4311-80FF-BC00060919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AF715-C4F1-4166-A238-D03078EF54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FDDE9-BC3C-4467-97F4-92F5597614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D91A1-1AF2-4C90-ABF7-84F358482BB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CDD30-FC10-4857-83FF-396E4381951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EC94C-EFA3-4240-B024-9FCE4BC6EE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D46C-8269-47C1-AEC0-8DB3EE04EA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713CE-6508-4D7B-A29A-7A798CAF95C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67242-0233-4AD6-97F0-ADD66CB182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0021F-8D6B-4635-8017-88B13C5A0E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FDAC5-5075-4B7D-B20B-E258A60241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9A54B-D769-4ED8-B04D-2C0FDCA3B07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C4922-9C79-4066-9A37-40B1136DDE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F93CD-940E-4757-A6D3-C0171691493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4DA91-06C9-459C-B31F-0E121B4A87F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03B16-B8D3-43F5-ADF5-AE9278795F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65030-DDED-4835-8CA2-21410B595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B0FE-E197-40E0-884B-F6E5DFCD51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2FC3A-3D57-4AFE-B5D7-898096BA5F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B7E0-D66E-4BDC-A32E-D0EE8E43AE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684C-2BDA-4533-AB37-E392A835CCA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F9C3A-19CA-4BBC-9689-ED64D98A1AA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4DE4D-0709-4502-A71A-AB8078774BC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431CA-6356-4087-95D8-1E7E964BD7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93F6-F059-402E-B515-3EA197AC6F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533B-0674-4652-A63B-DB8E0A974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4A5F3-BAB9-4504-A8DD-CD6DC61CB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1E933-ABB4-4234-BD5B-DB190482C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1893-E3C0-44BD-A0D9-786E1DBD8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3D0-F087-4AF6-82FF-2F98595B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02383-B286-4ECB-9BD6-BA6F8451A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F9D0-4111-46BC-858D-83DBB9970A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A78C-E104-4BBD-B6EF-AAEBA706E8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E3DD-8948-4DB1-BF6C-B70072B643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6E0DB-93EC-4839-8DCE-40BDFB43EC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90335-54F6-43A2-A0A7-A6D9D9C086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23ECB-32BC-4792-9A39-8D6D89C71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C4579-0B13-4151-B3ED-B2B930F819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DF8B5-263F-404F-A5AF-3A982777D4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EADE1-5D70-4352-8DE5-FFC56ABD1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4AB-F359-4AE3-9B4D-BDBD9610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5F226-8178-4CFF-A9B4-C3BBD4F7E1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0D317-62B6-4319-A4C6-DA8E34EBE0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225B1-8F62-41F4-A0B1-005B4BA668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6ABD6-EE10-4FFE-BBC5-DEC745D4FA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A86F6-97C4-485E-822A-3F0D2B035B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C06A6-5140-4BD3-9D62-8B23BEF997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FA307-CD7F-42D6-BAFF-50BEBD9351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7EE2-7C55-4246-896D-16C80B5CEB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5B8E-7AC8-42C0-BDB9-291C4D82B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B95B-BF85-49D9-A1FD-C3698012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605-96F6-459B-8EEA-A2A65943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8F70-44AD-41DE-B365-84156661E5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4F31-5B9D-41B0-BD74-C640EA9A0B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DF2D-9ECD-42D4-9723-5B0D6587BA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B03E-D552-4B37-81A7-ADEE0019A9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279B-395A-483E-AB23-B7A0327376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574D-D02C-4001-A70D-22C3E700D8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1067-9B61-44BF-9022-566B137F6E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8DF0-C14F-4E0D-A26A-45364C26B8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8460-5F65-418F-B450-B6A25663AF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67F53-A561-4A60-898B-DF2B07B48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D00-D8B3-4047-85A3-5C012450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2F76E-BD2F-44A0-B527-D7070B5068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2A80A-BA9B-439F-B0F2-AB868CAA3D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5470B-2745-45B7-A759-4D0825033C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120C5-EA50-4BED-A44D-73D6069410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BD047-AC71-4F5B-9008-B37D39FD2F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D24C1-C23E-4280-A064-5B247FC9DA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3F02A-B1BF-4D0E-A778-75F94EF91E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B2133-43B7-48B8-AEC3-5C658600AF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DC361-1DE9-4BCE-880B-5DA213914E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600C8-71B3-401B-9B2E-71C3CA429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6BD-3484-41C5-86B8-D6DD908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D15F2-D9BB-48A5-9C4F-65070411FA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4A09C3-0D37-4603-8E5C-9963035DD4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6E3AB-73EF-45E5-9EEC-D371A1B263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CB439-5629-409D-B679-FF8B38F256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0E6AA-B9B9-4317-86B3-3FA143EEBF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41894-7545-4F27-9815-8391EA788E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0A46D0-7354-4C4C-A2A3-C283933D79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2915A-F226-4252-91A8-5CEF155921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BB6C8-C8CA-428A-874A-C4A1CEED1C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D69BDE-95DC-415D-9B5D-8FBD76951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C7A-23B8-406F-AE66-49112DA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52C07-EFF4-4EBA-A905-D1511FD9CB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FF583-2A10-4388-B931-B19486D859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FEA22A-7DDF-4842-A0DD-EE2221E0EE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4E57-B32E-482A-BEDE-6740BBDD0D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4DC0-4BC2-47DC-87AE-11F0E58CB1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9920-32ED-4990-BDF0-1F91551101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4A1B-62B4-4236-B91A-95812D0B29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FAE1-429D-48ED-899E-1D77F8342F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2A2C-8C1D-4F88-BF28-237E6C9E584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09905-DD80-42C2-91A5-178770148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19A-7E57-42A7-B04C-460F13B4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4FD1-0EA5-4B40-AE67-F67AFAF2BB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33EC-05AF-47B0-9BF3-F3D668FD0A9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0F13-5D7C-4347-9CB7-2A8D83B151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C0910-4319-445B-8346-A47CD26899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E0AD-BB28-40C6-9D35-5BDDE576CF5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78271-9DA0-4E9B-9F0B-B28141011B3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C0F87-9BEF-4C86-B3B2-FC72EAA61DF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22DF4-855D-4C4F-A9B3-E2EEF9B899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D1C00-A43A-4DD3-B4B0-E979F07318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CFC83-1870-4868-AE08-EF628782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C10-83DB-461C-93D4-7B4F496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65FE7-A862-4B1B-8352-9885DF8546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0FAA1-5AD6-43F4-976C-68AB45DA48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42385-5528-444C-A037-BC400DE763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A294A-8565-4F76-A3B2-15D5A5A8BC6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B18FF-28A0-4367-B54A-A0096A5442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4ED85-8CDF-4CB8-B814-539B8B7441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0603C-6F17-4060-82BC-8C35189613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FE0C79-6E23-4274-BDE1-FC578DC0BF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04111-A5A9-43E5-AD0B-C1729BF9D0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D59BE7-6F34-4CFD-A9BD-0DEDD5649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72FA-ABA8-4135-9B3E-76E91E73E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955-D0C8-48C5-AF66-D202D88F4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5F49-E362-4FF7-8F50-E256442B2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6B67-A206-4392-82EA-06BB554C5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6AA1-8FE1-49B7-893C-3450518F0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58B-1FB3-4B95-8AF3-AB58102DB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FF1-04FF-4652-83A3-55E2CBE0E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19E-2718-4313-8A4A-296F54150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78C-782F-4028-A1AA-86B76052E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BF5-9941-4499-B291-0B28757E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178-D31F-4144-9A3C-3168112B9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DCE-9698-4338-B0F0-2D4336C66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E85D-4C95-48A3-94FC-CDFBE4700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 and Exec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1 (chapter 10 materi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2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utura Md"/>
              </a:rPr>
              <a:t>IN</a:t>
            </a:r>
            <a:r>
              <a:rPr b="0" lang="en-US" sz="4000" spc="-1" strike="noStrike">
                <a:solidFill>
                  <a:srgbClr val="00b050"/>
                </a:solidFill>
                <a:latin typeface="Futura Md"/>
              </a:rPr>
              <a:t>CO</a:t>
            </a: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ER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(</a:t>
            </a:r>
            <a:r>
              <a:rPr b="0" lang="en-US" sz="4000" spc="-1" strike="noStrike">
                <a:solidFill>
                  <a:srgbClr val="ff0000"/>
                </a:solidFill>
                <a:latin typeface="Futura Md"/>
              </a:rPr>
              <a:t>International </a:t>
            </a:r>
            <a:r>
              <a:rPr b="0" lang="en-US" sz="4000" spc="-1" strike="noStrike">
                <a:solidFill>
                  <a:srgbClr val="00b050"/>
                </a:solidFill>
                <a:latin typeface="Futura Md"/>
              </a:rPr>
              <a:t>Commercial</a:t>
            </a: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 Term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19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0 version now in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nternational sales of goods (not services), both exports and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ize and define the costs, risks and obligations of the seller and bu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http://www.iccwbo.org/images/G20Title.png"/>
          <p:cNvPicPr/>
          <p:nvPr/>
        </p:nvPicPr>
        <p:blipFill>
          <a:blip r:embed="rId1"/>
          <a:srcRect l="0" t="0" r="49234" b="22588"/>
          <a:stretch/>
        </p:blipFill>
        <p:spPr>
          <a:xfrm>
            <a:off x="838080" y="1676520"/>
            <a:ext cx="6745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Contractual 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and solution when UCC terms are not practical.  UCC = domestic s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importers and exporters “speak the same languag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affects the contract of sale, not the freight contrac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o know Incoterm for pricing the product  (who pays for wh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deliver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fer of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ransportation Timeline: Who does what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eck “Dictionary of International Trade”, pages 269-29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6000" t="27733" r="4000" b="27733"/>
          <a:stretch/>
        </p:blipFill>
        <p:spPr>
          <a:xfrm>
            <a:off x="152280" y="2286000"/>
            <a:ext cx="8839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4 Groups of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arture  (EX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carriage unpaid (FCA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AS, FO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carriage paid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FR, C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P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ival (DAT, DAP, DD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red terms are waterborne freigh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Correct wo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B Tacoma, WA, USA, Incoterm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B XYZ Terminal, Tacoma, WA, USA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term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pecific to avoid arguing about local costs (pre-carriage charg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FOB only if truly a waterborn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int where the risk of loss or damage passes from the seller to the bu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ppens at the named place, port or terminal (except for the C ter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confuse delivery of goods with point of transfer of title (although often identical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 of title occur when the parties wish it to occur (unless “by default”; see next sl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Title (legal and accounting implications, i.e. revenue recogni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C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less otherwise explicitly agreed, title passes to the buyer at the time and place at which the seller completes his performance with reference to the physical delivery of the goo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Law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: Title passes when seller fulfills its delivery obl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.S. Accounting Law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Title transfers at the same time as delivery occurs and risk transf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"/>
              </a:rPr>
              <a:t>However, in exports sales, often see thi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isk of loss and damage shall pass to the Buyer upon delivery. Title shall pass to the buyer upon payment in full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what any payment documents (e.g. L/C’s) and/or export insurance policies stipul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Invoicing and import tari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elling under a C or D term (freight prepaid by the seller), it is crucial to have the freight amount specified on the invoice (to avoid paying customs tariffs on the freigh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ExWorks (EX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convenient as it sounds, it may not be the best term for expor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export regulations (e.g. who is the exporter on record?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payment terms (e.g. who gets the Bill of Lading?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can use Incoterms as competitive t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crucial Channels (flow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ontract and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.T. (information and data; docum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Physical goods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80-90% of global trade by ship?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level fluctuations (equipment scarciti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consoli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s in regional 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ctuations in fuel prices and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Choosing a Global 3PL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 Criteria Weights (Normaliz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5B78-4E63-46A2-A1D6-20208A687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Chart 7" descr=""/>
          <p:cNvPicPr/>
          <p:nvPr/>
        </p:nvPicPr>
        <p:blipFill>
          <a:blip r:embed="rId1"/>
          <a:stretch/>
        </p:blipFill>
        <p:spPr>
          <a:xfrm>
            <a:off x="1596960" y="1974960"/>
            <a:ext cx="5889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0DFC-E184-4CEE-8CBD-74AA4F9FB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E:\Tables\CH10\10-T03.jpg"/>
          <p:cNvPicPr/>
          <p:nvPr/>
        </p:nvPicPr>
        <p:blipFill>
          <a:blip r:embed="rId1"/>
          <a:stretch/>
        </p:blipFill>
        <p:spPr>
          <a:xfrm>
            <a:off x="303120" y="533520"/>
            <a:ext cx="8498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944-524C-4C9E-8A52-825B45A4F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E:\Tables\CH10\10-T04.jpg"/>
          <p:cNvPicPr/>
          <p:nvPr/>
        </p:nvPicPr>
        <p:blipFill>
          <a:blip r:embed="rId1"/>
          <a:stretch/>
        </p:blipFill>
        <p:spPr>
          <a:xfrm>
            <a:off x="309600" y="457200"/>
            <a:ext cx="8413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ort Preparation Activitie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portation Docu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ier mani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critical information needed to perform the transport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ll of lading – primary transport doc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 of carriage between cargo owner and transport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s as receipt for the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on of ownership of the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B3E-DC27-40CF-B844-6E1EB4BE3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ort Preparation Activitie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nsportation Docu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ous types of bills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bill of l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odal bill of l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otiable vs. non-negotiable bill of l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n-negotiable, carrier must deliver only to consignee named on the bill (also called Straight Bill of la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egotiable, the person possessing the bill has the right of ownership to the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1C2E-CD25-4439-9447-E7E7EF553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nsportation Planning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 Selec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ust achieve best fit and balance betwe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al service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ibility, capacity, transit time, reliability, saf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characteristics – size, durability,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y chain requirements for speed, service,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ust also align with corporate strategy, control risk and provide required level of customer 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7C5C-AA59-4E5E-AD5A-09C7E8474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THE BEST FIT AND BALANCE BETWEEN MODAL CAPABILITIES, PRODUCT CHARACTERISTICS, SUPPLY CHAIN REQUIREMENTS FOR SPEED AND SERVICE, AND TRANSPORTATION COST” (Coy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D21D-0E42-48C9-B64B-8B0C5F766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 Trade Agre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 framework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TO (World Trad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ation), built on GAT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e Trade Agreement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FT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14 other coun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 3 others in pip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South Ko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Pana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Columbi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FTA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746748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TA Cove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868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31333" t="12800" r="30000" b="16000"/>
          <a:stretch/>
        </p:blipFill>
        <p:spPr>
          <a:xfrm>
            <a:off x="1752480" y="258840"/>
            <a:ext cx="54104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na vs. Mex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ing cheaper labor vs. cheaper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y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ous ri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, many more countries to pick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pare orde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fa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fill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pare for expor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e terms (shipping term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Transport decis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car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Incoterm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utura Md"/>
              </a:rPr>
              <a:t>A Brief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o Export University 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3, October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Andreas Udbye, DEC 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00:47Z</dcterms:created>
  <dc:creator>Andreas</dc:creator>
  <dc:description/>
  <dc:language>en-US</dc:language>
  <cp:lastModifiedBy>Andreas</cp:lastModifiedBy>
  <dcterms:modified xsi:type="dcterms:W3CDTF">2012-11-19T01:07:15Z</dcterms:modified>
  <cp:revision>16</cp:revision>
  <dc:subject/>
  <dc:title>Managing Logistics Processes and Global Transportation Planning</dc:title>
</cp:coreProperties>
</file>