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E07-E17D-4D56-8C57-C9CB2DE4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F6C-83BF-4EDD-AD1A-04BE28D3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25E-2171-4D9A-ABE9-725E1E96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E12-F9E2-40B2-8B7B-7A7F3CF5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69E-90C7-40A9-B25D-1DB03D9A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F40-66F8-4EB3-A60E-895D3C3F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2BC-E2D8-4F6A-AA6F-D4FC7584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ED1-F1EE-408E-B7FC-62E98459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F27-1293-44DD-9B46-F2F0158E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ECF-B5E7-44C2-AA30-048E390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A61-AC3A-4D24-BAA9-2122D5B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604-3383-4E64-A418-B4457C6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F8A-4819-4928-AFE9-C1FC03C1C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3915-92E5-40B8-826F-422B4354C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Costing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ew of Ocean Transpor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 the Transpacific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9922-1D99-4927-B1CA-3F72B9E39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kellerh\Pictures\Baltic Dry Index.bmp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D1F0-1757-4F93-91EA-E4BDA2621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4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533520" y="1030320"/>
          <a:ext cx="800100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30320"/>
                    <a:ext cx="8001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9"/>
          <p:cNvSpPr/>
          <p:nvPr/>
        </p:nvSpPr>
        <p:spPr>
          <a:xfrm>
            <a:off x="0" y="0"/>
            <a:ext cx="9144000" cy="436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709000" y="60948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ts Bunker Index – Seattle IFO 180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nthly Average Price per M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9F71-DD35-4B73-917E-11A1AAC17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mpt from any economic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be owned by a company whose primary business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anspor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in any of the modes but most prevalent in tru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contract out on backhaul or excess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Westwood, Wal-Mart, ExxonMob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4746-BA62-46AC-8F9F-529E9A361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general 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ed by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charge reasonabl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’t discrimnate in pricing, claims, service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UPS, FedEx, BNSF, Schneider, United Airlines, APL, Westw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61BA-4F07-4876-9856-801BE53C6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ct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selected (contracted)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legally discriminate on prices, service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 can be tailored to fit individual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BNSF, Schneider, United Airlines, APL, Golden State, Westw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C282-B8AF-4D8E-BA04-5C64C969A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mpt Carr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conomic reg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s/service negot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s in exempt commodities such as forest products, agricultural products, liquid bulk commodities, dry bulk commod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ed a “for-hire”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BNSF, Schneider, APL, Westwoo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18A3-2234-4535-8AD4-9DDE31A37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al Overs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198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tariff rates with loyalty contr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ocean carrier conferences (legal cartels) regulated by the FM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limited intermodal servi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ipping Act of 1984 through OSRA 199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tariff rates and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published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service contracts (essential terms/”me-too”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intermodal  through rates now allowed by conference memb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continued antitrust immunity for conferen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right of independent action by conference memb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ean Shipping Reform Act of 1998 through to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fidenti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rvice contr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ecline (and death) of the ocean carrier con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imited use of freight tarif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iminished role by FM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181-80C1-44F7-A47A-E125BCAC0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Strategies and Tac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r 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ing by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ervice” instead of 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Servi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share/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haul cost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-cutting/staff red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3FA8-4D53-4AEA-B114-9BBFE29D0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pper Tac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services offered by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trust an agen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cognizant of the carrier’s financial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ve for rate predic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the carrier’s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speaks volum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nderestimate your str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don’t cost yourself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4F1B-21A0-4DE0-A7E6-C4F8BD7BC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nsportation Cost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Pric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Classif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s’ Costs and Reven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vernmental Overs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pre-198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1984 through 199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 1999 through pres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rrier Strategies and Tac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ipper Tac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362B-3141-455E-B839-3BB50739C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four market structures (Monopoly/ Oligopoly/ Pure Competition/Monopolistic Competition) which all have five characteristics which differentiate the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1. The number of sell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2. The number of buy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3. Who influences price (seller or buy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4. Barriers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5. Price elastic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115A-DB53-4190-A3F9-C7456DB46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e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ny sellers/buyers of identical produc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no chance for price/service different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w or no barrier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opolistic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ny sellers/buyers of close products/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hance to be different  (e.g. motor carrie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ow barrier to en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65E-016E-4ABE-9151-80191938F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ke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p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one seller/many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 close substit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igh barrier to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igop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few sellers/many bu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imited differentiation (ships, intermod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igh barriers to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E2EF-EA5D-41B9-8244-3F6B1EE2B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Reven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Ocean Fr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s and Sur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uel Surcharge (FAF or BA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urrency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ocumentation F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Outport Arbit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quipment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ecurity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emurrage/De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pecial Handling Surch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iversion F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t cet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C69-5634-404B-9232-BF751ED0A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36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454120" y="1066680"/>
            <a:ext cx="420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verage Revenue/TEU by Quarter – Transpacific Tra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380880" y="1447920"/>
          <a:ext cx="83822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822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9"/>
          <p:cNvSpPr/>
          <p:nvPr/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B Container Industry – Revenue per TE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F38-4115-4267-B87A-AFB4F6963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ation Cos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basic costs in transportation costs stru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fixed costs  (e.g. ships, contai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ariable costs (e.g. fuel, loading, wa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Variable costs stop if operation is shut down; fixed costs don’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joint costs (e.g. port cost, fuel !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ommon costs (e.g. insurance, repai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1DA-613C-40FF-9F07-3C457707D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arter Hire or Mortg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ew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tainer Leasing (Long Term Lease vs. Master Leas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ssel Insurance (P&amp;I, War Risk, Hull and Machiner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oad/Discharge (Stevedor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pit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ort Charges/Pilotage/Tugs/Line Handl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ai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ear and Dunn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rminal Le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G&amp;A Expenses (Sales, General, and Administrativ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intenance and Repairs (dry-docking and container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t cete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BB81-C8A3-4219-A3E4-E873BFBF5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58:44Z</dcterms:created>
  <dc:creator>kellerh</dc:creator>
  <dc:description/>
  <dc:language>en-US</dc:language>
  <cp:lastModifiedBy>Erika Bowles</cp:lastModifiedBy>
  <dcterms:modified xsi:type="dcterms:W3CDTF">2009-11-11T02:32:00Z</dcterms:modified>
  <cp:revision>29</cp:revision>
  <dc:subject/>
  <dc:title>Slide 1</dc:title>
</cp:coreProperties>
</file>