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66C-55F2-4C7F-B5AB-D788215A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209-AD2F-4068-891F-A3DDBFE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D81-C8D2-4D5D-A4D6-6E0A7D15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857-4564-463E-8F7A-A01581A7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99F-DC2F-43CB-AF7D-3550FF6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4B4-FC7E-49FD-80E6-72E383E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95F-975C-4B31-9DA9-6E2B932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5B8-CE49-4E43-822A-3872CBD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4BE-7C8B-497C-9AD3-4F1BCB8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98A-5D04-4953-859C-26926CE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F0F-63BE-4584-A667-06242B9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DD9-C3E4-4764-957C-3BDF4652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F68-E1FC-4407-8324-036D9266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17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99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30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219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1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8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45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45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8:35:28Z</dcterms:created>
  <dc:creator>coach</dc:creator>
  <dc:description/>
  <dc:language>en-US</dc:language>
  <cp:lastModifiedBy>coach</cp:lastModifiedBy>
  <dcterms:modified xsi:type="dcterms:W3CDTF">2006-07-31T02:43:33Z</dcterms:modified>
  <cp:revision>4</cp:revision>
  <dc:subject/>
  <dc:title>Slide 1</dc:title>
</cp:coreProperties>
</file>